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5A33A-AB89-4E50-A9E9-A5481C84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C166-C79D-4749-A887-A77DEFAF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A59C-E773-4BBD-AE2F-B2EEF690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DBA78-43E5-4383-93AC-12950B2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E6D13-89A3-4F66-9B50-B70B460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E69CB-696E-435B-8CB1-2B67E77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78DDF-7558-4F40-87BB-57660725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0B629-E27F-45E3-89AB-C1E21252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8736-BD75-44B0-A636-949DB2BF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EDA6-451E-450D-B6B9-B03303C6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5DE40-A78A-4EEE-81A5-0D9774F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C54B6-3ED1-4A58-B66C-D27DD915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909ED-74FB-40C7-A699-3D56222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D51C1-5057-4608-B672-4CA44536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87604-155E-4D64-B3CF-C7585FE0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15F6-CCB5-4AD4-BFA6-64EAEDE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61C83-5A79-4736-B345-F527E90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A59B-0C95-4B0F-944E-D5E64DE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E6A5-E7E1-4A51-B672-4B9E3F38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E366-2150-4183-A474-0754C36C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B1457-14EC-4CE3-A969-3522DDF7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8E5F0-1208-42CC-AEDD-5E91846F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6E754-4EC5-4014-B498-47678297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FCB7A-7F3D-426C-BE79-85F26E8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1D56-935A-4242-8A63-DF8CD2CA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00681-BA52-491B-80AE-0C5B1A0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9DB4B-B7D5-4096-B26E-99C32BF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693D8-E965-4403-B478-369C4DE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4EF99-8FB2-4DF7-86B6-02DB4F3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5CE7-5A40-40DE-A3EF-2E861D2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88D-9484-42B3-8EF0-017924DB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9CB2-F202-48EC-8D56-01216AA7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3B5D3-FFCB-4671-A607-CA4CF84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989D1-5FB6-4FB4-910D-F0E16D35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A7E80-BAB3-4B21-A169-11FF5A34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60B0A-14FE-44FE-B47E-3521C2C1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79884-EEA2-47BF-B0BA-D4983DE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C0A84-68EC-4625-AF70-83BCB65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8C70A-B547-44D2-A7EE-D96B7EA8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144D9-88D9-4E38-94F7-14C2CF6D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5C7D-63E7-4CBA-B242-A37840C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89AA-8677-4824-B691-0E425DD2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AC7C6-D267-4A01-AD49-EDE4310A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B4F4F-8B66-4D3C-9A0C-207F71E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EF052-0C93-4D1D-BD8F-8F28BC38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C2597-F330-4DCD-93C0-3F8ECFC5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9B206-2C53-4812-B0CE-6C3FC297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39D4-AB7E-4A4E-A30C-37C4A0AE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B5A20-8A4A-4062-BBEB-15E9ECB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603CA-7C4A-4F03-803D-16FE4354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DFEB8-EE4D-4368-9D76-65758E52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6D305-E7B4-4960-AA25-6C72D5D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D76-18E9-4541-8A7D-A4E0440F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50124-900D-4EBB-9EA5-9CF2E0D8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3E73A-04B9-46CB-BDAA-8F639F9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5AA2-C873-47E5-B941-68E93AD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3A27B-57FF-4006-A002-067B81E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A29A0-DB66-4215-814D-F192CDD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AA195-5B33-4C87-A053-B8D5039E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26075-3AAE-4036-8BF0-279EC035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DBA-B04F-45D2-A861-CDB88813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EE7-4491-44E2-83DF-0165D35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E56-C377-4155-A88E-4373FF7B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BE1-5B82-4851-81E3-B5E5E415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C83-4B89-40F0-AD31-B50B4E7E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D65-F5A9-4C4E-9F39-38E3967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04F-BB87-4C2E-8F77-24E72D38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A86-CB58-43D7-B076-BD778DA0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885-F34D-4F68-9911-F51CA097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90DE-CEB1-4697-A9D4-C469DEEF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4CED-7C22-4A93-AD8F-FFBFCA25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0EF-D362-444E-A8CF-BEB86C24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97BC-86E5-4260-84E3-8D97FD81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4E0E-4ED6-4FD8-BE4F-0B7AE0B8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F5A2-5614-49A1-9A5B-C47CC0BF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5778-EDA9-4790-8567-266A526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EE34-71D0-4FC0-BEAA-1129D6B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AB63-8C41-46C9-8E25-81BAFC9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90B5-4232-4925-9A2A-D7B1BE5D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F13-0E8B-4BCE-A0FD-7C374397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730C-24EC-4725-A00C-6052565E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B64A-1CEF-4CEA-A13D-573CBC76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37AA-DF04-4B65-82F2-26FD908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BAB7A-1DE9-4013-8D5F-4C30DDA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2D2F2-9A26-46D8-8796-2FC9E3C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5B45-4C0C-4814-867E-E334E93F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0A00-6745-494F-A992-ED63F8F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B510-B967-49FA-B2A5-FA33E8F7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05F5-688E-4D38-9BF2-8AF156A4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3B32-8D8B-4E0F-B191-E2A4051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0A8F-58B5-4F6E-ADD3-4D395FDD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9ACDB-DDD4-4C20-A5E2-B0DAFF6D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2C117-AEBE-4DEC-B76F-8C93B459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C3B7-F430-4EF6-BFB3-3D6A5C8C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FBDC-E3E1-4E9C-818C-FE8F420C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E4B0-DD14-4317-9CB4-8CD2FA14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73C1E-DA8A-495F-AD70-56119B3D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67FF-7A0D-4DA4-B1FE-8A23CDF4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951E2-1816-46E5-A764-1BA6B7CB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757C-5CED-4E93-98BC-0050B00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56D1-B8E2-4554-B82E-30EDA028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EA359-094F-4208-B5B4-B933E52A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286FD-B448-48F1-9A7F-EED98DFF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B5FAF-C02C-45AB-86D4-3FA13EBD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E1059-EF2C-43A5-98E2-6DDF51A5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4A288-9AFB-45CA-B24B-9C62830A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363E-DFEE-482B-93F2-8C8303B6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F21E-E502-474D-8849-CCD2ED02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43D4-1590-4A18-96CE-538CE482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D8351-63B2-4FAF-A1EC-DAC7871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98280-DCD9-4E2E-9B1D-6B231415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46D0-54CD-44F9-8529-99A1615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BAC4-680D-4E47-AC93-9B9E1AB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CBA8-F3F1-4C18-94B5-661C790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3021-1323-4807-B62A-75E3E65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8176-EF37-48F7-BE79-D62DA5FA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4F268-5B62-45DF-AEDE-84DD0D97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E6806-E4F8-47C3-8B3A-2CCAA3F9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E9C47-59F9-4140-9137-4844D87C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79A25-4DEB-4D03-872E-46C422E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74E41-219E-4E63-9058-E40D9AAE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286F7-5DB3-4548-A696-534A3E7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D10BE-9722-49DD-86D6-74ADD2B2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8BD60-581F-4FF2-AEDB-F9F8BF48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BC15A-7071-4F3F-9AF2-9C33852A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82EE2-D91D-42C7-A69D-EBF5108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40357-F98D-4E00-A9F0-602FF3D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C4A2-5168-43ED-AAFE-673180A8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8B5C-FC28-4E16-808D-358F6F46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6795-6A3E-42DF-9654-EC7C7592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0C53-EF4C-44C7-8BDA-AF9BF7CA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06D32-5E2B-4623-9954-BB3A457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2197-D008-4A91-A354-261328D5DFEE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3DDD-9D43-4B35-A7A0-9977F6986BD4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F658-0697-4BF8-A36E-690382658DA7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5535-F7CA-4741-AF35-48EDE912A194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2AE4-6107-4EF1-8F26-09D4CFD7C741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BFB-C445-41B9-BBFE-AC0968934252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5AA3-B46C-4CED-B1B3-C06699B8AE3D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D39C-731D-41CC-9930-6846D2C54EA5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A564-6C2F-45C9-A0D1-CEE6E9E55F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1AF9-2DDB-4697-9157-D86DCBE609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123840"/>
            <a:ext cx="4619520" cy="4486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A2D-32A9-44CA-B4F8-0CA04F106B3D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50E5-4069-44BC-8F70-41C5A5B06B83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B03-EBF2-4ADB-84F6-C81BAAB16DFF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6C3-DDCA-47D5-9097-1CFE1B79FDE5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E64-38E7-4EB7-B109-9BA5E6C84FCA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BD4-9E95-49C0-A81C-CCC50A31B801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4976-24D3-44E9-9EFB-F5D1B34FD04F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F28-497E-4059-A3EB-8AD4598712C8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CA3C-13BC-4A46-8FDA-BA8BFAA4DC25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3B17-0AAC-40C7-8764-0304158F4A2A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6406-9E47-4D8F-8DAF-AF7DEB0A88FC}" type="datetime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46B6-EDD6-49C2-944D-C4D61B680D32}" type="slidenum">
              <a:rPr b="0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beijin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90920" y="2130120"/>
            <a:ext cx="406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390560" y="3886200"/>
            <a:ext cx="3381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"/>
          <p:cNvPicPr/>
          <p:nvPr/>
        </p:nvPicPr>
        <p:blipFill>
          <a:blip r:embed="rId3"/>
          <a:stretch/>
        </p:blipFill>
        <p:spPr>
          <a:xfrm>
            <a:off x="0" y="123840"/>
            <a:ext cx="4619520" cy="448632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13"/>
          <p:cNvGrpSpPr/>
          <p:nvPr/>
        </p:nvGrpSpPr>
        <p:grpSpPr>
          <a:xfrm>
            <a:off x="703440" y="1962000"/>
            <a:ext cx="1707840" cy="462240"/>
            <a:chOff x="703440" y="1962000"/>
            <a:chExt cx="1707840" cy="462240"/>
          </a:xfrm>
        </p:grpSpPr>
        <p:pic>
          <p:nvPicPr>
            <p:cNvPr id="545" name="Picture 11" descr=""/>
            <p:cNvPicPr/>
            <p:nvPr/>
          </p:nvPicPr>
          <p:blipFill>
            <a:blip r:embed="rId4"/>
            <a:stretch/>
          </p:blipFill>
          <p:spPr>
            <a:xfrm>
              <a:off x="703440" y="1962000"/>
              <a:ext cx="56664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12" descr=""/>
            <p:cNvPicPr/>
            <p:nvPr/>
          </p:nvPicPr>
          <p:blipFill>
            <a:blip r:embed="rId5"/>
            <a:srcRect l="0" t="0" r="-13119" b="0"/>
            <a:stretch/>
          </p:blipFill>
          <p:spPr>
            <a:xfrm>
              <a:off x="1270080" y="2039760"/>
              <a:ext cx="1141200" cy="2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Rectangle 210"/>
          <p:cNvSpPr/>
          <p:nvPr/>
        </p:nvSpPr>
        <p:spPr>
          <a:xfrm>
            <a:off x="4589640" y="1262160"/>
            <a:ext cx="400356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or more than 20 years, Duarte has developed visual stories for the world’s leading corporate brands, thought leadership forums, and an Academy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ward-winning documentary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94240" y="3933720"/>
            <a:ext cx="4390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Now they bring you…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FIVE RULES FOR CREATING GREAT PRES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4"/>
          <p:cNvSpPr/>
          <p:nvPr/>
        </p:nvSpPr>
        <p:spPr>
          <a:xfrm>
            <a:off x="846000" y="279360"/>
            <a:ext cx="748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艺术纸张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43C2-230C-4388-94BA-BF517EEF11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2"/>
          <p:cNvSpPr/>
          <p:nvPr/>
        </p:nvSpPr>
        <p:spPr>
          <a:xfrm>
            <a:off x="3772800" y="491004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f0aa26"/>
                </a:solidFill>
                <a:uFillTx/>
                <a:latin typeface="Calibri"/>
                <a:hlinkClick r:id="rId1"/>
              </a:rPr>
              <a:t>www.1ppt.com/beijing/</a:t>
            </a:r>
            <a:r>
              <a:rPr b="0" lang="en-US" sz="16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1343160" y="3362400"/>
            <a:ext cx="7800840" cy="34956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10"/>
          <p:cNvSpPr/>
          <p:nvPr/>
        </p:nvSpPr>
        <p:spPr>
          <a:xfrm>
            <a:off x="673200" y="1405080"/>
            <a:ext cx="3414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urn Up Your Volu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210"/>
          <p:cNvSpPr/>
          <p:nvPr/>
        </p:nvSpPr>
        <p:spPr>
          <a:xfrm>
            <a:off x="673200" y="1079640"/>
            <a:ext cx="3176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cfee"/>
                </a:solidFill>
                <a:latin typeface="Arial"/>
                <a:ea typeface="Arial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Rectangle 210"/>
          <p:cNvSpPr/>
          <p:nvPr/>
        </p:nvSpPr>
        <p:spPr>
          <a:xfrm>
            <a:off x="673200" y="2519280"/>
            <a:ext cx="3849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aunch Self-Running Slide Sh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10"/>
          <p:cNvSpPr/>
          <p:nvPr/>
        </p:nvSpPr>
        <p:spPr>
          <a:xfrm>
            <a:off x="673200" y="2193840"/>
            <a:ext cx="3176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cfee"/>
                </a:solidFill>
                <a:latin typeface="Arial"/>
                <a:ea typeface="Arial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210"/>
          <p:cNvSpPr/>
          <p:nvPr/>
        </p:nvSpPr>
        <p:spPr>
          <a:xfrm>
            <a:off x="673200" y="555480"/>
            <a:ext cx="3414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View This Pres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f0aa26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6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18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TemplateID">
    <vt:lpwstr>TC016745559991</vt:lpwstr>
  </property>
</Properties>
</file>