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3.png" ContentType="image/png"/>
  <Override PartName="/ppt/media/image1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BD7-E7DF-4658-8C1E-37FDBD1D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AD4-F1E7-4981-B18C-E0B2A923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5AE-DAB5-42DF-87B3-88417AFB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44A-65AC-4391-AB10-D5D313B3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1CAEE-553B-44AB-BC14-C2A24E0B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36CD4-675F-438B-B484-17A6C74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F45B6-F30D-45E0-9B76-A179643A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3E1C8-9629-4C52-8F55-B69BB591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1A155-D129-4570-8148-E5AFCD75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2F86A-1C7C-4E1B-ABC2-4A46F9CD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32D91-8B37-44E6-B9E3-91ACD6BA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494-EB98-4A15-8012-DC535684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F7BD5-1785-4561-9262-8D919AC8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19569-24A3-4AFB-B770-D60FE7B5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AEF57-A887-4A2C-AE9F-6772FD33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D98A3-7D38-4E38-A400-17258EC0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FBCE9-52A8-49A7-9B65-2CD52A44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29C3-4564-4D0B-8109-D7476918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C11B-528E-4711-B238-307DEA8E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6C22-9279-401D-99AE-36B7410A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7D36-CF15-409B-842F-E4B392F3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B938-9B10-4B54-B927-E0127A86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7FB-12BE-408B-B0AD-0EB2980C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5FA6-F5A9-42D9-A0BA-5FEA0811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7B57-6BB6-44D1-A9BA-EE30489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4EF6C-E85C-4B3A-A8A5-8611C3B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DD3F-06F0-4353-9DCB-25F325B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D6AE-66AF-4596-AF6C-DB7F1817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135D-431D-4D32-AF71-DD83EC8E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6884-CE52-4D1A-929E-B81526FB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E30-6816-4D98-B969-DDE1FC23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22F-F5F8-4E7E-9D74-7600D9E0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D14-D21F-4492-9225-1D98BD0D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B7E-DBE7-4E02-977B-216F633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6A3-F158-4EAA-B69A-A99AF40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EB0-6F3C-4BDC-9B61-B26EBA26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FD18-FEEA-4D1E-8905-2050A6E9749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da8"/>
            </a:gs>
            <a:gs pos="50000">
              <a:srgbClr val="ffffff"/>
            </a:gs>
            <a:gs pos="100000">
              <a:srgbClr val="f6ed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142920" y="1243080"/>
            <a:ext cx="8858160" cy="5072040"/>
          </a:xfrm>
          <a:prstGeom prst="rect">
            <a:avLst/>
          </a:prstGeom>
          <a:blipFill rotWithShape="0">
            <a:blip r:embed="rId2">
              <a:alphaModFix amt="26000"/>
            </a:blip>
            <a:srcRect/>
            <a:tile tx="0" ty="0" sx="100000" sy="100000" algn="ctr"/>
          </a:blipFill>
          <a:ln cap="rnd" w="63360">
            <a:solidFill>
              <a:srgbClr val="d8d8d8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0"/>
          <p:cNvGrpSpPr/>
          <p:nvPr/>
        </p:nvGrpSpPr>
        <p:grpSpPr>
          <a:xfrm>
            <a:off x="0" y="0"/>
            <a:ext cx="9144000" cy="1213920"/>
            <a:chOff x="0" y="0"/>
            <a:chExt cx="9144000" cy="1213920"/>
          </a:xfrm>
        </p:grpSpPr>
        <p:sp>
          <p:nvSpPr>
            <p:cNvPr id="43" name="Rectangle 7"/>
            <p:cNvSpPr/>
            <p:nvPr/>
          </p:nvSpPr>
          <p:spPr>
            <a:xfrm>
              <a:off x="0" y="0"/>
              <a:ext cx="9144000" cy="3193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7c0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0" y="958320"/>
              <a:ext cx="9144000" cy="255600"/>
            </a:xfrm>
            <a:prstGeom prst="rect">
              <a:avLst/>
            </a:prstGeom>
            <a:solidFill>
              <a:srgbClr val="006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6" descr="02"/>
          <p:cNvPicPr/>
          <p:nvPr/>
        </p:nvPicPr>
        <p:blipFill>
          <a:blip r:embed="rId3"/>
          <a:stretch/>
        </p:blipFill>
        <p:spPr>
          <a:xfrm rot="14690400">
            <a:off x="7525800" y="18108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7072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7857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59EB-C2C0-4D4D-A650-872CC4C7F77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428400" y="9288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7143840" y="64166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司名称</a:t>
            </a: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My Documents\Work\My 作业\My PPT\2009\图片2.png"/>
          <p:cNvPicPr/>
          <p:nvPr/>
        </p:nvPicPr>
        <p:blipFill>
          <a:blip r:embed="rId4"/>
          <a:stretch/>
        </p:blipFill>
        <p:spPr>
          <a:xfrm>
            <a:off x="0" y="6286680"/>
            <a:ext cx="6394320" cy="15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2"/>
          <p:cNvPicPr/>
          <p:nvPr/>
        </p:nvPicPr>
        <p:blipFill>
          <a:blip r:embed="rId5"/>
          <a:stretch/>
        </p:blipFill>
        <p:spPr>
          <a:xfrm rot="19141800">
            <a:off x="8183520" y="831600"/>
            <a:ext cx="91296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73E5-BCDC-4608-ABE8-31FC6D04659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5639-D197-4EAE-BBEE-5F1046285B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7" descr="帷幕右.png"/>
          <p:cNvPicPr/>
          <p:nvPr/>
        </p:nvPicPr>
        <p:blipFill>
          <a:blip r:embed="rId2"/>
          <a:stretch/>
        </p:blipFill>
        <p:spPr>
          <a:xfrm>
            <a:off x="4429080" y="714240"/>
            <a:ext cx="4114800" cy="54388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" descr="帷幕左.png"/>
          <p:cNvPicPr/>
          <p:nvPr/>
        </p:nvPicPr>
        <p:blipFill>
          <a:blip r:embed="rId3"/>
          <a:stretch/>
        </p:blipFill>
        <p:spPr>
          <a:xfrm>
            <a:off x="571680" y="714240"/>
            <a:ext cx="4743360" cy="54579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2" descr="恭贺新禧.png"/>
          <p:cNvPicPr/>
          <p:nvPr/>
        </p:nvPicPr>
        <p:blipFill>
          <a:blip r:embed="rId4"/>
          <a:stretch/>
        </p:blipFill>
        <p:spPr>
          <a:xfrm>
            <a:off x="3103560" y="2500200"/>
            <a:ext cx="3397320" cy="1951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3"/>
          <p:cNvSpPr/>
          <p:nvPr/>
        </p:nvSpPr>
        <p:spPr>
          <a:xfrm>
            <a:off x="6143760" y="5000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敬请等待</a:t>
            </a:r>
            <a:r>
              <a:rPr b="0" lang="en-US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9" descr="帷幕red.png"/>
          <p:cNvPicPr/>
          <p:nvPr/>
        </p:nvPicPr>
        <p:blipFill>
          <a:blip r:embed="rId5"/>
          <a:stretch/>
        </p:blipFill>
        <p:spPr>
          <a:xfrm>
            <a:off x="-142920" y="-7920"/>
            <a:ext cx="9299520" cy="69786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4102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103"/>
          <p:cNvSpPr/>
          <p:nvPr/>
        </p:nvSpPr>
        <p:spPr>
          <a:xfrm>
            <a:off x="2142720" y="1123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工作年度年终总结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圆角矩形 14"/>
          <p:cNvSpPr/>
          <p:nvPr/>
        </p:nvSpPr>
        <p:spPr>
          <a:xfrm>
            <a:off x="3643200" y="5143680"/>
            <a:ext cx="5715000" cy="928440"/>
          </a:xfrm>
          <a:prstGeom prst="roundRect">
            <a:avLst>
              <a:gd name="adj" fmla="val 16667"/>
            </a:avLst>
          </a:prstGeom>
          <a:solidFill>
            <a:srgbClr val="ffff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副标题 2"/>
          <p:cNvSpPr/>
          <p:nvPr/>
        </p:nvSpPr>
        <p:spPr>
          <a:xfrm>
            <a:off x="4786200" y="5429160"/>
            <a:ext cx="4643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圳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29080" y="5857920"/>
            <a:ext cx="5143680" cy="1440"/>
            <a:chOff x="4429080" y="5857920"/>
            <a:chExt cx="5143680" cy="1440"/>
          </a:xfrm>
        </p:grpSpPr>
        <p:sp>
          <p:nvSpPr>
            <p:cNvPr id="141" name="直接连接符 10"/>
            <p:cNvSpPr/>
            <p:nvPr/>
          </p:nvSpPr>
          <p:spPr>
            <a:xfrm>
              <a:off x="4429080" y="5857920"/>
              <a:ext cx="5143680" cy="14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429080" y="5857920"/>
              <a:ext cx="5143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28600" y="2214360"/>
            <a:ext cx="60008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ea0000"/>
                </a:solidFill>
                <a:latin typeface="方正粗倩简体"/>
                <a:ea typeface="方正粗倩简体"/>
              </a:rPr>
              <a:t>加强科学管理</a:t>
            </a:r>
            <a:br>
              <a:rPr sz="3200"/>
            </a:br>
            <a:r>
              <a:rPr b="1" lang="en-US" sz="3200" spc="-1" strike="noStrike">
                <a:solidFill>
                  <a:srgbClr val="ea0000"/>
                </a:solidFill>
                <a:latin typeface="方正粗倩简体"/>
                <a:ea typeface="方正粗倩简体"/>
              </a:rPr>
              <a:t>              </a:t>
            </a:r>
            <a:r>
              <a:rPr b="1" lang="zh-CN" sz="3200" spc="-1" strike="noStrike">
                <a:solidFill>
                  <a:srgbClr val="ea0000"/>
                </a:solidFill>
                <a:latin typeface="方正粗倩简体"/>
                <a:ea typeface="方正粗倩简体"/>
              </a:rPr>
              <a:t>力创优质品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857480" y="3786120"/>
            <a:ext cx="3786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2400" spc="-1" strike="noStrike">
                <a:solidFill>
                  <a:srgbClr val="ffffff"/>
                </a:solidFill>
                <a:latin typeface="Aristocrat"/>
                <a:ea typeface="微软雅黑"/>
              </a:rPr>
              <a:t>200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5" descr="小老虎.png"/>
          <p:cNvPicPr/>
          <p:nvPr/>
        </p:nvPicPr>
        <p:blipFill>
          <a:blip r:embed="rId2"/>
          <a:stretch/>
        </p:blipFill>
        <p:spPr>
          <a:xfrm>
            <a:off x="6429240" y="1428840"/>
            <a:ext cx="1517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6ed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solidFill>
            <a:srgbClr val="276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592360" y="4929120"/>
            <a:ext cx="6550200" cy="609840"/>
          </a:xfrm>
          <a:prstGeom prst="rect">
            <a:avLst/>
          </a:prstGeom>
          <a:solidFill>
            <a:srgbClr val="004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9"/>
          <p:cNvSpPr/>
          <p:nvPr/>
        </p:nvSpPr>
        <p:spPr>
          <a:xfrm>
            <a:off x="38160" y="4929120"/>
            <a:ext cx="9067680" cy="1928880"/>
          </a:xfrm>
          <a:prstGeom prst="rect">
            <a:avLst/>
          </a:prstGeom>
          <a:noFill/>
          <a:ln w="63360">
            <a:solidFill>
              <a:srgbClr val="f6ed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17"/>
          <p:cNvSpPr/>
          <p:nvPr/>
        </p:nvSpPr>
        <p:spPr>
          <a:xfrm>
            <a:off x="84240" y="52560"/>
            <a:ext cx="898056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6" descr="03"/>
          <p:cNvPicPr/>
          <p:nvPr/>
        </p:nvPicPr>
        <p:blipFill>
          <a:blip r:embed="rId1"/>
          <a:stretch/>
        </p:blipFill>
        <p:spPr>
          <a:xfrm>
            <a:off x="0" y="491508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Oval 4"/>
          <p:cNvSpPr/>
          <p:nvPr/>
        </p:nvSpPr>
        <p:spPr>
          <a:xfrm>
            <a:off x="1000080" y="1785960"/>
            <a:ext cx="3214800" cy="303840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7143840" y="64166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43040" y="2547720"/>
            <a:ext cx="2000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800" spc="-1" strike="noStrike">
                <a:solidFill>
                  <a:srgbClr val="004d2c"/>
                </a:solidFill>
                <a:latin typeface="方正粗倩简体"/>
                <a:ea typeface="方正粗倩简体"/>
              </a:rPr>
              <a:t>内容</a:t>
            </a:r>
            <a:br>
              <a:rPr sz="4800"/>
            </a:br>
            <a:r>
              <a:rPr b="0" lang="zh-CN" sz="4800" spc="-1" strike="noStrike">
                <a:solidFill>
                  <a:srgbClr val="004d2c"/>
                </a:solidFill>
                <a:latin typeface="方正粗倩简体"/>
                <a:ea typeface="方正粗倩简体"/>
              </a:rPr>
              <a:t>提要</a:t>
            </a:r>
            <a:endParaRPr b="0" lang="en-US" sz="4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3714840" y="1643040"/>
            <a:ext cx="4071960" cy="71424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篇：昨日 成绩斐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4235400" y="2928960"/>
            <a:ext cx="4000680" cy="71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f8e3"/>
              </a:gs>
              <a:gs pos="100000">
                <a:srgbClr val="f2f8f2"/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思篇：今朝 共励并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754440" y="4226040"/>
            <a:ext cx="4032360" cy="703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3f2e0"/>
              </a:gs>
              <a:gs pos="100000">
                <a:srgbClr val="f2f8f2"/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篇：未来 任重道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6156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393cb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2393cb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3786120" y="6613560"/>
            <a:ext cx="21337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C1C4-AA64-42BF-A63D-01F8F87CAAE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920" y="2714400"/>
            <a:ext cx="88581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Arial"/>
              </a:rPr>
              <a:t>回顾</a:t>
            </a:r>
            <a:r>
              <a:rPr b="0" lang="zh-CN" sz="4800" spc="-1" strike="noStrike">
                <a:solidFill>
                  <a:srgbClr val="002060"/>
                </a:solidFill>
                <a:latin typeface="Arial"/>
              </a:rPr>
              <a:t>2009</a:t>
            </a:r>
            <a:endParaRPr b="0" lang="en-US" sz="4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0" y="214200"/>
            <a:ext cx="4071960" cy="71460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篇：昨日 成绩斐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357880" y="4857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4d2c"/>
                </a:solidFill>
                <a:latin typeface="微软雅黑"/>
                <a:ea typeface="微软雅黑"/>
              </a:rPr>
              <a:t>无限感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6" descr="02"/>
          <p:cNvPicPr/>
          <p:nvPr/>
        </p:nvPicPr>
        <p:blipFill>
          <a:blip r:embed="rId1"/>
          <a:stretch/>
        </p:blipFill>
        <p:spPr>
          <a:xfrm rot="14690400">
            <a:off x="7525800" y="181080"/>
            <a:ext cx="1067040" cy="104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02"/>
          <p:cNvPicPr/>
          <p:nvPr/>
        </p:nvPicPr>
        <p:blipFill>
          <a:blip r:embed="rId2"/>
          <a:stretch/>
        </p:blipFill>
        <p:spPr>
          <a:xfrm rot="19141800">
            <a:off x="8183520" y="831600"/>
            <a:ext cx="9129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粗倩简体"/>
                <a:ea typeface="方正粗倩简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预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团在新的一年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143000" y="3071880"/>
            <a:ext cx="67150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绩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蒸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蒸</a:t>
            </a: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  更加  </a:t>
            </a: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辉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922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1639-4882-43CD-A8B8-2CC7D49E5F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9" descr="帷幕右.png"/>
          <p:cNvPicPr/>
          <p:nvPr/>
        </p:nvPicPr>
        <p:blipFill>
          <a:blip r:embed="rId2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帷幕左.png"/>
          <p:cNvPicPr/>
          <p:nvPr/>
        </p:nvPicPr>
        <p:blipFill>
          <a:blip r:embed="rId3"/>
          <a:stretch/>
        </p:blipFill>
        <p:spPr>
          <a:xfrm>
            <a:off x="-7128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6"/>
          <p:cNvSpPr/>
          <p:nvPr/>
        </p:nvSpPr>
        <p:spPr>
          <a:xfrm>
            <a:off x="285840" y="2786040"/>
            <a:ext cx="8643960" cy="123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鸣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忙之中莅临参加年会的集团公司领导及嘉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</a:t>
            </a:r>
            <a:r>
              <a:rPr b="1" lang="en-US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2009</a:t>
            </a: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优秀经营业绩做出贡献的全体同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年会筹办工作默默付出的工作人员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迎新春晚会辛苦排练的全体演职员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团各（子）公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团各下属部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2010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71440" y="2428560"/>
            <a:ext cx="5072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2428920" y="31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结束飞的更高.mp3" descr=""/>
          <p:cNvPicPr/>
          <p:nvPr/>
        </p:nvPicPr>
        <p:blipFill>
          <a:blip r:embed="rId4"/>
          <a:stretch/>
        </p:blipFill>
        <p:spPr>
          <a:xfrm>
            <a:off x="3857760" y="3214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3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8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8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7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5:0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59Z</dcterms:modified>
  <cp:revision>2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