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462-1743-4B2D-B73D-E1C59720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C1B-0E47-46F4-A5E7-FA7E25A5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471-DECF-4715-BEAC-C855147A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098-5D44-470A-94B8-82F584F8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C5DC-F6C4-42E4-982E-E1C8B0C1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0423-F4C9-4FA7-97AB-B1F54919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BDD2-4996-4D29-B341-74491E86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D3EC-2969-4785-B8B8-49E91A6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D17B-E98C-4B5D-AFA2-B7F0A6BB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17E2-A508-48DE-B481-BDCA2B50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A8AF-D0B6-4828-8791-7286FF0C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2C8-E726-43E5-B286-26A0774E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F971-8384-48F7-B569-7F754EFD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B3B8-016B-4118-B873-227B80C4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B03D-FF9E-4073-8432-B6AD93C9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B35E-559B-44A7-BE1D-B341E4F0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1E36-32BB-4B83-B30D-382CEB09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03E-1748-4D61-AE5D-92640998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5D9-3DFF-40A7-A90D-3F8EF087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7DC-223F-4BC0-B720-A9A84741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F67-236F-415A-9EE2-696A6F79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E54-E513-49FE-9F0E-CA4B98D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60D-AC6F-47AA-BA3D-81BE3D7D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92A-717A-4A76-B71C-15777E15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A37E-D676-421E-8FB1-7485FD3AF767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D3C7-1461-4507-9DE4-BCBF83D34A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4097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098" descr="未标题-3"/>
          <p:cNvPicPr/>
          <p:nvPr/>
        </p:nvPicPr>
        <p:blipFill>
          <a:blip r:embed="rId1"/>
          <a:stretch/>
        </p:blipFill>
        <p:spPr>
          <a:xfrm>
            <a:off x="-27000" y="-15840"/>
            <a:ext cx="9207360" cy="7047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4099"/>
          <p:cNvSpPr/>
          <p:nvPr/>
        </p:nvSpPr>
        <p:spPr>
          <a:xfrm>
            <a:off x="539640" y="2421000"/>
            <a:ext cx="4241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99650"/>
                </a:solidFill>
                <a:latin typeface="Arial"/>
                <a:ea typeface="华康海报体W12"/>
              </a:rPr>
              <a:t>咖啡物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9650"/>
                </a:solidFill>
                <a:latin typeface="华康少女文字W5"/>
                <a:ea typeface="华康少女文字W5"/>
              </a:rPr>
              <a:t>——</a:t>
            </a:r>
            <a:r>
              <a:rPr b="1" lang="zh-CN" sz="2800" spc="-1" strike="noStrike">
                <a:solidFill>
                  <a:srgbClr val="d99650"/>
                </a:solidFill>
                <a:latin typeface="华康少女文字W5"/>
                <a:ea typeface="华康少女文字W5"/>
              </a:rPr>
              <a:t>工作是</a:t>
            </a:r>
            <a:r>
              <a:rPr b="1" lang="zh-CN" sz="2800" spc="-1" strike="noStrike">
                <a:solidFill>
                  <a:srgbClr val="d92735"/>
                </a:solidFill>
                <a:latin typeface="华康少女文字W5"/>
                <a:ea typeface="华康少女文字W5"/>
              </a:rPr>
              <a:t>快乐</a:t>
            </a:r>
            <a:r>
              <a:rPr b="1" lang="zh-CN" sz="2800" spc="-1" strike="noStrike">
                <a:solidFill>
                  <a:srgbClr val="d99650"/>
                </a:solidFill>
                <a:latin typeface="华康少女文字W5"/>
                <a:ea typeface="华康少女文字W5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100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101"/>
          <p:cNvSpPr/>
          <p:nvPr/>
        </p:nvSpPr>
        <p:spPr>
          <a:xfrm>
            <a:off x="1739520" y="2667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工作休闲咖啡色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5121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122"/>
          <p:cNvSpPr/>
          <p:nvPr/>
        </p:nvSpPr>
        <p:spPr>
          <a:xfrm>
            <a:off x="-27000" y="-15840"/>
            <a:ext cx="9352080" cy="70470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123" descr="未标题-6"/>
          <p:cNvPicPr/>
          <p:nvPr/>
        </p:nvPicPr>
        <p:blipFill>
          <a:blip r:embed="rId1"/>
          <a:stretch/>
        </p:blipFill>
        <p:spPr>
          <a:xfrm>
            <a:off x="-25560" y="-17640"/>
            <a:ext cx="9352080" cy="7047000"/>
          </a:xfrm>
          <a:prstGeom prst="rect">
            <a:avLst/>
          </a:prstGeom>
          <a:ln w="0">
            <a:noFill/>
          </a:ln>
        </p:spPr>
      </p:pic>
      <p:sp>
        <p:nvSpPr>
          <p:cNvPr id="90" name="任意多边形 5124"/>
          <p:cNvSpPr/>
          <p:nvPr/>
        </p:nvSpPr>
        <p:spPr>
          <a:xfrm>
            <a:off x="3160800" y="2203560"/>
            <a:ext cx="4744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125"/>
          <p:cNvSpPr/>
          <p:nvPr/>
        </p:nvSpPr>
        <p:spPr>
          <a:xfrm>
            <a:off x="3960720" y="278136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2014"/>
                </a:solidFill>
                <a:latin typeface="Arial"/>
                <a:ea typeface="华康海报体W12"/>
              </a:rPr>
              <a:t>完成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5126"/>
          <p:cNvSpPr/>
          <p:nvPr/>
        </p:nvSpPr>
        <p:spPr>
          <a:xfrm>
            <a:off x="3160800" y="2924280"/>
            <a:ext cx="4744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5127"/>
          <p:cNvSpPr/>
          <p:nvPr/>
        </p:nvSpPr>
        <p:spPr>
          <a:xfrm>
            <a:off x="3160800" y="3645000"/>
            <a:ext cx="4744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5128"/>
          <p:cNvSpPr/>
          <p:nvPr/>
        </p:nvSpPr>
        <p:spPr>
          <a:xfrm>
            <a:off x="3960720" y="198900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2014"/>
                </a:solidFill>
                <a:latin typeface="Arial"/>
                <a:ea typeface="华康海报体W12"/>
              </a:rPr>
              <a:t>接受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129"/>
          <p:cNvSpPr/>
          <p:nvPr/>
        </p:nvSpPr>
        <p:spPr>
          <a:xfrm>
            <a:off x="3960720" y="350208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2014"/>
                </a:solidFill>
                <a:latin typeface="Arial"/>
                <a:ea typeface="华康海报体W12"/>
              </a:rPr>
              <a:t>享受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6145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146"/>
          <p:cNvSpPr/>
          <p:nvPr/>
        </p:nvSpPr>
        <p:spPr>
          <a:xfrm>
            <a:off x="-27000" y="-15840"/>
            <a:ext cx="9352080" cy="70470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6147" descr="未标题-5"/>
          <p:cNvPicPr/>
          <p:nvPr/>
        </p:nvPicPr>
        <p:blipFill>
          <a:blip r:embed="rId1"/>
          <a:stretch/>
        </p:blipFill>
        <p:spPr>
          <a:xfrm>
            <a:off x="-27000" y="196920"/>
            <a:ext cx="9352080" cy="64720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413080" y="1917720"/>
            <a:ext cx="360" cy="2232000"/>
            <a:chOff x="2413080" y="1917720"/>
            <a:chExt cx="360" cy="2232000"/>
          </a:xfrm>
        </p:grpSpPr>
        <p:sp>
          <p:nvSpPr>
            <p:cNvPr id="100" name="直接连接符 6148"/>
            <p:cNvSpPr/>
            <p:nvPr/>
          </p:nvSpPr>
          <p:spPr>
            <a:xfrm>
              <a:off x="2413080" y="1917720"/>
              <a:ext cx="0" cy="2232000"/>
            </a:xfrm>
            <a:prstGeom prst="line">
              <a:avLst/>
            </a:prstGeom>
            <a:ln w="28440">
              <a:solidFill>
                <a:srgbClr val="3820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2413080" y="1917720"/>
              <a:ext cx="360" cy="22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6149"/>
          <p:cNvSpPr/>
          <p:nvPr/>
        </p:nvSpPr>
        <p:spPr>
          <a:xfrm>
            <a:off x="3160800" y="2492280"/>
            <a:ext cx="42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92735"/>
                </a:solidFill>
                <a:latin typeface="Arial"/>
                <a:ea typeface="华康海报体W12"/>
              </a:rPr>
              <a:t>享受工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15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7169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170"/>
          <p:cNvSpPr/>
          <p:nvPr/>
        </p:nvSpPr>
        <p:spPr>
          <a:xfrm>
            <a:off x="-27000" y="-15840"/>
            <a:ext cx="9352080" cy="70470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7171" descr="未标题-2"/>
          <p:cNvPicPr/>
          <p:nvPr/>
        </p:nvPicPr>
        <p:blipFill>
          <a:blip r:embed="rId1"/>
          <a:stretch/>
        </p:blipFill>
        <p:spPr>
          <a:xfrm>
            <a:off x="-25560" y="237960"/>
            <a:ext cx="9352080" cy="686304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7172"/>
          <p:cNvSpPr/>
          <p:nvPr/>
        </p:nvSpPr>
        <p:spPr>
          <a:xfrm>
            <a:off x="628560" y="620640"/>
            <a:ext cx="506412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92735"/>
                </a:solidFill>
                <a:latin typeface="华康少女文字W5(P)"/>
                <a:ea typeface="华康海报体W12"/>
              </a:rPr>
              <a:t>朝</a:t>
            </a: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九晚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如果工作只让你感觉辛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那生活将多么痛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和暗恋的同事一个小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办公楼下有卖你爱吃的关东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老板请客  省下饭费二十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年终聚会  大家都在关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我偷练的舞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我不曾孤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这些卑微的小幸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是工作给我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b2014"/>
                </a:solidFill>
                <a:latin typeface="华康少女文字W5(P)"/>
                <a:ea typeface="华康少女文字W5(P)"/>
              </a:rPr>
              <a:t>额外眷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51B3-FB7B-4B9B-88D7-55CC6A40573D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8193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194"/>
          <p:cNvSpPr/>
          <p:nvPr/>
        </p:nvSpPr>
        <p:spPr>
          <a:xfrm>
            <a:off x="-27000" y="-15840"/>
            <a:ext cx="9352080" cy="7047000"/>
          </a:xfrm>
          <a:prstGeom prst="rect">
            <a:avLst/>
          </a:prstGeom>
          <a:solidFill>
            <a:srgbClr val="3820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8195" descr="未标题-4"/>
          <p:cNvPicPr/>
          <p:nvPr/>
        </p:nvPicPr>
        <p:blipFill>
          <a:blip r:embed="rId1"/>
          <a:stretch/>
        </p:blipFill>
        <p:spPr>
          <a:xfrm>
            <a:off x="-25560" y="193680"/>
            <a:ext cx="9423720" cy="6470640"/>
          </a:xfrm>
          <a:prstGeom prst="rect">
            <a:avLst/>
          </a:prstGeom>
          <a:ln w="0">
            <a:noFill/>
          </a:ln>
        </p:spPr>
      </p:pic>
      <p:sp>
        <p:nvSpPr>
          <p:cNvPr id="115" name="椭圆形标注 8196"/>
          <p:cNvSpPr/>
          <p:nvPr/>
        </p:nvSpPr>
        <p:spPr>
          <a:xfrm>
            <a:off x="4359240" y="1989000"/>
            <a:ext cx="863640" cy="503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d92735"/>
          </a:solidFill>
          <a:ln w="9360">
            <a:solidFill>
              <a:srgbClr val="d92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ce5c4"/>
                </a:solidFill>
                <a:latin typeface="Segoe Print"/>
              </a:rPr>
              <a:t>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8197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5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