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0FA-D811-49CA-82B1-1F49EDA0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65E-9F9E-4999-8506-2338A524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BC8-929C-4D20-AF79-9484DE68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60D-0B64-4188-9876-49DD96B3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66BF-EF2A-45CE-8404-1F878891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EBA7-BB99-460C-803D-B3E2D18D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2C17-FF56-4A45-8DCE-1F30D841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2C6A-4AA4-4D44-A08F-AC267749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B6E7-ABD5-4E27-A5BF-74A3C8DC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17AC-7A32-40B3-BB2F-A635BC85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C229-24F9-4A17-8C1F-064CB21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E44-17C5-46C9-B627-8B753C69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4CCC-7EAD-4AAB-8079-5F8036E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2560-735A-403C-B0B5-F338FBB6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2D39-4E4E-4146-86A4-2E7A89A7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8AE6-A1A5-41A4-93B2-5103462E4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A599-DFB9-41E8-B56D-802494FA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7FA7-C1CE-4915-BD09-CCD5F8A0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230E-61DB-4072-B61E-B5069993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F91-EF40-4B7C-A266-AF56AE0D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F30-14CC-4250-8668-B3190A0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0AD-D96B-407D-AD22-3AD79C7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5B8-9394-4EEF-9AB6-AE1280CF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406-709A-4CAC-B679-C055F354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63A8-5C82-4A54-AD09-B72F8FABCD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BE59-611A-4123-A68F-22699E5FDE4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07E7-C8B1-4C1C-B8CE-77A8562D76B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soaptreinamentomarca-090607200250-phpapp02-slid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074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2285640" y="44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活动工作计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soaptreinamentomarca-090607200250-phpapp02-slide-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soaptreinamentomarca-090607200250-phpapp02-slide-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12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" descr="soaptreinamentomarca-090607200250-phpapp02-slide-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soaptreinamentomarca-090607200250-phpapp02-slide-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soaptreinamentomarca-090607200250-phpapp02-slide-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soaptreinamentomarca-090607200250-phpapp02-slide-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488F-B466-4D67-9B0C-62D5284F2A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soaptreinamentomarca-090607200250-phpapp02-slide-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0242"/>
          <p:cNvSpPr/>
          <p:nvPr/>
        </p:nvSpPr>
        <p:spPr>
          <a:xfrm>
            <a:off x="684360" y="33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00:1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30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