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8.png" ContentType="image/png"/>
  <Override PartName="/ppt/media/image21.jpeg" ContentType="image/jpeg"/>
  <Override PartName="/ppt/media/image16.png" ContentType="image/png"/>
  <Override PartName="/ppt/media/image19.png" ContentType="image/png"/>
  <Override PartName="/ppt/media/image17.png" ContentType="image/png"/>
  <Override PartName="/ppt/media/image14.png" ContentType="image/png"/>
  <Override PartName="/ppt/media/image22.jpeg" ContentType="image/jpeg"/>
  <Override PartName="/ppt/media/image1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5E9C-BF8A-44DA-B4B2-DAA220628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4A75-E2F1-40F5-8622-3142204BA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11AD57-D067-404A-817E-A4F629850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DBAAF3-EFBB-45A8-8F0A-F57693386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C2608D-8A4E-4F5E-8F6C-4EAABCC16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C52C5F-A690-4774-A2A8-06D2017FB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40FDF-D1A0-4795-8BD3-0461710E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C1D7D-E471-4159-A138-365A92C7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AF8DB-77DC-497A-BDE0-AF0565D06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808AD8-A9E9-464A-A6FF-5957BBF05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ECA9CD-CE5A-41F9-8435-EE5808217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F7D530-0422-4B8D-8383-D2BE93F84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EC31-AE20-473F-B917-0A0FFE29A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CB9503-BF6D-4B7A-A68D-3C9B4C56F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FFEE3E-85C7-4102-962B-A2724D41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A21B7A-F2F3-4DE6-92F5-2313EE604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433DB-B4F3-4C5E-99D2-37FAD0235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5F8BC4-D5E5-4D75-81F6-C23966D65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B9B0B2-4C00-4F69-BB68-3D4C58E6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E500F6-6EFD-4859-97A6-E0DCEE8D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18FB18-00C5-4CA7-BE20-9A987E66F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50687-51A0-4075-9C10-550F433A5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14A1EB-8ADD-49CB-89C3-52D3BF749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07A9-D5A6-4FC4-86A9-D1C97D5D3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91D65B-4047-497A-9DFF-E0D788EDF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C368A5-2790-4C78-B1E3-9CABB23EB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0AEB40-F5C8-442A-9096-C21460B37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6BABB1-2649-469B-8AED-D5A4CC8E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E6020C-D687-4527-9CED-473076FAC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AC3812-030F-4739-98A0-FAD81110C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29711-A760-4E0A-8DBF-C0C0B33F0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74D77C-39EE-411C-83C0-89DC77F35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A40F78-7C30-4898-808D-D7B1A7444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45D467-E52A-4302-84A4-9CBCE3D7F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B66EF-D45E-471F-9F82-720156642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D8A132-8E4C-46DA-8BDC-9583B2EC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BF8DB8-0766-4EE7-A7B2-5BF0387A3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9EBA2B1-1386-4C07-968F-8442329CA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A9090C-A7DA-419B-B754-BCD283B67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DC5A2D-72EF-470C-AACB-F3DE544D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8909C1-2BB4-46AF-8C75-89DEE3FCB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706904-2045-45A9-BF06-372DE8666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8AD7BB-E898-497A-B8B7-736CDD35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49751C-116C-4F24-AC5A-2A51C5A18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4AC16-F014-4876-8A68-FF61ADA7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C6149-2E07-4C02-AA70-8EE348775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954D00-0F30-4F3A-BC61-6B639F1F7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C7ACF8-CA2D-4A74-B4D5-A48A0061F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962150-5C3A-4B15-8AD2-20D20C863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653B288-B7BB-4E94-87A1-3D21437CF8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CAB6F0-4F2C-44E3-AD81-1C2B0DF4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B6D0E8-2480-4F0E-8E66-A34DB284D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F529F2-64B6-470F-A541-35367035C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7B5F23-485E-4287-B3AE-EA1D85EBE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359154-117F-4CDD-B53F-C8C1ECBEE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08BB98-329D-4251-A4C4-981D1F73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E5813-D57F-403E-95FF-7C9FDFBE4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547B1-5713-45D7-B5D9-EA88C88A4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B02838-1FD9-4462-8095-A28F637A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F2DC64-53B0-470A-BC1E-723221D76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490D5D-05E6-4915-A986-27F066B32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0CF691-6630-4034-88EE-6FC86F8F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5624FC-6B89-409B-A919-7FB9A4916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4F7FBC-227C-4FE2-A3A3-785C0615B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FCF694-CFCA-436D-AA14-F80B88368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EB68BC-CB0C-4628-BEA9-29F9A8484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0C442-9BB7-4DC6-ADFF-DDF17612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D8DC2-0307-4552-9601-974FE146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B4B07C-9C6E-4C88-B6EF-19012957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CBCD2-A44F-4A22-9B88-5352BFE7D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9570E1-2D00-4005-9423-A69D6F71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3BC845-AB80-4395-A87B-8F872135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093BD99-D157-4F49-BD66-F7D09638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A9E9DF-4D8A-4414-97B0-F6478C510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66860D-006E-4E15-B3F3-F2B2ED8E0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78558-186E-4236-A000-66DE2999F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F9DEA0-8B6C-4126-B190-B0DF73044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F0100-E359-423C-A2E2-8DF7A1084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C06A7-2147-44AE-B3ED-99AB1F55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CAF2F-7B6E-4289-8EA8-86AD226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DEE9-B880-4DD3-BD08-E00CB2A7A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F4073-00DD-41FA-BCD8-F6D134E55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1335-B871-4EAB-B172-7E88E3345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10064-9D79-41CA-A5E0-7AE0BA259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8975-8F8A-4C19-BCFA-26D5D5C7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DBC2E-B254-4831-8D66-2B0169A1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85BC4-0E79-4D72-AC84-7CD93E63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9EC41-8153-4317-A9D7-3C4F0279F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0F61DB-D80F-4FC7-9576-469E86E0E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597569-1B4F-40B2-B510-B304142E0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EF06B6-27B2-4F64-ACCF-F272955B2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5067-AF61-486F-A2B0-4E3B0A53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4857B1-DEEE-4F2A-9344-3861E3113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D63B6A-0F48-4EDC-9FDC-D02E8CDD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FB55F-D4A8-4301-9FAB-1F148EF1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EEC92-0099-4EE9-9DF4-AF7752000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7BE623-D44C-4E33-91D2-F6FC04527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87B758-D52E-41B6-8AB9-33C6D7233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2C17E-5849-4488-9756-3386ADF3B1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8510E-33E4-4C72-9A76-957172E73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44D7E3-725F-4007-A421-C8F9E8D7E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BACF11-071F-41FC-BF18-14414467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BB5B8-4C4B-4043-9C3A-D7FC95B97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67B19A-E777-4084-B076-C6BC91F64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77A01F-23E3-44E1-BDC7-4FE650E8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F1548-F15A-4EE5-8983-E6255A38A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C0882-00A2-49C0-87D3-A470B586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FD3DF6-69B7-4E94-B8A8-76CAC541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3D532D-8316-4E1B-8EE2-C38FB197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F6A4D-AC3A-4ABC-ACED-9511EF64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F7BE0C-1420-4680-8EE8-08AFF084A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6C20D-3A95-479A-B291-3C9250BF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642148-1D0B-49C3-B1BF-B01B75055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D0BE4-EC81-4E80-BABA-048EC4719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7AE1F2-C631-4AF7-B176-DC597D53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5EF79A-38E6-42E1-B133-73B37466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EC3C5-F6C7-49D6-86B7-2ED279986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F5773F-5E52-4AD2-8174-5A486A1B9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16AF0A-1194-4F05-B1EF-E535B2EF1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C6B73F-9D42-4BCC-BB8D-3F02C349E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282CA2-4EDB-4652-89F6-64CE6197A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C6EF72-6EB3-4540-A365-C569C761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007FA3-9373-4A1C-A098-92FD8A53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5AB991-3519-44B2-81B4-045A80B45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65F9-24F9-4934-ADE9-0D5579C5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BAF763-E6A4-4B1F-9B53-B9726C83E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E089E-B58A-4FBB-80F6-2DE64C5A9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25A94B-534F-4F79-9F7C-39E15263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5D467-CC45-4C38-951D-A45D3E9A9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AEAED-7BA0-41F1-91AA-FB11A089B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181E6B-6905-4AE4-B79D-EC957960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6301A9-2D71-494D-BE29-78D2C1AE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C1DAE-52F9-4F56-922C-46F9F36F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ED0127-4733-4AF6-8548-AAD4A70DE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5409CC-808F-483C-89CF-5D3339E6F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A479-E580-488A-BA74-D1F0D01F0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25C52C-2030-4AC2-BC78-9B3A68C2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EC6328-7EAE-4D2E-B9E9-1764DEB44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D53CB7-0588-4546-A711-5D58236DA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D9C50D-5FA6-4239-8B97-1CB4781E4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B611B7-8D4A-4407-B38B-B52BBAD0D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C41E09-9C01-43EE-8D17-A591A10A2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B1537C-F370-456B-9933-BB0E118CB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5160D-3C00-43D3-9172-CB6211A3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484E23-A52D-443B-9504-8C2C08DB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8E26C-5C5C-48AA-BF76-BC67D46A5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C701-CB20-42FE-B559-0C65BD9F3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301E72-A89D-40AC-98E3-B2B83A41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632F4-D354-4D7F-A9F0-AEE399BA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12D0F1-27D5-4A34-B90E-5AFCDAA6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245A9-CCA0-4D8B-903F-120FF154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FA7B03-611D-417F-A103-CF1A87A6C4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F072B-CDDE-4AEF-B4C3-20C9A23A3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B1B5D3-DC01-49F4-B188-9C8D5DF30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0440F-B349-4615-892D-C43D7A814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531199-3FC5-4808-9E9F-B0B3DE85C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FE6333-4244-4837-B6EB-91E849AFD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B8DE1-37E8-40E7-A394-F988C06FD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DADDE7-1169-4515-B87A-E61EB5A91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A602C-AE96-4756-B914-F119446FB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6C45F-3927-4B82-8AEE-B28D02E7E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00A7F4-45BD-4DFA-8655-2B0F8BE6E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2CE70F-29E2-4843-B268-77D4A29A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5F7CBA-F6B4-49A1-8BBB-5B5DD54E2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AFD6F0-AE61-4FFA-B49C-8873B4D66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DD5F5C-C2E5-4CBE-BD54-89A6902861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B45018-E5C0-44A1-9A9D-D10ED89B3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691A25-EFD7-4F6D-B443-1F8379FBF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98CAA-FE61-46A4-8EA9-B6F13BD505EC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5A696-2A1F-41F3-8C3D-C8D07FC4CB81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9C751-3EDD-42C9-B538-D7BD7E68C51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F55AE-6B7E-495B-A007-1008D7C6E88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DD76-5BD0-44B1-9675-179497F1DF30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2201C-5227-4D90-9A14-4FED1C75EE3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2A08-0B89-4DB7-8B03-5C7470D14BB1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81B3D-C78B-4E5A-B2A1-705FF213347A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30F42-162F-4C6E-8191-D0BF1586D66D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3C4D0-2C04-40C2-91DF-D5E0079CB8B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A492B-83C2-4B02-A7DE-397FB52DCC3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050F-43FE-4296-A09E-A623CD97C89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F23E9-EF04-4959-8DFA-5FC2C0A7A1C7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素彩网</a:t>
            </a:r>
            <a:r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http://www.sc115.com-ppt</a:t>
            </a:r>
            <a:r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模板免费下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93FB2-405F-4A68-A386-AEAE5919C5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FF1C8-3F4D-46F6-A5BB-DB02E60C65D3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6E311-02D1-4437-85DF-2C5D305616F7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1E3E-8E3F-41BB-879B-3B988B4E842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7E2F6-4D12-47A5-8ED1-5DF8FE55BED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1ABD5-EB20-42F4-B455-8E15FF33E717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45598-127E-46AF-A934-18BA6E163BC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BD929-E799-4AF4-B3A1-790C99E26DD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F5DB2-1CD9-4F50-A344-4B5E7E5D275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D0DE-891E-452C-A100-982CB6D65576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58323-8757-4DB0-9266-30BD1ABEC6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15205-D191-45EE-873F-296189FCE3D5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639B3-C832-466E-BBBD-3F0C444A9E7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AAE37-A967-4372-B6BE-3B90C92C51BF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1F1E2-8111-421A-949E-A8A3AB3C1968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1.png"/><Relationship Id="rId16" Type="http://schemas.openxmlformats.org/officeDocument/2006/relationships/image" Target="../media/image11.png"/><Relationship Id="rId17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7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3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14.png"/><Relationship Id="rId17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4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1019160" y="4781520"/>
            <a:ext cx="27860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자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이름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   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소속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ffff"/>
                </a:solidFill>
                <a:latin typeface="나눔고딕"/>
                <a:ea typeface="나눔고딕"/>
              </a:rPr>
              <a:t>작성년월일</a:t>
            </a:r>
            <a:r>
              <a:rPr b="1" lang="en-US" sz="1200" spc="-1" strike="noStrike">
                <a:solidFill>
                  <a:srgbClr val="ffffff"/>
                </a:solidFill>
                <a:latin typeface="나눔고딕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201</a:t>
            </a:r>
            <a:r>
              <a:rPr b="0" lang="zh-CN" sz="1200" spc="-1" strike="noStrike">
                <a:solidFill>
                  <a:srgbClr val="ffffff"/>
                </a:solidFill>
                <a:latin typeface="나눔고딕"/>
                <a:ea typeface="宋体"/>
              </a:rPr>
              <a:t>2</a:t>
            </a:r>
            <a:r>
              <a:rPr b="0" lang="en-US" sz="1200" spc="-1" strike="noStrike">
                <a:solidFill>
                  <a:srgbClr val="ffffff"/>
                </a:solidFill>
                <a:latin typeface="나눔고딕"/>
              </a:rPr>
              <a:t>. 00. 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文本框 15366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文本框 15367"/>
          <p:cNvSpPr/>
          <p:nvPr/>
        </p:nvSpPr>
        <p:spPr>
          <a:xfrm>
            <a:off x="1938240" y="306864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韩国工作日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나눔고딕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2AD01-4B44-43C5-B489-81AD8210751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5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감사합니다</a:t>
            </a:r>
            <a:r>
              <a:rPr b="1" lang="en-US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!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页脚占位符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TextBox 4"/>
          <p:cNvSpPr/>
          <p:nvPr/>
        </p:nvSpPr>
        <p:spPr>
          <a:xfrm>
            <a:off x="1019160" y="4797360"/>
            <a:ext cx="2786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자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이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   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소속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작성년월일</a:t>
            </a:r>
            <a:r>
              <a:rPr b="1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201</a:t>
            </a: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宋体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. 00. 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6"/>
          <p:cNvSpPr/>
          <p:nvPr/>
        </p:nvSpPr>
        <p:spPr>
          <a:xfrm>
            <a:off x="971640" y="1989000"/>
            <a:ext cx="7345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제목</a:t>
            </a:r>
            <a:endParaRPr b="0" lang="en-US" sz="6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7"/>
          <p:cNvSpPr/>
          <p:nvPr/>
        </p:nvSpPr>
        <p:spPr>
          <a:xfrm>
            <a:off x="971640" y="1197000"/>
            <a:ext cx="4968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문서의 개요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Box 9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844-1BFE-4FF9-8577-0B326B89D6D8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文本框 17417"/>
          <p:cNvSpPr/>
          <p:nvPr/>
        </p:nvSpPr>
        <p:spPr>
          <a:xfrm>
            <a:off x="2050920" y="4510080"/>
            <a:ext cx="5040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70c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70c0"/>
                </a:solidFill>
                <a:uFillTx/>
                <a:latin typeface="Arial"/>
                <a:ea typeface="나눔고딕"/>
                <a:hlinkClick r:id="rId3"/>
              </a:rPr>
              <a:t>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TextBox 2"/>
          <p:cNvSpPr/>
          <p:nvPr/>
        </p:nvSpPr>
        <p:spPr>
          <a:xfrm>
            <a:off x="971640" y="476280"/>
            <a:ext cx="5697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목차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TextBox 4"/>
          <p:cNvSpPr/>
          <p:nvPr/>
        </p:nvSpPr>
        <p:spPr>
          <a:xfrm>
            <a:off x="971640" y="10620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TextBox 5"/>
          <p:cNvSpPr/>
          <p:nvPr/>
        </p:nvSpPr>
        <p:spPr>
          <a:xfrm>
            <a:off x="1177920" y="189396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6"/>
          <p:cNvSpPr/>
          <p:nvPr/>
        </p:nvSpPr>
        <p:spPr>
          <a:xfrm>
            <a:off x="971640" y="2676600"/>
            <a:ext cx="56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2. </a:t>
            </a:r>
            <a:r>
              <a:rPr b="1" lang="zh-CN" sz="24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꼭지 제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7"/>
          <p:cNvSpPr/>
          <p:nvPr/>
        </p:nvSpPr>
        <p:spPr>
          <a:xfrm>
            <a:off x="1177920" y="3503520"/>
            <a:ext cx="569772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998"/>
              </a:lnSpc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E173-53A4-4A0C-A80E-39AC17EF726E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4" name="TextBox 3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4"/>
          <p:cNvSpPr/>
          <p:nvPr/>
        </p:nvSpPr>
        <p:spPr>
          <a:xfrm>
            <a:off x="1160640" y="2044800"/>
            <a:ext cx="6642000" cy="14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을 여기에 작성하세요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나눔손글씨 펜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,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6p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글자 간격은 좁게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0.2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줄간격은 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1.1pt</a:t>
            </a: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를 권장합니다</a:t>
            </a:r>
            <a:r>
              <a:rPr b="0" lang="en-US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5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 제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214BD-9B11-449A-AE5A-82ED636D0D7F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页脚占位符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10" name=""/>
          <p:cNvGrpSpPr/>
          <p:nvPr/>
        </p:nvGrpSpPr>
        <p:grpSpPr>
          <a:xfrm>
            <a:off x="2411280" y="3040200"/>
            <a:ext cx="936720" cy="288720"/>
            <a:chOff x="2411280" y="3040200"/>
            <a:chExt cx="936720" cy="288720"/>
          </a:xfrm>
        </p:grpSpPr>
        <p:sp>
          <p:nvSpPr>
            <p:cNvPr id="611" name="직선 연결선 17"/>
            <p:cNvSpPr/>
            <p:nvPr/>
          </p:nvSpPr>
          <p:spPr>
            <a:xfrm flipV="1">
              <a:off x="2411280" y="3040200"/>
              <a:ext cx="936720" cy="28872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"/>
            <p:cNvSpPr txBox="1"/>
            <p:nvPr/>
          </p:nvSpPr>
          <p:spPr>
            <a:xfrm rot="10800000">
              <a:off x="2411280" y="3040200"/>
              <a:ext cx="936720" cy="28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2411280" y="3794040"/>
            <a:ext cx="1224000" cy="1800"/>
            <a:chOff x="2411280" y="3794040"/>
            <a:chExt cx="1224000" cy="1800"/>
          </a:xfrm>
        </p:grpSpPr>
        <p:sp>
          <p:nvSpPr>
            <p:cNvPr id="614" name="직선 연결선 20"/>
            <p:cNvSpPr/>
            <p:nvPr/>
          </p:nvSpPr>
          <p:spPr>
            <a:xfrm>
              <a:off x="2411280" y="3794040"/>
              <a:ext cx="1224000" cy="180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 txBox="1"/>
            <p:nvPr/>
          </p:nvSpPr>
          <p:spPr>
            <a:xfrm>
              <a:off x="2411280" y="3794040"/>
              <a:ext cx="122400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"/>
          <p:cNvGrpSpPr/>
          <p:nvPr/>
        </p:nvGrpSpPr>
        <p:grpSpPr>
          <a:xfrm>
            <a:off x="4140360" y="2320560"/>
            <a:ext cx="1079280" cy="358920"/>
            <a:chOff x="4140360" y="2320560"/>
            <a:chExt cx="1079280" cy="358920"/>
          </a:xfrm>
        </p:grpSpPr>
        <p:sp>
          <p:nvSpPr>
            <p:cNvPr id="617" name="직선 연결선 62"/>
            <p:cNvSpPr/>
            <p:nvPr/>
          </p:nvSpPr>
          <p:spPr>
            <a:xfrm flipV="1">
              <a:off x="4140360" y="2320560"/>
              <a:ext cx="1079280" cy="35892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 txBox="1"/>
            <p:nvPr/>
          </p:nvSpPr>
          <p:spPr>
            <a:xfrm rot="10800000">
              <a:off x="4140360" y="2320560"/>
              <a:ext cx="107928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9" name="TextBox 48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9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2340000" y="4121280"/>
            <a:ext cx="1008000" cy="574560"/>
            <a:chOff x="2340000" y="4121280"/>
            <a:chExt cx="1008000" cy="574560"/>
          </a:xfrm>
        </p:grpSpPr>
        <p:sp>
          <p:nvSpPr>
            <p:cNvPr id="622" name="직선 연결선 58"/>
            <p:cNvSpPr/>
            <p:nvPr/>
          </p:nvSpPr>
          <p:spPr>
            <a:xfrm>
              <a:off x="2340000" y="4121280"/>
              <a:ext cx="1008000" cy="57456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 txBox="1"/>
            <p:nvPr/>
          </p:nvSpPr>
          <p:spPr>
            <a:xfrm>
              <a:off x="2340000" y="4121280"/>
              <a:ext cx="1008000" cy="57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4" name="그림 5" descr=""/>
          <p:cNvPicPr/>
          <p:nvPr/>
        </p:nvPicPr>
        <p:blipFill>
          <a:blip r:embed="rId2"/>
          <a:stretch/>
        </p:blipFill>
        <p:spPr>
          <a:xfrm>
            <a:off x="966960" y="3247920"/>
            <a:ext cx="1647720" cy="1086120"/>
          </a:xfrm>
          <a:prstGeom prst="rect">
            <a:avLst/>
          </a:prstGeom>
          <a:ln w="0">
            <a:noFill/>
          </a:ln>
        </p:spPr>
      </p:pic>
      <p:sp>
        <p:nvSpPr>
          <p:cNvPr id="625" name="TextBox 10"/>
          <p:cNvSpPr/>
          <p:nvPr/>
        </p:nvSpPr>
        <p:spPr>
          <a:xfrm>
            <a:off x="1262160" y="34876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6" name=""/>
          <p:cNvGrpSpPr/>
          <p:nvPr/>
        </p:nvGrpSpPr>
        <p:grpSpPr>
          <a:xfrm>
            <a:off x="4140360" y="2824200"/>
            <a:ext cx="1223640" cy="216000"/>
            <a:chOff x="4140360" y="2824200"/>
            <a:chExt cx="1223640" cy="216000"/>
          </a:xfrm>
        </p:grpSpPr>
        <p:sp>
          <p:nvSpPr>
            <p:cNvPr id="627" name="직선 연결선 69"/>
            <p:cNvSpPr/>
            <p:nvPr/>
          </p:nvSpPr>
          <p:spPr>
            <a:xfrm>
              <a:off x="4140360" y="282420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"/>
            <p:cNvSpPr txBox="1"/>
            <p:nvPr/>
          </p:nvSpPr>
          <p:spPr>
            <a:xfrm>
              <a:off x="4140360" y="282420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9" name=""/>
          <p:cNvGrpSpPr/>
          <p:nvPr/>
        </p:nvGrpSpPr>
        <p:grpSpPr>
          <a:xfrm>
            <a:off x="4356000" y="3803760"/>
            <a:ext cx="1224000" cy="1440"/>
            <a:chOff x="4356000" y="3803760"/>
            <a:chExt cx="1224000" cy="1440"/>
          </a:xfrm>
        </p:grpSpPr>
        <p:sp>
          <p:nvSpPr>
            <p:cNvPr id="630" name="직선 연결선 72"/>
            <p:cNvSpPr/>
            <p:nvPr/>
          </p:nvSpPr>
          <p:spPr>
            <a:xfrm>
              <a:off x="4356000" y="3803760"/>
              <a:ext cx="1224000" cy="144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"/>
            <p:cNvSpPr txBox="1"/>
            <p:nvPr/>
          </p:nvSpPr>
          <p:spPr>
            <a:xfrm>
              <a:off x="4356000" y="3803760"/>
              <a:ext cx="1224000" cy="1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360" bIns="-45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2" name=""/>
          <p:cNvGrpSpPr/>
          <p:nvPr/>
        </p:nvGrpSpPr>
        <p:grpSpPr>
          <a:xfrm>
            <a:off x="4140360" y="4559040"/>
            <a:ext cx="1079280" cy="360360"/>
            <a:chOff x="4140360" y="4559040"/>
            <a:chExt cx="1079280" cy="360360"/>
          </a:xfrm>
        </p:grpSpPr>
        <p:sp>
          <p:nvSpPr>
            <p:cNvPr id="633" name="직선 연결선 74"/>
            <p:cNvSpPr/>
            <p:nvPr/>
          </p:nvSpPr>
          <p:spPr>
            <a:xfrm flipV="1">
              <a:off x="4140360" y="4559040"/>
              <a:ext cx="1079280" cy="36036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 txBox="1"/>
            <p:nvPr/>
          </p:nvSpPr>
          <p:spPr>
            <a:xfrm rot="10800000">
              <a:off x="4140360" y="4559040"/>
              <a:ext cx="107928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5" name=""/>
          <p:cNvGrpSpPr/>
          <p:nvPr/>
        </p:nvGrpSpPr>
        <p:grpSpPr>
          <a:xfrm>
            <a:off x="4140360" y="5064120"/>
            <a:ext cx="1223640" cy="216000"/>
            <a:chOff x="4140360" y="5064120"/>
            <a:chExt cx="1223640" cy="216000"/>
          </a:xfrm>
        </p:grpSpPr>
        <p:sp>
          <p:nvSpPr>
            <p:cNvPr id="636" name="직선 연결선 75"/>
            <p:cNvSpPr/>
            <p:nvPr/>
          </p:nvSpPr>
          <p:spPr>
            <a:xfrm>
              <a:off x="4140360" y="5064120"/>
              <a:ext cx="1223640" cy="216000"/>
            </a:xfrm>
            <a:prstGeom prst="line">
              <a:avLst/>
            </a:prstGeom>
            <a:ln w="9360">
              <a:solidFill>
                <a:srgbClr val="000000">
                  <a:alpha val="50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"/>
            <p:cNvSpPr txBox="1"/>
            <p:nvPr/>
          </p:nvSpPr>
          <p:spPr>
            <a:xfrm>
              <a:off x="4140360" y="5064120"/>
              <a:ext cx="122364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"/>
          <p:cNvGrpSpPr/>
          <p:nvPr/>
        </p:nvGrpSpPr>
        <p:grpSpPr>
          <a:xfrm>
            <a:off x="5796000" y="2176200"/>
            <a:ext cx="1008000" cy="215640"/>
            <a:chOff x="5796000" y="2176200"/>
            <a:chExt cx="1008000" cy="215640"/>
          </a:xfrm>
        </p:grpSpPr>
        <p:sp>
          <p:nvSpPr>
            <p:cNvPr id="639" name="직선 연결선 76"/>
            <p:cNvSpPr/>
            <p:nvPr/>
          </p:nvSpPr>
          <p:spPr>
            <a:xfrm flipV="1">
              <a:off x="5796000" y="2176200"/>
              <a:ext cx="1008000" cy="21564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"/>
            <p:cNvSpPr txBox="1"/>
            <p:nvPr/>
          </p:nvSpPr>
          <p:spPr>
            <a:xfrm rot="10800000">
              <a:off x="5796000" y="2176200"/>
              <a:ext cx="1008000" cy="21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"/>
          <p:cNvGrpSpPr/>
          <p:nvPr/>
        </p:nvGrpSpPr>
        <p:grpSpPr>
          <a:xfrm>
            <a:off x="5796000" y="2392200"/>
            <a:ext cx="1008000" cy="360360"/>
            <a:chOff x="5796000" y="2392200"/>
            <a:chExt cx="1008000" cy="360360"/>
          </a:xfrm>
        </p:grpSpPr>
        <p:sp>
          <p:nvSpPr>
            <p:cNvPr id="642" name="직선 연결선 77"/>
            <p:cNvSpPr/>
            <p:nvPr/>
          </p:nvSpPr>
          <p:spPr>
            <a:xfrm>
              <a:off x="5796000" y="239220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"/>
            <p:cNvSpPr txBox="1"/>
            <p:nvPr/>
          </p:nvSpPr>
          <p:spPr>
            <a:xfrm>
              <a:off x="5796000" y="239220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5796000" y="2924280"/>
            <a:ext cx="1008000" cy="358560"/>
            <a:chOff x="5796000" y="2924280"/>
            <a:chExt cx="1008000" cy="358560"/>
          </a:xfrm>
        </p:grpSpPr>
        <p:sp>
          <p:nvSpPr>
            <p:cNvPr id="645" name="직선 연결선 86"/>
            <p:cNvSpPr/>
            <p:nvPr/>
          </p:nvSpPr>
          <p:spPr>
            <a:xfrm>
              <a:off x="5796000" y="2924280"/>
              <a:ext cx="1008000" cy="3585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5796000" y="2924280"/>
              <a:ext cx="1008000" cy="358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5803920" y="4408560"/>
            <a:ext cx="1008000" cy="216000"/>
            <a:chOff x="5803920" y="4408560"/>
            <a:chExt cx="1008000" cy="216000"/>
          </a:xfrm>
        </p:grpSpPr>
        <p:sp>
          <p:nvSpPr>
            <p:cNvPr id="648" name="직선 연결선 87"/>
            <p:cNvSpPr/>
            <p:nvPr/>
          </p:nvSpPr>
          <p:spPr>
            <a:xfrm flipV="1">
              <a:off x="5803920" y="4408560"/>
              <a:ext cx="1008000" cy="21600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 txBox="1"/>
            <p:nvPr/>
          </p:nvSpPr>
          <p:spPr>
            <a:xfrm rot="10800000">
              <a:off x="5803920" y="4408560"/>
              <a:ext cx="1008000" cy="21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5803920" y="4624560"/>
            <a:ext cx="1008000" cy="360360"/>
            <a:chOff x="5803920" y="4624560"/>
            <a:chExt cx="1008000" cy="360360"/>
          </a:xfrm>
        </p:grpSpPr>
        <p:sp>
          <p:nvSpPr>
            <p:cNvPr id="651" name="직선 연결선 88"/>
            <p:cNvSpPr/>
            <p:nvPr/>
          </p:nvSpPr>
          <p:spPr>
            <a:xfrm>
              <a:off x="5803920" y="462456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"/>
            <p:cNvSpPr txBox="1"/>
            <p:nvPr/>
          </p:nvSpPr>
          <p:spPr>
            <a:xfrm>
              <a:off x="5803920" y="462456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3" name=""/>
          <p:cNvGrpSpPr/>
          <p:nvPr/>
        </p:nvGrpSpPr>
        <p:grpSpPr>
          <a:xfrm>
            <a:off x="5803920" y="5156280"/>
            <a:ext cx="1008000" cy="360360"/>
            <a:chOff x="5803920" y="5156280"/>
            <a:chExt cx="1008000" cy="360360"/>
          </a:xfrm>
        </p:grpSpPr>
        <p:sp>
          <p:nvSpPr>
            <p:cNvPr id="654" name="직선 연결선 89"/>
            <p:cNvSpPr/>
            <p:nvPr/>
          </p:nvSpPr>
          <p:spPr>
            <a:xfrm>
              <a:off x="5803920" y="5156280"/>
              <a:ext cx="1008000" cy="360360"/>
            </a:xfrm>
            <a:prstGeom prst="line">
              <a:avLst/>
            </a:prstGeom>
            <a:ln w="936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"/>
            <p:cNvSpPr txBox="1"/>
            <p:nvPr/>
          </p:nvSpPr>
          <p:spPr>
            <a:xfrm>
              <a:off x="5803920" y="5156280"/>
              <a:ext cx="1008000" cy="36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6" name="그림 6" descr=""/>
          <p:cNvPicPr/>
          <p:nvPr/>
        </p:nvPicPr>
        <p:blipFill>
          <a:blip r:embed="rId3"/>
          <a:stretch/>
        </p:blipFill>
        <p:spPr>
          <a:xfrm>
            <a:off x="3205080" y="2390760"/>
            <a:ext cx="1152720" cy="762120"/>
          </a:xfrm>
          <a:prstGeom prst="rect">
            <a:avLst/>
          </a:prstGeom>
          <a:ln w="0">
            <a:noFill/>
          </a:ln>
        </p:spPr>
      </p:pic>
      <p:pic>
        <p:nvPicPr>
          <p:cNvPr id="657" name="그림 7" descr=""/>
          <p:cNvPicPr/>
          <p:nvPr/>
        </p:nvPicPr>
        <p:blipFill>
          <a:blip r:embed="rId4"/>
          <a:stretch/>
        </p:blipFill>
        <p:spPr>
          <a:xfrm>
            <a:off x="3471840" y="3459240"/>
            <a:ext cx="1152720" cy="761760"/>
          </a:xfrm>
          <a:prstGeom prst="rect">
            <a:avLst/>
          </a:prstGeom>
          <a:ln w="0">
            <a:noFill/>
          </a:ln>
        </p:spPr>
      </p:pic>
      <p:pic>
        <p:nvPicPr>
          <p:cNvPr id="658" name="그림 8" descr=""/>
          <p:cNvPicPr/>
          <p:nvPr/>
        </p:nvPicPr>
        <p:blipFill>
          <a:blip r:embed="rId5"/>
          <a:stretch/>
        </p:blipFill>
        <p:spPr>
          <a:xfrm>
            <a:off x="3214800" y="4595760"/>
            <a:ext cx="1152360" cy="762120"/>
          </a:xfrm>
          <a:prstGeom prst="rect">
            <a:avLst/>
          </a:prstGeom>
          <a:ln w="0">
            <a:noFill/>
          </a:ln>
        </p:spPr>
      </p:pic>
      <p:sp>
        <p:nvSpPr>
          <p:cNvPr id="659" name="TextBox 11"/>
          <p:cNvSpPr/>
          <p:nvPr/>
        </p:nvSpPr>
        <p:spPr>
          <a:xfrm>
            <a:off x="3276720" y="24732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TextBox 12"/>
          <p:cNvSpPr/>
          <p:nvPr/>
        </p:nvSpPr>
        <p:spPr>
          <a:xfrm>
            <a:off x="3543480" y="356544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TextBox 13"/>
          <p:cNvSpPr/>
          <p:nvPr/>
        </p:nvSpPr>
        <p:spPr>
          <a:xfrm>
            <a:off x="3286080" y="468792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그림 26" descr=""/>
          <p:cNvPicPr/>
          <p:nvPr/>
        </p:nvPicPr>
        <p:blipFill>
          <a:blip r:embed="rId6"/>
          <a:stretch/>
        </p:blipFill>
        <p:spPr>
          <a:xfrm>
            <a:off x="4998960" y="2185920"/>
            <a:ext cx="1028880" cy="447840"/>
          </a:xfrm>
          <a:prstGeom prst="rect">
            <a:avLst/>
          </a:prstGeom>
          <a:ln w="0">
            <a:noFill/>
          </a:ln>
        </p:spPr>
      </p:pic>
      <p:sp>
        <p:nvSpPr>
          <p:cNvPr id="663" name="TextBox 27"/>
          <p:cNvSpPr/>
          <p:nvPr/>
        </p:nvSpPr>
        <p:spPr>
          <a:xfrm>
            <a:off x="5000760" y="212400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4" name="그림 28" descr=""/>
          <p:cNvPicPr/>
          <p:nvPr/>
        </p:nvPicPr>
        <p:blipFill>
          <a:blip r:embed="rId7"/>
          <a:stretch/>
        </p:blipFill>
        <p:spPr>
          <a:xfrm>
            <a:off x="5022720" y="280044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665" name="TextBox 29"/>
          <p:cNvSpPr/>
          <p:nvPr/>
        </p:nvSpPr>
        <p:spPr>
          <a:xfrm>
            <a:off x="5024520" y="2736720"/>
            <a:ext cx="98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그림 36" descr=""/>
          <p:cNvPicPr/>
          <p:nvPr/>
        </p:nvPicPr>
        <p:blipFill>
          <a:blip r:embed="rId8"/>
          <a:stretch/>
        </p:blipFill>
        <p:spPr>
          <a:xfrm>
            <a:off x="5210280" y="358632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67" name="TextBox 37"/>
          <p:cNvSpPr/>
          <p:nvPr/>
        </p:nvSpPr>
        <p:spPr>
          <a:xfrm>
            <a:off x="5210280" y="3548160"/>
            <a:ext cx="157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그림 38" descr=""/>
          <p:cNvPicPr/>
          <p:nvPr/>
        </p:nvPicPr>
        <p:blipFill>
          <a:blip r:embed="rId9"/>
          <a:stretch/>
        </p:blipFill>
        <p:spPr>
          <a:xfrm>
            <a:off x="5045040" y="4438800"/>
            <a:ext cx="1028880" cy="447480"/>
          </a:xfrm>
          <a:prstGeom prst="rect">
            <a:avLst/>
          </a:prstGeom>
          <a:ln w="0">
            <a:noFill/>
          </a:ln>
        </p:spPr>
      </p:pic>
      <p:sp>
        <p:nvSpPr>
          <p:cNvPr id="669" name="TextBox 39"/>
          <p:cNvSpPr/>
          <p:nvPr/>
        </p:nvSpPr>
        <p:spPr>
          <a:xfrm>
            <a:off x="4879800" y="4394160"/>
            <a:ext cx="1285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그림 40" descr=""/>
          <p:cNvPicPr/>
          <p:nvPr/>
        </p:nvPicPr>
        <p:blipFill>
          <a:blip r:embed="rId10"/>
          <a:stretch/>
        </p:blipFill>
        <p:spPr>
          <a:xfrm>
            <a:off x="5046840" y="5052960"/>
            <a:ext cx="1028520" cy="447840"/>
          </a:xfrm>
          <a:prstGeom prst="rect">
            <a:avLst/>
          </a:prstGeom>
          <a:ln w="0">
            <a:noFill/>
          </a:ln>
        </p:spPr>
      </p:pic>
      <p:sp>
        <p:nvSpPr>
          <p:cNvPr id="671" name="TextBox 41"/>
          <p:cNvSpPr/>
          <p:nvPr/>
        </p:nvSpPr>
        <p:spPr>
          <a:xfrm>
            <a:off x="5048280" y="4991040"/>
            <a:ext cx="982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2" name="그림 15" descr=""/>
          <p:cNvPicPr/>
          <p:nvPr/>
        </p:nvPicPr>
        <p:blipFill>
          <a:blip r:embed="rId11"/>
          <a:stretch/>
        </p:blipFill>
        <p:spPr>
          <a:xfrm>
            <a:off x="6572160" y="199548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3" name="TextBox 23"/>
          <p:cNvSpPr/>
          <p:nvPr/>
        </p:nvSpPr>
        <p:spPr>
          <a:xfrm>
            <a:off x="6643800" y="195120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그림 24" descr=""/>
          <p:cNvPicPr/>
          <p:nvPr/>
        </p:nvPicPr>
        <p:blipFill>
          <a:blip r:embed="rId12"/>
          <a:stretch/>
        </p:blipFill>
        <p:spPr>
          <a:xfrm>
            <a:off x="6576840" y="249552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5" name="TextBox 25"/>
          <p:cNvSpPr/>
          <p:nvPr/>
        </p:nvSpPr>
        <p:spPr>
          <a:xfrm>
            <a:off x="6643800" y="2451240"/>
            <a:ext cx="1428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 OTF"/>
                <a:ea typeface="나눔손글씨 펜 OTF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6" name="그림 30" descr=""/>
          <p:cNvPicPr/>
          <p:nvPr/>
        </p:nvPicPr>
        <p:blipFill>
          <a:blip r:embed="rId13"/>
          <a:stretch/>
        </p:blipFill>
        <p:spPr>
          <a:xfrm>
            <a:off x="6572160" y="3009960"/>
            <a:ext cx="1648080" cy="457200"/>
          </a:xfrm>
          <a:prstGeom prst="rect">
            <a:avLst/>
          </a:prstGeom>
          <a:ln w="0">
            <a:noFill/>
          </a:ln>
        </p:spPr>
      </p:pic>
      <p:sp>
        <p:nvSpPr>
          <p:cNvPr id="677" name="TextBox 31"/>
          <p:cNvSpPr/>
          <p:nvPr/>
        </p:nvSpPr>
        <p:spPr>
          <a:xfrm>
            <a:off x="6572160" y="2965320"/>
            <a:ext cx="157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8" name="그림 42" descr=""/>
          <p:cNvPicPr/>
          <p:nvPr/>
        </p:nvPicPr>
        <p:blipFill>
          <a:blip r:embed="rId14"/>
          <a:stretch/>
        </p:blipFill>
        <p:spPr>
          <a:xfrm>
            <a:off x="6616800" y="422424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79" name="TextBox 43"/>
          <p:cNvSpPr/>
          <p:nvPr/>
        </p:nvSpPr>
        <p:spPr>
          <a:xfrm>
            <a:off x="6688080" y="4179960"/>
            <a:ext cx="141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그림 44" descr=""/>
          <p:cNvPicPr/>
          <p:nvPr/>
        </p:nvPicPr>
        <p:blipFill>
          <a:blip r:embed="rId15"/>
          <a:stretch/>
        </p:blipFill>
        <p:spPr>
          <a:xfrm>
            <a:off x="6621480" y="472428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81" name="TextBox 45"/>
          <p:cNvSpPr/>
          <p:nvPr/>
        </p:nvSpPr>
        <p:spPr>
          <a:xfrm>
            <a:off x="6688080" y="468000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그림 53" descr=""/>
          <p:cNvPicPr/>
          <p:nvPr/>
        </p:nvPicPr>
        <p:blipFill>
          <a:blip r:embed="rId16"/>
          <a:stretch/>
        </p:blipFill>
        <p:spPr>
          <a:xfrm>
            <a:off x="6620040" y="5295960"/>
            <a:ext cx="1647720" cy="457200"/>
          </a:xfrm>
          <a:prstGeom prst="rect">
            <a:avLst/>
          </a:prstGeom>
          <a:ln w="0">
            <a:noFill/>
          </a:ln>
        </p:spPr>
      </p:pic>
      <p:sp>
        <p:nvSpPr>
          <p:cNvPr id="683" name="TextBox 54"/>
          <p:cNvSpPr/>
          <p:nvPr/>
        </p:nvSpPr>
        <p:spPr>
          <a:xfrm>
            <a:off x="6686640" y="5251320"/>
            <a:ext cx="1428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내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Box 51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E135A-CD1E-49E1-BE44-FB0E724791CF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页脚占位符 49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7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도형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4535280" y="2563920"/>
            <a:ext cx="360" cy="2305080"/>
            <a:chOff x="4535280" y="2563920"/>
            <a:chExt cx="360" cy="2305080"/>
          </a:xfrm>
        </p:grpSpPr>
        <p:sp>
          <p:nvSpPr>
            <p:cNvPr id="690" name="직선 연결선 45"/>
            <p:cNvSpPr/>
            <p:nvPr/>
          </p:nvSpPr>
          <p:spPr>
            <a:xfrm>
              <a:off x="4535640" y="2563920"/>
              <a:ext cx="0" cy="230508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"/>
            <p:cNvSpPr txBox="1"/>
            <p:nvPr/>
          </p:nvSpPr>
          <p:spPr>
            <a:xfrm rot="5400000">
              <a:off x="3382920" y="3716280"/>
              <a:ext cx="2305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"/>
          <p:cNvGrpSpPr/>
          <p:nvPr/>
        </p:nvGrpSpPr>
        <p:grpSpPr>
          <a:xfrm>
            <a:off x="3348000" y="3760920"/>
            <a:ext cx="2735280" cy="360"/>
            <a:chOff x="3348000" y="3760920"/>
            <a:chExt cx="2735280" cy="360"/>
          </a:xfrm>
        </p:grpSpPr>
        <p:sp>
          <p:nvSpPr>
            <p:cNvPr id="693" name="직선 연결선 41"/>
            <p:cNvSpPr/>
            <p:nvPr/>
          </p:nvSpPr>
          <p:spPr>
            <a:xfrm>
              <a:off x="3348000" y="3760920"/>
              <a:ext cx="2735280" cy="0"/>
            </a:xfrm>
            <a:prstGeom prst="line">
              <a:avLst/>
            </a:prstGeom>
            <a:ln w="15840">
              <a:solidFill>
                <a:srgbClr val="0c0c0c">
                  <a:alpha val="28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 txBox="1"/>
            <p:nvPr/>
          </p:nvSpPr>
          <p:spPr>
            <a:xfrm>
              <a:off x="3348000" y="3760920"/>
              <a:ext cx="27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5" name="그림 10" descr=""/>
          <p:cNvPicPr/>
          <p:nvPr/>
        </p:nvPicPr>
        <p:blipFill>
          <a:blip r:embed="rId2"/>
          <a:stretch/>
        </p:blipFill>
        <p:spPr>
          <a:xfrm>
            <a:off x="3948120" y="3149640"/>
            <a:ext cx="1247760" cy="1238040"/>
          </a:xfrm>
          <a:prstGeom prst="rect">
            <a:avLst/>
          </a:prstGeom>
          <a:ln w="0">
            <a:noFill/>
          </a:ln>
        </p:spPr>
      </p:pic>
      <p:sp>
        <p:nvSpPr>
          <p:cNvPr id="696" name="TextBox 11"/>
          <p:cNvSpPr/>
          <p:nvPr/>
        </p:nvSpPr>
        <p:spPr>
          <a:xfrm>
            <a:off x="4030560" y="3317760"/>
            <a:ext cx="982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7" name=""/>
          <p:cNvGrpSpPr/>
          <p:nvPr/>
        </p:nvGrpSpPr>
        <p:grpSpPr>
          <a:xfrm>
            <a:off x="2124000" y="2852640"/>
            <a:ext cx="1150920" cy="936720"/>
            <a:chOff x="2124000" y="2852640"/>
            <a:chExt cx="1150920" cy="936720"/>
          </a:xfrm>
        </p:grpSpPr>
        <p:sp>
          <p:nvSpPr>
            <p:cNvPr id="698" name="직선 연결선 46"/>
            <p:cNvSpPr/>
            <p:nvPr/>
          </p:nvSpPr>
          <p:spPr>
            <a:xfrm>
              <a:off x="2124000" y="2852640"/>
              <a:ext cx="1150920" cy="936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"/>
            <p:cNvSpPr txBox="1"/>
            <p:nvPr/>
          </p:nvSpPr>
          <p:spPr>
            <a:xfrm>
              <a:off x="2124000" y="2852640"/>
              <a:ext cx="115092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0" name=""/>
          <p:cNvGrpSpPr/>
          <p:nvPr/>
        </p:nvGrpSpPr>
        <p:grpSpPr>
          <a:xfrm>
            <a:off x="2195280" y="3789000"/>
            <a:ext cx="1081440" cy="863640"/>
            <a:chOff x="2195280" y="3789000"/>
            <a:chExt cx="1081440" cy="863640"/>
          </a:xfrm>
        </p:grpSpPr>
        <p:sp>
          <p:nvSpPr>
            <p:cNvPr id="701" name="직선 연결선 49"/>
            <p:cNvSpPr/>
            <p:nvPr/>
          </p:nvSpPr>
          <p:spPr>
            <a:xfrm flipV="1">
              <a:off x="2195640" y="3789000"/>
              <a:ext cx="1081080" cy="86364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"/>
            <p:cNvSpPr txBox="1"/>
            <p:nvPr/>
          </p:nvSpPr>
          <p:spPr>
            <a:xfrm rot="10800000">
              <a:off x="2195280" y="3789000"/>
              <a:ext cx="10810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3" name=""/>
          <p:cNvGrpSpPr/>
          <p:nvPr/>
        </p:nvGrpSpPr>
        <p:grpSpPr>
          <a:xfrm>
            <a:off x="6011640" y="2852640"/>
            <a:ext cx="863640" cy="905040"/>
            <a:chOff x="6011640" y="2852640"/>
            <a:chExt cx="863640" cy="905040"/>
          </a:xfrm>
        </p:grpSpPr>
        <p:sp>
          <p:nvSpPr>
            <p:cNvPr id="704" name="직선 연결선 51"/>
            <p:cNvSpPr/>
            <p:nvPr/>
          </p:nvSpPr>
          <p:spPr>
            <a:xfrm flipH="1">
              <a:off x="6011640" y="2852640"/>
              <a:ext cx="863640" cy="90504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"/>
            <p:cNvSpPr txBox="1"/>
            <p:nvPr/>
          </p:nvSpPr>
          <p:spPr>
            <a:xfrm rot="5400000">
              <a:off x="5990760" y="2873160"/>
              <a:ext cx="90504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"/>
          <p:cNvGrpSpPr/>
          <p:nvPr/>
        </p:nvGrpSpPr>
        <p:grpSpPr>
          <a:xfrm>
            <a:off x="6011640" y="3758760"/>
            <a:ext cx="863640" cy="894240"/>
            <a:chOff x="6011640" y="3758760"/>
            <a:chExt cx="863640" cy="894240"/>
          </a:xfrm>
        </p:grpSpPr>
        <p:sp>
          <p:nvSpPr>
            <p:cNvPr id="707" name="직선 연결선 52"/>
            <p:cNvSpPr/>
            <p:nvPr/>
          </p:nvSpPr>
          <p:spPr>
            <a:xfrm flipH="1" flipV="1">
              <a:off x="6011640" y="3758760"/>
              <a:ext cx="863640" cy="89388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"/>
            <p:cNvSpPr txBox="1"/>
            <p:nvPr/>
          </p:nvSpPr>
          <p:spPr>
            <a:xfrm rot="5400000">
              <a:off x="5996520" y="3774240"/>
              <a:ext cx="893880" cy="863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9" name="그림 22" descr=""/>
          <p:cNvPicPr/>
          <p:nvPr/>
        </p:nvPicPr>
        <p:blipFill>
          <a:blip r:embed="rId3"/>
          <a:stretch/>
        </p:blipFill>
        <p:spPr>
          <a:xfrm>
            <a:off x="1814400" y="429588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710" name="TextBox 23"/>
          <p:cNvSpPr/>
          <p:nvPr/>
        </p:nvSpPr>
        <p:spPr>
          <a:xfrm>
            <a:off x="1644480" y="4356000"/>
            <a:ext cx="9846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1" name="그림 24" descr=""/>
          <p:cNvPicPr/>
          <p:nvPr/>
        </p:nvPicPr>
        <p:blipFill>
          <a:blip r:embed="rId4"/>
          <a:stretch/>
        </p:blipFill>
        <p:spPr>
          <a:xfrm>
            <a:off x="1808280" y="248904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12" name="TextBox 25"/>
          <p:cNvSpPr/>
          <p:nvPr/>
        </p:nvSpPr>
        <p:spPr>
          <a:xfrm>
            <a:off x="1638360" y="25495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그림 28" descr=""/>
          <p:cNvPicPr/>
          <p:nvPr/>
        </p:nvPicPr>
        <p:blipFill>
          <a:blip r:embed="rId5"/>
          <a:stretch/>
        </p:blipFill>
        <p:spPr>
          <a:xfrm>
            <a:off x="6513480" y="4305240"/>
            <a:ext cx="714240" cy="714600"/>
          </a:xfrm>
          <a:prstGeom prst="rect">
            <a:avLst/>
          </a:prstGeom>
          <a:ln w="0">
            <a:noFill/>
          </a:ln>
        </p:spPr>
      </p:pic>
      <p:sp>
        <p:nvSpPr>
          <p:cNvPr id="714" name="TextBox 29"/>
          <p:cNvSpPr/>
          <p:nvPr/>
        </p:nvSpPr>
        <p:spPr>
          <a:xfrm>
            <a:off x="6343560" y="4365720"/>
            <a:ext cx="9842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5" name="그림 30" descr=""/>
          <p:cNvPicPr/>
          <p:nvPr/>
        </p:nvPicPr>
        <p:blipFill>
          <a:blip r:embed="rId6"/>
          <a:stretch/>
        </p:blipFill>
        <p:spPr>
          <a:xfrm>
            <a:off x="6507000" y="2498760"/>
            <a:ext cx="714600" cy="714240"/>
          </a:xfrm>
          <a:prstGeom prst="rect">
            <a:avLst/>
          </a:prstGeom>
          <a:ln w="0">
            <a:noFill/>
          </a:ln>
        </p:spPr>
      </p:pic>
      <p:sp>
        <p:nvSpPr>
          <p:cNvPr id="716" name="TextBox 31"/>
          <p:cNvSpPr/>
          <p:nvPr/>
        </p:nvSpPr>
        <p:spPr>
          <a:xfrm>
            <a:off x="6338880" y="255888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7" name=""/>
          <p:cNvGrpSpPr/>
          <p:nvPr/>
        </p:nvGrpSpPr>
        <p:grpSpPr>
          <a:xfrm>
            <a:off x="3708360" y="2060640"/>
            <a:ext cx="790560" cy="504720"/>
            <a:chOff x="3708360" y="2060640"/>
            <a:chExt cx="790560" cy="504720"/>
          </a:xfrm>
        </p:grpSpPr>
        <p:sp>
          <p:nvSpPr>
            <p:cNvPr id="718" name="직선 연결선 57"/>
            <p:cNvSpPr/>
            <p:nvPr/>
          </p:nvSpPr>
          <p:spPr>
            <a:xfrm>
              <a:off x="3708360" y="2060640"/>
              <a:ext cx="790560" cy="504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"/>
            <p:cNvSpPr txBox="1"/>
            <p:nvPr/>
          </p:nvSpPr>
          <p:spPr>
            <a:xfrm>
              <a:off x="3708360" y="2060640"/>
              <a:ext cx="79056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0" name=""/>
          <p:cNvGrpSpPr/>
          <p:nvPr/>
        </p:nvGrpSpPr>
        <p:grpSpPr>
          <a:xfrm>
            <a:off x="4572000" y="2060640"/>
            <a:ext cx="792000" cy="504720"/>
            <a:chOff x="4572000" y="2060640"/>
            <a:chExt cx="792000" cy="504720"/>
          </a:xfrm>
        </p:grpSpPr>
        <p:sp>
          <p:nvSpPr>
            <p:cNvPr id="721" name="직선 연결선 59"/>
            <p:cNvSpPr/>
            <p:nvPr/>
          </p:nvSpPr>
          <p:spPr>
            <a:xfrm flipH="1">
              <a:off x="4572000" y="2060640"/>
              <a:ext cx="792000" cy="50472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"/>
            <p:cNvSpPr txBox="1"/>
            <p:nvPr/>
          </p:nvSpPr>
          <p:spPr>
            <a:xfrm>
              <a:off x="4572000" y="2060640"/>
              <a:ext cx="792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3" name=""/>
          <p:cNvGrpSpPr/>
          <p:nvPr/>
        </p:nvGrpSpPr>
        <p:grpSpPr>
          <a:xfrm>
            <a:off x="3708360" y="5013000"/>
            <a:ext cx="790560" cy="576360"/>
            <a:chOff x="3708360" y="5013000"/>
            <a:chExt cx="790560" cy="576360"/>
          </a:xfrm>
        </p:grpSpPr>
        <p:sp>
          <p:nvSpPr>
            <p:cNvPr id="724" name="직선 연결선 62"/>
            <p:cNvSpPr/>
            <p:nvPr/>
          </p:nvSpPr>
          <p:spPr>
            <a:xfrm flipV="1">
              <a:off x="3708360" y="5013000"/>
              <a:ext cx="790560" cy="57636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"/>
            <p:cNvSpPr txBox="1"/>
            <p:nvPr/>
          </p:nvSpPr>
          <p:spPr>
            <a:xfrm rot="10800000">
              <a:off x="3708360" y="5013000"/>
              <a:ext cx="79056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26" name=""/>
          <p:cNvGrpSpPr/>
          <p:nvPr/>
        </p:nvGrpSpPr>
        <p:grpSpPr>
          <a:xfrm>
            <a:off x="4572000" y="5013000"/>
            <a:ext cx="792000" cy="576360"/>
            <a:chOff x="4572000" y="5013000"/>
            <a:chExt cx="792000" cy="576360"/>
          </a:xfrm>
        </p:grpSpPr>
        <p:sp>
          <p:nvSpPr>
            <p:cNvPr id="727" name="직선 연결선 63"/>
            <p:cNvSpPr/>
            <p:nvPr/>
          </p:nvSpPr>
          <p:spPr>
            <a:xfrm flipH="1" flipV="1">
              <a:off x="4572000" y="5013000"/>
              <a:ext cx="792000" cy="57636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"/>
            <p:cNvSpPr txBox="1"/>
            <p:nvPr/>
          </p:nvSpPr>
          <p:spPr>
            <a:xfrm rot="10800000">
              <a:off x="4572000" y="5013000"/>
              <a:ext cx="792000" cy="576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9" name="그림 16" descr=""/>
          <p:cNvPicPr/>
          <p:nvPr/>
        </p:nvPicPr>
        <p:blipFill>
          <a:blip r:embed="rId7"/>
          <a:stretch/>
        </p:blipFill>
        <p:spPr>
          <a:xfrm>
            <a:off x="4130640" y="459756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730" name="TextBox 17"/>
          <p:cNvSpPr/>
          <p:nvPr/>
        </p:nvSpPr>
        <p:spPr>
          <a:xfrm>
            <a:off x="4033800" y="469908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1" name="그림 32" descr=""/>
          <p:cNvPicPr/>
          <p:nvPr/>
        </p:nvPicPr>
        <p:blipFill>
          <a:blip r:embed="rId8"/>
          <a:stretch/>
        </p:blipFill>
        <p:spPr>
          <a:xfrm>
            <a:off x="3373560" y="5226120"/>
            <a:ext cx="712800" cy="714240"/>
          </a:xfrm>
          <a:prstGeom prst="rect">
            <a:avLst/>
          </a:prstGeom>
          <a:ln w="0">
            <a:noFill/>
          </a:ln>
        </p:spPr>
      </p:pic>
      <p:sp>
        <p:nvSpPr>
          <p:cNvPr id="732" name="TextBox 33"/>
          <p:cNvSpPr/>
          <p:nvPr/>
        </p:nvSpPr>
        <p:spPr>
          <a:xfrm>
            <a:off x="3222720" y="5286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그림 34" descr=""/>
          <p:cNvPicPr/>
          <p:nvPr/>
        </p:nvPicPr>
        <p:blipFill>
          <a:blip r:embed="rId9"/>
          <a:stretch/>
        </p:blipFill>
        <p:spPr>
          <a:xfrm>
            <a:off x="4992840" y="523548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34" name="TextBox 35"/>
          <p:cNvSpPr/>
          <p:nvPr/>
        </p:nvSpPr>
        <p:spPr>
          <a:xfrm>
            <a:off x="4822920" y="529596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그림 18" descr=""/>
          <p:cNvPicPr/>
          <p:nvPr/>
        </p:nvPicPr>
        <p:blipFill>
          <a:blip r:embed="rId10"/>
          <a:stretch/>
        </p:blipFill>
        <p:spPr>
          <a:xfrm>
            <a:off x="4135320" y="2168640"/>
            <a:ext cx="800280" cy="799920"/>
          </a:xfrm>
          <a:prstGeom prst="rect">
            <a:avLst/>
          </a:prstGeom>
          <a:ln w="0">
            <a:noFill/>
          </a:ln>
        </p:spPr>
      </p:pic>
      <p:sp>
        <p:nvSpPr>
          <p:cNvPr id="736" name="TextBox 19"/>
          <p:cNvSpPr/>
          <p:nvPr/>
        </p:nvSpPr>
        <p:spPr>
          <a:xfrm>
            <a:off x="4038480" y="22701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7" name="그림 36" descr=""/>
          <p:cNvPicPr/>
          <p:nvPr/>
        </p:nvPicPr>
        <p:blipFill>
          <a:blip r:embed="rId11"/>
          <a:stretch/>
        </p:blipFill>
        <p:spPr>
          <a:xfrm>
            <a:off x="3373560" y="1768320"/>
            <a:ext cx="712800" cy="714600"/>
          </a:xfrm>
          <a:prstGeom prst="rect">
            <a:avLst/>
          </a:prstGeom>
          <a:ln w="0">
            <a:noFill/>
          </a:ln>
        </p:spPr>
      </p:pic>
      <p:sp>
        <p:nvSpPr>
          <p:cNvPr id="738" name="TextBox 37"/>
          <p:cNvSpPr/>
          <p:nvPr/>
        </p:nvSpPr>
        <p:spPr>
          <a:xfrm>
            <a:off x="3222720" y="183024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9" name="그림 38" descr=""/>
          <p:cNvPicPr/>
          <p:nvPr/>
        </p:nvPicPr>
        <p:blipFill>
          <a:blip r:embed="rId12"/>
          <a:stretch/>
        </p:blipFill>
        <p:spPr>
          <a:xfrm>
            <a:off x="4992840" y="1758960"/>
            <a:ext cx="712800" cy="714240"/>
          </a:xfrm>
          <a:prstGeom prst="rect">
            <a:avLst/>
          </a:prstGeom>
          <a:ln w="0">
            <a:noFill/>
          </a:ln>
        </p:spPr>
      </p:pic>
      <p:grpSp>
        <p:nvGrpSpPr>
          <p:cNvPr id="740" name=""/>
          <p:cNvGrpSpPr/>
          <p:nvPr/>
        </p:nvGrpSpPr>
        <p:grpSpPr>
          <a:xfrm>
            <a:off x="2124000" y="3760920"/>
            <a:ext cx="935280" cy="360"/>
            <a:chOff x="2124000" y="3760920"/>
            <a:chExt cx="935280" cy="360"/>
          </a:xfrm>
        </p:grpSpPr>
        <p:sp>
          <p:nvSpPr>
            <p:cNvPr id="741" name="직선 연결선 70"/>
            <p:cNvSpPr/>
            <p:nvPr/>
          </p:nvSpPr>
          <p:spPr>
            <a:xfrm>
              <a:off x="2124000" y="3760920"/>
              <a:ext cx="935280" cy="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"/>
            <p:cNvSpPr txBox="1"/>
            <p:nvPr/>
          </p:nvSpPr>
          <p:spPr>
            <a:xfrm>
              <a:off x="2124000" y="3760920"/>
              <a:ext cx="9352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3" name="TextBox 39"/>
          <p:cNvSpPr/>
          <p:nvPr/>
        </p:nvSpPr>
        <p:spPr>
          <a:xfrm>
            <a:off x="4822920" y="18208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4" name="그림 20" descr=""/>
          <p:cNvPicPr/>
          <p:nvPr/>
        </p:nvPicPr>
        <p:blipFill>
          <a:blip r:embed="rId13"/>
          <a:stretch/>
        </p:blipFill>
        <p:spPr>
          <a:xfrm>
            <a:off x="1625760" y="340344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745" name="TextBox 21"/>
          <p:cNvSpPr/>
          <p:nvPr/>
        </p:nvSpPr>
        <p:spPr>
          <a:xfrm>
            <a:off x="1457280" y="3463920"/>
            <a:ext cx="982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6" name="그림 12" descr=""/>
          <p:cNvPicPr/>
          <p:nvPr/>
        </p:nvPicPr>
        <p:blipFill>
          <a:blip r:embed="rId14"/>
          <a:stretch/>
        </p:blipFill>
        <p:spPr>
          <a:xfrm>
            <a:off x="2824200" y="3368520"/>
            <a:ext cx="799920" cy="800280"/>
          </a:xfrm>
          <a:prstGeom prst="rect">
            <a:avLst/>
          </a:prstGeom>
          <a:ln w="0">
            <a:noFill/>
          </a:ln>
        </p:spPr>
      </p:pic>
      <p:sp>
        <p:nvSpPr>
          <p:cNvPr id="747" name="TextBox 13"/>
          <p:cNvSpPr/>
          <p:nvPr/>
        </p:nvSpPr>
        <p:spPr>
          <a:xfrm>
            <a:off x="2728800" y="3468600"/>
            <a:ext cx="9828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8" name=""/>
          <p:cNvGrpSpPr/>
          <p:nvPr/>
        </p:nvGrpSpPr>
        <p:grpSpPr>
          <a:xfrm>
            <a:off x="6137280" y="3760920"/>
            <a:ext cx="936720" cy="360"/>
            <a:chOff x="6137280" y="3760920"/>
            <a:chExt cx="936720" cy="360"/>
          </a:xfrm>
        </p:grpSpPr>
        <p:sp>
          <p:nvSpPr>
            <p:cNvPr id="749" name="직선 연결선 72"/>
            <p:cNvSpPr/>
            <p:nvPr/>
          </p:nvSpPr>
          <p:spPr>
            <a:xfrm>
              <a:off x="6137280" y="3760920"/>
              <a:ext cx="936720" cy="0"/>
            </a:xfrm>
            <a:prstGeom prst="line">
              <a:avLst/>
            </a:prstGeom>
            <a:ln w="15840">
              <a:solidFill>
                <a:srgbClr val="000000">
                  <a:alpha val="28000"/>
                </a:srgbClr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"/>
            <p:cNvSpPr txBox="1"/>
            <p:nvPr/>
          </p:nvSpPr>
          <p:spPr>
            <a:xfrm>
              <a:off x="6137280" y="3760920"/>
              <a:ext cx="936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51" name="그림 14" descr=""/>
          <p:cNvPicPr/>
          <p:nvPr/>
        </p:nvPicPr>
        <p:blipFill>
          <a:blip r:embed="rId15"/>
          <a:stretch/>
        </p:blipFill>
        <p:spPr>
          <a:xfrm>
            <a:off x="5532480" y="3365640"/>
            <a:ext cx="799920" cy="799920"/>
          </a:xfrm>
          <a:prstGeom prst="rect">
            <a:avLst/>
          </a:prstGeom>
          <a:ln w="0">
            <a:noFill/>
          </a:ln>
        </p:spPr>
      </p:pic>
      <p:sp>
        <p:nvSpPr>
          <p:cNvPr id="752" name="TextBox 15"/>
          <p:cNvSpPr/>
          <p:nvPr/>
        </p:nvSpPr>
        <p:spPr>
          <a:xfrm>
            <a:off x="5435640" y="3465360"/>
            <a:ext cx="9842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3" name="그림 26" descr=""/>
          <p:cNvPicPr/>
          <p:nvPr/>
        </p:nvPicPr>
        <p:blipFill>
          <a:blip r:embed="rId16"/>
          <a:stretch/>
        </p:blipFill>
        <p:spPr>
          <a:xfrm>
            <a:off x="6838920" y="3413160"/>
            <a:ext cx="714240" cy="712800"/>
          </a:xfrm>
          <a:prstGeom prst="rect">
            <a:avLst/>
          </a:prstGeom>
          <a:ln w="0">
            <a:noFill/>
          </a:ln>
        </p:spPr>
      </p:pic>
      <p:sp>
        <p:nvSpPr>
          <p:cNvPr id="754" name="TextBox 27"/>
          <p:cNvSpPr/>
          <p:nvPr/>
        </p:nvSpPr>
        <p:spPr>
          <a:xfrm>
            <a:off x="6670800" y="3473280"/>
            <a:ext cx="9824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나눔손글씨 펜"/>
                <a:ea typeface="나눔손글씨 펜"/>
              </a:rPr>
              <a:t>내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TextBox 48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88BA0-762A-4AC6-A847-5D35AB81768D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页脚占位符 4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58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차트 47"/>
          <p:cNvSpPr/>
          <p:nvPr/>
        </p:nvSpPr>
        <p:spPr>
          <a:xfrm>
            <a:off x="1187280" y="1917720"/>
            <a:ext cx="6840720" cy="3929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TextBox 10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AF35-857A-4ACF-A7CA-64177A28F7EE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页脚占位符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764" name="TextBox 7"/>
          <p:cNvSpPr/>
          <p:nvPr/>
        </p:nvSpPr>
        <p:spPr>
          <a:xfrm>
            <a:off x="971640" y="495360"/>
            <a:ext cx="569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1. </a:t>
            </a:r>
            <a:r>
              <a:rPr b="1" lang="zh-CN" sz="1800" spc="-1" strike="noStrike">
                <a:solidFill>
                  <a:srgbClr val="346d94"/>
                </a:solidFill>
                <a:latin typeface="나눔손글씨 펜"/>
                <a:ea typeface="나눔손글씨 펜"/>
              </a:rPr>
              <a:t>꼭지 제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TextBox 8"/>
          <p:cNvSpPr/>
          <p:nvPr/>
        </p:nvSpPr>
        <p:spPr>
          <a:xfrm>
            <a:off x="971640" y="1360440"/>
            <a:ext cx="5697360" cy="3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1998"/>
              </a:lnSpc>
              <a:buClr>
                <a:srgbClr val="17365d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 </a:t>
            </a:r>
            <a:r>
              <a:rPr b="1" lang="zh-CN" sz="3000" spc="-1" strike="noStrike">
                <a:solidFill>
                  <a:srgbClr val="17365d"/>
                </a:solidFill>
                <a:latin typeface="나눔손글씨 펜"/>
                <a:ea typeface="나눔손글씨 펜"/>
              </a:rPr>
              <a:t>차트 예시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차트 10"/>
          <p:cNvSpPr/>
          <p:nvPr/>
        </p:nvSpPr>
        <p:spPr>
          <a:xfrm>
            <a:off x="1332000" y="1700280"/>
            <a:ext cx="6264360" cy="4465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TextBox 6"/>
          <p:cNvSpPr/>
          <p:nvPr/>
        </p:nvSpPr>
        <p:spPr>
          <a:xfrm>
            <a:off x="7711920" y="6093000"/>
            <a:ext cx="936720" cy="57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90E-EE22-4739-8DF6-8E0A7736BBB2}" type="slidenum">
              <a:rPr b="0" lang="en-US" sz="1000" spc="-1" strike="noStrike">
                <a:solidFill>
                  <a:srgbClr val="366092"/>
                </a:solidFill>
                <a:latin typeface="나눔고딕"/>
              </a:rPr>
              <a:t>&lt;number&gt;</a:t>
            </a:fld>
            <a:r>
              <a:rPr b="0" lang="en-US" sz="1000" spc="-1" strike="noStrike">
                <a:solidFill>
                  <a:srgbClr val="366092"/>
                </a:solidFill>
                <a:latin typeface="나눔고딕"/>
              </a:rPr>
              <a:t>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Rectangle 7"/>
          <p:cNvSpPr/>
          <p:nvPr/>
        </p:nvSpPr>
        <p:spPr>
          <a:xfrm>
            <a:off x="2131920" y="3246480"/>
            <a:ext cx="38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素彩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c115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页脚占位符 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9:0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9:11Z</dcterms:modified>
  <cp:revision>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