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41A-F3D9-4110-84D5-57A59DD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FA4-D64D-4597-A9F4-E4924DF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470-ACCD-4B5E-A984-6631AE12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12B-6B81-4BD6-9E98-C3A53F7E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27F7-28D8-4FBF-9B05-85B7AD76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94BE-1536-4055-9473-4129066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E435-CB78-414E-921F-F8FD1B49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6D6-8FF2-4526-AC1A-2842A75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6524-2938-4EB5-9C0D-8B5A0292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203E-4A45-4CFC-AC98-0FD1C5C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EBB8-A676-4586-8657-52ECAA9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C28-C7AB-4B39-B004-E9D120CA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D2C2-E881-48E7-AC6B-E97BAF8C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191B-1EA9-4A73-98FF-459A1977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084D-726D-48B9-8259-93C7756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E08A-65C9-4A83-A89E-1336DDD8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630E-9F22-45A2-B535-F7FA0943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C23-562F-4723-8DA2-1AC33D7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09A-F620-4EC6-9A26-525D6272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3B6-9929-4062-95C6-3FE51F22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F35-C14C-4FA0-BAE9-B4EB7A3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6A8-432A-4C28-8B54-1D09465C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D6D-C9AE-462E-8A14-717CA036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4F5-A8F8-4112-9486-9A45C45A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738F-BE95-4562-9C0E-CC15CF7C67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05C4-DAF7-43B8-9E9B-6E22C5107A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72B7-3A88-499F-B8A5-46678F2623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F5EC-0A87-4B45-B0D4-71ABB7EFFF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1286280" y="128592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02440" y="43711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193968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花季少女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40CC-3E8C-4A1B-A493-504206EA92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26406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2640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5355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3854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355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5355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2714760" y="5286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1997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712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426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140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4926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926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3997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140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1140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854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212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7069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246"/>
          <p:cNvSpPr/>
          <p:nvPr/>
        </p:nvSpPr>
        <p:spPr>
          <a:xfrm>
            <a:off x="1116000" y="4869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4069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4069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5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