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B970D-DE99-438C-97DE-88179B64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E4903-9139-4B12-903D-06441EA4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450B5-0216-487D-A7C4-4FFBDB8E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BBFC8-83AB-435B-81F7-CC14A1D6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E6BAE-7A23-4589-9FB9-54A949D4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EE922-74F7-466E-AFA6-4B05F7D2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A9884-DD95-4801-AF2E-F9490991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3EEF2-FBA8-467C-9CE0-A17C1E56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D9D1C-4B48-4DE1-9D23-340C5F16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3443A-3E7E-49CD-9E0F-ECAEECF1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A78C0-57F9-48AD-9E9C-4BF20890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AEDDA-FA79-4E0E-A31B-88DD9175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EA8C406-BBA6-4054-A1B0-DC21268055D7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DB52-D4E1-4F16-ACBC-AB6B7AA4EEE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7256-AAA7-4881-9CD2-12F754A7485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63640" y="3754080"/>
            <a:ext cx="74851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Insert the title of your </a:t>
            </a:r>
            <a:br>
              <a:rPr sz="3200"/>
            </a:br>
            <a:r>
              <a:rPr b="1" sz="3200" spc="-1" strike="noStrike">
                <a:solidFill>
                  <a:srgbClr val="ffffff"/>
                </a:solidFill>
                <a:latin typeface="Arial"/>
              </a:rPr>
              <a:t>presentation he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63640" y="4917600"/>
            <a:ext cx="75103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Enter your subtitle or main author‘s nam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6" descr="Logo_ptl_für schwarz"/>
          <p:cNvPicPr/>
          <p:nvPr/>
        </p:nvPicPr>
        <p:blipFill>
          <a:blip r:embed="rId1"/>
          <a:stretch/>
        </p:blipFill>
        <p:spPr>
          <a:xfrm>
            <a:off x="6611760" y="378000"/>
            <a:ext cx="2224440" cy="39204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4100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101"/>
          <p:cNvSpPr/>
          <p:nvPr/>
        </p:nvSpPr>
        <p:spPr>
          <a:xfrm>
            <a:off x="2595600" y="12096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灰色工作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</a:rPr>
              <a:t>Sample Slide </a:t>
            </a:r>
            <a:r>
              <a:rPr b="1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sz="2600" spc="-1" strike="noStrike">
                <a:solidFill>
                  <a:srgbClr val="000000"/>
                </a:solidFill>
                <a:latin typeface="Arial"/>
              </a:rPr>
              <a:t> Bullet Poi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 replace the placeholder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is is a placeholder text. This text can be replaced with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f you don’t want to use the style and size of the fonts as used in this placeholder it is possible to replace it by selecting different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or replacing the placeholder text you need to click on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placeholder text and insert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text that you insert will retain the same styl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format as the placeholde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6647040" y="6181560"/>
            <a:ext cx="2225520" cy="392400"/>
            <a:chOff x="6647040" y="6181560"/>
            <a:chExt cx="2225520" cy="392400"/>
          </a:xfrm>
        </p:grpSpPr>
        <p:pic>
          <p:nvPicPr>
            <p:cNvPr id="128" name="Picture 12" descr="Logo_ptl_für schwarz"/>
            <p:cNvPicPr/>
            <p:nvPr/>
          </p:nvPicPr>
          <p:blipFill>
            <a:blip r:embed="rId1"/>
            <a:stretch/>
          </p:blipFill>
          <p:spPr>
            <a:xfrm>
              <a:off x="6647040" y="6181560"/>
              <a:ext cx="2225520" cy="3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2" descr="Logo_ptl_für schwarz"/>
            <p:cNvPicPr/>
            <p:nvPr/>
          </p:nvPicPr>
          <p:blipFill>
            <a:blip r:embed="rId2"/>
            <a:srcRect l="0" t="0" r="30532" b="0"/>
            <a:stretch/>
          </p:blipFill>
          <p:spPr>
            <a:xfrm>
              <a:off x="6647040" y="6181560"/>
              <a:ext cx="1546200" cy="3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文本框 5126"/>
          <p:cNvSpPr/>
          <p:nvPr/>
        </p:nvSpPr>
        <p:spPr>
          <a:xfrm>
            <a:off x="755640" y="9810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40505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c40505"/>
                </a:solidFill>
                <a:uFillTx/>
                <a:latin typeface="Arial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9F39-D53A-4C0B-8C76-6AC780AE478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uppieren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6" name="Rectangle 2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"/>
            <p:cNvSpPr/>
            <p:nvPr/>
          </p:nvSpPr>
          <p:spPr>
            <a:xfrm>
              <a:off x="461880" y="726840"/>
              <a:ext cx="8539200" cy="50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Feel free to use this PowerPoint template and background for your personal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educational and business presentation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Make a 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py for backups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on your harddrive or local network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Use the free templates for your presentations and project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Print hand outs or other promotional item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Link back to our website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if you like our free design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Display screenshots of our templates on your website or blog.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(should provide a link to our website – no dow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load purpos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</a:rPr>
                <a:t>Please feel free to contact us, if you do have any questions about usag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a50021"/>
                  </a:solidFill>
                  <a:latin typeface="Arial"/>
                </a:rPr>
                <a:t>Don‘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Resell or distribute the templates or background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Make it available on a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 website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, portal or social network website 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for download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(Incl. groups, file sharing networks, Slideshare etc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Edit or modify the downloaded templates and claim / pass off as your own work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All copyright and intellectual property rights, without limitation, are retained b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PresentationLoad.com. By downloading and using this template, you agree to this statemen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4"/>
            <p:cNvSpPr/>
            <p:nvPr/>
          </p:nvSpPr>
          <p:spPr>
            <a:xfrm>
              <a:off x="459720" y="288720"/>
              <a:ext cx="22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Copyright not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6"/>
          <p:cNvGrpSpPr/>
          <p:nvPr/>
        </p:nvGrpSpPr>
        <p:grpSpPr>
          <a:xfrm>
            <a:off x="6647040" y="6181560"/>
            <a:ext cx="2225520" cy="392400"/>
            <a:chOff x="6647040" y="6181560"/>
            <a:chExt cx="2225520" cy="392400"/>
          </a:xfrm>
        </p:grpSpPr>
        <p:pic>
          <p:nvPicPr>
            <p:cNvPr id="140" name="Picture 12" descr="Logo_ptl_für schwarz"/>
            <p:cNvPicPr/>
            <p:nvPr/>
          </p:nvPicPr>
          <p:blipFill>
            <a:blip r:embed="rId1"/>
            <a:stretch/>
          </p:blipFill>
          <p:spPr>
            <a:xfrm>
              <a:off x="6647040" y="6181560"/>
              <a:ext cx="2225520" cy="3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2" descr="Logo_ptl_für schwarz"/>
            <p:cNvPicPr/>
            <p:nvPr/>
          </p:nvPicPr>
          <p:blipFill>
            <a:blip r:embed="rId2"/>
            <a:srcRect l="0" t="0" r="30532" b="0"/>
            <a:stretch/>
          </p:blipFill>
          <p:spPr>
            <a:xfrm>
              <a:off x="6647040" y="6181560"/>
              <a:ext cx="1546200" cy="39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44Z</dcterms:modified>
  <cp:revision>6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