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799-C25B-478B-8466-AAB4495A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C17-687C-48C1-909F-A3C35B08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A733-9867-4376-B2C9-2220CBF5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3279-2CFE-4DEC-84FD-F62FDDF2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B183-35B0-469A-A313-C11FD1C2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92FC-F58C-4D0C-8758-74FA1FA1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E83B-770F-4D8E-9615-97A1080A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053B-FF57-4D7D-AA54-01F92669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CCA7-CE01-4E4C-A03E-F7C00BE3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BAA7-4C03-4A3D-9DB6-08266D1C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6FFE-E2C1-4C65-A59E-1FFED477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28EE-DA6E-418F-BE4C-5FE20A96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C57B-819A-4ACB-BBF5-EB295D94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DEDF-6C30-4C08-8D1F-2ADE62F8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96AB-05AA-4E09-9E78-507D230D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3E44-FB9E-4A14-ACD6-E0C7FA5C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AFD1-588D-40D3-A6B3-CAEEBEFB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6365-240E-4FC2-95A7-0769B9BD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BBB2-8D9E-4107-8392-07C48177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1B8E-6721-4A57-8587-D575DC5E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AEB1-7CC5-4A58-81F1-749B6B49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8125-8B37-44CB-8DF8-F40DCA4E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A482-3695-49BA-9C1F-FD3BB900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079-E766-4688-A4A2-654CD1A1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B9FD-3C65-48FB-A137-335864B61F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F7B4-18EE-4A19-AD77-C8044315137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2668-4592-4D3B-9DD1-7DDDDE793FE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2" descr=""/>
          <p:cNvPicPr/>
          <p:nvPr/>
        </p:nvPicPr>
        <p:blipFill>
          <a:blip r:embed="rId1"/>
          <a:stretch/>
        </p:blipFill>
        <p:spPr>
          <a:xfrm>
            <a:off x="-30240" y="-648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307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2101680" y="46044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灰色简约商务报告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18435"/>
          <p:cNvSpPr/>
          <p:nvPr/>
        </p:nvSpPr>
        <p:spPr>
          <a:xfrm>
            <a:off x="587520" y="20462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2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4099"/>
          <p:cNvSpPr/>
          <p:nvPr/>
        </p:nvSpPr>
        <p:spPr>
          <a:xfrm>
            <a:off x="3403440" y="5405400"/>
            <a:ext cx="296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26627"/>
          <p:cNvSpPr/>
          <p:nvPr/>
        </p:nvSpPr>
        <p:spPr>
          <a:xfrm>
            <a:off x="1863720" y="538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CF32-1FFB-4427-83DE-E0C9A9EF1A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9219"/>
          <p:cNvSpPr/>
          <p:nvPr/>
        </p:nvSpPr>
        <p:spPr>
          <a:xfrm>
            <a:off x="747720" y="13352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7:32:0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5-11-13T04:36:45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