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0140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800" y="11250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9240" y="11250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800" y="38714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9240" y="38714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4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140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140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6800" y="11250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49240" y="11250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6800" y="38714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49240" y="38714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9267B-1F94-44E2-A992-2C1A130C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2F8D1-38ED-4A74-80B8-AC8587B9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074B4-3BAE-4E5F-8EDD-39E6F87D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B2E52-22E9-4299-9E1C-FD7239C6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7744C-8EA3-4800-ACB8-13B5EDF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3BE20-A585-4595-9C03-213C2140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BA2DF-C590-4FF0-A423-C3AB5DE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0140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14FF8-4FCD-424C-B6D2-3CFBEDDF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D3846-91FC-4774-B810-70D847A7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1D748-7604-4572-9EF0-48C19B12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0140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08883-3413-48D6-B212-CBEFC43E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66800" y="11250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49240" y="11250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66800" y="38714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49240" y="38714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F185C-CEEF-4B93-AD58-42282B01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01400" y="38714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1400" y="11250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1096920"/>
            <a:ext cx="9144000" cy="360"/>
            <a:chOff x="0" y="1096920"/>
            <a:chExt cx="9144000" cy="360"/>
          </a:xfrm>
        </p:grpSpPr>
        <p:sp>
          <p:nvSpPr>
            <p:cNvPr id="2" name="Line 3"/>
            <p:cNvSpPr/>
            <p:nvPr/>
          </p:nvSpPr>
          <p:spPr>
            <a:xfrm>
              <a:off x="0" y="109692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0" y="1096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a3b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ae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6095880" y="652752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7"/>
          <p:cNvGrpSpPr/>
          <p:nvPr/>
        </p:nvGrpSpPr>
        <p:grpSpPr>
          <a:xfrm>
            <a:off x="7885080" y="620640"/>
            <a:ext cx="958680" cy="976320"/>
            <a:chOff x="7885080" y="620640"/>
            <a:chExt cx="958680" cy="976320"/>
          </a:xfrm>
        </p:grpSpPr>
        <p:sp>
          <p:nvSpPr>
            <p:cNvPr id="8" name="Oval 9"/>
            <p:cNvSpPr/>
            <p:nvPr/>
          </p:nvSpPr>
          <p:spPr>
            <a:xfrm>
              <a:off x="7885080" y="620640"/>
              <a:ext cx="958680" cy="9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9" name="Picture 10" descr="5"/>
            <p:cNvPicPr/>
            <p:nvPr/>
          </p:nvPicPr>
          <p:blipFill>
            <a:blip r:embed="rId3"/>
            <a:stretch/>
          </p:blipFill>
          <p:spPr>
            <a:xfrm>
              <a:off x="7932600" y="666720"/>
              <a:ext cx="878040" cy="896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"/>
          <p:cNvGrpSpPr/>
          <p:nvPr/>
        </p:nvGrpSpPr>
        <p:grpSpPr>
          <a:xfrm>
            <a:off x="7740720" y="981000"/>
            <a:ext cx="958680" cy="976320"/>
            <a:chOff x="7740720" y="981000"/>
            <a:chExt cx="958680" cy="976320"/>
          </a:xfrm>
        </p:grpSpPr>
        <p:sp>
          <p:nvSpPr>
            <p:cNvPr id="47" name="Oval 6"/>
            <p:cNvSpPr/>
            <p:nvPr/>
          </p:nvSpPr>
          <p:spPr>
            <a:xfrm>
              <a:off x="7740720" y="981000"/>
              <a:ext cx="958680" cy="9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8" name="Picture 7" descr="5"/>
            <p:cNvPicPr/>
            <p:nvPr/>
          </p:nvPicPr>
          <p:blipFill>
            <a:blip r:embed="rId3"/>
            <a:stretch/>
          </p:blipFill>
          <p:spPr>
            <a:xfrm>
              <a:off x="7782120" y="1028520"/>
              <a:ext cx="87768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684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a3b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ae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B0D1-0760-4CF6-ACF4-F566CDE41A7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2A7-D046-400B-8252-4A0C70AA27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03268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红色药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瓶医疗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4098"/>
          <p:cNvSpPr/>
          <p:nvPr/>
        </p:nvSpPr>
        <p:spPr>
          <a:xfrm>
            <a:off x="34920" y="6453360"/>
            <a:ext cx="5078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d528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151920"/>
            <a:ext cx="900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7143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配色方案修改：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配色方案在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格式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-&gt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幻灯片设计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-&gt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配色方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-&gt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编辑配色方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下调整。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LOGO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的添加：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Logo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添加修改在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视图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-&gt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母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-&gt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幻灯片母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下调整。直接选择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logo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图片删除或修改。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字体格式的设置：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括标题和文本格式的设置在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视图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-&gt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母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--&gt;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【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幻灯片母版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】</a:t>
            </a:r>
            <a:r>
              <a:rPr b="1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下调整。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文本框 5123"/>
          <p:cNvSpPr/>
          <p:nvPr/>
        </p:nvSpPr>
        <p:spPr>
          <a:xfrm>
            <a:off x="828720" y="1052640"/>
            <a:ext cx="504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a3b1e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a3b1e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BB65-79ED-4149-A3E6-4E679EF39DD1}" type="slidenum">
              <a:rPr b="0" lang="zh-CN" sz="14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457200" y="114300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dddddd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d528d"/>
                  </a:gs>
                  <a:gs pos="100000">
                    <a:srgbClr val="dddddd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4:37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40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