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CAD6-74DD-4B41-BE12-A379549B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00EC-F73E-4185-B5CA-3916A732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E4B1-8F72-4D13-9059-A248A994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3CD7-C666-4703-B915-A0C15AF1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DFE8-D3FF-470F-BDE7-8F952DAD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5EA5-EB9B-4170-BAE4-23C5949C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BCB7-A3A2-4D2E-9EF6-298AE5A8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E381-D9DC-41C3-9ADB-F56296D2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7D5E-88B0-49A0-B53A-ED10CBB4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0040" y="214200"/>
            <a:ext cx="82296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BC5B-1673-4646-B711-D048769B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8122-C9FB-4C8F-9CD5-69A574D9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3934-2817-4D48-A6F1-F4A9E6A5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1CDE-85D4-4D3C-92F7-7B92B026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35AB-7632-4CC5-AB29-F55C6692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5130-12E0-42A8-96B2-D86BAC95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C4D2-8A99-4770-8414-63F6A412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978E-93D5-4BCA-B745-5240D24B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9CA8D-ED84-4AB0-91C1-9BC370E4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92BE8-CED3-4C9B-BF68-3D662B16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55D8B-108C-4E47-8A45-EE80F358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81777-0DCC-4D65-9B41-882B4A9B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A1AA1-08DF-4AC5-B68E-D5FE725F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8B96-EFCC-4164-8E0F-76B049CC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0040" y="214200"/>
            <a:ext cx="82296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1D7B0-1E67-4750-AFF4-EF3B4C24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0D3F2-C9DC-4D3D-90A1-DD832C9A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8CDC6-EC5C-4EB8-A7F3-BAF7130E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5746E-C0D6-49A6-BFFF-E6D74D21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C96A0-BEF2-493E-8842-592F88A6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16C27-D588-4C21-969F-03D33C2C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9B666-B50B-4F00-8298-3C4A7DD8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1250-78AD-4F6D-BECB-48A1BC42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8F66-BB0A-4252-9471-E8FD015E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0040" y="214200"/>
            <a:ext cx="82296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8B50-7D71-4134-80DF-864B4C44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C335-ABBB-410E-BE72-2FA4B341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319C-003F-4B36-BDD8-043965AA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81F4-19F3-417A-A325-F00730D6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华文细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1A2D-ADA3-4DD7-9880-E7A32CBD077D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华文细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华文细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EA29-8809-4046-9481-1DB7711C226C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F62C-9AD0-4027-96A7-BD61C4160DAA}" type="datetime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72D8-671F-4A7C-8FEC-CB9678A4B3C5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949D-DC29-4CDB-AFA8-CA4A2B97928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59A4-8284-44DB-B1EF-2E5515B51C7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4286160" y="2714760"/>
            <a:ext cx="450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1763640" y="909720"/>
            <a:ext cx="7294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100"/>
          <p:cNvSpPr/>
          <p:nvPr/>
        </p:nvSpPr>
        <p:spPr>
          <a:xfrm>
            <a:off x="2624040" y="4762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花仙子卡通幻灯片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3080" y="21384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71680" y="1428840"/>
            <a:ext cx="820728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4904-751E-44F0-8A77-13A3EA9187D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785840" y="3142800"/>
            <a:ext cx="355788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祝小朋友们节日快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6146"/>
          <p:cNvSpPr/>
          <p:nvPr/>
        </p:nvSpPr>
        <p:spPr>
          <a:xfrm>
            <a:off x="1836720" y="1341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17bbfd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5:19:5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13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