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77D-9D9D-4B41-B1F5-3069EC84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707-3B98-4B9E-95B0-43D981F9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FFE7D-6119-4BD0-8742-8D392EA6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5CAD-4464-484A-B3A1-63473F9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52B61-FB8C-414B-BE44-D501561D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6A4D3-6664-4B71-A328-634A668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63419-B0BE-42E4-BCD9-D9A618CD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626A5-2EC5-4589-9EB8-5FBE8D0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F15ED-FE11-43EC-A803-146760B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34D87-6A91-45E9-A458-582D5504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48562-4499-4046-8EFA-7CF24B9D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48CFE-7DE4-4F43-BAC0-12B32FC9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A2E-4EAB-4330-8372-3DA71768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EDBE8-BFDA-40A2-8269-47AB424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D8246-3B80-4261-BE19-D7F09F4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05D1B-438F-4E40-ACF4-CE3DF2ED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02209-C020-4606-A7FB-669D9C66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A7356-8011-4BF3-A67A-BAA00B8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53DF7-723E-420A-A183-462068E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B18DB-2B7C-45B5-AC1C-460EC288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CF679-5983-4DE2-9C75-1CECA33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410BB-7B74-4355-9685-2507A61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C5896-F543-4340-8AC7-8851AC87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BF6-B662-481B-9FB4-F23242D7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109C9-EC66-4D76-A8AE-E398C2B5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01B84-630C-47A7-909C-EB019DF5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66FCE-FB45-4D56-AAC9-7E7678D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96D24-DA69-4C2E-95BF-6A0FC27A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FAB0C-1171-4BF1-A2D3-3B4E43F8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DCA4E-6A65-47CA-B2B5-8B91A167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9E8C4-BEC5-4BC9-B05B-6ADE880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FF80-9245-474E-829F-C0F35C6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7D150-8590-4FF5-9B01-03FC54E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BB4C-B646-4167-8E87-7E49006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C116-2BA8-4573-BDAD-D52F37A6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D9750-62DB-486E-92D1-C8AA6281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8704-E815-4C16-A25D-E5DB1F03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13BE3-A8A8-44E9-AC7D-A3EAAE4D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4AEC9-E23A-4D0F-967B-224F54AB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E1B5D-5840-4544-95E5-62D28369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B6242-9B9C-4B97-A4FE-5CF45CDF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08727-8FE3-486F-8B55-E80DA91A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AB333-8497-4FF6-9F37-BCAA2E10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B5D13-56D0-4701-96D3-3AC69246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7A367-6D94-4F24-A9E3-6A35E56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92D2-813D-48E0-BE93-8A371A79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54D5C-70AE-4CC9-8A65-92A8A25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DA661-4953-44B2-BC41-BAF9D35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4B5AA-2F40-4309-97AE-C24D2A2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EA866-BDB7-4EDF-81FF-E6CD0780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4CEEF-2E03-4933-BFDB-D703AAD6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806DE-5DA2-4360-8A94-59603F00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8DE2F-9E16-4819-981D-CCEA8110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640A6-6528-4E30-BC8F-521F7DA5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DD2B7-E202-4290-A556-7012AC89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412DC-64A1-40F9-BB6A-9422CDF2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9A4D-D7A6-4B04-9012-F03CA962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2F4F7-63F6-49B7-90B3-8829FDD8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0A976-54F8-4CB4-A3AC-53E11D0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CC5E1-3D25-4D0D-A9FC-53844F7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CF066-737D-4F8B-9F45-8BFA304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DAD2C-4348-45AB-AF94-38BA7607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F5591-6297-4A11-9DF1-330BBFCA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BA275-8C06-475F-8E75-16216FB5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8B26-580C-4EDE-9B40-C67596E6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26CE-1D74-46F7-B41C-0B81558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5844-AAD3-49C1-AF69-01C0E73F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AB6-1B1F-478B-B84C-DAF7266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BC7-4322-4CCF-8F05-A152E909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AC6-544C-49E3-96BE-92D58BE8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5EA-B5BB-465A-92D4-2395954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B34F-4259-4786-B0AF-F766F42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AF7-892A-4A30-A028-822DC94A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1859-BEDA-43C3-9A14-53781D51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7238-1E25-48B9-80BE-CC962C69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8B23-444F-4F31-A415-34F9B32B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FA2E-C797-4822-8386-8DD24C04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2F61-96B1-4EB0-AC08-5F09960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9C5F-66C6-4C50-A24D-C0DF723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054-C939-4156-A212-0FAF5DC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FD51-D5FC-4804-8C98-D6A49235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A39B-626F-4A3F-A3D3-649E5CE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A44F-FC2E-4B18-BA56-8ACD7A4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EF00-017E-439A-A9B2-DA16112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E92B-688F-47EE-9457-40ACD663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8FFA-16A6-467D-9350-5231D068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6255-5E4B-4E80-8A84-607E83A7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F909-13FC-47AE-8F0C-88A6B1C4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C8EE-4DD3-49F5-93D3-8BDC065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1C4A-107A-4066-9C0B-4B5279CD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C91-26BE-4555-9075-4A2E7B7B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9725-C09E-41D4-983B-3BC966F9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BB76-18C9-4E85-BE02-C14D2214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866B-DE18-4B82-800A-91D1EB4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35642-B4E5-4D0E-B8C4-67BB6CF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46C6-8AD7-41DC-A27A-E230996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20D7-EB1E-419A-9725-EB4F64D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0217-E898-4BA1-9209-B8D425DA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2FF7-ADCE-41AE-A872-2B42524F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A7959-C39C-4052-B415-DF2EE90B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91EC-3BC3-413F-800E-78C93A85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4AC-1982-4490-BB2D-7813C07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0D3D-C7BB-4083-943D-61578860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27D10-CAA6-4EDC-9D3A-D22DFEBB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E10C-0FBC-4AD1-BAA8-B8397E91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AF6C-6330-4CF1-876C-0C3FE4A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51A1-CCF7-43FE-9675-715E020C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D20B-34F1-46BE-942B-0BF0792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0BB3-106F-4A79-A065-748AC19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541D-DD45-4CD1-88EF-2030B6A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8CE8-01EA-4D82-BB94-97BDFAA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7D5F-54C6-4849-B76F-A0D5523B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2EE-D67A-41B9-93EB-00204B62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C60C-12FE-4266-8E43-72CAF8B2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BC5A-7D41-41BE-8AE7-6BED6960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EB7FF-8A15-4B58-9F6A-40741839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5213-0B69-4E8A-BE0C-E8D1FCAB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EB3A5-665A-438A-87FC-9677A149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AC93-015C-4BAF-B1E3-19216E75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AB86-97E3-4B70-BF81-F10EB64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8428-11FD-4215-9B0E-8849D11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5E0D8-EF4A-468D-A74F-C92BC8B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7BC3-CA13-476E-A98A-ED7B48F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CCA-1E74-44F5-89C5-0BD0903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5EB2F-056C-499F-B94D-81EF308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20DE-27B5-48B1-8670-5A3D9703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5C7FE-0C7A-4333-9B0E-08042251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460EA-68A2-4551-B46C-E9E8DDCB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8940-A7CB-4366-8A73-D8040D9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7CEC-B91E-4228-BAA6-17F9EEDF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B3B6-2DF7-466B-B5AE-EB2835C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DE03-034B-4319-BE97-9E88E137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22B6-7DA1-49A6-88DC-A062FB8B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0CD8D-F7F0-49C8-8CD8-A3575F3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F3C-B82E-435F-A0F3-69C9F15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83644-FFFB-42D6-8C68-DBB537EE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3DE7-40E1-4238-9471-81BE8F49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2042-2AD7-4F2C-AF6A-10D705DC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29FD5-A2BC-4C92-90AE-8497D4D6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DC36-726A-4509-B86F-10F28868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693FD-E6A3-46F4-8712-7598CB47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744F-C887-44F0-9036-9AF72A87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680A9-480D-4456-979B-A96D3C65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D40D-18E4-4CD9-BC68-A4518D42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E2C2-8E61-4598-93E1-7721861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F6A-1A8E-4737-B7A8-1FE46B80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7A0E-C55C-4A97-91D0-1F6E9CC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4B37B-C2F8-4394-8807-E31D035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134C7-6289-4A5B-8BF3-D6823EC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CCE9-F5F8-4101-A924-5D601EAF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BCCB0-3C23-4664-AD7A-7830895B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4DC8-338E-40CD-BB2E-3F1F843C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2E1BA-7429-412B-B61D-F5BA294B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9BCCF-0601-4A47-99C4-7CFDCF80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7137E-3EFE-426F-ABE7-D47BC05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47252-CFBF-43D7-BB37-F1500C7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47F3-12B2-48D1-AB1F-9702A0D8C8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5255-520B-4FEB-8C20-A6327A4240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803-9BF3-4260-9223-D124844B59E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89D-E33D-4B66-B927-BBE09E9BAC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E97D-728D-49A1-B367-E9533A8D4B7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9C7E-4CD8-4549-B8C2-248B84513C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5E22-AB09-4D9A-9933-0DFB234BECD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F03-8F7D-49A7-B987-50EA33FD53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8F6-E9EC-4FBE-A15A-CCCA8FCE3B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BD2-0940-4D24-8C5C-8391BDF8B9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9B80-31EA-40FA-894B-7B6AB9CD81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B02-18EE-4989-A43A-1936038CB8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5A5-7A80-47D8-B455-6D54F1D9DF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4DC5-1E07-4451-9C8E-7A7E95DBDD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3274-2441-4B2C-8B98-DB733D6278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930-4731-4CAA-9FCF-5A9148A8C4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95D-5BC3-4017-B493-1365E448BAB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AF95-E86D-4653-BE86-7C9B5335CF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E19-3F9E-4727-8728-25BBFA7C93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F9C-1616-4081-BEFB-D13827EF46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126E-E2DF-4FC3-8930-6648DFD5377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F1D-A8AD-4149-A4E5-F2882CDAF5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B71-1E80-441C-A52E-711B5EA22E7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CEA-8882-428D-834B-D9BA557208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38AE-0811-4868-8912-04AACD24B0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3C1-308E-441A-A72E-926D234F48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44"/>
            </a:gs>
            <a:gs pos="100000">
              <a:srgbClr val="bde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梯形 3"/>
          <p:cNvSpPr/>
          <p:nvPr/>
        </p:nvSpPr>
        <p:spPr>
          <a:xfrm flipV="1">
            <a:off x="2365200" y="2735640"/>
            <a:ext cx="4211640" cy="360360"/>
          </a:xfrm>
          <a:custGeom>
            <a:avLst/>
            <a:gdLst/>
            <a:ahLst/>
            <a:rect l="l" t="t" r="r" b="b"/>
            <a:pathLst>
              <a:path w="4211638" h="360363">
                <a:moveTo>
                  <a:pt x="0" y="360363"/>
                </a:moveTo>
                <a:lnTo>
                  <a:pt x="239155" y="0"/>
                </a:lnTo>
                <a:lnTo>
                  <a:pt x="3972483" y="0"/>
                </a:lnTo>
                <a:lnTo>
                  <a:pt x="4211638" y="360363"/>
                </a:lnTo>
                <a:lnTo>
                  <a:pt x="0" y="360363"/>
                </a:lnTo>
                <a:close/>
              </a:path>
            </a:pathLst>
          </a:custGeom>
          <a:solidFill>
            <a:srgbClr val="aaea25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梯形 4"/>
          <p:cNvSpPr/>
          <p:nvPr/>
        </p:nvSpPr>
        <p:spPr>
          <a:xfrm>
            <a:off x="2346480" y="1959120"/>
            <a:ext cx="4248000" cy="8017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2709720" y="27766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 PPT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4" descr="http://ekko.ekkomediagroup.com/~custom/wheels_images/AF128/1224012188-AF128ChromeWheel.png"/>
          <p:cNvPicPr/>
          <p:nvPr/>
        </p:nvPicPr>
        <p:blipFill>
          <a:blip r:embed="rId1"/>
          <a:srcRect l="0" t="0" r="0" b="64663"/>
          <a:stretch/>
        </p:blipFill>
        <p:spPr>
          <a:xfrm>
            <a:off x="2674800" y="5589720"/>
            <a:ext cx="3589560" cy="1268280"/>
          </a:xfrm>
          <a:prstGeom prst="rect">
            <a:avLst/>
          </a:prstGeom>
          <a:ln w="0">
            <a:noFill/>
          </a:ln>
        </p:spPr>
      </p:pic>
      <p:sp>
        <p:nvSpPr>
          <p:cNvPr id="537" name="矩形 2"/>
          <p:cNvSpPr/>
          <p:nvPr/>
        </p:nvSpPr>
        <p:spPr>
          <a:xfrm>
            <a:off x="30592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14342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14343"/>
          <p:cNvSpPr/>
          <p:nvPr/>
        </p:nvSpPr>
        <p:spPr>
          <a:xfrm>
            <a:off x="1655640" y="47628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的公司产品介绍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梯形 4"/>
          <p:cNvSpPr/>
          <p:nvPr/>
        </p:nvSpPr>
        <p:spPr>
          <a:xfrm rot="16200000">
            <a:off x="6467400" y="4539960"/>
            <a:ext cx="1536480" cy="1870200"/>
          </a:xfrm>
          <a:custGeom>
            <a:avLst/>
            <a:gdLst/>
            <a:ahLst/>
            <a:rect l="l" t="t" r="r" b="b"/>
            <a:pathLst>
              <a:path w="1536700" h="1871662">
                <a:moveTo>
                  <a:pt x="0" y="1871662"/>
                </a:moveTo>
                <a:lnTo>
                  <a:pt x="365120" y="0"/>
                </a:lnTo>
                <a:lnTo>
                  <a:pt x="1171580" y="0"/>
                </a:lnTo>
                <a:lnTo>
                  <a:pt x="1536700" y="1871662"/>
                </a:lnTo>
                <a:lnTo>
                  <a:pt x="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梯形 5"/>
          <p:cNvSpPr/>
          <p:nvPr/>
        </p:nvSpPr>
        <p:spPr>
          <a:xfrm rot="16200000">
            <a:off x="6379920" y="772920"/>
            <a:ext cx="1712880" cy="1871640"/>
          </a:xfrm>
          <a:custGeom>
            <a:avLst/>
            <a:gdLst/>
            <a:ahLst/>
            <a:rect l="l" t="t" r="r" b="b"/>
            <a:pathLst>
              <a:path w="1712912" h="1871662">
                <a:moveTo>
                  <a:pt x="0" y="1871662"/>
                </a:moveTo>
                <a:lnTo>
                  <a:pt x="428228" y="0"/>
                </a:lnTo>
                <a:lnTo>
                  <a:pt x="1284684" y="0"/>
                </a:lnTo>
                <a:lnTo>
                  <a:pt x="1712912" y="1871662"/>
                </a:lnTo>
                <a:lnTo>
                  <a:pt x="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梯形 6"/>
          <p:cNvSpPr/>
          <p:nvPr/>
        </p:nvSpPr>
        <p:spPr>
          <a:xfrm flipH="1" rot="5400000">
            <a:off x="674280" y="2624040"/>
            <a:ext cx="3740400" cy="1749600"/>
          </a:xfrm>
          <a:custGeom>
            <a:avLst/>
            <a:gdLst/>
            <a:ahLst/>
            <a:rect l="l" t="t" r="r" b="b"/>
            <a:pathLst>
              <a:path w="3740150" h="1749425">
                <a:moveTo>
                  <a:pt x="0" y="1749425"/>
                </a:moveTo>
                <a:lnTo>
                  <a:pt x="475459" y="0"/>
                </a:lnTo>
                <a:lnTo>
                  <a:pt x="3264691" y="0"/>
                </a:lnTo>
                <a:lnTo>
                  <a:pt x="3740150" y="1749425"/>
                </a:lnTo>
                <a:lnTo>
                  <a:pt x="0" y="174942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-795240" y="28526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f7f7f"/>
                </a:solidFill>
                <a:latin typeface="Haettenschweiler"/>
              </a:rPr>
              <a:t>CONT</a:t>
            </a:r>
            <a:r>
              <a:rPr b="0" lang="en-US" sz="7200" spc="-1" strike="noStrike">
                <a:solidFill>
                  <a:srgbClr val="ffffff"/>
                </a:solidFill>
                <a:latin typeface="Haettenschweiler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236040" y="1050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2d050"/>
                </a:solidFill>
                <a:latin typeface="Haettenschweiler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1"/>
          <p:cNvSpPr/>
          <p:nvPr/>
        </p:nvSpPr>
        <p:spPr>
          <a:xfrm>
            <a:off x="4159080" y="28526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Haettenschweiler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3303360" y="47070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c600"/>
                </a:solidFill>
                <a:latin typeface="Haettenschweiler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4693680" y="146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企业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10"/>
          <p:cNvSpPr/>
          <p:nvPr/>
        </p:nvSpPr>
        <p:spPr>
          <a:xfrm>
            <a:off x="5547960" y="327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4693680" y="508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c600"/>
                </a:solidFill>
                <a:latin typeface="微软雅黑"/>
                <a:ea typeface="微软雅黑"/>
              </a:rPr>
              <a:t>销售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4406760" y="1908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5261400" y="3722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4407840" y="55926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c600"/>
                </a:solidFill>
                <a:latin typeface="Arial"/>
                <a:ea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9"/>
          <p:cNvSpPr/>
          <p:nvPr/>
        </p:nvSpPr>
        <p:spPr>
          <a:xfrm>
            <a:off x="23436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梯形 6"/>
          <p:cNvSpPr/>
          <p:nvPr/>
        </p:nvSpPr>
        <p:spPr>
          <a:xfrm flipV="1" rot="5400000">
            <a:off x="4524120" y="2919960"/>
            <a:ext cx="4248360" cy="218124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983728" y="0"/>
                </a:lnTo>
                <a:lnTo>
                  <a:pt x="3264422" y="0"/>
                </a:lnTo>
                <a:lnTo>
                  <a:pt x="4248150" y="2182812"/>
                </a:lnTo>
                <a:lnTo>
                  <a:pt x="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梯形 5"/>
          <p:cNvSpPr/>
          <p:nvPr/>
        </p:nvSpPr>
        <p:spPr>
          <a:xfrm rot="5400000">
            <a:off x="1583280" y="2486520"/>
            <a:ext cx="424836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梯形 3"/>
          <p:cNvSpPr/>
          <p:nvPr/>
        </p:nvSpPr>
        <p:spPr>
          <a:xfrm rot="5400000">
            <a:off x="1258560" y="2852640"/>
            <a:ext cx="4465440" cy="2160720"/>
          </a:xfrm>
          <a:custGeom>
            <a:avLst/>
            <a:gdLst/>
            <a:ahLst/>
            <a:rect l="l" t="t" r="r" b="b"/>
            <a:pathLst>
              <a:path w="4465637" h="2160587">
                <a:moveTo>
                  <a:pt x="0" y="2160587"/>
                </a:moveTo>
                <a:lnTo>
                  <a:pt x="782024" y="0"/>
                </a:lnTo>
                <a:lnTo>
                  <a:pt x="3683613" y="0"/>
                </a:lnTo>
                <a:lnTo>
                  <a:pt x="4465637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梯形 4"/>
          <p:cNvSpPr/>
          <p:nvPr/>
        </p:nvSpPr>
        <p:spPr>
          <a:xfrm rot="16200000">
            <a:off x="421236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7"/>
          <p:cNvSpPr/>
          <p:nvPr/>
        </p:nvSpPr>
        <p:spPr>
          <a:xfrm>
            <a:off x="3072240" y="252252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597024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9"/>
          <p:cNvSpPr/>
          <p:nvPr/>
        </p:nvSpPr>
        <p:spPr>
          <a:xfrm>
            <a:off x="2846880" y="38894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579960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梯形 3"/>
          <p:cNvSpPr/>
          <p:nvPr/>
        </p:nvSpPr>
        <p:spPr>
          <a:xfrm flipV="1" rot="5400000">
            <a:off x="3996360" y="2030040"/>
            <a:ext cx="4248360" cy="3960720"/>
          </a:xfrm>
          <a:custGeom>
            <a:avLst/>
            <a:gdLst/>
            <a:ahLst/>
            <a:rect l="l" t="t" r="r" b="b"/>
            <a:pathLst>
              <a:path w="4248150" h="3960813">
                <a:moveTo>
                  <a:pt x="0" y="3960813"/>
                </a:moveTo>
                <a:lnTo>
                  <a:pt x="1571255" y="0"/>
                </a:lnTo>
                <a:lnTo>
                  <a:pt x="2676895" y="0"/>
                </a:lnTo>
                <a:lnTo>
                  <a:pt x="4248150" y="3960813"/>
                </a:lnTo>
                <a:lnTo>
                  <a:pt x="0" y="3960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梯形 4"/>
          <p:cNvSpPr/>
          <p:nvPr/>
        </p:nvSpPr>
        <p:spPr>
          <a:xfrm rot="16200000">
            <a:off x="4572000" y="2203560"/>
            <a:ext cx="4464000" cy="216216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33060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615924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梯形 7"/>
          <p:cNvSpPr/>
          <p:nvPr/>
        </p:nvSpPr>
        <p:spPr>
          <a:xfrm rot="16200000">
            <a:off x="2315880" y="2738160"/>
            <a:ext cx="4464000" cy="21589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4076280" y="24224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9"/>
          <p:cNvSpPr/>
          <p:nvPr/>
        </p:nvSpPr>
        <p:spPr>
          <a:xfrm>
            <a:off x="3904200" y="36846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梯形 10"/>
          <p:cNvSpPr/>
          <p:nvPr/>
        </p:nvSpPr>
        <p:spPr>
          <a:xfrm rot="5400000">
            <a:off x="141840" y="2454840"/>
            <a:ext cx="4248360" cy="2160720"/>
          </a:xfrm>
          <a:custGeom>
            <a:avLst/>
            <a:gdLst/>
            <a:ahLst/>
            <a:rect l="l" t="t" r="r" b="b"/>
            <a:pathLst>
              <a:path w="4248150" h="2160588">
                <a:moveTo>
                  <a:pt x="0" y="2160588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梯形 11"/>
          <p:cNvSpPr/>
          <p:nvPr/>
        </p:nvSpPr>
        <p:spPr>
          <a:xfrm rot="5400000">
            <a:off x="-178560" y="2823120"/>
            <a:ext cx="446436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2"/>
          <p:cNvSpPr/>
          <p:nvPr/>
        </p:nvSpPr>
        <p:spPr>
          <a:xfrm>
            <a:off x="1631520" y="2492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1406880" y="38592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梯形 3"/>
          <p:cNvSpPr/>
          <p:nvPr/>
        </p:nvSpPr>
        <p:spPr>
          <a:xfrm flipV="1" rot="5400000">
            <a:off x="4922640" y="2797560"/>
            <a:ext cx="3917880" cy="2463840"/>
          </a:xfrm>
          <a:custGeom>
            <a:avLst/>
            <a:gdLst/>
            <a:ahLst/>
            <a:rect l="l" t="t" r="r" b="b"/>
            <a:pathLst>
              <a:path w="3917950" h="2462213">
                <a:moveTo>
                  <a:pt x="0" y="2462213"/>
                </a:moveTo>
                <a:lnTo>
                  <a:pt x="398952" y="0"/>
                </a:lnTo>
                <a:lnTo>
                  <a:pt x="3518998" y="0"/>
                </a:lnTo>
                <a:lnTo>
                  <a:pt x="3917950" y="2462213"/>
                </a:lnTo>
                <a:lnTo>
                  <a:pt x="0" y="24622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梯形 4"/>
          <p:cNvSpPr/>
          <p:nvPr/>
        </p:nvSpPr>
        <p:spPr>
          <a:xfrm rot="16200000">
            <a:off x="5350680" y="2305440"/>
            <a:ext cx="4465800" cy="2327400"/>
          </a:xfrm>
          <a:custGeom>
            <a:avLst/>
            <a:gdLst/>
            <a:ahLst/>
            <a:rect l="l" t="t" r="r" b="b"/>
            <a:pathLst>
              <a:path w="4465638" h="2327275">
                <a:moveTo>
                  <a:pt x="0" y="2327275"/>
                </a:moveTo>
                <a:lnTo>
                  <a:pt x="450770" y="0"/>
                </a:lnTo>
                <a:lnTo>
                  <a:pt x="4014868" y="0"/>
                </a:lnTo>
                <a:lnTo>
                  <a:pt x="4465638" y="2327275"/>
                </a:lnTo>
                <a:lnTo>
                  <a:pt x="0" y="23272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7194240" y="20750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6659640" y="3335400"/>
            <a:ext cx="193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梯形 7"/>
          <p:cNvSpPr/>
          <p:nvPr/>
        </p:nvSpPr>
        <p:spPr>
          <a:xfrm rot="16200000">
            <a:off x="2698920" y="2924280"/>
            <a:ext cx="4464000" cy="216216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590683" y="0"/>
                </a:lnTo>
                <a:lnTo>
                  <a:pt x="3873367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4458960" y="26082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4287600" y="387036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图表 14" descr=""/>
          <p:cNvPicPr/>
          <p:nvPr/>
        </p:nvPicPr>
        <p:blipFill>
          <a:blip r:embed="rId1"/>
          <a:stretch/>
        </p:blipFill>
        <p:spPr>
          <a:xfrm>
            <a:off x="284040" y="2577960"/>
            <a:ext cx="3089520" cy="2459160"/>
          </a:xfrm>
          <a:prstGeom prst="rect">
            <a:avLst/>
          </a:prstGeom>
          <a:ln w="0">
            <a:noFill/>
          </a:ln>
        </p:spPr>
      </p:pic>
      <p:sp>
        <p:nvSpPr>
          <p:cNvPr id="583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6" descr=""/>
          <p:cNvPicPr/>
          <p:nvPr/>
        </p:nvPicPr>
        <p:blipFill>
          <a:blip r:embed="rId1"/>
          <a:stretch/>
        </p:blipFill>
        <p:spPr>
          <a:xfrm>
            <a:off x="3176640" y="1627200"/>
            <a:ext cx="2071800" cy="791856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8" descr=""/>
          <p:cNvPicPr/>
          <p:nvPr/>
        </p:nvPicPr>
        <p:blipFill>
          <a:blip r:embed="rId2"/>
          <a:stretch/>
        </p:blipFill>
        <p:spPr>
          <a:xfrm>
            <a:off x="463680" y="1663560"/>
            <a:ext cx="2346120" cy="7613640"/>
          </a:xfrm>
          <a:prstGeom prst="rect">
            <a:avLst/>
          </a:prstGeom>
          <a:ln w="0">
            <a:noFill/>
          </a:ln>
        </p:spPr>
      </p:pic>
      <p:sp>
        <p:nvSpPr>
          <p:cNvPr id="586" name="梯形 9"/>
          <p:cNvSpPr/>
          <p:nvPr/>
        </p:nvSpPr>
        <p:spPr>
          <a:xfrm flipV="1" rot="5400000">
            <a:off x="4982760" y="3124440"/>
            <a:ext cx="4248360" cy="2184480"/>
          </a:xfrm>
          <a:custGeom>
            <a:avLst/>
            <a:gdLst/>
            <a:ahLst/>
            <a:rect l="l" t="t" r="r" b="b"/>
            <a:pathLst>
              <a:path w="4248150" h="2182813">
                <a:moveTo>
                  <a:pt x="0" y="2182813"/>
                </a:moveTo>
                <a:lnTo>
                  <a:pt x="716945" y="0"/>
                </a:lnTo>
                <a:lnTo>
                  <a:pt x="3531205" y="0"/>
                </a:lnTo>
                <a:lnTo>
                  <a:pt x="4248150" y="2182813"/>
                </a:lnTo>
                <a:lnTo>
                  <a:pt x="0" y="2182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梯形 10"/>
          <p:cNvSpPr/>
          <p:nvPr/>
        </p:nvSpPr>
        <p:spPr>
          <a:xfrm rot="16200000">
            <a:off x="4538520" y="2598480"/>
            <a:ext cx="4464000" cy="21589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609739" y="0"/>
                </a:lnTo>
                <a:lnTo>
                  <a:pt x="3854311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6298920" y="228456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6127560" y="35449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946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梯形 7"/>
          <p:cNvSpPr/>
          <p:nvPr/>
        </p:nvSpPr>
        <p:spPr>
          <a:xfrm rot="5400000">
            <a:off x="1432800" y="1630800"/>
            <a:ext cx="4249440" cy="3743280"/>
          </a:xfrm>
          <a:custGeom>
            <a:avLst/>
            <a:gdLst/>
            <a:ahLst/>
            <a:rect l="l" t="t" r="r" b="b"/>
            <a:pathLst>
              <a:path w="4249737" h="3743325">
                <a:moveTo>
                  <a:pt x="0" y="3743325"/>
                </a:moveTo>
                <a:lnTo>
                  <a:pt x="1255886" y="0"/>
                </a:lnTo>
                <a:lnTo>
                  <a:pt x="2993851" y="0"/>
                </a:lnTo>
                <a:lnTo>
                  <a:pt x="4249737" y="3743325"/>
                </a:lnTo>
                <a:lnTo>
                  <a:pt x="0" y="3743325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梯形 8"/>
          <p:cNvSpPr/>
          <p:nvPr/>
        </p:nvSpPr>
        <p:spPr>
          <a:xfrm rot="5400000">
            <a:off x="4084920" y="2655000"/>
            <a:ext cx="4464000" cy="216036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5900400" y="23256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5674320" y="36925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梯形 11"/>
          <p:cNvSpPr/>
          <p:nvPr/>
        </p:nvSpPr>
        <p:spPr>
          <a:xfrm rot="5400000">
            <a:off x="786960" y="1919160"/>
            <a:ext cx="4464000" cy="3816360"/>
          </a:xfrm>
          <a:custGeom>
            <a:avLst/>
            <a:gdLst/>
            <a:ahLst/>
            <a:rect l="l" t="t" r="r" b="b"/>
            <a:pathLst>
              <a:path w="4464050" h="3816350">
                <a:moveTo>
                  <a:pt x="0" y="3816350"/>
                </a:moveTo>
                <a:lnTo>
                  <a:pt x="1076516" y="0"/>
                </a:lnTo>
                <a:lnTo>
                  <a:pt x="3387534" y="0"/>
                </a:lnTo>
                <a:lnTo>
                  <a:pt x="4464050" y="3816350"/>
                </a:lnTo>
                <a:lnTo>
                  <a:pt x="0" y="381635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438200" y="2481120"/>
            <a:ext cx="2809800" cy="36385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4"/>
          <p:cNvSpPr/>
          <p:nvPr/>
        </p:nvSpPr>
        <p:spPr>
          <a:xfrm>
            <a:off x="2009880" y="2544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数据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F2C-2B8A-481D-828E-8CD1673802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梯形 9"/>
          <p:cNvSpPr/>
          <p:nvPr/>
        </p:nvSpPr>
        <p:spPr>
          <a:xfrm flipV="1" rot="5400000">
            <a:off x="2795760" y="1662480"/>
            <a:ext cx="3678120" cy="3475080"/>
          </a:xfrm>
          <a:custGeom>
            <a:avLst/>
            <a:gdLst/>
            <a:ahLst/>
            <a:rect l="l" t="t" r="r" b="b"/>
            <a:pathLst>
              <a:path w="3678238" h="3475037">
                <a:moveTo>
                  <a:pt x="0" y="3475037"/>
                </a:moveTo>
                <a:lnTo>
                  <a:pt x="978953" y="0"/>
                </a:lnTo>
                <a:lnTo>
                  <a:pt x="2699285" y="0"/>
                </a:lnTo>
                <a:lnTo>
                  <a:pt x="3678238" y="3475037"/>
                </a:lnTo>
                <a:lnTo>
                  <a:pt x="0" y="347503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梯形 3"/>
          <p:cNvSpPr/>
          <p:nvPr/>
        </p:nvSpPr>
        <p:spPr>
          <a:xfrm flipV="1" rot="5400000">
            <a:off x="2746080" y="1412640"/>
            <a:ext cx="3291120" cy="3529080"/>
          </a:xfrm>
          <a:custGeom>
            <a:avLst/>
            <a:gdLst/>
            <a:ahLst/>
            <a:rect l="l" t="t" r="r" b="b"/>
            <a:pathLst>
              <a:path w="3290887" h="3529012">
                <a:moveTo>
                  <a:pt x="0" y="3529012"/>
                </a:moveTo>
                <a:lnTo>
                  <a:pt x="906870" y="0"/>
                </a:lnTo>
                <a:lnTo>
                  <a:pt x="2384017" y="0"/>
                </a:lnTo>
                <a:lnTo>
                  <a:pt x="3290887" y="3529012"/>
                </a:lnTo>
                <a:lnTo>
                  <a:pt x="0" y="3529012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"/>
          <p:cNvSpPr/>
          <p:nvPr/>
        </p:nvSpPr>
        <p:spPr>
          <a:xfrm>
            <a:off x="2712240" y="275436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ONE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1:1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2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