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111D-A5A7-47B2-9A5A-BB764B224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D6C3-0256-40C7-8C46-F0E7B4803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E462-00B8-49CC-A8EB-8FD8E5429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808E-10A5-47D4-AA65-623B8E955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B1671-3A6B-4881-9051-5E0D5424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40075-6085-49FC-BF57-017DAB6A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2CC71-93F1-43FC-8EAD-ED85CBB2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58E2E-D6BE-47CF-94DF-2C9AB1B5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4D3CD-97F9-4B8B-9821-49DADAA7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340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C3BF7-3AC2-4192-A581-DD583395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131F1-274E-49D9-9F3A-0DC3C0D4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4C80-3D0E-49D0-A4F7-6C74CB53B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D8D8D-0C55-4066-BBF0-C5497627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2BF75-4360-40C2-AABE-578C2764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4509-E350-4C31-9DFB-B9E24C72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D26E6-759D-49CC-B042-7CF974AB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64603-7664-43BF-B636-71F15301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9B570-8A00-4A6F-A8F4-9EE7CEB5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8B8CB-08F3-4C62-A9F2-FA109066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3DF98-7956-4B30-8D33-C165C442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D3A9E-8E01-4A2D-B7B9-1F4F5367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BB756-A148-463A-BA26-83C1AAD1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FC96-FA73-421E-A5E3-DECE21FD3F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29340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2A5BB-DB09-4A52-9A71-8246853C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64068-8727-4133-8B72-7EEAAB74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C8B04-2C09-4990-9041-FFC30085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37995-AB4F-44B9-8817-B0E53568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1C0F1-316A-415A-8962-BC5DF5D3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9203C-C841-4381-AEBF-A5D1BBA5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700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82231-4AAE-43ED-B18F-1AAD4E27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58F1-80E7-4C88-99B3-71CB74C39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82DE-CF11-4629-82C4-73573C03E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9340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2C32-C69A-4F3A-8103-80331C495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B0E6-C590-4380-85AE-BE72CB4E2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00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B3F7-8B7B-407C-A9FE-87BA597AB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8440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0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902E-1CBE-42D4-B139-84C4B0FE8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228600" y="552600"/>
            <a:ext cx="8686800" cy="5943600"/>
          </a:xfrm>
          <a:prstGeom prst="rect">
            <a:avLst/>
          </a:prstGeom>
          <a:noFill/>
          <a:ln w="38160">
            <a:solidFill>
              <a:srgbClr val="e49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026"/>
          <p:cNvSpPr/>
          <p:nvPr/>
        </p:nvSpPr>
        <p:spPr>
          <a:xfrm>
            <a:off x="5715000" y="6191280"/>
            <a:ext cx="30099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027"/>
          <p:cNvSpPr/>
          <p:nvPr/>
        </p:nvSpPr>
        <p:spPr>
          <a:xfrm>
            <a:off x="609480" y="152280"/>
            <a:ext cx="5562720" cy="10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1028" descr="01_back_b"/>
          <p:cNvPicPr/>
          <p:nvPr/>
        </p:nvPicPr>
        <p:blipFill>
          <a:blip r:embed="rId2"/>
          <a:stretch/>
        </p:blipFill>
        <p:spPr>
          <a:xfrm>
            <a:off x="7238880" y="571680"/>
            <a:ext cx="1665360" cy="21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93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eb4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90960" y="62384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0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151920" y="649908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ACD0-8DB9-4EB0-ADB0-719FA2B52A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图片 1033" descr="01_icon"/>
          <p:cNvPicPr/>
          <p:nvPr/>
        </p:nvPicPr>
        <p:blipFill>
          <a:blip r:embed="rId3"/>
          <a:stretch/>
        </p:blipFill>
        <p:spPr>
          <a:xfrm>
            <a:off x="5334120" y="171360"/>
            <a:ext cx="749160" cy="92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1290-0810-40D0-BAF1-6A9D77E9E5D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8D09-9329-4BD9-A941-65BCE3EAFF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049" descr="01_back"/>
          <p:cNvPicPr/>
          <p:nvPr/>
        </p:nvPicPr>
        <p:blipFill>
          <a:blip r:embed="rId2"/>
          <a:stretch/>
        </p:blipFill>
        <p:spPr>
          <a:xfrm>
            <a:off x="228600" y="276120"/>
            <a:ext cx="4876920" cy="631512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2055"/>
          <p:cNvSpPr/>
          <p:nvPr/>
        </p:nvSpPr>
        <p:spPr>
          <a:xfrm>
            <a:off x="7543800" y="4572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Arial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056" descr="01_icon_f"/>
          <p:cNvPicPr/>
          <p:nvPr/>
        </p:nvPicPr>
        <p:blipFill>
          <a:blip r:embed="rId3"/>
          <a:stretch/>
        </p:blipFill>
        <p:spPr>
          <a:xfrm>
            <a:off x="2438280" y="3556080"/>
            <a:ext cx="1739880" cy="1739880"/>
          </a:xfrm>
          <a:prstGeom prst="rect">
            <a:avLst/>
          </a:prstGeom>
          <a:ln w="0">
            <a:noFill/>
          </a:ln>
        </p:spPr>
      </p:pic>
      <p:sp>
        <p:nvSpPr>
          <p:cNvPr id="89" name="矩形 2057"/>
          <p:cNvSpPr/>
          <p:nvPr/>
        </p:nvSpPr>
        <p:spPr>
          <a:xfrm>
            <a:off x="209520" y="266760"/>
            <a:ext cx="8705880" cy="6324480"/>
          </a:xfrm>
          <a:prstGeom prst="rect">
            <a:avLst/>
          </a:prstGeom>
          <a:noFill/>
          <a:ln w="19080">
            <a:solidFill>
              <a:srgbClr val="e49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93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eb4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242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70242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228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2000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7813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E9F7-965F-4E4B-97F2-5EE0BE17062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33560" y="434340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owerPoint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098"/>
          <p:cNvSpPr/>
          <p:nvPr/>
        </p:nvSpPr>
        <p:spPr>
          <a:xfrm>
            <a:off x="3962520" y="403848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your company sloga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099"/>
          <p:cNvSpPr/>
          <p:nvPr/>
        </p:nvSpPr>
        <p:spPr>
          <a:xfrm>
            <a:off x="3886200" y="4084560"/>
            <a:ext cx="76320" cy="228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52360" y="4815720"/>
            <a:ext cx="3048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136" name="文本框 4102"/>
          <p:cNvSpPr/>
          <p:nvPr/>
        </p:nvSpPr>
        <p:spPr>
          <a:xfrm>
            <a:off x="1860120" y="12952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简洁方块工作报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页脚占位符 1"/>
          <p:cNvSpPr/>
          <p:nvPr/>
        </p:nvSpPr>
        <p:spPr>
          <a:xfrm>
            <a:off x="3200400" y="66135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3314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30" name="圆角矩形 13315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圆角矩形 13316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圆角矩形 13317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燕尾形 13318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5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燕尾形 13319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6e9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1332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934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13321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6e934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13322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c5028"/>
                </a:gs>
                <a:gs pos="50000">
                  <a:srgbClr val="6e9349"/>
                </a:gs>
                <a:gs pos="100000">
                  <a:srgbClr val="3c502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13323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65d2e"/>
                </a:gs>
                <a:gs pos="100000">
                  <a:srgbClr val="6e934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13324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1332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13326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13327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3328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3329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组合 13330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46" name="椭圆 13331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13332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13333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椭圆 13334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椭圆 1333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eb4b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13336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eb4b4">
                    <a:alpha val="32156"/>
                  </a:srgbClr>
                </a:gs>
                <a:gs pos="100000">
                  <a:srgbClr val="2b53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13337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36161"/>
                </a:gs>
                <a:gs pos="50000">
                  <a:srgbClr val="5eb4b4"/>
                </a:gs>
                <a:gs pos="100000">
                  <a:srgbClr val="33616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13338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c7272"/>
                </a:gs>
                <a:gs pos="100000">
                  <a:srgbClr val="5eb4b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13339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13340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56" name="椭圆 13341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13342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椭圆 13343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椭圆 13344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组合 13345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61" name="椭圆 13346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椭圆 13347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椭圆 13348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13349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文本框 13350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13351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文本框 13352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14338"/>
          <p:cNvGrpSpPr/>
          <p:nvPr/>
        </p:nvGrpSpPr>
        <p:grpSpPr>
          <a:xfrm>
            <a:off x="1376280" y="1143000"/>
            <a:ext cx="5786280" cy="5078520"/>
            <a:chOff x="1376280" y="1143000"/>
            <a:chExt cx="5786280" cy="5078520"/>
          </a:xfrm>
        </p:grpSpPr>
        <p:sp>
          <p:nvSpPr>
            <p:cNvPr id="371" name="椭圆 14339"/>
            <p:cNvSpPr/>
            <p:nvPr/>
          </p:nvSpPr>
          <p:spPr>
            <a:xfrm>
              <a:off x="5290920" y="200340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椭圆 14340"/>
            <p:cNvSpPr/>
            <p:nvPr/>
          </p:nvSpPr>
          <p:spPr>
            <a:xfrm>
              <a:off x="4005360" y="3689280"/>
              <a:ext cx="125712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椭圆 14341"/>
            <p:cNvSpPr/>
            <p:nvPr/>
          </p:nvSpPr>
          <p:spPr>
            <a:xfrm>
              <a:off x="5338800" y="5715000"/>
              <a:ext cx="1823760" cy="506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椭圆 14342"/>
            <p:cNvSpPr/>
            <p:nvPr/>
          </p:nvSpPr>
          <p:spPr>
            <a:xfrm>
              <a:off x="1604880" y="435132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4343"/>
            <p:cNvSpPr/>
            <p:nvPr/>
          </p:nvSpPr>
          <p:spPr>
            <a:xfrm rot="13770000">
              <a:off x="4838400" y="3581280"/>
              <a:ext cx="960480" cy="1918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4344"/>
            <p:cNvSpPr/>
            <p:nvPr/>
          </p:nvSpPr>
          <p:spPr>
            <a:xfrm rot="20856000">
              <a:off x="2852280" y="313200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组合 14345"/>
            <p:cNvGrpSpPr/>
            <p:nvPr/>
          </p:nvGrpSpPr>
          <p:grpSpPr>
            <a:xfrm>
              <a:off x="3790800" y="1825560"/>
              <a:ext cx="1702800" cy="1836360"/>
              <a:chOff x="3790800" y="1825560"/>
              <a:chExt cx="1702800" cy="1836360"/>
            </a:xfrm>
          </p:grpSpPr>
          <p:sp>
            <p:nvSpPr>
              <p:cNvPr id="378" name="矩形 14346"/>
              <p:cNvSpPr/>
              <p:nvPr/>
            </p:nvSpPr>
            <p:spPr>
              <a:xfrm rot="18394200">
                <a:off x="4965120" y="2037960"/>
                <a:ext cx="59580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组合 14347"/>
              <p:cNvGrpSpPr/>
              <p:nvPr/>
            </p:nvGrpSpPr>
            <p:grpSpPr>
              <a:xfrm>
                <a:off x="3790800" y="2073960"/>
                <a:ext cx="1609560" cy="1587960"/>
                <a:chOff x="3790800" y="2073960"/>
                <a:chExt cx="1609560" cy="1587960"/>
              </a:xfrm>
            </p:grpSpPr>
            <p:sp>
              <p:nvSpPr>
                <p:cNvPr id="380" name="椭圆 14348"/>
                <p:cNvSpPr/>
                <p:nvPr/>
              </p:nvSpPr>
              <p:spPr>
                <a:xfrm>
                  <a:off x="3790800" y="2073960"/>
                  <a:ext cx="1609560" cy="158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任意多边形 14349"/>
                <p:cNvSpPr/>
                <p:nvPr/>
              </p:nvSpPr>
              <p:spPr>
                <a:xfrm>
                  <a:off x="3974760" y="2100240"/>
                  <a:ext cx="1241640" cy="599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文本框 14350"/>
              <p:cNvSpPr/>
              <p:nvPr/>
            </p:nvSpPr>
            <p:spPr>
              <a:xfrm>
                <a:off x="3877560" y="27651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组合 14351"/>
            <p:cNvGrpSpPr/>
            <p:nvPr/>
          </p:nvGrpSpPr>
          <p:grpSpPr>
            <a:xfrm>
              <a:off x="5200560" y="1143000"/>
              <a:ext cx="891720" cy="861840"/>
              <a:chOff x="5200560" y="1143000"/>
              <a:chExt cx="891720" cy="861840"/>
            </a:xfrm>
          </p:grpSpPr>
          <p:grpSp>
            <p:nvGrpSpPr>
              <p:cNvPr id="384" name="组合 14352"/>
              <p:cNvGrpSpPr/>
              <p:nvPr/>
            </p:nvGrpSpPr>
            <p:grpSpPr>
              <a:xfrm>
                <a:off x="5200560" y="1143000"/>
                <a:ext cx="871560" cy="861840"/>
                <a:chOff x="5200560" y="1143000"/>
                <a:chExt cx="871560" cy="861840"/>
              </a:xfrm>
            </p:grpSpPr>
            <p:sp>
              <p:nvSpPr>
                <p:cNvPr id="385" name="椭圆 14353"/>
                <p:cNvSpPr/>
                <p:nvPr/>
              </p:nvSpPr>
              <p:spPr>
                <a:xfrm>
                  <a:off x="5200560" y="114300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b4b4"/>
                    </a:gs>
                    <a:gs pos="100000">
                      <a:srgbClr val="2b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任意多边形 14354"/>
                <p:cNvSpPr/>
                <p:nvPr/>
              </p:nvSpPr>
              <p:spPr>
                <a:xfrm>
                  <a:off x="5299920" y="115704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eb4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文本框 14355"/>
              <p:cNvSpPr/>
              <p:nvPr/>
            </p:nvSpPr>
            <p:spPr>
              <a:xfrm>
                <a:off x="5221080" y="147492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组合 14356"/>
            <p:cNvGrpSpPr/>
            <p:nvPr/>
          </p:nvGrpSpPr>
          <p:grpSpPr>
            <a:xfrm>
              <a:off x="1376280" y="2468520"/>
              <a:ext cx="1744560" cy="1790640"/>
              <a:chOff x="1376280" y="2468520"/>
              <a:chExt cx="1744560" cy="1790640"/>
            </a:xfrm>
          </p:grpSpPr>
          <p:grpSp>
            <p:nvGrpSpPr>
              <p:cNvPr id="389" name="组合 14357"/>
              <p:cNvGrpSpPr/>
              <p:nvPr/>
            </p:nvGrpSpPr>
            <p:grpSpPr>
              <a:xfrm>
                <a:off x="1376280" y="2468520"/>
                <a:ext cx="1744560" cy="1790640"/>
                <a:chOff x="1376280" y="2468520"/>
                <a:chExt cx="1744560" cy="1790640"/>
              </a:xfrm>
            </p:grpSpPr>
            <p:sp>
              <p:nvSpPr>
                <p:cNvPr id="390" name="椭圆 14358"/>
                <p:cNvSpPr/>
                <p:nvPr/>
              </p:nvSpPr>
              <p:spPr>
                <a:xfrm>
                  <a:off x="1376280" y="246852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9514"/>
                    </a:gs>
                    <a:gs pos="100000">
                      <a:srgbClr val="a56c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任意多边形 14359"/>
                <p:cNvSpPr/>
                <p:nvPr/>
              </p:nvSpPr>
              <p:spPr>
                <a:xfrm>
                  <a:off x="1575720" y="249804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495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文本框 14360"/>
              <p:cNvSpPr/>
              <p:nvPr/>
            </p:nvSpPr>
            <p:spPr>
              <a:xfrm>
                <a:off x="1470600" y="32637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组合 14361"/>
            <p:cNvGrpSpPr/>
            <p:nvPr/>
          </p:nvGrpSpPr>
          <p:grpSpPr>
            <a:xfrm>
              <a:off x="5132160" y="3728880"/>
              <a:ext cx="2013120" cy="1989000"/>
              <a:chOff x="5132160" y="3728880"/>
              <a:chExt cx="2013120" cy="1989000"/>
            </a:xfrm>
          </p:grpSpPr>
          <p:grpSp>
            <p:nvGrpSpPr>
              <p:cNvPr id="394" name="组合 14362"/>
              <p:cNvGrpSpPr/>
              <p:nvPr/>
            </p:nvGrpSpPr>
            <p:grpSpPr>
              <a:xfrm>
                <a:off x="5132160" y="3728880"/>
                <a:ext cx="2013120" cy="1989000"/>
                <a:chOff x="5132160" y="3728880"/>
                <a:chExt cx="2013120" cy="1989000"/>
              </a:xfrm>
            </p:grpSpPr>
            <p:sp>
              <p:nvSpPr>
                <p:cNvPr id="395" name="椭圆 14363"/>
                <p:cNvSpPr/>
                <p:nvPr/>
              </p:nvSpPr>
              <p:spPr>
                <a:xfrm>
                  <a:off x="5132160" y="372888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9349"/>
                    </a:gs>
                    <a:gs pos="100000">
                      <a:srgbClr val="3c50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任意多边形 14364"/>
                <p:cNvSpPr/>
                <p:nvPr/>
              </p:nvSpPr>
              <p:spPr>
                <a:xfrm>
                  <a:off x="5362200" y="376164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9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文本框 14365"/>
              <p:cNvSpPr/>
              <p:nvPr/>
            </p:nvSpPr>
            <p:spPr>
              <a:xfrm>
                <a:off x="5420520" y="45907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文本框 1436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4367"/>
          <p:cNvSpPr/>
          <p:nvPr/>
        </p:nvSpPr>
        <p:spPr>
          <a:xfrm>
            <a:off x="533520" y="55627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 u="sng">
                <a:solidFill>
                  <a:srgbClr val="6e9349"/>
                </a:solidFill>
                <a:uFillTx/>
                <a:latin typeface="Arial"/>
                <a:ea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03" name="右箭头 1536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右箭头 1536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右箭头 1536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右箭头 1536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右箭头 1536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右箭头 1536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7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1dbdb"/>
                </a:gs>
                <a:gs pos="100000">
                  <a:srgbClr val="5eb4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38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538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5385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28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16386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36" name="圆角矩形 16387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16388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圆角矩形 16389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圆角矩形 16390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16391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16392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组合 16393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43" name="椭圆 16394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椭圆 16395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椭圆 16396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椭圆 16397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椭圆 16398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文本框 16399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文本框 16400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16401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51" name="圆角矩形 16402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16403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圆角矩形 16404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 16405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16406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椭圆 16407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16408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 16409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 16410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文本框 16411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16412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圆角矩形 16413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圆角矩形 16414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16415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65" name="圆角矩形 16416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16417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16418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圆角矩形 16419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组合 16420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470" name="椭圆 16421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椭圆 16422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椭圆 16423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椭圆 16424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椭圆 16425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文本框 16426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文本框 16427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圆角矩形 16428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圆角矩形 16429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17410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482" name="组合 17411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483" name="矩形 17412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矩形 17413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组合 17414"/>
            <p:cNvGrpSpPr/>
            <p:nvPr/>
          </p:nvGrpSpPr>
          <p:grpSpPr>
            <a:xfrm>
              <a:off x="761760" y="2685960"/>
              <a:ext cx="1931760" cy="3264840"/>
              <a:chOff x="761760" y="2685960"/>
              <a:chExt cx="1931760" cy="3264840"/>
            </a:xfrm>
          </p:grpSpPr>
          <p:grpSp>
            <p:nvGrpSpPr>
              <p:cNvPr id="486" name="组合 17415"/>
              <p:cNvGrpSpPr/>
              <p:nvPr/>
            </p:nvGrpSpPr>
            <p:grpSpPr>
              <a:xfrm>
                <a:off x="1167480" y="3526560"/>
                <a:ext cx="1526040" cy="2424240"/>
                <a:chOff x="1167480" y="3526560"/>
                <a:chExt cx="1526040" cy="2424240"/>
              </a:xfrm>
            </p:grpSpPr>
            <p:grpSp>
              <p:nvGrpSpPr>
                <p:cNvPr id="487" name="组合 17416"/>
                <p:cNvGrpSpPr/>
                <p:nvPr/>
              </p:nvGrpSpPr>
              <p:grpSpPr>
                <a:xfrm>
                  <a:off x="1167480" y="3684240"/>
                  <a:ext cx="1420200" cy="2266560"/>
                  <a:chOff x="1167480" y="3684240"/>
                  <a:chExt cx="1420200" cy="2266560"/>
                </a:xfrm>
              </p:grpSpPr>
              <p:sp>
                <p:nvSpPr>
                  <p:cNvPr id="488" name="任意多边形 17417"/>
                  <p:cNvSpPr/>
                  <p:nvPr/>
                </p:nvSpPr>
                <p:spPr>
                  <a:xfrm rot="3876600">
                    <a:off x="73980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任意多边形 17418"/>
                  <p:cNvSpPr/>
                  <p:nvPr/>
                </p:nvSpPr>
                <p:spPr>
                  <a:xfrm rot="3876600">
                    <a:off x="210708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组合 17419"/>
                <p:cNvGrpSpPr/>
                <p:nvPr/>
              </p:nvGrpSpPr>
              <p:grpSpPr>
                <a:xfrm>
                  <a:off x="1603800" y="3526560"/>
                  <a:ext cx="1089720" cy="1739160"/>
                  <a:chOff x="1603800" y="3526560"/>
                  <a:chExt cx="1089720" cy="1739160"/>
                </a:xfrm>
              </p:grpSpPr>
              <p:sp>
                <p:nvSpPr>
                  <p:cNvPr id="491" name="任意多边形 17420"/>
                  <p:cNvSpPr/>
                  <p:nvPr/>
                </p:nvSpPr>
                <p:spPr>
                  <a:xfrm flipV="1" rot="3876600">
                    <a:off x="1275480" y="4206960"/>
                    <a:ext cx="174600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任意多边形 17421"/>
                  <p:cNvSpPr/>
                  <p:nvPr/>
                </p:nvSpPr>
                <p:spPr>
                  <a:xfrm flipV="1" rot="3876600">
                    <a:off x="230868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3" name="组合 17422"/>
              <p:cNvGrpSpPr/>
              <p:nvPr/>
            </p:nvGrpSpPr>
            <p:grpSpPr>
              <a:xfrm>
                <a:off x="761760" y="2685960"/>
                <a:ext cx="1270440" cy="1309320"/>
                <a:chOff x="761760" y="2685960"/>
                <a:chExt cx="1270440" cy="1309320"/>
              </a:xfrm>
            </p:grpSpPr>
            <p:sp>
              <p:nvSpPr>
                <p:cNvPr id="494" name="椭圆 17423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17424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17425"/>
                <p:cNvSpPr/>
                <p:nvPr/>
              </p:nvSpPr>
              <p:spPr>
                <a:xfrm>
                  <a:off x="8456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17426"/>
                <p:cNvSpPr/>
                <p:nvPr/>
              </p:nvSpPr>
              <p:spPr>
                <a:xfrm>
                  <a:off x="8456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椭圆 17427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9" name="组合 17428"/>
                <p:cNvGrpSpPr/>
                <p:nvPr/>
              </p:nvGrpSpPr>
              <p:grpSpPr>
                <a:xfrm>
                  <a:off x="915480" y="2844360"/>
                  <a:ext cx="962280" cy="992880"/>
                  <a:chOff x="915480" y="2844360"/>
                  <a:chExt cx="962280" cy="992880"/>
                </a:xfrm>
              </p:grpSpPr>
              <p:sp>
                <p:nvSpPr>
                  <p:cNvPr id="500" name="椭圆 17429"/>
                  <p:cNvSpPr/>
                  <p:nvPr/>
                </p:nvSpPr>
                <p:spPr>
                  <a:xfrm>
                    <a:off x="9154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椭圆 17430"/>
                  <p:cNvSpPr/>
                  <p:nvPr/>
                </p:nvSpPr>
                <p:spPr>
                  <a:xfrm>
                    <a:off x="9277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椭圆 17431"/>
                  <p:cNvSpPr/>
                  <p:nvPr/>
                </p:nvSpPr>
                <p:spPr>
                  <a:xfrm>
                    <a:off x="9374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椭圆 17432"/>
                  <p:cNvSpPr/>
                  <p:nvPr/>
                </p:nvSpPr>
                <p:spPr>
                  <a:xfrm>
                    <a:off x="9900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4" name="文本框 17433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文本框 17434"/>
              <p:cNvSpPr/>
              <p:nvPr/>
            </p:nvSpPr>
            <p:spPr>
              <a:xfrm rot="3925800">
                <a:off x="1590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组合 17435"/>
            <p:cNvGrpSpPr/>
            <p:nvPr/>
          </p:nvGrpSpPr>
          <p:grpSpPr>
            <a:xfrm>
              <a:off x="2509560" y="2685960"/>
              <a:ext cx="1930680" cy="3264840"/>
              <a:chOff x="2509560" y="2685960"/>
              <a:chExt cx="1930680" cy="3264840"/>
            </a:xfrm>
          </p:grpSpPr>
          <p:grpSp>
            <p:nvGrpSpPr>
              <p:cNvPr id="507" name="组合 17436"/>
              <p:cNvGrpSpPr/>
              <p:nvPr/>
            </p:nvGrpSpPr>
            <p:grpSpPr>
              <a:xfrm>
                <a:off x="2914200" y="3526560"/>
                <a:ext cx="1526040" cy="2424240"/>
                <a:chOff x="2914200" y="3526560"/>
                <a:chExt cx="1526040" cy="2424240"/>
              </a:xfrm>
            </p:grpSpPr>
            <p:grpSp>
              <p:nvGrpSpPr>
                <p:cNvPr id="508" name="组合 17437"/>
                <p:cNvGrpSpPr/>
                <p:nvPr/>
              </p:nvGrpSpPr>
              <p:grpSpPr>
                <a:xfrm>
                  <a:off x="2914200" y="3684240"/>
                  <a:ext cx="1420200" cy="2266560"/>
                  <a:chOff x="2914200" y="3684240"/>
                  <a:chExt cx="1420200" cy="2266560"/>
                </a:xfrm>
              </p:grpSpPr>
              <p:sp>
                <p:nvSpPr>
                  <p:cNvPr id="509" name="任意多边形 17438"/>
                  <p:cNvSpPr/>
                  <p:nvPr/>
                </p:nvSpPr>
                <p:spPr>
                  <a:xfrm rot="3876600">
                    <a:off x="248652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任意多边形 17439"/>
                  <p:cNvSpPr/>
                  <p:nvPr/>
                </p:nvSpPr>
                <p:spPr>
                  <a:xfrm rot="3876600">
                    <a:off x="385344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组合 17440"/>
                <p:cNvGrpSpPr/>
                <p:nvPr/>
              </p:nvGrpSpPr>
              <p:grpSpPr>
                <a:xfrm>
                  <a:off x="3350160" y="3526560"/>
                  <a:ext cx="1090080" cy="1739160"/>
                  <a:chOff x="3350160" y="3526560"/>
                  <a:chExt cx="1090080" cy="1739160"/>
                </a:xfrm>
              </p:grpSpPr>
              <p:sp>
                <p:nvSpPr>
                  <p:cNvPr id="512" name="任意多边形 17441"/>
                  <p:cNvSpPr/>
                  <p:nvPr/>
                </p:nvSpPr>
                <p:spPr>
                  <a:xfrm flipV="1" rot="3876600">
                    <a:off x="3021840" y="4206960"/>
                    <a:ext cx="174600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任意多边形 17442"/>
                  <p:cNvSpPr/>
                  <p:nvPr/>
                </p:nvSpPr>
                <p:spPr>
                  <a:xfrm flipV="1" rot="3876600">
                    <a:off x="4055760" y="488808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4" name="组合 17443"/>
              <p:cNvGrpSpPr/>
              <p:nvPr/>
            </p:nvGrpSpPr>
            <p:grpSpPr>
              <a:xfrm>
                <a:off x="2509560" y="2685960"/>
                <a:ext cx="1270440" cy="1309320"/>
                <a:chOff x="2509560" y="2685960"/>
                <a:chExt cx="1270440" cy="1309320"/>
              </a:xfrm>
            </p:grpSpPr>
            <p:sp>
              <p:nvSpPr>
                <p:cNvPr id="515" name="椭圆 17444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17445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17446"/>
                <p:cNvSpPr/>
                <p:nvPr/>
              </p:nvSpPr>
              <p:spPr>
                <a:xfrm>
                  <a:off x="25934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17447"/>
                <p:cNvSpPr/>
                <p:nvPr/>
              </p:nvSpPr>
              <p:spPr>
                <a:xfrm>
                  <a:off x="25934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17448"/>
                <p:cNvSpPr/>
                <p:nvPr/>
              </p:nvSpPr>
              <p:spPr>
                <a:xfrm>
                  <a:off x="26481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组合 17449"/>
                <p:cNvGrpSpPr/>
                <p:nvPr/>
              </p:nvGrpSpPr>
              <p:grpSpPr>
                <a:xfrm>
                  <a:off x="2663280" y="2844360"/>
                  <a:ext cx="962280" cy="992880"/>
                  <a:chOff x="2663280" y="2844360"/>
                  <a:chExt cx="962280" cy="992880"/>
                </a:xfrm>
              </p:grpSpPr>
              <p:sp>
                <p:nvSpPr>
                  <p:cNvPr id="521" name="椭圆 17450"/>
                  <p:cNvSpPr/>
                  <p:nvPr/>
                </p:nvSpPr>
                <p:spPr>
                  <a:xfrm>
                    <a:off x="26632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椭圆 17451"/>
                  <p:cNvSpPr/>
                  <p:nvPr/>
                </p:nvSpPr>
                <p:spPr>
                  <a:xfrm>
                    <a:off x="26755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17452"/>
                  <p:cNvSpPr/>
                  <p:nvPr/>
                </p:nvSpPr>
                <p:spPr>
                  <a:xfrm>
                    <a:off x="26852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椭圆 17453"/>
                  <p:cNvSpPr/>
                  <p:nvPr/>
                </p:nvSpPr>
                <p:spPr>
                  <a:xfrm>
                    <a:off x="27378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5" name="文本框 17454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文本框 17455"/>
              <p:cNvSpPr/>
              <p:nvPr/>
            </p:nvSpPr>
            <p:spPr>
              <a:xfrm rot="3925800">
                <a:off x="333216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组合 17456"/>
            <p:cNvGrpSpPr/>
            <p:nvPr/>
          </p:nvGrpSpPr>
          <p:grpSpPr>
            <a:xfrm>
              <a:off x="4313160" y="2685960"/>
              <a:ext cx="1931760" cy="3264840"/>
              <a:chOff x="4313160" y="2685960"/>
              <a:chExt cx="1931760" cy="3264840"/>
            </a:xfrm>
          </p:grpSpPr>
          <p:grpSp>
            <p:nvGrpSpPr>
              <p:cNvPr id="528" name="组合 17457"/>
              <p:cNvGrpSpPr/>
              <p:nvPr/>
            </p:nvGrpSpPr>
            <p:grpSpPr>
              <a:xfrm>
                <a:off x="4718880" y="3526560"/>
                <a:ext cx="1526040" cy="2424240"/>
                <a:chOff x="4718880" y="3526560"/>
                <a:chExt cx="1526040" cy="2424240"/>
              </a:xfrm>
            </p:grpSpPr>
            <p:grpSp>
              <p:nvGrpSpPr>
                <p:cNvPr id="529" name="组合 17458"/>
                <p:cNvGrpSpPr/>
                <p:nvPr/>
              </p:nvGrpSpPr>
              <p:grpSpPr>
                <a:xfrm>
                  <a:off x="4718880" y="3684240"/>
                  <a:ext cx="1420200" cy="2266560"/>
                  <a:chOff x="4718880" y="3684240"/>
                  <a:chExt cx="1420200" cy="2266560"/>
                </a:xfrm>
              </p:grpSpPr>
              <p:sp>
                <p:nvSpPr>
                  <p:cNvPr id="530" name="任意多边形 17459"/>
                  <p:cNvSpPr/>
                  <p:nvPr/>
                </p:nvSpPr>
                <p:spPr>
                  <a:xfrm rot="3876600">
                    <a:off x="429120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任意多边形 17460"/>
                  <p:cNvSpPr/>
                  <p:nvPr/>
                </p:nvSpPr>
                <p:spPr>
                  <a:xfrm rot="3876600">
                    <a:off x="565848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组合 17461"/>
                <p:cNvGrpSpPr/>
                <p:nvPr/>
              </p:nvGrpSpPr>
              <p:grpSpPr>
                <a:xfrm>
                  <a:off x="5155200" y="3526560"/>
                  <a:ext cx="1089720" cy="1739160"/>
                  <a:chOff x="5155200" y="3526560"/>
                  <a:chExt cx="1089720" cy="1739160"/>
                </a:xfrm>
              </p:grpSpPr>
              <p:sp>
                <p:nvSpPr>
                  <p:cNvPr id="533" name="任意多边形 17462"/>
                  <p:cNvSpPr/>
                  <p:nvPr/>
                </p:nvSpPr>
                <p:spPr>
                  <a:xfrm flipV="1" rot="3876600">
                    <a:off x="4826880" y="4206960"/>
                    <a:ext cx="174600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任意多边形 17463"/>
                  <p:cNvSpPr/>
                  <p:nvPr/>
                </p:nvSpPr>
                <p:spPr>
                  <a:xfrm flipV="1" rot="3876600">
                    <a:off x="586008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组合 174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6" name="椭圆 174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174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17467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17468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17469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1" name="组合 17470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42" name="椭圆 17471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椭圆 17472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17473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椭圆 17474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6" name="文本框 17475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文本框 17476"/>
              <p:cNvSpPr/>
              <p:nvPr/>
            </p:nvSpPr>
            <p:spPr>
              <a:xfrm rot="3925800">
                <a:off x="5145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组合 17477"/>
            <p:cNvGrpSpPr/>
            <p:nvPr/>
          </p:nvGrpSpPr>
          <p:grpSpPr>
            <a:xfrm>
              <a:off x="6089400" y="2541600"/>
              <a:ext cx="2122560" cy="3476160"/>
              <a:chOff x="6089400" y="2541600"/>
              <a:chExt cx="2122560" cy="3476160"/>
            </a:xfrm>
          </p:grpSpPr>
          <p:grpSp>
            <p:nvGrpSpPr>
              <p:cNvPr id="549" name="组合 17478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50" name="组合 17479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51" name="任意多边形 17480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任意多边形 17481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组合 17482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54" name="任意多边形 17483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任意多边形 17484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6" name="椭圆 17485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17486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椭圆 17487"/>
              <p:cNvSpPr/>
              <p:nvPr/>
            </p:nvSpPr>
            <p:spPr>
              <a:xfrm>
                <a:off x="619092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椭圆 17488"/>
              <p:cNvSpPr/>
              <p:nvPr/>
            </p:nvSpPr>
            <p:spPr>
              <a:xfrm>
                <a:off x="619272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椭圆 17489"/>
              <p:cNvSpPr/>
              <p:nvPr/>
            </p:nvSpPr>
            <p:spPr>
              <a:xfrm>
                <a:off x="6256080" y="2712960"/>
                <a:ext cx="119448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" name="组合 17490"/>
              <p:cNvGrpSpPr/>
              <p:nvPr/>
            </p:nvGrpSpPr>
            <p:grpSpPr>
              <a:xfrm>
                <a:off x="6275160" y="2732040"/>
                <a:ext cx="1157760" cy="1190160"/>
                <a:chOff x="6275160" y="2732040"/>
                <a:chExt cx="1157760" cy="1190160"/>
              </a:xfrm>
            </p:grpSpPr>
            <p:sp>
              <p:nvSpPr>
                <p:cNvPr id="562" name="椭圆 17491"/>
                <p:cNvSpPr/>
                <p:nvPr/>
              </p:nvSpPr>
              <p:spPr>
                <a:xfrm>
                  <a:off x="6275160" y="2732040"/>
                  <a:ext cx="115776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17492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椭圆 17493"/>
                <p:cNvSpPr/>
                <p:nvPr/>
              </p:nvSpPr>
              <p:spPr>
                <a:xfrm>
                  <a:off x="6301800" y="2750040"/>
                  <a:ext cx="107460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椭圆 17494"/>
                <p:cNvSpPr/>
                <p:nvPr/>
              </p:nvSpPr>
              <p:spPr>
                <a:xfrm>
                  <a:off x="6364800" y="2780280"/>
                  <a:ext cx="95508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文本框 17495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文本框 17496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组合 17497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569" name="文本框 17498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2424"/>
                    </a:solidFill>
                    <a:latin typeface="Verdana"/>
                    <a:ea typeface="Arial"/>
                  </a:rPr>
                  <a:t>200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文本框 17499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2424"/>
                    </a:solidFill>
                    <a:latin typeface="Verdana"/>
                    <a:ea typeface="Arial"/>
                  </a:rPr>
                  <a:t>200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文本框 17500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2424"/>
                    </a:solidFill>
                    <a:latin typeface="Verdana"/>
                    <a:ea typeface="Arial"/>
                  </a:rPr>
                  <a:t>200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文本框 17501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2424"/>
                    </a:solidFill>
                    <a:latin typeface="Verdana"/>
                    <a:ea typeface="Arial"/>
                  </a:rPr>
                  <a:t>200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3" name="直接箭头连接符 17502"/>
              <p:cNvCxnSpPr>
                <a:stCxn id="569" idx="3"/>
                <a:endCxn id="570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702424"/>
                </a:solidFill>
                <a:round/>
                <a:tailEnd len="med" type="triangle" w="med"/>
              </a:ln>
            </p:spPr>
          </p:cxnSp>
          <p:cxnSp>
            <p:nvCxnSpPr>
              <p:cNvPr id="574" name="直接箭头连接符 17503"/>
              <p:cNvCxnSpPr>
                <a:stCxn id="570" idx="3"/>
                <a:endCxn id="571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702424"/>
                </a:solidFill>
                <a:round/>
                <a:tailEnd len="med" type="triangle" w="med"/>
              </a:ln>
            </p:spPr>
          </p:cxnSp>
          <p:cxnSp>
            <p:nvCxnSpPr>
              <p:cNvPr id="575" name="直接箭头连接符 17504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702424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76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18434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79" name="圆角矩形 18435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组合 18436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81" name="圆角矩形 18437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eb4b4"/>
                  </a:gs>
                  <a:gs pos="100000">
                    <a:srgbClr val="427e7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任意多边形 18438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d6d6"/>
                  </a:gs>
                  <a:gs pos="50000">
                    <a:srgbClr val="5eb4b4">
                      <a:alpha val="0"/>
                    </a:srgbClr>
                  </a:gs>
                  <a:gs pos="100000">
                    <a:srgbClr val="a7d6d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文本框 18439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文本框 18440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组合 18441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86" name="圆角矩形 18442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组合 18443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88" name="圆角矩形 18444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b17b"/>
                  </a:gs>
                  <a:gs pos="100000">
                    <a:srgbClr val="6e934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 18445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d1b2"/>
                  </a:gs>
                  <a:gs pos="100000">
                    <a:srgbClr val="6e934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文本框 18446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文本框 18447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18448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93" name="圆角矩形 18449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组合 18450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95" name="圆角矩形 18451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任意多边形 18452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文本框 18453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文本框 18454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圆角矩形 19458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圆角矩形 19459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圆角矩形 19460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圆角矩形 19461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组合 19462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606" name="矩形 19463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9349"/>
                </a:gs>
                <a:gs pos="100000">
                  <a:srgbClr val="33442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组合 19464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608" name="椭圆 19465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矩形 19466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椭圆 19467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椭圆 19468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矩形 19469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5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组合 19470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614" name="椭圆 19471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矩形 19472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椭圆 19473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椭圆 19474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矩形 19475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e9349"/>
                </a:gs>
                <a:gs pos="100000">
                  <a:srgbClr val="33442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组合 19476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620" name="椭圆 19477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 19478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椭圆 19479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椭圆 19480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矩形 19481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5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矩形 19482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9483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9484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9485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9486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9487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9488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9489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838080" y="2157480"/>
          <a:ext cx="7467480" cy="29574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b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b4b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b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b4b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b4b4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36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组合 21506"/>
          <p:cNvGrpSpPr/>
          <p:nvPr/>
        </p:nvGrpSpPr>
        <p:grpSpPr>
          <a:xfrm>
            <a:off x="1325520" y="1455480"/>
            <a:ext cx="6598800" cy="4675320"/>
            <a:chOff x="1325520" y="1455480"/>
            <a:chExt cx="6598800" cy="4675320"/>
          </a:xfrm>
        </p:grpSpPr>
        <p:sp>
          <p:nvSpPr>
            <p:cNvPr id="639" name="椭圆 21507"/>
            <p:cNvSpPr/>
            <p:nvPr/>
          </p:nvSpPr>
          <p:spPr>
            <a:xfrm>
              <a:off x="2361960" y="4465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椭圆 21508"/>
            <p:cNvSpPr/>
            <p:nvPr/>
          </p:nvSpPr>
          <p:spPr>
            <a:xfrm rot="20601600">
              <a:off x="1636560" y="235224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21509"/>
            <p:cNvSpPr/>
            <p:nvPr/>
          </p:nvSpPr>
          <p:spPr>
            <a:xfrm rot="20601600">
              <a:off x="1693080" y="21906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任意多边形 21510"/>
            <p:cNvSpPr/>
            <p:nvPr/>
          </p:nvSpPr>
          <p:spPr>
            <a:xfrm rot="20601600">
              <a:off x="4349160" y="2079720"/>
              <a:ext cx="284904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6e9349"/>
                </a:gs>
                <a:gs pos="100000">
                  <a:srgbClr val="a3ba8b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任意多边形 21511"/>
            <p:cNvSpPr/>
            <p:nvPr/>
          </p:nvSpPr>
          <p:spPr>
            <a:xfrm flipH="1" rot="20602200">
              <a:off x="1937880" y="395460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427e7e"/>
                </a:gs>
                <a:gs pos="100000">
                  <a:srgbClr val="5eb4b4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21512"/>
            <p:cNvSpPr/>
            <p:nvPr/>
          </p:nvSpPr>
          <p:spPr>
            <a:xfrm rot="20601600">
              <a:off x="2946240" y="212544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702424"/>
                </a:gs>
                <a:gs pos="100000">
                  <a:srgbClr val="4b181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任意多边形 21513"/>
            <p:cNvSpPr/>
            <p:nvPr/>
          </p:nvSpPr>
          <p:spPr>
            <a:xfrm flipH="1" rot="20602200">
              <a:off x="1594440" y="2719440"/>
              <a:ext cx="2850840" cy="206712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e49514"/>
                </a:gs>
                <a:gs pos="100000">
                  <a:srgbClr val="6a450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21514"/>
            <p:cNvSpPr/>
            <p:nvPr/>
          </p:nvSpPr>
          <p:spPr>
            <a:xfrm>
              <a:off x="5687640" y="362268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6b70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21515"/>
            <p:cNvSpPr/>
            <p:nvPr/>
          </p:nvSpPr>
          <p:spPr>
            <a:xfrm rot="20539200">
              <a:off x="4732200" y="3011760"/>
              <a:ext cx="2728440" cy="18586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100000">
                  <a:srgbClr val="90a8b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21516"/>
            <p:cNvSpPr/>
            <p:nvPr/>
          </p:nvSpPr>
          <p:spPr>
            <a:xfrm>
              <a:off x="4698720" y="396252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87a80"/>
                </a:gs>
                <a:gs pos="100000">
                  <a:srgbClr val="90a8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椭圆 21517"/>
            <p:cNvSpPr/>
            <p:nvPr/>
          </p:nvSpPr>
          <p:spPr>
            <a:xfrm rot="20601600">
              <a:off x="3153960" y="29052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21518"/>
            <p:cNvSpPr/>
            <p:nvPr/>
          </p:nvSpPr>
          <p:spPr>
            <a:xfrm>
              <a:off x="21445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21519"/>
            <p:cNvSpPr/>
            <p:nvPr/>
          </p:nvSpPr>
          <p:spPr>
            <a:xfrm>
              <a:off x="40496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文本框 21520"/>
            <p:cNvSpPr/>
            <p:nvPr/>
          </p:nvSpPr>
          <p:spPr>
            <a:xfrm>
              <a:off x="58784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文本框 21521"/>
            <p:cNvSpPr/>
            <p:nvPr/>
          </p:nvSpPr>
          <p:spPr>
            <a:xfrm>
              <a:off x="55735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文本框 21522"/>
            <p:cNvSpPr/>
            <p:nvPr/>
          </p:nvSpPr>
          <p:spPr>
            <a:xfrm>
              <a:off x="33638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21523"/>
            <p:cNvSpPr/>
            <p:nvPr/>
          </p:nvSpPr>
          <p:spPr>
            <a:xfrm>
              <a:off x="4617720" y="4178520"/>
              <a:ext cx="86328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e9349">
                    <a:alpha val="19215"/>
                  </a:srgbClr>
                </a:gs>
                <a:gs pos="100000">
                  <a:srgbClr val="9eb7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椭圆 21524"/>
            <p:cNvSpPr/>
            <p:nvPr/>
          </p:nvSpPr>
          <p:spPr>
            <a:xfrm rot="20601600">
              <a:off x="3255840" y="3157560"/>
              <a:ext cx="258552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文本框 2152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组合 22530"/>
          <p:cNvGrpSpPr/>
          <p:nvPr/>
        </p:nvGrpSpPr>
        <p:grpSpPr>
          <a:xfrm>
            <a:off x="914400" y="1752480"/>
            <a:ext cx="7391160" cy="4724280"/>
            <a:chOff x="914400" y="1752480"/>
            <a:chExt cx="7391160" cy="4724280"/>
          </a:xfrm>
        </p:grpSpPr>
        <p:sp>
          <p:nvSpPr>
            <p:cNvPr id="661" name="上箭头 22531"/>
            <p:cNvSpPr/>
            <p:nvPr/>
          </p:nvSpPr>
          <p:spPr>
            <a:xfrm>
              <a:off x="1905120" y="2514600"/>
              <a:ext cx="5530680" cy="274320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圆角矩形 22532"/>
            <p:cNvSpPr/>
            <p:nvPr/>
          </p:nvSpPr>
          <p:spPr>
            <a:xfrm>
              <a:off x="1676520" y="1752480"/>
              <a:ext cx="57909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9349"/>
                </a:gs>
                <a:gs pos="50000">
                  <a:srgbClr val="a2ba8a"/>
                </a:gs>
                <a:gs pos="100000">
                  <a:srgbClr val="6e9349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文本框 22533"/>
            <p:cNvSpPr/>
            <p:nvPr/>
          </p:nvSpPr>
          <p:spPr>
            <a:xfrm>
              <a:off x="3656160" y="31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组合 22534"/>
            <p:cNvGrpSpPr/>
            <p:nvPr/>
          </p:nvGrpSpPr>
          <p:grpSpPr>
            <a:xfrm>
              <a:off x="914400" y="4387680"/>
              <a:ext cx="1486080" cy="1989000"/>
              <a:chOff x="914400" y="4387680"/>
              <a:chExt cx="1486080" cy="1989000"/>
            </a:xfrm>
          </p:grpSpPr>
          <p:grpSp>
            <p:nvGrpSpPr>
              <p:cNvPr id="665" name="组合 22535"/>
              <p:cNvGrpSpPr/>
              <p:nvPr/>
            </p:nvGrpSpPr>
            <p:grpSpPr>
              <a:xfrm>
                <a:off x="914400" y="4387680"/>
                <a:ext cx="1486080" cy="1514520"/>
                <a:chOff x="914400" y="4387680"/>
                <a:chExt cx="1486080" cy="1514520"/>
              </a:xfrm>
            </p:grpSpPr>
            <p:grpSp>
              <p:nvGrpSpPr>
                <p:cNvPr id="666" name="组合 22536"/>
                <p:cNvGrpSpPr/>
                <p:nvPr/>
              </p:nvGrpSpPr>
              <p:grpSpPr>
                <a:xfrm>
                  <a:off x="914400" y="4387680"/>
                  <a:ext cx="1486080" cy="1514520"/>
                  <a:chOff x="914400" y="4387680"/>
                  <a:chExt cx="1486080" cy="1514520"/>
                </a:xfrm>
              </p:grpSpPr>
              <p:sp>
                <p:nvSpPr>
                  <p:cNvPr id="667" name="椭圆 22537"/>
                  <p:cNvSpPr/>
                  <p:nvPr/>
                </p:nvSpPr>
                <p:spPr>
                  <a:xfrm>
                    <a:off x="914400" y="438768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49514"/>
                      </a:gs>
                      <a:gs pos="100000">
                        <a:srgbClr val="915f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任意多边形 22538"/>
                  <p:cNvSpPr/>
                  <p:nvPr/>
                </p:nvSpPr>
                <p:spPr>
                  <a:xfrm>
                    <a:off x="1084320" y="441252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4951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9" name="文本框 22539"/>
                <p:cNvSpPr/>
                <p:nvPr/>
              </p:nvSpPr>
              <p:spPr>
                <a:xfrm>
                  <a:off x="1072440" y="515880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椭圆 22540"/>
              <p:cNvSpPr/>
              <p:nvPr/>
            </p:nvSpPr>
            <p:spPr>
              <a:xfrm>
                <a:off x="1066680" y="598788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组合 22541"/>
            <p:cNvGrpSpPr/>
            <p:nvPr/>
          </p:nvGrpSpPr>
          <p:grpSpPr>
            <a:xfrm>
              <a:off x="6781680" y="4343400"/>
              <a:ext cx="1523880" cy="2066760"/>
              <a:chOff x="6781680" y="4343400"/>
              <a:chExt cx="1523880" cy="2066760"/>
            </a:xfrm>
          </p:grpSpPr>
          <p:grpSp>
            <p:nvGrpSpPr>
              <p:cNvPr id="672" name="组合 22542"/>
              <p:cNvGrpSpPr/>
              <p:nvPr/>
            </p:nvGrpSpPr>
            <p:grpSpPr>
              <a:xfrm>
                <a:off x="6781680" y="4343400"/>
                <a:ext cx="1523880" cy="1531800"/>
                <a:chOff x="6781680" y="4343400"/>
                <a:chExt cx="1523880" cy="1531800"/>
              </a:xfrm>
            </p:grpSpPr>
            <p:grpSp>
              <p:nvGrpSpPr>
                <p:cNvPr id="673" name="组合 22543"/>
                <p:cNvGrpSpPr/>
                <p:nvPr/>
              </p:nvGrpSpPr>
              <p:grpSpPr>
                <a:xfrm>
                  <a:off x="6781680" y="4343400"/>
                  <a:ext cx="1523880" cy="1531800"/>
                  <a:chOff x="6781680" y="4343400"/>
                  <a:chExt cx="1523880" cy="1531800"/>
                </a:xfrm>
              </p:grpSpPr>
              <p:sp>
                <p:nvSpPr>
                  <p:cNvPr id="674" name="椭圆 22544"/>
                  <p:cNvSpPr/>
                  <p:nvPr/>
                </p:nvSpPr>
                <p:spPr>
                  <a:xfrm>
                    <a:off x="6781680" y="434340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0a8b0"/>
                      </a:gs>
                      <a:gs pos="100000">
                        <a:srgbClr val="2329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任意多边形 22545"/>
                  <p:cNvSpPr/>
                  <p:nvPr/>
                </p:nvSpPr>
                <p:spPr>
                  <a:xfrm>
                    <a:off x="6955920" y="436860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0a8b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6" name="文本框 22546"/>
                <p:cNvSpPr/>
                <p:nvPr/>
              </p:nvSpPr>
              <p:spPr>
                <a:xfrm>
                  <a:off x="6924600" y="505728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椭圆 22547"/>
              <p:cNvSpPr/>
              <p:nvPr/>
            </p:nvSpPr>
            <p:spPr>
              <a:xfrm>
                <a:off x="6824520" y="592308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组合 22548"/>
            <p:cNvGrpSpPr/>
            <p:nvPr/>
          </p:nvGrpSpPr>
          <p:grpSpPr>
            <a:xfrm>
              <a:off x="2819520" y="4387680"/>
              <a:ext cx="1523880" cy="2089080"/>
              <a:chOff x="2819520" y="4387680"/>
              <a:chExt cx="1523880" cy="2089080"/>
            </a:xfrm>
          </p:grpSpPr>
          <p:grpSp>
            <p:nvGrpSpPr>
              <p:cNvPr id="679" name="组合 22549"/>
              <p:cNvGrpSpPr/>
              <p:nvPr/>
            </p:nvGrpSpPr>
            <p:grpSpPr>
              <a:xfrm>
                <a:off x="2819520" y="4387680"/>
                <a:ext cx="1523880" cy="1521000"/>
                <a:chOff x="2819520" y="4387680"/>
                <a:chExt cx="1523880" cy="1521000"/>
              </a:xfrm>
            </p:grpSpPr>
            <p:sp>
              <p:nvSpPr>
                <p:cNvPr id="680" name="椭圆 22550"/>
                <p:cNvSpPr/>
                <p:nvPr/>
              </p:nvSpPr>
              <p:spPr>
                <a:xfrm>
                  <a:off x="2819520" y="43876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9349"/>
                    </a:gs>
                    <a:gs pos="100000">
                      <a:srgbClr val="394c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任意多边形 22551"/>
                <p:cNvSpPr/>
                <p:nvPr/>
              </p:nvSpPr>
              <p:spPr>
                <a:xfrm>
                  <a:off x="2993760" y="44128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9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2" name="文本框 22552"/>
              <p:cNvSpPr/>
              <p:nvPr/>
            </p:nvSpPr>
            <p:spPr>
              <a:xfrm>
                <a:off x="2895840" y="51177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22553"/>
              <p:cNvSpPr/>
              <p:nvPr/>
            </p:nvSpPr>
            <p:spPr>
              <a:xfrm>
                <a:off x="2819520" y="598788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22554"/>
            <p:cNvGrpSpPr/>
            <p:nvPr/>
          </p:nvGrpSpPr>
          <p:grpSpPr>
            <a:xfrm>
              <a:off x="4876920" y="4343400"/>
              <a:ext cx="1523880" cy="2089080"/>
              <a:chOff x="4876920" y="4343400"/>
              <a:chExt cx="1523880" cy="2089080"/>
            </a:xfrm>
          </p:grpSpPr>
          <p:grpSp>
            <p:nvGrpSpPr>
              <p:cNvPr id="685" name="组合 22555"/>
              <p:cNvGrpSpPr/>
              <p:nvPr/>
            </p:nvGrpSpPr>
            <p:grpSpPr>
              <a:xfrm>
                <a:off x="4876920" y="4343400"/>
                <a:ext cx="1523880" cy="1521000"/>
                <a:chOff x="4876920" y="4343400"/>
                <a:chExt cx="1523880" cy="1521000"/>
              </a:xfrm>
            </p:grpSpPr>
            <p:sp>
              <p:nvSpPr>
                <p:cNvPr id="686" name="椭圆 22556"/>
                <p:cNvSpPr/>
                <p:nvPr/>
              </p:nvSpPr>
              <p:spPr>
                <a:xfrm>
                  <a:off x="4876920" y="434340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b4b4"/>
                    </a:gs>
                    <a:gs pos="100000">
                      <a:srgbClr val="305c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任意多边形 22557"/>
                <p:cNvSpPr/>
                <p:nvPr/>
              </p:nvSpPr>
              <p:spPr>
                <a:xfrm>
                  <a:off x="5051160" y="43686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eb4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文本框 22558"/>
              <p:cNvSpPr/>
              <p:nvPr/>
            </p:nvSpPr>
            <p:spPr>
              <a:xfrm>
                <a:off x="4953240" y="5073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22559"/>
              <p:cNvSpPr/>
              <p:nvPr/>
            </p:nvSpPr>
            <p:spPr>
              <a:xfrm>
                <a:off x="4876920" y="594360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6560" y="293400"/>
            <a:ext cx="3083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512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512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41" name="圆角矩形 512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9514"/>
                </a:gs>
                <a:gs pos="50000">
                  <a:srgbClr val="f9e9cd"/>
                </a:gs>
                <a:gs pos="100000">
                  <a:srgbClr val="e49514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菱形 512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4951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512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5127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512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46" name="圆角矩形 512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b4b4"/>
                </a:gs>
                <a:gs pos="50000">
                  <a:srgbClr val="ddefef"/>
                </a:gs>
                <a:gs pos="100000">
                  <a:srgbClr val="5eb4b4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菱形 513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5eb4b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513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5132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513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51" name="圆角矩形 513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9349"/>
                </a:gs>
                <a:gs pos="50000">
                  <a:srgbClr val="e0e8d8"/>
                </a:gs>
                <a:gs pos="100000">
                  <a:srgbClr val="6e934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菱形 513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934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513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5137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513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56" name="圆角矩形 513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菱形 514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514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5142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5F94-8BAF-4F81-80BB-0532DD25DB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矩形 23553"/>
          <p:cNvSpPr txBox="1"/>
          <p:nvPr/>
        </p:nvSpPr>
        <p:spPr>
          <a:xfrm>
            <a:off x="4114800" y="411480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702424"/>
                    </a:gs>
                    <a:gs pos="100000">
                      <a:srgbClr val="5eb4b4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702424"/>
                  </a:gs>
                  <a:gs pos="100000">
                    <a:srgbClr val="5eb4b4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3852360" y="4815720"/>
            <a:ext cx="3048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02424"/>
              </a:solidFill>
              <a:latin typeface="Verdana"/>
            </a:endParaRPr>
          </a:p>
        </p:txBody>
      </p:sp>
      <p:sp>
        <p:nvSpPr>
          <p:cNvPr id="697" name="页脚占位符 1"/>
          <p:cNvSpPr/>
          <p:nvPr/>
        </p:nvSpPr>
        <p:spPr>
          <a:xfrm>
            <a:off x="3200400" y="66135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8520" y="1143000"/>
            <a:ext cx="7775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e93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70242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242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5eb4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242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5eb4b4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70242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5eb4b4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70242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5eb4b4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70242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5eb4b4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702424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702424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0242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147"/>
          <p:cNvSpPr/>
          <p:nvPr/>
        </p:nvSpPr>
        <p:spPr>
          <a:xfrm>
            <a:off x="1523880" y="53341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tle Image : 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717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67" name="圆角矩形 7171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7172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任意多边形 7173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49514"/>
              </a:gs>
              <a:gs pos="100000">
                <a:srgbClr val="eebc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174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7175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72" name="组合 7176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73" name="组合 7177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4" name="椭圆 7178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9349"/>
                    </a:gs>
                    <a:gs pos="100000">
                      <a:srgbClr val="3547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椭圆 7179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cfae"/>
                    </a:gs>
                    <a:gs pos="100000">
                      <a:srgbClr val="6e934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椭圆 7180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b5353"/>
                  </a:gs>
                  <a:gs pos="100000">
                    <a:srgbClr val="5eb4b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7181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5eb4b4">
                      <a:alpha val="0"/>
                    </a:srgbClr>
                  </a:gs>
                  <a:gs pos="100000">
                    <a:srgbClr val="c7e5e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7182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a8f8f"/>
                  </a:gs>
                  <a:gs pos="100000">
                    <a:srgbClr val="5eb4b4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7183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eb4b4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文本框 7184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7185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2" name="圆角矩形 7186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文本框 7187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任意多边形 718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9349"/>
              </a:gs>
              <a:gs pos="100000">
                <a:srgbClr val="d1dd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8194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88" name="任意多边形 8195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8196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e9349"/>
                </a:gs>
                <a:gs pos="100000">
                  <a:srgbClr val="2633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8197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eb4b4"/>
                </a:gs>
                <a:gs pos="100000">
                  <a:srgbClr val="1d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8198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49514"/>
                </a:gs>
                <a:gs pos="100000">
                  <a:srgbClr val="5135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8199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8200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8201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8202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8203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8204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8205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206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01" name="直接连接符 8207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3" name="直接箭头连接符 8208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04" name="文本框 8209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文本框 8210"/>
          <p:cNvSpPr/>
          <p:nvPr/>
        </p:nvSpPr>
        <p:spPr>
          <a:xfrm>
            <a:off x="838080" y="14479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 u="sng">
                <a:solidFill>
                  <a:srgbClr val="6e9349"/>
                </a:solidFill>
                <a:uFillTx/>
                <a:latin typeface="Arial"/>
                <a:ea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9218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9" name="圆柱形 9219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圆柱形 9220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圆柱形 9221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9222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9223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9224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左箭头 9225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圆角矩形 9226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9227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圆角矩形 9228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9229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右箭头 9230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柱形 9231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b5353"/>
                </a:gs>
                <a:gs pos="50000">
                  <a:srgbClr val="5eb4b4"/>
                </a:gs>
                <a:gs pos="100000">
                  <a:srgbClr val="2b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上箭头 9232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9233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圆柱形 9234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4422"/>
                </a:gs>
                <a:gs pos="50000">
                  <a:srgbClr val="6e9349"/>
                </a:gs>
                <a:gs pos="100000">
                  <a:srgbClr val="3344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9235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下箭头 9236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923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10242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1" name="组合 10243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32" name="上箭头 10244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702424"/>
                  </a:gs>
                  <a:gs pos="100000">
                    <a:srgbClr val="c7a9a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上箭头 10245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702424"/>
                  </a:gs>
                  <a:gs pos="100000">
                    <a:srgbClr val="c7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上箭头 10246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702424"/>
                  </a:gs>
                  <a:gs pos="100000">
                    <a:srgbClr val="c7a9a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椭圆 10247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椭圆 10248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椭圆 10249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934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椭圆 10250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椭圆 10251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c5028"/>
                  </a:gs>
                  <a:gs pos="50000">
                    <a:srgbClr val="6e9349"/>
                  </a:gs>
                  <a:gs pos="100000">
                    <a:srgbClr val="3c502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椭圆 10252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圆柱形 10253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圆柱形 10254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圆柱形 10255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圆柱形 10256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b5353"/>
                </a:gs>
                <a:gs pos="50000">
                  <a:srgbClr val="5eb4b4"/>
                </a:gs>
                <a:gs pos="100000">
                  <a:srgbClr val="2b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圆柱形 10257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b5353"/>
                </a:gs>
                <a:gs pos="50000">
                  <a:srgbClr val="5eb4b4"/>
                </a:gs>
                <a:gs pos="100000">
                  <a:srgbClr val="2b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圆柱形 10258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b5353"/>
                </a:gs>
                <a:gs pos="50000">
                  <a:srgbClr val="5eb4b4"/>
                </a:gs>
                <a:gs pos="100000">
                  <a:srgbClr val="2b53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10259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角矩形 10260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10261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10262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10263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10264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0265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0266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1266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grpSp>
          <p:nvGrpSpPr>
            <p:cNvPr id="258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59" name="直接连接符 11267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872640" y="4783320"/>
              <a:ext cx="2438640" cy="360"/>
              <a:chOff x="872640" y="4783320"/>
              <a:chExt cx="2438640" cy="360"/>
            </a:xfrm>
          </p:grpSpPr>
          <p:sp>
            <p:nvSpPr>
              <p:cNvPr id="262" name="直接连接符 11268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873000" y="47833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872640" y="3953160"/>
              <a:ext cx="3353040" cy="360"/>
              <a:chOff x="872640" y="3953160"/>
              <a:chExt cx="3353040" cy="360"/>
            </a:xfrm>
          </p:grpSpPr>
          <p:sp>
            <p:nvSpPr>
              <p:cNvPr id="265" name="直接连接符 11269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873000" y="3953160"/>
                <a:ext cx="335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872640" y="3124440"/>
              <a:ext cx="4165920" cy="360"/>
              <a:chOff x="872640" y="3124440"/>
              <a:chExt cx="4165920" cy="360"/>
            </a:xfrm>
          </p:grpSpPr>
          <p:sp>
            <p:nvSpPr>
              <p:cNvPr id="268" name="直接连接符 11270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873000" y="312444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72640" y="2282760"/>
              <a:ext cx="5033880" cy="360"/>
              <a:chOff x="872640" y="2282760"/>
              <a:chExt cx="5033880" cy="360"/>
            </a:xfrm>
          </p:grpSpPr>
          <p:sp>
            <p:nvSpPr>
              <p:cNvPr id="271" name="直接连接符 11271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 rot="10800000">
                <a:off x="872640" y="2282400"/>
                <a:ext cx="503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025280" y="2276640"/>
              <a:ext cx="360" cy="871560"/>
              <a:chOff x="1025280" y="2276640"/>
              <a:chExt cx="360" cy="871560"/>
            </a:xfrm>
          </p:grpSpPr>
          <p:sp>
            <p:nvSpPr>
              <p:cNvPr id="274" name="直接连接符 11272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1025280" y="227664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025280" y="3148200"/>
              <a:ext cx="360" cy="817560"/>
              <a:chOff x="1025280" y="3148200"/>
              <a:chExt cx="360" cy="817560"/>
            </a:xfrm>
          </p:grpSpPr>
          <p:sp>
            <p:nvSpPr>
              <p:cNvPr id="277" name="直接连接符 11273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1025280" y="314820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025280" y="3965760"/>
              <a:ext cx="360" cy="816120"/>
              <a:chOff x="1025280" y="3965760"/>
              <a:chExt cx="360" cy="816120"/>
            </a:xfrm>
          </p:grpSpPr>
          <p:sp>
            <p:nvSpPr>
              <p:cNvPr id="280" name="直接连接符 11274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1025280" y="39657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025280" y="4783320"/>
              <a:ext cx="360" cy="816120"/>
              <a:chOff x="1025280" y="4783320"/>
              <a:chExt cx="360" cy="816120"/>
            </a:xfrm>
          </p:grpSpPr>
          <p:sp>
            <p:nvSpPr>
              <p:cNvPr id="283" name="直接连接符 11275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1025280" y="47833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文本框 11276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11277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11278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文本框 11279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组合 11280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90" name="任意多边形 11281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4509"/>
                  </a:gs>
                  <a:gs pos="50000">
                    <a:srgbClr val="e49514"/>
                  </a:gs>
                  <a:gs pos="100000">
                    <a:srgbClr val="6a450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任意多边形 11282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e49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任意多边形 11283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4422"/>
                  </a:gs>
                  <a:gs pos="50000">
                    <a:srgbClr val="6e9349"/>
                  </a:gs>
                  <a:gs pos="100000">
                    <a:srgbClr val="33442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任意多边形 11284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6e9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任意多边形 11285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e51"/>
                  </a:gs>
                  <a:gs pos="50000">
                    <a:srgbClr val="90a8b0"/>
                  </a:gs>
                  <a:gs pos="100000">
                    <a:srgbClr val="434e5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任意多边形 11286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b5353"/>
                  </a:gs>
                  <a:gs pos="50000">
                    <a:srgbClr val="5eb4b4"/>
                  </a:gs>
                  <a:gs pos="100000">
                    <a:srgbClr val="2b53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任意多边形 11287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5e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任意多边形 11288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1289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a56c0f"/>
                  </a:gs>
                  <a:gs pos="50000">
                    <a:srgbClr val="e49514"/>
                  </a:gs>
                  <a:gs pos="100000">
                    <a:srgbClr val="a56c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矩形 11290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506b35"/>
                  </a:gs>
                  <a:gs pos="50000">
                    <a:srgbClr val="6e9349"/>
                  </a:gs>
                  <a:gs pos="100000">
                    <a:srgbClr val="506b3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任意多边形 11291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矩形 11292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87a80"/>
                  </a:gs>
                  <a:gs pos="50000">
                    <a:srgbClr val="90a8b0"/>
                  </a:gs>
                  <a:gs pos="100000">
                    <a:srgbClr val="687a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矩形 11293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448383"/>
                  </a:gs>
                  <a:gs pos="50000">
                    <a:srgbClr val="5eb4b4"/>
                  </a:gs>
                  <a:gs pos="100000">
                    <a:srgbClr val="44838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12290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306" name="任意多边形 12291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7b9d59">
                    <a:alpha val="32156"/>
                  </a:srgbClr>
                </a:gs>
                <a:gs pos="100000">
                  <a:srgbClr val="6e93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12292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49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圆角矩形 12293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a4509"/>
                </a:gs>
                <a:gs pos="50000">
                  <a:srgbClr val="e49514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八边形 12294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八边形 12295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圆角矩形 12296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e93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圆角矩形 12297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4422"/>
                </a:gs>
                <a:gs pos="50000">
                  <a:srgbClr val="6e934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八边形 12298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八边形 12299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12300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fcdd1">
                    <a:alpha val="32156"/>
                  </a:srgbClr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12301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12302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组合 12303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19" name="圆角矩形 12304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0a8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圆角矩形 12305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84144"/>
                  </a:gs>
                  <a:gs pos="50000">
                    <a:srgbClr val="90a8b0"/>
                  </a:gs>
                  <a:gs pos="100000">
                    <a:srgbClr val="3841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八边形 12306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八边形 12307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文本框 12308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文本框 12309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文本框 12310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12311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7:20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