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6BF7-F8A1-4D19-AD69-4C0ED676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668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687680" y="4010760"/>
            <a:ext cx="668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BBD-494D-47A5-988A-9FA73B37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687680" y="401076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112360" y="401076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A8DE-D5E8-4AAE-ABC0-325FBA40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47400" y="198072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07120" y="198072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687680" y="401076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947400" y="401076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207120" y="401076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9399-70CF-4446-9513-ED8C6EE0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4C96-F832-431E-9FA4-B84956F0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687680" y="1980720"/>
            <a:ext cx="6683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11CD-8499-4D0F-B1DE-0EC4F810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668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77AD-DAB4-4FAF-A219-B9DE480F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F736-4220-4843-A9CB-E2CF0A51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1F1B-6885-40FD-B47E-F8FFE715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687320" y="914400"/>
            <a:ext cx="6700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5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1E7C-E852-48DF-AFDE-ED58A6F5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687680" y="401076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411E-E560-4064-8305-674AE78F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1687680" y="1980720"/>
            <a:ext cx="6683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2B4C-8E30-4F75-98EF-C4738CD7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12360" y="401076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F46E-6D3C-4BFA-A623-142F306C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687680" y="4010760"/>
            <a:ext cx="668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1AE2-1CA2-400E-B0DC-82A3D6F5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668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687680" y="4010760"/>
            <a:ext cx="668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85AE-7327-434B-A4E4-B26F85F5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687680" y="401076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12360" y="401076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625C-7B8B-41EE-A632-9CB461EF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947400" y="198072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07120" y="198072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687680" y="401076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947400" y="401076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207120" y="401076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4A24-D121-4959-9C5B-F262513C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14D71-E1C2-43D1-B232-677A4FEC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87680" y="1980720"/>
            <a:ext cx="6683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32919-B817-4063-B51E-8EB1D9C4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668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7DD0E-496E-4A83-AE3C-EC608643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986A2-06EA-4D4C-B3E6-B32DA63D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97702-6ED6-43CB-855D-9F916C2C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668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7CAA-EED2-4FA5-A933-8A972CDA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687320" y="914400"/>
            <a:ext cx="6700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5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0F3AC-F0AA-4D03-878F-CF815E49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687680" y="401076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0CB9B-4C06-462D-AD69-0EB4E0A0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112360" y="401076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0EEA3-509F-4A0E-B02B-B9B7E474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687680" y="4010760"/>
            <a:ext cx="668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5FC87-97B5-4838-96A9-9C21C731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668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687680" y="4010760"/>
            <a:ext cx="668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8DAD0-C49E-4190-B8D2-E39373B3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687680" y="401076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112360" y="401076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0E4FB-5F1D-4FC2-BE1B-BE22543B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947400" y="198072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07120" y="198072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687680" y="401076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947400" y="401076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207120" y="401076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FD44D-5890-4DC4-8B3C-7CD00F33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BC9A-4412-4B23-8A4E-0786990A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589B-5E46-4500-A9B0-B62018FB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687320" y="914400"/>
            <a:ext cx="6700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5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A3F-D979-40E1-AB2A-ABFA8C61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87680" y="401076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06A3-ACF6-4BC8-9282-32CBC430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112360" y="401076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3AB3-5420-47D7-BE9A-4996B7B8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687680" y="4010760"/>
            <a:ext cx="668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DD20-BD23-4A02-A3CA-E0A04CC0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828800"/>
            <a:ext cx="1687680" cy="5029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85800"/>
            <a:ext cx="914256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2200" cy="593640"/>
            <a:chOff x="0" y="0"/>
            <a:chExt cx="9142200" cy="593640"/>
          </a:xfrm>
        </p:grpSpPr>
        <p:sp>
          <p:nvSpPr>
            <p:cNvPr id="3" name="Rectangle 5"/>
            <p:cNvSpPr/>
            <p:nvPr/>
          </p:nvSpPr>
          <p:spPr>
            <a:xfrm>
              <a:off x="1688040" y="0"/>
              <a:ext cx="7454160" cy="557280"/>
            </a:xfrm>
            <a:prstGeom prst="rect">
              <a:avLst/>
            </a:prstGeom>
            <a:solidFill>
              <a:srgbClr val="2d9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477720"/>
              <a:ext cx="2862360" cy="115920"/>
            </a:xfrm>
            <a:prstGeom prst="rect">
              <a:avLst/>
            </a:prstGeom>
            <a:solidFill>
              <a:srgbClr val="2d9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" name="Group 7"/>
          <p:cNvGrpSpPr/>
          <p:nvPr/>
        </p:nvGrpSpPr>
        <p:grpSpPr>
          <a:xfrm>
            <a:off x="0" y="177840"/>
            <a:ext cx="9142560" cy="557280"/>
            <a:chOff x="0" y="177840"/>
            <a:chExt cx="9142560" cy="557280"/>
          </a:xfrm>
        </p:grpSpPr>
        <p:sp>
          <p:nvSpPr>
            <p:cNvPr id="6" name="Rectangle 8"/>
            <p:cNvSpPr/>
            <p:nvPr/>
          </p:nvSpPr>
          <p:spPr>
            <a:xfrm>
              <a:off x="0" y="557280"/>
              <a:ext cx="9142560" cy="17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408160" y="177840"/>
              <a:ext cx="734040" cy="43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8" name="Picture 10" descr="C:\WINDOWS\Profiles\apple\Application Data\Microsoft\Media Catalog\bg06-2a.emf"/>
          <p:cNvPicPr/>
          <p:nvPr/>
        </p:nvPicPr>
        <p:blipFill>
          <a:blip r:embed="rId2"/>
          <a:stretch/>
        </p:blipFill>
        <p:spPr>
          <a:xfrm>
            <a:off x="8651880" y="247680"/>
            <a:ext cx="301680" cy="409680"/>
          </a:xfrm>
          <a:prstGeom prst="rect">
            <a:avLst/>
          </a:prstGeom>
          <a:ln w="0">
            <a:noFill/>
          </a:ln>
        </p:spPr>
      </p:pic>
      <p:grpSp>
        <p:nvGrpSpPr>
          <p:cNvPr id="9" name=""/>
          <p:cNvGrpSpPr/>
          <p:nvPr/>
        </p:nvGrpSpPr>
        <p:grpSpPr>
          <a:xfrm>
            <a:off x="1687680" y="1828800"/>
            <a:ext cx="7456320" cy="360"/>
            <a:chOff x="1687680" y="1828800"/>
            <a:chExt cx="7456320" cy="360"/>
          </a:xfrm>
        </p:grpSpPr>
        <p:sp>
          <p:nvSpPr>
            <p:cNvPr id="10" name="Line 11"/>
            <p:cNvSpPr/>
            <p:nvPr/>
          </p:nvSpPr>
          <p:spPr>
            <a:xfrm>
              <a:off x="1687680" y="1828800"/>
              <a:ext cx="74563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" name=""/>
            <p:cNvSpPr txBox="1"/>
            <p:nvPr/>
          </p:nvSpPr>
          <p:spPr>
            <a:xfrm>
              <a:off x="1687680" y="1828800"/>
              <a:ext cx="745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1687680" y="1828800"/>
            <a:ext cx="360" cy="5029200"/>
            <a:chOff x="1687680" y="1828800"/>
            <a:chExt cx="360" cy="5029200"/>
          </a:xfrm>
        </p:grpSpPr>
        <p:sp>
          <p:nvSpPr>
            <p:cNvPr id="13" name="Line 12"/>
            <p:cNvSpPr/>
            <p:nvPr/>
          </p:nvSpPr>
          <p:spPr>
            <a:xfrm>
              <a:off x="1687680" y="1828800"/>
              <a:ext cx="0" cy="5029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" name=""/>
            <p:cNvSpPr txBox="1"/>
            <p:nvPr/>
          </p:nvSpPr>
          <p:spPr>
            <a:xfrm>
              <a:off x="1687680" y="1828800"/>
              <a:ext cx="360" cy="502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0" y="6629400"/>
            <a:ext cx="9144000" cy="360"/>
            <a:chOff x="0" y="6629400"/>
            <a:chExt cx="9144000" cy="360"/>
          </a:xfrm>
        </p:grpSpPr>
        <p:sp>
          <p:nvSpPr>
            <p:cNvPr id="16" name="Line 13"/>
            <p:cNvSpPr/>
            <p:nvPr/>
          </p:nvSpPr>
          <p:spPr>
            <a:xfrm>
              <a:off x="0" y="66294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" name=""/>
            <p:cNvSpPr txBox="1"/>
            <p:nvPr/>
          </p:nvSpPr>
          <p:spPr>
            <a:xfrm>
              <a:off x="0" y="66294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96a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1687680" y="1980720"/>
            <a:ext cx="668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dt" idx="1"/>
          </p:nvPr>
        </p:nvSpPr>
        <p:spPr>
          <a:xfrm>
            <a:off x="1758600" y="6122880"/>
            <a:ext cx="163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ftr" idx="2"/>
          </p:nvPr>
        </p:nvSpPr>
        <p:spPr>
          <a:xfrm>
            <a:off x="3411360" y="6124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sldNum" idx="3"/>
          </p:nvPr>
        </p:nvSpPr>
        <p:spPr>
          <a:xfrm>
            <a:off x="6323040" y="6122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보람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0E72-A260-469A-98F6-809D3CF1F412}" type="slidenum">
              <a:rPr b="0" lang="en-US" sz="1400" spc="-1" strike="noStrike">
                <a:solidFill>
                  <a:srgbClr val="000000"/>
                </a:solidFill>
                <a:latin typeface="-보람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0" y="0"/>
            <a:ext cx="9142200" cy="593640"/>
            <a:chOff x="0" y="0"/>
            <a:chExt cx="9142200" cy="593640"/>
          </a:xfrm>
        </p:grpSpPr>
        <p:sp>
          <p:nvSpPr>
            <p:cNvPr id="60" name="Rectangle 3"/>
            <p:cNvSpPr/>
            <p:nvPr/>
          </p:nvSpPr>
          <p:spPr>
            <a:xfrm>
              <a:off x="1688040" y="0"/>
              <a:ext cx="7454160" cy="557280"/>
            </a:xfrm>
            <a:prstGeom prst="rect">
              <a:avLst/>
            </a:pr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" name="Rectangle 4"/>
            <p:cNvSpPr/>
            <p:nvPr/>
          </p:nvSpPr>
          <p:spPr>
            <a:xfrm>
              <a:off x="0" y="477720"/>
              <a:ext cx="2862360" cy="115920"/>
            </a:xfrm>
            <a:prstGeom prst="rect">
              <a:avLst/>
            </a:pr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2" name="Rectangle 5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3" name="Group 6"/>
          <p:cNvGrpSpPr/>
          <p:nvPr/>
        </p:nvGrpSpPr>
        <p:grpSpPr>
          <a:xfrm>
            <a:off x="0" y="177840"/>
            <a:ext cx="9142560" cy="557280"/>
            <a:chOff x="0" y="177840"/>
            <a:chExt cx="9142560" cy="557280"/>
          </a:xfrm>
        </p:grpSpPr>
        <p:sp>
          <p:nvSpPr>
            <p:cNvPr id="64" name="Rectangle 7"/>
            <p:cNvSpPr/>
            <p:nvPr/>
          </p:nvSpPr>
          <p:spPr>
            <a:xfrm>
              <a:off x="0" y="557280"/>
              <a:ext cx="9142560" cy="17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" name="Rectangle 8"/>
            <p:cNvSpPr/>
            <p:nvPr/>
          </p:nvSpPr>
          <p:spPr>
            <a:xfrm>
              <a:off x="8401680" y="177840"/>
              <a:ext cx="740520" cy="43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66" name="Picture 9" descr="C:\WINDOWS\Profiles\apple\Application Data\Microsoft\Media Catalog\bg06-1a.emf"/>
          <p:cNvPicPr/>
          <p:nvPr/>
        </p:nvPicPr>
        <p:blipFill>
          <a:blip r:embed="rId2"/>
          <a:stretch/>
        </p:blipFill>
        <p:spPr>
          <a:xfrm>
            <a:off x="8651880" y="304920"/>
            <a:ext cx="289080" cy="26676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1687680" y="2286000"/>
            <a:ext cx="7456320" cy="360"/>
            <a:chOff x="1687680" y="2286000"/>
            <a:chExt cx="7456320" cy="360"/>
          </a:xfrm>
        </p:grpSpPr>
        <p:sp>
          <p:nvSpPr>
            <p:cNvPr id="68" name="Line 10"/>
            <p:cNvSpPr/>
            <p:nvPr/>
          </p:nvSpPr>
          <p:spPr>
            <a:xfrm>
              <a:off x="1687680" y="2286000"/>
              <a:ext cx="7456320" cy="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1687680" y="2286000"/>
              <a:ext cx="745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687680" y="2286000"/>
            <a:ext cx="360" cy="4572000"/>
            <a:chOff x="1687680" y="2286000"/>
            <a:chExt cx="360" cy="4572000"/>
          </a:xfrm>
        </p:grpSpPr>
        <p:sp>
          <p:nvSpPr>
            <p:cNvPr id="71" name="Line 11"/>
            <p:cNvSpPr/>
            <p:nvPr/>
          </p:nvSpPr>
          <p:spPr>
            <a:xfrm>
              <a:off x="1687680" y="2286000"/>
              <a:ext cx="0" cy="457200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1687680" y="2286000"/>
              <a:ext cx="360" cy="457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0" y="6629400"/>
            <a:ext cx="9144000" cy="360"/>
            <a:chOff x="0" y="6629400"/>
            <a:chExt cx="9144000" cy="360"/>
          </a:xfrm>
        </p:grpSpPr>
        <p:sp>
          <p:nvSpPr>
            <p:cNvPr id="74" name="Line 12"/>
            <p:cNvSpPr/>
            <p:nvPr/>
          </p:nvSpPr>
          <p:spPr>
            <a:xfrm>
              <a:off x="0" y="66294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0" y="66294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96a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687680" y="1980720"/>
            <a:ext cx="668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2027160" y="612468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4029120" y="612468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943320" y="6124680"/>
            <a:ext cx="190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보람M"/>
                <a:ea typeface="-보람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DEF7-0EFE-4AC5-BE7F-ECCF33220C99}" type="slidenum">
              <a:rPr b="0" lang="en-US" sz="1400" spc="-1" strike="noStrike">
                <a:solidFill>
                  <a:srgbClr val="000000"/>
                </a:solidFill>
                <a:latin typeface="-보람M"/>
                <a:ea typeface="-보람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EA03-6EA9-40B9-B3A5-8FC789D4D9C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A417-268A-4E03-AEE2-4C40EDFEA5C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文本框 4097"/>
          <p:cNvSpPr/>
          <p:nvPr/>
        </p:nvSpPr>
        <p:spPr>
          <a:xfrm>
            <a:off x="108000" y="6165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文本框 4098"/>
          <p:cNvSpPr/>
          <p:nvPr/>
        </p:nvSpPr>
        <p:spPr>
          <a:xfrm>
            <a:off x="1806840" y="126828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Gulim"/>
              </a:rPr>
              <a:t>简洁工作汇报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Gulim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Gulim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BE09-5131-47DE-9D03-ADCD67B6DB0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668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5123"/>
          <p:cNvSpPr/>
          <p:nvPr/>
        </p:nvSpPr>
        <p:spPr>
          <a:xfrm>
            <a:off x="2556000" y="3933720"/>
            <a:ext cx="504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Gulim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Gulim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4T02:41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16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