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0964-FBD5-44BD-950D-CAA1436E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0A13-3652-4679-AE4F-2FA3A270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FB3-E4FC-4714-BF66-686F9886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4290-66DD-470C-AE53-289F1DAB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104F-7BFF-4E3A-A7A4-CEF7D13C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BAA1-2596-47A8-8C20-A12E407E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2331-BF99-4216-A597-A063353D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C80A-C805-49F8-9714-63E38C4C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785B-93BA-4E56-8866-DA347FC0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0DF5-0818-450D-BD5D-9DBE1501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BC20-8D5F-4630-8B09-43EDAF86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015-1939-4C58-B40F-B0F28159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E095-CC7C-451F-B363-3159F365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458F-B68F-4CC5-A1E8-EDCB320A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4627-0A98-4597-B77A-CE80452B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3880-5363-4D1A-9535-A386F21F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7EB8-50FF-422A-B53B-3E049794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7FFD0-08A1-4C13-9102-7E42C6B8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26E10-D466-4D88-9F86-0FA854C9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2CB45-F933-45E0-92DF-6CFBE075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6BDE3-408A-48E6-8EB8-FBCA3800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E4C97-AD65-42DD-AA70-92EA2FBF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654E-7ECC-4351-8028-A142695A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DBB30-C16C-4ECA-8EC0-B213C635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81404-8E36-4190-BEC0-5ADEF29C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33321-8EE4-4393-AD97-46E1A64A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EE9EA-894C-430E-B95D-A8955F8C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B8E37-EF39-437F-BC13-3E2C4651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B0C93-482B-4B81-B644-E20D5ADC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83B1A-70D7-46F5-8FE3-59FF6F9B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7458-7328-4D70-8EEA-BE965EE9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90FA-A497-4738-874E-1902B90D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038B-7370-4794-80C6-61ACDD98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18B-0306-494A-9ED6-4108A630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67F-6BA4-434E-BBE6-B6EAF994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1EF-1FE0-4D4C-BFC4-1CFE2ACF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abcb5"/>
            </a:gs>
            <a:gs pos="100000">
              <a:srgbClr val="686b5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025"/>
          <p:cNvSpPr/>
          <p:nvPr/>
        </p:nvSpPr>
        <p:spPr>
          <a:xfrm>
            <a:off x="-12600" y="787320"/>
            <a:ext cx="9156600" cy="6070680"/>
          </a:xfrm>
          <a:custGeom>
            <a:avLst/>
            <a:gdLst/>
            <a:ahLst/>
            <a:rect l="l" t="t" r="r" b="b"/>
            <a:pathLst>
              <a:path w="5768" h="3824">
                <a:moveTo>
                  <a:pt x="4" y="25"/>
                </a:moveTo>
                <a:cubicBezTo>
                  <a:pt x="98" y="70"/>
                  <a:pt x="205" y="103"/>
                  <a:pt x="205" y="106"/>
                </a:cubicBezTo>
                <a:cubicBezTo>
                  <a:pt x="205" y="109"/>
                  <a:pt x="130" y="439"/>
                  <a:pt x="536" y="576"/>
                </a:cubicBezTo>
                <a:cubicBezTo>
                  <a:pt x="942" y="712"/>
                  <a:pt x="1586" y="475"/>
                  <a:pt x="1880" y="360"/>
                </a:cubicBezTo>
                <a:cubicBezTo>
                  <a:pt x="2175" y="246"/>
                  <a:pt x="2432" y="128"/>
                  <a:pt x="3320" y="64"/>
                </a:cubicBezTo>
                <a:cubicBezTo>
                  <a:pt x="4208" y="0"/>
                  <a:pt x="5505" y="312"/>
                  <a:pt x="5768" y="592"/>
                </a:cubicBezTo>
                <a:lnTo>
                  <a:pt x="5768" y="3824"/>
                </a:lnTo>
                <a:lnTo>
                  <a:pt x="0" y="3824"/>
                </a:lnTo>
                <a:lnTo>
                  <a:pt x="4" y="25"/>
                </a:lnTo>
                <a:close/>
              </a:path>
            </a:pathLst>
          </a:custGeom>
          <a:gradFill rotWithShape="0">
            <a:gsLst>
              <a:gs pos="0">
                <a:srgbClr val="3b494e"/>
              </a:gs>
              <a:gs pos="100000">
                <a:srgbClr val="809ea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任意多边形 1026"/>
          <p:cNvSpPr/>
          <p:nvPr/>
        </p:nvSpPr>
        <p:spPr>
          <a:xfrm>
            <a:off x="566640" y="23760"/>
            <a:ext cx="1656000" cy="905040"/>
          </a:xfrm>
          <a:custGeom>
            <a:avLst/>
            <a:gdLst/>
            <a:ahLst/>
            <a:rect l="l" t="t" r="r" b="b"/>
            <a:pathLst>
              <a:path w="2557" h="1300">
                <a:moveTo>
                  <a:pt x="109" y="1183"/>
                </a:moveTo>
                <a:cubicBezTo>
                  <a:pt x="0" y="1066"/>
                  <a:pt x="329" y="730"/>
                  <a:pt x="1279" y="365"/>
                </a:cubicBezTo>
                <a:cubicBezTo>
                  <a:pt x="2229" y="0"/>
                  <a:pt x="2557" y="58"/>
                  <a:pt x="2482" y="257"/>
                </a:cubicBezTo>
                <a:cubicBezTo>
                  <a:pt x="2407" y="456"/>
                  <a:pt x="2022" y="710"/>
                  <a:pt x="1577" y="895"/>
                </a:cubicBezTo>
                <a:cubicBezTo>
                  <a:pt x="1132" y="1080"/>
                  <a:pt x="218" y="1300"/>
                  <a:pt x="109" y="1183"/>
                </a:cubicBezTo>
                <a:close/>
              </a:path>
            </a:pathLst>
          </a:custGeom>
          <a:solidFill>
            <a:srgbClr val="9999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任意多边形 1027"/>
          <p:cNvSpPr/>
          <p:nvPr/>
        </p:nvSpPr>
        <p:spPr>
          <a:xfrm>
            <a:off x="-12600" y="-28440"/>
            <a:ext cx="1928880" cy="853920"/>
          </a:xfrm>
          <a:custGeom>
            <a:avLst/>
            <a:gdLst/>
            <a:ahLst/>
            <a:rect l="l" t="t" r="r" b="b"/>
            <a:pathLst>
              <a:path w="1215" h="538">
                <a:moveTo>
                  <a:pt x="0" y="394"/>
                </a:moveTo>
                <a:cubicBezTo>
                  <a:pt x="38" y="478"/>
                  <a:pt x="200" y="538"/>
                  <a:pt x="232" y="522"/>
                </a:cubicBezTo>
                <a:cubicBezTo>
                  <a:pt x="264" y="506"/>
                  <a:pt x="298" y="347"/>
                  <a:pt x="653" y="174"/>
                </a:cubicBezTo>
                <a:cubicBezTo>
                  <a:pt x="1008" y="0"/>
                  <a:pt x="1201" y="15"/>
                  <a:pt x="1215" y="12"/>
                </a:cubicBezTo>
                <a:lnTo>
                  <a:pt x="4" y="15"/>
                </a:lnTo>
                <a:lnTo>
                  <a:pt x="0" y="394"/>
                </a:lnTo>
                <a:close/>
              </a:path>
            </a:pathLst>
          </a:custGeom>
          <a:solidFill>
            <a:srgbClr val="9999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任意多边形 1028"/>
          <p:cNvSpPr/>
          <p:nvPr/>
        </p:nvSpPr>
        <p:spPr>
          <a:xfrm>
            <a:off x="546120" y="-4680"/>
            <a:ext cx="3378240" cy="1833480"/>
          </a:xfrm>
          <a:custGeom>
            <a:avLst/>
            <a:gdLst/>
            <a:ahLst/>
            <a:rect l="l" t="t" r="r" b="b"/>
            <a:pathLst>
              <a:path w="2128" h="1155">
                <a:moveTo>
                  <a:pt x="0" y="619"/>
                </a:moveTo>
                <a:cubicBezTo>
                  <a:pt x="328" y="691"/>
                  <a:pt x="808" y="507"/>
                  <a:pt x="992" y="403"/>
                </a:cubicBezTo>
                <a:cubicBezTo>
                  <a:pt x="1176" y="299"/>
                  <a:pt x="1406" y="90"/>
                  <a:pt x="1222" y="0"/>
                </a:cubicBezTo>
                <a:lnTo>
                  <a:pt x="2128" y="3"/>
                </a:lnTo>
                <a:cubicBezTo>
                  <a:pt x="2112" y="35"/>
                  <a:pt x="2120" y="155"/>
                  <a:pt x="1648" y="475"/>
                </a:cubicBezTo>
                <a:cubicBezTo>
                  <a:pt x="1176" y="795"/>
                  <a:pt x="64" y="1155"/>
                  <a:pt x="0" y="635"/>
                </a:cubicBezTo>
              </a:path>
            </a:pathLst>
          </a:custGeom>
          <a:solidFill>
            <a:srgbClr val="9999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D0A8-A4EC-40C6-9501-F6F419190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2C4E-7DD5-4D64-B23D-51CF5263858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D423-673A-4C21-B26B-9F1CF30DD8C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abcb5"/>
            </a:gs>
            <a:gs pos="100000">
              <a:srgbClr val="686b5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任意多边形 2049"/>
          <p:cNvSpPr/>
          <p:nvPr/>
        </p:nvSpPr>
        <p:spPr>
          <a:xfrm>
            <a:off x="-11160" y="-54000"/>
            <a:ext cx="4724280" cy="2035080"/>
          </a:xfrm>
          <a:custGeom>
            <a:avLst/>
            <a:gdLst/>
            <a:ahLst/>
            <a:rect l="l" t="t" r="r" b="b"/>
            <a:pathLst>
              <a:path w="2976" h="1282">
                <a:moveTo>
                  <a:pt x="0" y="1028"/>
                </a:moveTo>
                <a:cubicBezTo>
                  <a:pt x="90" y="1235"/>
                  <a:pt x="549" y="1282"/>
                  <a:pt x="549" y="1275"/>
                </a:cubicBezTo>
                <a:cubicBezTo>
                  <a:pt x="549" y="1268"/>
                  <a:pt x="727" y="794"/>
                  <a:pt x="1598" y="397"/>
                </a:cubicBezTo>
                <a:cubicBezTo>
                  <a:pt x="2469" y="0"/>
                  <a:pt x="2941" y="34"/>
                  <a:pt x="2976" y="27"/>
                </a:cubicBezTo>
                <a:lnTo>
                  <a:pt x="7" y="34"/>
                </a:lnTo>
                <a:lnTo>
                  <a:pt x="0" y="1028"/>
                </a:lnTo>
                <a:close/>
              </a:path>
            </a:pathLst>
          </a:custGeom>
          <a:solidFill>
            <a:srgbClr val="99998d"/>
          </a:solidFill>
          <a:ln w="0">
            <a:noFill/>
          </a:ln>
          <a:effectLst>
            <a:outerShdw dist="52300" dir="836435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任意多边形 2050"/>
          <p:cNvSpPr/>
          <p:nvPr/>
        </p:nvSpPr>
        <p:spPr>
          <a:xfrm>
            <a:off x="1405080" y="125280"/>
            <a:ext cx="4059000" cy="2063880"/>
          </a:xfrm>
          <a:custGeom>
            <a:avLst/>
            <a:gdLst/>
            <a:ahLst/>
            <a:rect l="l" t="t" r="r" b="b"/>
            <a:pathLst>
              <a:path w="2557" h="1300">
                <a:moveTo>
                  <a:pt x="109" y="1183"/>
                </a:moveTo>
                <a:cubicBezTo>
                  <a:pt x="0" y="1066"/>
                  <a:pt x="329" y="730"/>
                  <a:pt x="1279" y="365"/>
                </a:cubicBezTo>
                <a:cubicBezTo>
                  <a:pt x="2229" y="0"/>
                  <a:pt x="2557" y="58"/>
                  <a:pt x="2482" y="257"/>
                </a:cubicBezTo>
                <a:cubicBezTo>
                  <a:pt x="2407" y="456"/>
                  <a:pt x="2022" y="710"/>
                  <a:pt x="1577" y="895"/>
                </a:cubicBezTo>
                <a:cubicBezTo>
                  <a:pt x="1132" y="1080"/>
                  <a:pt x="218" y="1300"/>
                  <a:pt x="109" y="1183"/>
                </a:cubicBezTo>
                <a:close/>
              </a:path>
            </a:pathLst>
          </a:custGeom>
          <a:solidFill>
            <a:srgbClr val="99998d"/>
          </a:solidFill>
          <a:ln w="0">
            <a:noFill/>
          </a:ln>
          <a:effectLst>
            <a:outerShdw dist="52300" dir="836435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任意多边形 2051"/>
          <p:cNvSpPr/>
          <p:nvPr/>
        </p:nvSpPr>
        <p:spPr>
          <a:xfrm>
            <a:off x="1339920" y="-11160"/>
            <a:ext cx="7826400" cy="3568680"/>
          </a:xfrm>
          <a:custGeom>
            <a:avLst/>
            <a:gdLst/>
            <a:ahLst/>
            <a:rect l="l" t="t" r="r" b="b"/>
            <a:pathLst>
              <a:path w="4930" h="2248">
                <a:moveTo>
                  <a:pt x="34" y="1522"/>
                </a:moveTo>
                <a:cubicBezTo>
                  <a:pt x="1062" y="1721"/>
                  <a:pt x="2282" y="1091"/>
                  <a:pt x="2598" y="885"/>
                </a:cubicBezTo>
                <a:cubicBezTo>
                  <a:pt x="2914" y="679"/>
                  <a:pt x="3456" y="213"/>
                  <a:pt x="3003" y="7"/>
                </a:cubicBezTo>
                <a:lnTo>
                  <a:pt x="4930" y="0"/>
                </a:lnTo>
                <a:cubicBezTo>
                  <a:pt x="4927" y="288"/>
                  <a:pt x="4084" y="1171"/>
                  <a:pt x="3412" y="1575"/>
                </a:cubicBezTo>
                <a:cubicBezTo>
                  <a:pt x="2740" y="1979"/>
                  <a:pt x="2279" y="2082"/>
                  <a:pt x="1780" y="2167"/>
                </a:cubicBezTo>
                <a:cubicBezTo>
                  <a:pt x="1281" y="2248"/>
                  <a:pt x="740" y="2223"/>
                  <a:pt x="420" y="2063"/>
                </a:cubicBezTo>
                <a:cubicBezTo>
                  <a:pt x="100" y="1903"/>
                  <a:pt x="0" y="1721"/>
                  <a:pt x="34" y="1522"/>
                </a:cubicBezTo>
              </a:path>
            </a:pathLst>
          </a:custGeom>
          <a:solidFill>
            <a:srgbClr val="99998d"/>
          </a:solidFill>
          <a:ln w="0">
            <a:noFill/>
          </a:ln>
          <a:effectLst>
            <a:outerShdw dist="52300" dir="836435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任意多边形 2052"/>
          <p:cNvSpPr/>
          <p:nvPr/>
        </p:nvSpPr>
        <p:spPr>
          <a:xfrm>
            <a:off x="0" y="1959120"/>
            <a:ext cx="9144000" cy="4898880"/>
          </a:xfrm>
          <a:custGeom>
            <a:avLst/>
            <a:gdLst/>
            <a:ahLst/>
            <a:rect l="l" t="t" r="r" b="b"/>
            <a:pathLst>
              <a:path w="5760" h="3086">
                <a:moveTo>
                  <a:pt x="0" y="0"/>
                </a:moveTo>
                <a:cubicBezTo>
                  <a:pt x="233" y="103"/>
                  <a:pt x="494" y="178"/>
                  <a:pt x="494" y="185"/>
                </a:cubicBezTo>
                <a:cubicBezTo>
                  <a:pt x="494" y="192"/>
                  <a:pt x="232" y="1182"/>
                  <a:pt x="1312" y="1574"/>
                </a:cubicBezTo>
                <a:cubicBezTo>
                  <a:pt x="2392" y="1966"/>
                  <a:pt x="3762" y="1619"/>
                  <a:pt x="4488" y="1358"/>
                </a:cubicBezTo>
                <a:cubicBezTo>
                  <a:pt x="5214" y="1097"/>
                  <a:pt x="5664" y="772"/>
                  <a:pt x="5760" y="662"/>
                </a:cubicBezTo>
                <a:lnTo>
                  <a:pt x="5760" y="3086"/>
                </a:lnTo>
                <a:lnTo>
                  <a:pt x="0" y="3086"/>
                </a:lnTo>
                <a:lnTo>
                  <a:pt x="0" y="0"/>
                </a:lnTo>
                <a:close/>
              </a:path>
            </a:pathLst>
          </a:custGeom>
          <a:solidFill>
            <a:srgbClr val="809ea8"/>
          </a:solidFill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F90D-0A5A-47FA-B8B6-AED6CFA060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3200400"/>
            <a:ext cx="7696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极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酷医疗报告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图片 4098" descr="사본 - p12_s"/>
          <p:cNvPicPr/>
          <p:nvPr/>
        </p:nvPicPr>
        <p:blipFill>
          <a:blip r:embed="rId1"/>
          <a:stretch/>
        </p:blipFill>
        <p:spPr>
          <a:xfrm>
            <a:off x="3886200" y="2514600"/>
            <a:ext cx="1447920" cy="110340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组合 13314"/>
          <p:cNvGrpSpPr/>
          <p:nvPr/>
        </p:nvGrpSpPr>
        <p:grpSpPr>
          <a:xfrm>
            <a:off x="838080" y="2209680"/>
            <a:ext cx="7397640" cy="2895480"/>
            <a:chOff x="838080" y="2209680"/>
            <a:chExt cx="7397640" cy="2895480"/>
          </a:xfrm>
        </p:grpSpPr>
        <p:sp>
          <p:nvSpPr>
            <p:cNvPr id="324" name="燕尾形 13315"/>
            <p:cNvSpPr/>
            <p:nvPr/>
          </p:nvSpPr>
          <p:spPr>
            <a:xfrm>
              <a:off x="2932200" y="2966400"/>
              <a:ext cx="488880" cy="5461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999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燕尾形 13316"/>
            <p:cNvSpPr/>
            <p:nvPr/>
          </p:nvSpPr>
          <p:spPr>
            <a:xfrm>
              <a:off x="5583240" y="2966400"/>
              <a:ext cx="488880" cy="5461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椭圆 13317"/>
            <p:cNvSpPr/>
            <p:nvPr/>
          </p:nvSpPr>
          <p:spPr>
            <a:xfrm>
              <a:off x="614160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椭圆 13318"/>
            <p:cNvSpPr/>
            <p:nvPr/>
          </p:nvSpPr>
          <p:spPr>
            <a:xfrm>
              <a:off x="614160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ff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椭圆 13319"/>
            <p:cNvSpPr/>
            <p:nvPr/>
          </p:nvSpPr>
          <p:spPr>
            <a:xfrm>
              <a:off x="6278760" y="2349360"/>
              <a:ext cx="1819800" cy="1780560"/>
            </a:xfrm>
            <a:prstGeom prst="ellipse">
              <a:avLst/>
            </a:prstGeom>
            <a:gradFill rotWithShape="0">
              <a:gsLst>
                <a:gs pos="0">
                  <a:srgbClr val="8a6e37"/>
                </a:gs>
                <a:gs pos="50000">
                  <a:srgbClr val="ffcc66"/>
                </a:gs>
                <a:gs pos="100000">
                  <a:srgbClr val="8a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椭圆 13320"/>
            <p:cNvSpPr/>
            <p:nvPr/>
          </p:nvSpPr>
          <p:spPr>
            <a:xfrm>
              <a:off x="6309360" y="236016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a28241"/>
                </a:gs>
                <a:gs pos="100000">
                  <a:srgbClr val="ff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椭圆 13321"/>
            <p:cNvSpPr/>
            <p:nvPr/>
          </p:nvSpPr>
          <p:spPr>
            <a:xfrm>
              <a:off x="6377040" y="2438280"/>
              <a:ext cx="16383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椭圆 13322"/>
            <p:cNvSpPr/>
            <p:nvPr/>
          </p:nvSpPr>
          <p:spPr>
            <a:xfrm>
              <a:off x="838080" y="2209680"/>
              <a:ext cx="20941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9dc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椭圆 13323"/>
            <p:cNvSpPr/>
            <p:nvPr/>
          </p:nvSpPr>
          <p:spPr>
            <a:xfrm>
              <a:off x="838080" y="2209680"/>
              <a:ext cx="2094120" cy="2048400"/>
            </a:xfrm>
            <a:prstGeom prst="ellipse">
              <a:avLst/>
            </a:prstGeom>
            <a:gradFill rotWithShape="0">
              <a:gsLst>
                <a:gs pos="0">
                  <a:srgbClr val="e9dcb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椭圆 13324"/>
            <p:cNvSpPr/>
            <p:nvPr/>
          </p:nvSpPr>
          <p:spPr>
            <a:xfrm>
              <a:off x="974520" y="234324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7e7764"/>
                </a:gs>
                <a:gs pos="50000">
                  <a:srgbClr val="e9dcb9"/>
                </a:gs>
                <a:gs pos="100000">
                  <a:srgbClr val="7e776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椭圆 13325"/>
            <p:cNvSpPr/>
            <p:nvPr/>
          </p:nvSpPr>
          <p:spPr>
            <a:xfrm>
              <a:off x="976320" y="234648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948c76"/>
                </a:gs>
                <a:gs pos="100000">
                  <a:srgbClr val="e9dcb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椭圆 13326"/>
            <p:cNvSpPr/>
            <p:nvPr/>
          </p:nvSpPr>
          <p:spPr>
            <a:xfrm>
              <a:off x="1065600" y="2432520"/>
              <a:ext cx="16383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组合 13327"/>
            <p:cNvGrpSpPr/>
            <p:nvPr/>
          </p:nvGrpSpPr>
          <p:grpSpPr>
            <a:xfrm>
              <a:off x="1091880" y="2456280"/>
              <a:ext cx="1586160" cy="1551960"/>
              <a:chOff x="1091880" y="2456280"/>
              <a:chExt cx="1586160" cy="1551960"/>
            </a:xfrm>
          </p:grpSpPr>
          <p:sp>
            <p:nvSpPr>
              <p:cNvPr id="337" name="椭圆 13328"/>
              <p:cNvSpPr/>
              <p:nvPr/>
            </p:nvSpPr>
            <p:spPr>
              <a:xfrm>
                <a:off x="1091880" y="2456280"/>
                <a:ext cx="15861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椭圆 13329"/>
              <p:cNvSpPr/>
              <p:nvPr/>
            </p:nvSpPr>
            <p:spPr>
              <a:xfrm>
                <a:off x="1112040" y="2464920"/>
                <a:ext cx="154800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椭圆 13330"/>
              <p:cNvSpPr/>
              <p:nvPr/>
            </p:nvSpPr>
            <p:spPr>
              <a:xfrm>
                <a:off x="1128600" y="2479680"/>
                <a:ext cx="14720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椭圆 13331"/>
              <p:cNvSpPr/>
              <p:nvPr/>
            </p:nvSpPr>
            <p:spPr>
              <a:xfrm>
                <a:off x="1214640" y="2519280"/>
                <a:ext cx="1308600" cy="114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" name="椭圆 13332"/>
            <p:cNvSpPr/>
            <p:nvPr/>
          </p:nvSpPr>
          <p:spPr>
            <a:xfrm>
              <a:off x="349056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8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椭圆 13333"/>
            <p:cNvSpPr/>
            <p:nvPr/>
          </p:nvSpPr>
          <p:spPr>
            <a:xfrm>
              <a:off x="349056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99998d">
                    <a:alpha val="32156"/>
                  </a:srgbClr>
                </a:gs>
                <a:gs pos="100000">
                  <a:srgbClr val="47474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椭圆 13334"/>
            <p:cNvSpPr/>
            <p:nvPr/>
          </p:nvSpPr>
          <p:spPr>
            <a:xfrm>
              <a:off x="3627720" y="234936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53534c"/>
                </a:gs>
                <a:gs pos="50000">
                  <a:srgbClr val="99998d"/>
                </a:gs>
                <a:gs pos="100000">
                  <a:srgbClr val="53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椭圆 13335"/>
            <p:cNvSpPr/>
            <p:nvPr/>
          </p:nvSpPr>
          <p:spPr>
            <a:xfrm>
              <a:off x="3629160" y="235260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61615a"/>
                </a:gs>
                <a:gs pos="100000">
                  <a:srgbClr val="99998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椭圆 13336"/>
            <p:cNvSpPr/>
            <p:nvPr/>
          </p:nvSpPr>
          <p:spPr>
            <a:xfrm>
              <a:off x="3718440" y="2438280"/>
              <a:ext cx="16383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组合 13337"/>
            <p:cNvGrpSpPr/>
            <p:nvPr/>
          </p:nvGrpSpPr>
          <p:grpSpPr>
            <a:xfrm>
              <a:off x="3744360" y="2456280"/>
              <a:ext cx="1586160" cy="1551960"/>
              <a:chOff x="3744360" y="2456280"/>
              <a:chExt cx="1586160" cy="1551960"/>
            </a:xfrm>
          </p:grpSpPr>
          <p:sp>
            <p:nvSpPr>
              <p:cNvPr id="347" name="椭圆 13338"/>
              <p:cNvSpPr/>
              <p:nvPr/>
            </p:nvSpPr>
            <p:spPr>
              <a:xfrm>
                <a:off x="3744360" y="2456280"/>
                <a:ext cx="15861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椭圆 13339"/>
              <p:cNvSpPr/>
              <p:nvPr/>
            </p:nvSpPr>
            <p:spPr>
              <a:xfrm>
                <a:off x="3764520" y="2464920"/>
                <a:ext cx="154800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椭圆 13340"/>
              <p:cNvSpPr/>
              <p:nvPr/>
            </p:nvSpPr>
            <p:spPr>
              <a:xfrm>
                <a:off x="3781080" y="2479680"/>
                <a:ext cx="14720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椭圆 13341"/>
              <p:cNvSpPr/>
              <p:nvPr/>
            </p:nvSpPr>
            <p:spPr>
              <a:xfrm>
                <a:off x="3867120" y="2519280"/>
                <a:ext cx="1308600" cy="114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组合 13342"/>
            <p:cNvGrpSpPr/>
            <p:nvPr/>
          </p:nvGrpSpPr>
          <p:grpSpPr>
            <a:xfrm>
              <a:off x="6406560" y="2456280"/>
              <a:ext cx="1586160" cy="1551960"/>
              <a:chOff x="6406560" y="2456280"/>
              <a:chExt cx="1586160" cy="1551960"/>
            </a:xfrm>
          </p:grpSpPr>
          <p:sp>
            <p:nvSpPr>
              <p:cNvPr id="352" name="椭圆 13343"/>
              <p:cNvSpPr/>
              <p:nvPr/>
            </p:nvSpPr>
            <p:spPr>
              <a:xfrm>
                <a:off x="6406560" y="2456280"/>
                <a:ext cx="15861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椭圆 13344"/>
              <p:cNvSpPr/>
              <p:nvPr/>
            </p:nvSpPr>
            <p:spPr>
              <a:xfrm>
                <a:off x="6426720" y="2464920"/>
                <a:ext cx="154800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椭圆 13345"/>
              <p:cNvSpPr/>
              <p:nvPr/>
            </p:nvSpPr>
            <p:spPr>
              <a:xfrm>
                <a:off x="6443280" y="2479680"/>
                <a:ext cx="14720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椭圆 13346"/>
              <p:cNvSpPr/>
              <p:nvPr/>
            </p:nvSpPr>
            <p:spPr>
              <a:xfrm>
                <a:off x="6529320" y="2519280"/>
                <a:ext cx="1308600" cy="114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" name="圆角矩形 13347"/>
            <p:cNvSpPr/>
            <p:nvPr/>
          </p:nvSpPr>
          <p:spPr>
            <a:xfrm>
              <a:off x="885600" y="4616280"/>
              <a:ext cx="199404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圆角矩形 13348"/>
            <p:cNvSpPr/>
            <p:nvPr/>
          </p:nvSpPr>
          <p:spPr>
            <a:xfrm>
              <a:off x="3535200" y="4616280"/>
              <a:ext cx="199404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圆角矩形 13349"/>
            <p:cNvSpPr/>
            <p:nvPr/>
          </p:nvSpPr>
          <p:spPr>
            <a:xfrm>
              <a:off x="6203520" y="4616280"/>
              <a:ext cx="199404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文本框 13350"/>
            <p:cNvSpPr/>
            <p:nvPr/>
          </p:nvSpPr>
          <p:spPr>
            <a:xfrm>
              <a:off x="15008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文本框 13351"/>
            <p:cNvSpPr/>
            <p:nvPr/>
          </p:nvSpPr>
          <p:spPr>
            <a:xfrm>
              <a:off x="41598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文本框 13352"/>
            <p:cNvSpPr/>
            <p:nvPr/>
          </p:nvSpPr>
          <p:spPr>
            <a:xfrm>
              <a:off x="681948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组合 14338"/>
          <p:cNvGrpSpPr/>
          <p:nvPr/>
        </p:nvGrpSpPr>
        <p:grpSpPr>
          <a:xfrm>
            <a:off x="1295280" y="1523880"/>
            <a:ext cx="6858000" cy="4495680"/>
            <a:chOff x="1295280" y="1523880"/>
            <a:chExt cx="6858000" cy="4495680"/>
          </a:xfrm>
        </p:grpSpPr>
        <p:sp>
          <p:nvSpPr>
            <p:cNvPr id="364" name="任意多边形 14339"/>
            <p:cNvSpPr/>
            <p:nvPr/>
          </p:nvSpPr>
          <p:spPr>
            <a:xfrm>
              <a:off x="1295280" y="19810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99998d"/>
                </a:gs>
                <a:gs pos="100000">
                  <a:srgbClr val="809ea8"/>
                </a:gs>
              </a:gsLst>
              <a:lin ang="27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文本框 14340"/>
            <p:cNvSpPr/>
            <p:nvPr/>
          </p:nvSpPr>
          <p:spPr>
            <a:xfrm>
              <a:off x="5333760" y="335268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6" name="组合 14341"/>
            <p:cNvGrpSpPr/>
            <p:nvPr/>
          </p:nvGrpSpPr>
          <p:grpSpPr>
            <a:xfrm>
              <a:off x="3467160" y="3733560"/>
              <a:ext cx="1704960" cy="2028960"/>
              <a:chOff x="3467160" y="3733560"/>
              <a:chExt cx="1704960" cy="2028960"/>
            </a:xfrm>
          </p:grpSpPr>
          <p:sp>
            <p:nvSpPr>
              <p:cNvPr id="367" name="椭圆 14342"/>
              <p:cNvSpPr/>
              <p:nvPr/>
            </p:nvSpPr>
            <p:spPr>
              <a:xfrm rot="20876400">
                <a:off x="3535560" y="495288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椭圆 14343"/>
              <p:cNvSpPr/>
              <p:nvPr/>
            </p:nvSpPr>
            <p:spPr>
              <a:xfrm>
                <a:off x="3467160" y="373356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椭圆 14344"/>
              <p:cNvSpPr/>
              <p:nvPr/>
            </p:nvSpPr>
            <p:spPr>
              <a:xfrm>
                <a:off x="3487680" y="374292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椭圆 14345"/>
              <p:cNvSpPr/>
              <p:nvPr/>
            </p:nvSpPr>
            <p:spPr>
              <a:xfrm>
                <a:off x="3505320" y="375912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椭圆 14346"/>
              <p:cNvSpPr/>
              <p:nvPr/>
            </p:nvSpPr>
            <p:spPr>
              <a:xfrm>
                <a:off x="3597480" y="380340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文本框 14347"/>
              <p:cNvSpPr/>
              <p:nvPr/>
            </p:nvSpPr>
            <p:spPr>
              <a:xfrm>
                <a:off x="3884760" y="436068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组合 14348"/>
            <p:cNvGrpSpPr/>
            <p:nvPr/>
          </p:nvGrpSpPr>
          <p:grpSpPr>
            <a:xfrm>
              <a:off x="1630080" y="3352680"/>
              <a:ext cx="1371240" cy="1718640"/>
              <a:chOff x="1630080" y="3352680"/>
              <a:chExt cx="1371240" cy="1718640"/>
            </a:xfrm>
          </p:grpSpPr>
          <p:sp>
            <p:nvSpPr>
              <p:cNvPr id="374" name="椭圆 14349"/>
              <p:cNvSpPr/>
              <p:nvPr/>
            </p:nvSpPr>
            <p:spPr>
              <a:xfrm rot="20826600">
                <a:off x="1706400" y="434304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5" name="组合 14350"/>
              <p:cNvGrpSpPr/>
              <p:nvPr/>
            </p:nvGrpSpPr>
            <p:grpSpPr>
              <a:xfrm>
                <a:off x="1630080" y="3352680"/>
                <a:ext cx="1371240" cy="1441080"/>
                <a:chOff x="1630080" y="3352680"/>
                <a:chExt cx="1371240" cy="1441080"/>
              </a:xfrm>
            </p:grpSpPr>
            <p:sp>
              <p:nvSpPr>
                <p:cNvPr id="376" name="椭圆 14351"/>
                <p:cNvSpPr/>
                <p:nvPr/>
              </p:nvSpPr>
              <p:spPr>
                <a:xfrm>
                  <a:off x="1630080" y="335268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椭圆 14352"/>
                <p:cNvSpPr/>
                <p:nvPr/>
              </p:nvSpPr>
              <p:spPr>
                <a:xfrm>
                  <a:off x="1648080" y="336096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椭圆 14353"/>
                <p:cNvSpPr/>
                <p:nvPr/>
              </p:nvSpPr>
              <p:spPr>
                <a:xfrm>
                  <a:off x="1661040" y="337428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椭圆 14354"/>
                <p:cNvSpPr/>
                <p:nvPr/>
              </p:nvSpPr>
              <p:spPr>
                <a:xfrm>
                  <a:off x="1732680" y="341100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文本框 14355"/>
                <p:cNvSpPr/>
                <p:nvPr/>
              </p:nvSpPr>
              <p:spPr>
                <a:xfrm>
                  <a:off x="1910520" y="38588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x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1" name="组合 14356"/>
            <p:cNvGrpSpPr/>
            <p:nvPr/>
          </p:nvGrpSpPr>
          <p:grpSpPr>
            <a:xfrm>
              <a:off x="1444680" y="1981080"/>
              <a:ext cx="1099440" cy="1139760"/>
              <a:chOff x="1444680" y="1981080"/>
              <a:chExt cx="1099440" cy="1139760"/>
            </a:xfrm>
          </p:grpSpPr>
          <p:sp>
            <p:nvSpPr>
              <p:cNvPr id="382" name="椭圆 14357"/>
              <p:cNvSpPr/>
              <p:nvPr/>
            </p:nvSpPr>
            <p:spPr>
              <a:xfrm>
                <a:off x="1444680" y="2587680"/>
                <a:ext cx="91404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椭圆 14358"/>
              <p:cNvSpPr/>
              <p:nvPr/>
            </p:nvSpPr>
            <p:spPr>
              <a:xfrm>
                <a:off x="1520640" y="1981080"/>
                <a:ext cx="1023480" cy="102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椭圆 14359"/>
              <p:cNvSpPr/>
              <p:nvPr/>
            </p:nvSpPr>
            <p:spPr>
              <a:xfrm>
                <a:off x="1533240" y="1985760"/>
                <a:ext cx="99972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椭圆 14360"/>
              <p:cNvSpPr/>
              <p:nvPr/>
            </p:nvSpPr>
            <p:spPr>
              <a:xfrm>
                <a:off x="1544400" y="1996920"/>
                <a:ext cx="95040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椭圆 14361"/>
              <p:cNvSpPr/>
              <p:nvPr/>
            </p:nvSpPr>
            <p:spPr>
              <a:xfrm>
                <a:off x="1598400" y="202248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文本框 14362"/>
              <p:cNvSpPr/>
              <p:nvPr/>
            </p:nvSpPr>
            <p:spPr>
              <a:xfrm>
                <a:off x="1717560" y="23302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组合 14363"/>
            <p:cNvGrpSpPr/>
            <p:nvPr/>
          </p:nvGrpSpPr>
          <p:grpSpPr>
            <a:xfrm>
              <a:off x="2849400" y="1523880"/>
              <a:ext cx="804960" cy="762120"/>
              <a:chOff x="2849400" y="1523880"/>
              <a:chExt cx="804960" cy="762120"/>
            </a:xfrm>
          </p:grpSpPr>
          <p:sp>
            <p:nvSpPr>
              <p:cNvPr id="389" name="椭圆 14364"/>
              <p:cNvSpPr/>
              <p:nvPr/>
            </p:nvSpPr>
            <p:spPr>
              <a:xfrm>
                <a:off x="2849400" y="205740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椭圆 14365"/>
              <p:cNvSpPr/>
              <p:nvPr/>
            </p:nvSpPr>
            <p:spPr>
              <a:xfrm>
                <a:off x="2971800" y="152388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椭圆 14366"/>
              <p:cNvSpPr/>
              <p:nvPr/>
            </p:nvSpPr>
            <p:spPr>
              <a:xfrm>
                <a:off x="2981160" y="152712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椭圆 14367"/>
              <p:cNvSpPr/>
              <p:nvPr/>
            </p:nvSpPr>
            <p:spPr>
              <a:xfrm>
                <a:off x="2987640" y="153324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椭圆 14368"/>
              <p:cNvSpPr/>
              <p:nvPr/>
            </p:nvSpPr>
            <p:spPr>
              <a:xfrm>
                <a:off x="3024000" y="155232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文本框 14369"/>
              <p:cNvSpPr/>
              <p:nvPr/>
            </p:nvSpPr>
            <p:spPr>
              <a:xfrm>
                <a:off x="3042000" y="17478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内容占位符 15362" descr=""/>
          <p:cNvPicPr/>
          <p:nvPr/>
        </p:nvPicPr>
        <p:blipFill>
          <a:blip r:embed="rId1"/>
          <a:stretch/>
        </p:blipFill>
        <p:spPr>
          <a:xfrm>
            <a:off x="1789200" y="1785960"/>
            <a:ext cx="580068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组合 16386"/>
          <p:cNvGrpSpPr/>
          <p:nvPr/>
        </p:nvGrpSpPr>
        <p:grpSpPr>
          <a:xfrm>
            <a:off x="990720" y="1863720"/>
            <a:ext cx="2163600" cy="3165480"/>
            <a:chOff x="990720" y="1863720"/>
            <a:chExt cx="2163600" cy="3165480"/>
          </a:xfrm>
        </p:grpSpPr>
        <p:sp>
          <p:nvSpPr>
            <p:cNvPr id="399" name="圆角矩形 16387"/>
            <p:cNvSpPr/>
            <p:nvPr/>
          </p:nvSpPr>
          <p:spPr>
            <a:xfrm>
              <a:off x="990720" y="21715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圆角矩形 16388"/>
            <p:cNvSpPr/>
            <p:nvPr/>
          </p:nvSpPr>
          <p:spPr>
            <a:xfrm>
              <a:off x="1024200" y="21798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圆角矩形 16389"/>
            <p:cNvSpPr/>
            <p:nvPr/>
          </p:nvSpPr>
          <p:spPr>
            <a:xfrm>
              <a:off x="1041480" y="42433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圆角矩形 16390"/>
            <p:cNvSpPr/>
            <p:nvPr/>
          </p:nvSpPr>
          <p:spPr>
            <a:xfrm>
              <a:off x="1041480" y="22017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3" name="组合 16391"/>
            <p:cNvGrpSpPr/>
            <p:nvPr/>
          </p:nvGrpSpPr>
          <p:grpSpPr>
            <a:xfrm>
              <a:off x="1735200" y="1863720"/>
              <a:ext cx="642960" cy="642960"/>
              <a:chOff x="1735200" y="1863720"/>
              <a:chExt cx="642960" cy="642960"/>
            </a:xfrm>
          </p:grpSpPr>
          <p:sp>
            <p:nvSpPr>
              <p:cNvPr id="404" name="椭圆 16392"/>
              <p:cNvSpPr/>
              <p:nvPr/>
            </p:nvSpPr>
            <p:spPr>
              <a:xfrm>
                <a:off x="1735200" y="1863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椭圆 16393"/>
              <p:cNvSpPr/>
              <p:nvPr/>
            </p:nvSpPr>
            <p:spPr>
              <a:xfrm>
                <a:off x="1741680" y="1868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椭圆 16394"/>
              <p:cNvSpPr/>
              <p:nvPr/>
            </p:nvSpPr>
            <p:spPr>
              <a:xfrm>
                <a:off x="1749600" y="18723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椭圆 16395"/>
              <p:cNvSpPr/>
              <p:nvPr/>
            </p:nvSpPr>
            <p:spPr>
              <a:xfrm>
                <a:off x="1756080" y="1878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椭圆 16396"/>
              <p:cNvSpPr/>
              <p:nvPr/>
            </p:nvSpPr>
            <p:spPr>
              <a:xfrm>
                <a:off x="1789920" y="1893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9" name="文本框 16397"/>
            <p:cNvSpPr/>
            <p:nvPr/>
          </p:nvSpPr>
          <p:spPr>
            <a:xfrm>
              <a:off x="1875240" y="195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文本框 16398"/>
            <p:cNvSpPr/>
            <p:nvPr/>
          </p:nvSpPr>
          <p:spPr>
            <a:xfrm>
              <a:off x="1067040" y="2625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组合 16399"/>
          <p:cNvGrpSpPr/>
          <p:nvPr/>
        </p:nvGrpSpPr>
        <p:grpSpPr>
          <a:xfrm>
            <a:off x="5715000" y="1863720"/>
            <a:ext cx="2163600" cy="3165480"/>
            <a:chOff x="5715000" y="1863720"/>
            <a:chExt cx="2163600" cy="3165480"/>
          </a:xfrm>
        </p:grpSpPr>
        <p:sp>
          <p:nvSpPr>
            <p:cNvPr id="412" name="圆角矩形 16400"/>
            <p:cNvSpPr/>
            <p:nvPr/>
          </p:nvSpPr>
          <p:spPr>
            <a:xfrm>
              <a:off x="5715000" y="21715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圆角矩形 16401"/>
            <p:cNvSpPr/>
            <p:nvPr/>
          </p:nvSpPr>
          <p:spPr>
            <a:xfrm>
              <a:off x="5748480" y="21798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圆角矩形 16402"/>
            <p:cNvSpPr/>
            <p:nvPr/>
          </p:nvSpPr>
          <p:spPr>
            <a:xfrm>
              <a:off x="5765760" y="42433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圆角矩形 16403"/>
            <p:cNvSpPr/>
            <p:nvPr/>
          </p:nvSpPr>
          <p:spPr>
            <a:xfrm>
              <a:off x="5765760" y="22017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组合 16404"/>
            <p:cNvGrpSpPr/>
            <p:nvPr/>
          </p:nvGrpSpPr>
          <p:grpSpPr>
            <a:xfrm>
              <a:off x="6459480" y="1863720"/>
              <a:ext cx="642960" cy="642960"/>
              <a:chOff x="6459480" y="1863720"/>
              <a:chExt cx="642960" cy="642960"/>
            </a:xfrm>
          </p:grpSpPr>
          <p:sp>
            <p:nvSpPr>
              <p:cNvPr id="417" name="椭圆 16405"/>
              <p:cNvSpPr/>
              <p:nvPr/>
            </p:nvSpPr>
            <p:spPr>
              <a:xfrm>
                <a:off x="6459480" y="1863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椭圆 16406"/>
              <p:cNvSpPr/>
              <p:nvPr/>
            </p:nvSpPr>
            <p:spPr>
              <a:xfrm>
                <a:off x="6465960" y="1868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椭圆 16407"/>
              <p:cNvSpPr/>
              <p:nvPr/>
            </p:nvSpPr>
            <p:spPr>
              <a:xfrm>
                <a:off x="6473880" y="18723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椭圆 16408"/>
              <p:cNvSpPr/>
              <p:nvPr/>
            </p:nvSpPr>
            <p:spPr>
              <a:xfrm>
                <a:off x="6480360" y="1878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椭圆 16409"/>
              <p:cNvSpPr/>
              <p:nvPr/>
            </p:nvSpPr>
            <p:spPr>
              <a:xfrm>
                <a:off x="6514200" y="1893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2" name="文本框 16410"/>
            <p:cNvSpPr/>
            <p:nvPr/>
          </p:nvSpPr>
          <p:spPr>
            <a:xfrm>
              <a:off x="6599520" y="195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文本框 16411"/>
            <p:cNvSpPr/>
            <p:nvPr/>
          </p:nvSpPr>
          <p:spPr>
            <a:xfrm>
              <a:off x="5791320" y="2625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组合 16412"/>
          <p:cNvGrpSpPr/>
          <p:nvPr/>
        </p:nvGrpSpPr>
        <p:grpSpPr>
          <a:xfrm>
            <a:off x="3352680" y="1863720"/>
            <a:ext cx="2163600" cy="3165480"/>
            <a:chOff x="3352680" y="1863720"/>
            <a:chExt cx="2163600" cy="3165480"/>
          </a:xfrm>
        </p:grpSpPr>
        <p:sp>
          <p:nvSpPr>
            <p:cNvPr id="425" name="圆角矩形 16413"/>
            <p:cNvSpPr/>
            <p:nvPr/>
          </p:nvSpPr>
          <p:spPr>
            <a:xfrm>
              <a:off x="3352680" y="21715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圆角矩形 16414"/>
            <p:cNvSpPr/>
            <p:nvPr/>
          </p:nvSpPr>
          <p:spPr>
            <a:xfrm>
              <a:off x="3386160" y="21798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圆角矩形 16415"/>
            <p:cNvSpPr/>
            <p:nvPr/>
          </p:nvSpPr>
          <p:spPr>
            <a:xfrm>
              <a:off x="3403440" y="42433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圆角矩形 16416"/>
            <p:cNvSpPr/>
            <p:nvPr/>
          </p:nvSpPr>
          <p:spPr>
            <a:xfrm>
              <a:off x="3403440" y="22017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椭圆 16417"/>
            <p:cNvSpPr/>
            <p:nvPr/>
          </p:nvSpPr>
          <p:spPr>
            <a:xfrm>
              <a:off x="4097160" y="18637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椭圆 16418"/>
            <p:cNvSpPr/>
            <p:nvPr/>
          </p:nvSpPr>
          <p:spPr>
            <a:xfrm>
              <a:off x="4103640" y="186840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椭圆 16419"/>
            <p:cNvSpPr/>
            <p:nvPr/>
          </p:nvSpPr>
          <p:spPr>
            <a:xfrm>
              <a:off x="4111560" y="187164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椭圆 16420"/>
            <p:cNvSpPr/>
            <p:nvPr/>
          </p:nvSpPr>
          <p:spPr>
            <a:xfrm>
              <a:off x="4117680" y="187812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椭圆 16421"/>
            <p:cNvSpPr/>
            <p:nvPr/>
          </p:nvSpPr>
          <p:spPr>
            <a:xfrm>
              <a:off x="4152960" y="189396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文本框 16422"/>
            <p:cNvSpPr/>
            <p:nvPr/>
          </p:nvSpPr>
          <p:spPr>
            <a:xfrm>
              <a:off x="4237200" y="195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文本框 16423"/>
            <p:cNvSpPr/>
            <p:nvPr/>
          </p:nvSpPr>
          <p:spPr>
            <a:xfrm>
              <a:off x="3429000" y="2625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组合 17410"/>
          <p:cNvGrpSpPr/>
          <p:nvPr/>
        </p:nvGrpSpPr>
        <p:grpSpPr>
          <a:xfrm>
            <a:off x="0" y="1905120"/>
            <a:ext cx="9144000" cy="3883320"/>
            <a:chOff x="0" y="1905120"/>
            <a:chExt cx="9144000" cy="3883320"/>
          </a:xfrm>
        </p:grpSpPr>
        <p:grpSp>
          <p:nvGrpSpPr>
            <p:cNvPr id="438" name="组合 17411"/>
            <p:cNvGrpSpPr/>
            <p:nvPr/>
          </p:nvGrpSpPr>
          <p:grpSpPr>
            <a:xfrm>
              <a:off x="0" y="3140280"/>
              <a:ext cx="9144000" cy="147240"/>
              <a:chOff x="0" y="3140280"/>
              <a:chExt cx="9144000" cy="147240"/>
            </a:xfrm>
          </p:grpSpPr>
          <p:sp>
            <p:nvSpPr>
              <p:cNvPr id="439" name="矩形 17412"/>
              <p:cNvSpPr/>
              <p:nvPr/>
            </p:nvSpPr>
            <p:spPr>
              <a:xfrm>
                <a:off x="0" y="3140280"/>
                <a:ext cx="9144000" cy="40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矩形 17413"/>
              <p:cNvSpPr/>
              <p:nvPr/>
            </p:nvSpPr>
            <p:spPr>
              <a:xfrm>
                <a:off x="0" y="3179880"/>
                <a:ext cx="9144000" cy="1076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组合 17414"/>
            <p:cNvGrpSpPr/>
            <p:nvPr/>
          </p:nvGrpSpPr>
          <p:grpSpPr>
            <a:xfrm>
              <a:off x="762120" y="2522520"/>
              <a:ext cx="1891800" cy="3265920"/>
              <a:chOff x="762120" y="2522520"/>
              <a:chExt cx="1891800" cy="3265920"/>
            </a:xfrm>
          </p:grpSpPr>
          <p:grpSp>
            <p:nvGrpSpPr>
              <p:cNvPr id="442" name="组合 17415"/>
              <p:cNvGrpSpPr/>
              <p:nvPr/>
            </p:nvGrpSpPr>
            <p:grpSpPr>
              <a:xfrm>
                <a:off x="1148760" y="3398760"/>
                <a:ext cx="1505160" cy="2389680"/>
                <a:chOff x="1148760" y="3398760"/>
                <a:chExt cx="1505160" cy="2389680"/>
              </a:xfrm>
            </p:grpSpPr>
            <p:grpSp>
              <p:nvGrpSpPr>
                <p:cNvPr id="443" name="组合 17416"/>
                <p:cNvGrpSpPr/>
                <p:nvPr/>
              </p:nvGrpSpPr>
              <p:grpSpPr>
                <a:xfrm>
                  <a:off x="1148760" y="3554640"/>
                  <a:ext cx="1400040" cy="2233800"/>
                  <a:chOff x="1148760" y="3554640"/>
                  <a:chExt cx="1400040" cy="2233800"/>
                </a:xfrm>
              </p:grpSpPr>
              <p:sp>
                <p:nvSpPr>
                  <p:cNvPr id="444" name="任意多边形 17417"/>
                  <p:cNvSpPr/>
                  <p:nvPr/>
                </p:nvSpPr>
                <p:spPr>
                  <a:xfrm rot="3876600">
                    <a:off x="727560" y="44283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任意多边形 17418"/>
                  <p:cNvSpPr/>
                  <p:nvPr/>
                </p:nvSpPr>
                <p:spPr>
                  <a:xfrm rot="3876600">
                    <a:off x="2075040" y="529452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组合 17419"/>
                <p:cNvGrpSpPr/>
                <p:nvPr/>
              </p:nvGrpSpPr>
              <p:grpSpPr>
                <a:xfrm>
                  <a:off x="1579680" y="3398760"/>
                  <a:ext cx="1074240" cy="1713960"/>
                  <a:chOff x="1579680" y="3398760"/>
                  <a:chExt cx="1074240" cy="1713960"/>
                </a:xfrm>
              </p:grpSpPr>
              <p:sp>
                <p:nvSpPr>
                  <p:cNvPr id="447" name="任意多边形 17420"/>
                  <p:cNvSpPr/>
                  <p:nvPr/>
                </p:nvSpPr>
                <p:spPr>
                  <a:xfrm flipV="1" rot="3876600">
                    <a:off x="1256400" y="406872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任意多边形 17421"/>
                  <p:cNvSpPr/>
                  <p:nvPr/>
                </p:nvSpPr>
                <p:spPr>
                  <a:xfrm flipV="1" rot="3876600">
                    <a:off x="2274840" y="474084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9" name="组合 17422"/>
              <p:cNvGrpSpPr/>
              <p:nvPr/>
            </p:nvGrpSpPr>
            <p:grpSpPr>
              <a:xfrm>
                <a:off x="762120" y="2522520"/>
                <a:ext cx="1289520" cy="1288440"/>
                <a:chOff x="762120" y="2522520"/>
                <a:chExt cx="1289520" cy="1288440"/>
              </a:xfrm>
            </p:grpSpPr>
            <p:sp>
              <p:nvSpPr>
                <p:cNvPr id="450" name="椭圆 17423"/>
                <p:cNvSpPr/>
                <p:nvPr/>
              </p:nvSpPr>
              <p:spPr>
                <a:xfrm>
                  <a:off x="762120" y="2522520"/>
                  <a:ext cx="128952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椭圆 17424"/>
                <p:cNvSpPr/>
                <p:nvPr/>
              </p:nvSpPr>
              <p:spPr>
                <a:xfrm>
                  <a:off x="762120" y="2522520"/>
                  <a:ext cx="128952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椭圆 17425"/>
                <p:cNvSpPr/>
                <p:nvPr/>
              </p:nvSpPr>
              <p:spPr>
                <a:xfrm>
                  <a:off x="847440" y="2606040"/>
                  <a:ext cx="111852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椭圆 17426"/>
                <p:cNvSpPr/>
                <p:nvPr/>
              </p:nvSpPr>
              <p:spPr>
                <a:xfrm>
                  <a:off x="847440" y="2608920"/>
                  <a:ext cx="111852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椭圆 17427"/>
                <p:cNvSpPr/>
                <p:nvPr/>
              </p:nvSpPr>
              <p:spPr>
                <a:xfrm>
                  <a:off x="902880" y="2663280"/>
                  <a:ext cx="1007640" cy="1006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5" name="组合 17428"/>
                <p:cNvGrpSpPr/>
                <p:nvPr/>
              </p:nvGrpSpPr>
              <p:grpSpPr>
                <a:xfrm>
                  <a:off x="918360" y="2678400"/>
                  <a:ext cx="976680" cy="977040"/>
                  <a:chOff x="918360" y="2678400"/>
                  <a:chExt cx="976680" cy="977040"/>
                </a:xfrm>
              </p:grpSpPr>
              <p:sp>
                <p:nvSpPr>
                  <p:cNvPr id="456" name="椭圆 17429"/>
                  <p:cNvSpPr/>
                  <p:nvPr/>
                </p:nvSpPr>
                <p:spPr>
                  <a:xfrm>
                    <a:off x="918360" y="2678400"/>
                    <a:ext cx="976680" cy="97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椭圆 17430"/>
                  <p:cNvSpPr/>
                  <p:nvPr/>
                </p:nvSpPr>
                <p:spPr>
                  <a:xfrm>
                    <a:off x="930600" y="2683800"/>
                    <a:ext cx="953280" cy="95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椭圆 17431"/>
                  <p:cNvSpPr/>
                  <p:nvPr/>
                </p:nvSpPr>
                <p:spPr>
                  <a:xfrm>
                    <a:off x="940680" y="2693160"/>
                    <a:ext cx="906480" cy="890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椭圆 17432"/>
                  <p:cNvSpPr/>
                  <p:nvPr/>
                </p:nvSpPr>
                <p:spPr>
                  <a:xfrm>
                    <a:off x="993960" y="2718000"/>
                    <a:ext cx="805680" cy="72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0" name="文本框 17433"/>
              <p:cNvSpPr/>
              <p:nvPr/>
            </p:nvSpPr>
            <p:spPr>
              <a:xfrm rot="3925800">
                <a:off x="1147320" y="43808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文本框 17434"/>
              <p:cNvSpPr/>
              <p:nvPr/>
            </p:nvSpPr>
            <p:spPr>
              <a:xfrm rot="3925800">
                <a:off x="1630440" y="4106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2" name="组合 17435"/>
            <p:cNvGrpSpPr/>
            <p:nvPr/>
          </p:nvGrpSpPr>
          <p:grpSpPr>
            <a:xfrm>
              <a:off x="2644920" y="2522520"/>
              <a:ext cx="1977840" cy="3195720"/>
              <a:chOff x="2644920" y="2522520"/>
              <a:chExt cx="1977840" cy="3195720"/>
            </a:xfrm>
          </p:grpSpPr>
          <p:grpSp>
            <p:nvGrpSpPr>
              <p:cNvPr id="463" name="组合 17436"/>
              <p:cNvGrpSpPr/>
              <p:nvPr/>
            </p:nvGrpSpPr>
            <p:grpSpPr>
              <a:xfrm>
                <a:off x="3117960" y="3328920"/>
                <a:ext cx="1504800" cy="2389320"/>
                <a:chOff x="3117960" y="3328920"/>
                <a:chExt cx="1504800" cy="2389320"/>
              </a:xfrm>
            </p:grpSpPr>
            <p:grpSp>
              <p:nvGrpSpPr>
                <p:cNvPr id="464" name="组合 17437"/>
                <p:cNvGrpSpPr/>
                <p:nvPr/>
              </p:nvGrpSpPr>
              <p:grpSpPr>
                <a:xfrm>
                  <a:off x="3117960" y="3484440"/>
                  <a:ext cx="1400040" cy="2233800"/>
                  <a:chOff x="3117960" y="3484440"/>
                  <a:chExt cx="1400040" cy="2233800"/>
                </a:xfrm>
              </p:grpSpPr>
              <p:sp>
                <p:nvSpPr>
                  <p:cNvPr id="465" name="任意多边形 17438"/>
                  <p:cNvSpPr/>
                  <p:nvPr/>
                </p:nvSpPr>
                <p:spPr>
                  <a:xfrm rot="3876600">
                    <a:off x="2696760" y="43581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任意多边形 17439"/>
                  <p:cNvSpPr/>
                  <p:nvPr/>
                </p:nvSpPr>
                <p:spPr>
                  <a:xfrm rot="3876600">
                    <a:off x="4044240" y="522468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组合 17440"/>
                <p:cNvGrpSpPr/>
                <p:nvPr/>
              </p:nvGrpSpPr>
              <p:grpSpPr>
                <a:xfrm>
                  <a:off x="3548520" y="3328920"/>
                  <a:ext cx="1074240" cy="1713960"/>
                  <a:chOff x="3548520" y="3328920"/>
                  <a:chExt cx="1074240" cy="1713960"/>
                </a:xfrm>
              </p:grpSpPr>
              <p:sp>
                <p:nvSpPr>
                  <p:cNvPr id="468" name="任意多边形 17441"/>
                  <p:cNvSpPr/>
                  <p:nvPr/>
                </p:nvSpPr>
                <p:spPr>
                  <a:xfrm flipV="1" rot="3876600">
                    <a:off x="3225240" y="399888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任意多边形 17442"/>
                  <p:cNvSpPr/>
                  <p:nvPr/>
                </p:nvSpPr>
                <p:spPr>
                  <a:xfrm flipV="1" rot="3876600">
                    <a:off x="4243680" y="467100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0" name="组合 17443"/>
              <p:cNvGrpSpPr/>
              <p:nvPr/>
            </p:nvGrpSpPr>
            <p:grpSpPr>
              <a:xfrm>
                <a:off x="2644920" y="2522520"/>
                <a:ext cx="1290960" cy="1288440"/>
                <a:chOff x="2644920" y="2522520"/>
                <a:chExt cx="1290960" cy="1288440"/>
              </a:xfrm>
            </p:grpSpPr>
            <p:sp>
              <p:nvSpPr>
                <p:cNvPr id="471" name="椭圆 17444"/>
                <p:cNvSpPr/>
                <p:nvPr/>
              </p:nvSpPr>
              <p:spPr>
                <a:xfrm>
                  <a:off x="2644920" y="2522520"/>
                  <a:ext cx="12909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椭圆 17445"/>
                <p:cNvSpPr/>
                <p:nvPr/>
              </p:nvSpPr>
              <p:spPr>
                <a:xfrm>
                  <a:off x="2644920" y="2522520"/>
                  <a:ext cx="12909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椭圆 17446"/>
                <p:cNvSpPr/>
                <p:nvPr/>
              </p:nvSpPr>
              <p:spPr>
                <a:xfrm>
                  <a:off x="2730240" y="2606040"/>
                  <a:ext cx="111960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椭圆 17447"/>
                <p:cNvSpPr/>
                <p:nvPr/>
              </p:nvSpPr>
              <p:spPr>
                <a:xfrm>
                  <a:off x="2730240" y="2608920"/>
                  <a:ext cx="111960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椭圆 17448"/>
                <p:cNvSpPr/>
                <p:nvPr/>
              </p:nvSpPr>
              <p:spPr>
                <a:xfrm>
                  <a:off x="2785680" y="2663280"/>
                  <a:ext cx="1008720" cy="1006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组合 17449"/>
                <p:cNvGrpSpPr/>
                <p:nvPr/>
              </p:nvGrpSpPr>
              <p:grpSpPr>
                <a:xfrm>
                  <a:off x="2801160" y="2678400"/>
                  <a:ext cx="977760" cy="977040"/>
                  <a:chOff x="2801160" y="2678400"/>
                  <a:chExt cx="977760" cy="977040"/>
                </a:xfrm>
              </p:grpSpPr>
              <p:sp>
                <p:nvSpPr>
                  <p:cNvPr id="477" name="椭圆 17450"/>
                  <p:cNvSpPr/>
                  <p:nvPr/>
                </p:nvSpPr>
                <p:spPr>
                  <a:xfrm>
                    <a:off x="2801160" y="2678400"/>
                    <a:ext cx="977760" cy="97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椭圆 17451"/>
                  <p:cNvSpPr/>
                  <p:nvPr/>
                </p:nvSpPr>
                <p:spPr>
                  <a:xfrm>
                    <a:off x="2813400" y="2683800"/>
                    <a:ext cx="954360" cy="95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椭圆 17452"/>
                  <p:cNvSpPr/>
                  <p:nvPr/>
                </p:nvSpPr>
                <p:spPr>
                  <a:xfrm>
                    <a:off x="2823480" y="2693160"/>
                    <a:ext cx="907560" cy="890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椭圆 17453"/>
                  <p:cNvSpPr/>
                  <p:nvPr/>
                </p:nvSpPr>
                <p:spPr>
                  <a:xfrm>
                    <a:off x="2876760" y="2718000"/>
                    <a:ext cx="806760" cy="72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1" name="文本框 17454"/>
              <p:cNvSpPr/>
              <p:nvPr/>
            </p:nvSpPr>
            <p:spPr>
              <a:xfrm rot="3925800">
                <a:off x="3053880" y="4309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文本框 17455"/>
              <p:cNvSpPr/>
              <p:nvPr/>
            </p:nvSpPr>
            <p:spPr>
              <a:xfrm rot="3925800">
                <a:off x="3534840" y="4034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3" name="组合 17456"/>
            <p:cNvGrpSpPr/>
            <p:nvPr/>
          </p:nvGrpSpPr>
          <p:grpSpPr>
            <a:xfrm>
              <a:off x="4591080" y="2522520"/>
              <a:ext cx="1976400" cy="3195720"/>
              <a:chOff x="4591080" y="2522520"/>
              <a:chExt cx="1976400" cy="3195720"/>
            </a:xfrm>
          </p:grpSpPr>
          <p:grpSp>
            <p:nvGrpSpPr>
              <p:cNvPr id="484" name="组合 17457"/>
              <p:cNvGrpSpPr/>
              <p:nvPr/>
            </p:nvGrpSpPr>
            <p:grpSpPr>
              <a:xfrm>
                <a:off x="5062680" y="3328920"/>
                <a:ext cx="1504800" cy="2389320"/>
                <a:chOff x="5062680" y="3328920"/>
                <a:chExt cx="1504800" cy="2389320"/>
              </a:xfrm>
            </p:grpSpPr>
            <p:grpSp>
              <p:nvGrpSpPr>
                <p:cNvPr id="485" name="组合 17458"/>
                <p:cNvGrpSpPr/>
                <p:nvPr/>
              </p:nvGrpSpPr>
              <p:grpSpPr>
                <a:xfrm>
                  <a:off x="5062680" y="3484440"/>
                  <a:ext cx="1400040" cy="2233800"/>
                  <a:chOff x="5062680" y="3484440"/>
                  <a:chExt cx="1400040" cy="2233800"/>
                </a:xfrm>
              </p:grpSpPr>
              <p:sp>
                <p:nvSpPr>
                  <p:cNvPr id="486" name="任意多边形 17459"/>
                  <p:cNvSpPr/>
                  <p:nvPr/>
                </p:nvSpPr>
                <p:spPr>
                  <a:xfrm rot="3876600">
                    <a:off x="4641480" y="43581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任意多边形 17460"/>
                  <p:cNvSpPr/>
                  <p:nvPr/>
                </p:nvSpPr>
                <p:spPr>
                  <a:xfrm rot="3876600">
                    <a:off x="5988960" y="522468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组合 17461"/>
                <p:cNvGrpSpPr/>
                <p:nvPr/>
              </p:nvGrpSpPr>
              <p:grpSpPr>
                <a:xfrm>
                  <a:off x="5493240" y="3328920"/>
                  <a:ext cx="1074240" cy="1713960"/>
                  <a:chOff x="5493240" y="3328920"/>
                  <a:chExt cx="1074240" cy="1713960"/>
                </a:xfrm>
              </p:grpSpPr>
              <p:sp>
                <p:nvSpPr>
                  <p:cNvPr id="489" name="任意多边形 17462"/>
                  <p:cNvSpPr/>
                  <p:nvPr/>
                </p:nvSpPr>
                <p:spPr>
                  <a:xfrm flipV="1" rot="3876600">
                    <a:off x="5169960" y="399888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任意多边形 17463"/>
                  <p:cNvSpPr/>
                  <p:nvPr/>
                </p:nvSpPr>
                <p:spPr>
                  <a:xfrm flipV="1" rot="3876600">
                    <a:off x="6188400" y="467100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1" name="组合 17464"/>
              <p:cNvGrpSpPr/>
              <p:nvPr/>
            </p:nvGrpSpPr>
            <p:grpSpPr>
              <a:xfrm>
                <a:off x="4591080" y="2522520"/>
                <a:ext cx="1289160" cy="1288440"/>
                <a:chOff x="4591080" y="2522520"/>
                <a:chExt cx="1289160" cy="1288440"/>
              </a:xfrm>
            </p:grpSpPr>
            <p:sp>
              <p:nvSpPr>
                <p:cNvPr id="492" name="椭圆 17465"/>
                <p:cNvSpPr/>
                <p:nvPr/>
              </p:nvSpPr>
              <p:spPr>
                <a:xfrm>
                  <a:off x="4591080" y="2522520"/>
                  <a:ext cx="12891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椭圆 17466"/>
                <p:cNvSpPr/>
                <p:nvPr/>
              </p:nvSpPr>
              <p:spPr>
                <a:xfrm>
                  <a:off x="4591080" y="2522520"/>
                  <a:ext cx="12891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椭圆 17467"/>
                <p:cNvSpPr/>
                <p:nvPr/>
              </p:nvSpPr>
              <p:spPr>
                <a:xfrm>
                  <a:off x="4676400" y="2606040"/>
                  <a:ext cx="111816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椭圆 17468"/>
                <p:cNvSpPr/>
                <p:nvPr/>
              </p:nvSpPr>
              <p:spPr>
                <a:xfrm>
                  <a:off x="4676400" y="2608920"/>
                  <a:ext cx="111816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椭圆 17469"/>
                <p:cNvSpPr/>
                <p:nvPr/>
              </p:nvSpPr>
              <p:spPr>
                <a:xfrm>
                  <a:off x="4731840" y="2663280"/>
                  <a:ext cx="1007280" cy="1006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7" name="组合 17470"/>
                <p:cNvGrpSpPr/>
                <p:nvPr/>
              </p:nvGrpSpPr>
              <p:grpSpPr>
                <a:xfrm>
                  <a:off x="4747320" y="2678400"/>
                  <a:ext cx="976320" cy="977040"/>
                  <a:chOff x="4747320" y="2678400"/>
                  <a:chExt cx="976320" cy="977040"/>
                </a:xfrm>
              </p:grpSpPr>
              <p:sp>
                <p:nvSpPr>
                  <p:cNvPr id="498" name="椭圆 17471"/>
                  <p:cNvSpPr/>
                  <p:nvPr/>
                </p:nvSpPr>
                <p:spPr>
                  <a:xfrm>
                    <a:off x="4747320" y="2678400"/>
                    <a:ext cx="976320" cy="97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椭圆 17472"/>
                  <p:cNvSpPr/>
                  <p:nvPr/>
                </p:nvSpPr>
                <p:spPr>
                  <a:xfrm>
                    <a:off x="4759560" y="2683800"/>
                    <a:ext cx="952920" cy="95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椭圆 17473"/>
                  <p:cNvSpPr/>
                  <p:nvPr/>
                </p:nvSpPr>
                <p:spPr>
                  <a:xfrm>
                    <a:off x="4769640" y="2693160"/>
                    <a:ext cx="906120" cy="890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椭圆 17474"/>
                  <p:cNvSpPr/>
                  <p:nvPr/>
                </p:nvSpPr>
                <p:spPr>
                  <a:xfrm>
                    <a:off x="4822920" y="2718000"/>
                    <a:ext cx="805320" cy="72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2" name="文本框 17475"/>
              <p:cNvSpPr/>
              <p:nvPr/>
            </p:nvSpPr>
            <p:spPr>
              <a:xfrm rot="3925800">
                <a:off x="5037120" y="43110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文本框 17476"/>
              <p:cNvSpPr/>
              <p:nvPr/>
            </p:nvSpPr>
            <p:spPr>
              <a:xfrm rot="3925800">
                <a:off x="5515920" y="4034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4" name="组合 17477"/>
            <p:cNvGrpSpPr/>
            <p:nvPr/>
          </p:nvGrpSpPr>
          <p:grpSpPr>
            <a:xfrm>
              <a:off x="6519960" y="2381400"/>
              <a:ext cx="2168280" cy="3402360"/>
              <a:chOff x="6519960" y="2381400"/>
              <a:chExt cx="2168280" cy="3402360"/>
            </a:xfrm>
          </p:grpSpPr>
          <p:grpSp>
            <p:nvGrpSpPr>
              <p:cNvPr id="505" name="组合 17478"/>
              <p:cNvGrpSpPr/>
              <p:nvPr/>
            </p:nvGrpSpPr>
            <p:grpSpPr>
              <a:xfrm>
                <a:off x="7185960" y="3398040"/>
                <a:ext cx="1502280" cy="2385720"/>
                <a:chOff x="7185960" y="3398040"/>
                <a:chExt cx="1502280" cy="2385720"/>
              </a:xfrm>
            </p:grpSpPr>
            <p:grpSp>
              <p:nvGrpSpPr>
                <p:cNvPr id="506" name="组合 17479"/>
                <p:cNvGrpSpPr/>
                <p:nvPr/>
              </p:nvGrpSpPr>
              <p:grpSpPr>
                <a:xfrm>
                  <a:off x="7185960" y="3553560"/>
                  <a:ext cx="1397880" cy="2230200"/>
                  <a:chOff x="7185960" y="3553560"/>
                  <a:chExt cx="1397880" cy="2230200"/>
                </a:xfrm>
              </p:grpSpPr>
              <p:sp>
                <p:nvSpPr>
                  <p:cNvPr id="507" name="任意多边形 17480"/>
                  <p:cNvSpPr/>
                  <p:nvPr/>
                </p:nvSpPr>
                <p:spPr>
                  <a:xfrm rot="3876600">
                    <a:off x="6765480" y="4425840"/>
                    <a:ext cx="2238480" cy="48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任意多边形 17481"/>
                  <p:cNvSpPr/>
                  <p:nvPr/>
                </p:nvSpPr>
                <p:spPr>
                  <a:xfrm rot="3876600">
                    <a:off x="8110080" y="5291280"/>
                    <a:ext cx="35172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组合 17482"/>
                <p:cNvGrpSpPr/>
                <p:nvPr/>
              </p:nvGrpSpPr>
              <p:grpSpPr>
                <a:xfrm>
                  <a:off x="7615800" y="3398040"/>
                  <a:ext cx="1072440" cy="1711440"/>
                  <a:chOff x="7615800" y="3398040"/>
                  <a:chExt cx="1072440" cy="1711440"/>
                </a:xfrm>
              </p:grpSpPr>
              <p:sp>
                <p:nvSpPr>
                  <p:cNvPr id="510" name="任意多边形 17483"/>
                  <p:cNvSpPr/>
                  <p:nvPr/>
                </p:nvSpPr>
                <p:spPr>
                  <a:xfrm flipV="1" rot="3876600">
                    <a:off x="7292880" y="4067640"/>
                    <a:ext cx="1717920" cy="37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任意多边形 17484"/>
                  <p:cNvSpPr/>
                  <p:nvPr/>
                </p:nvSpPr>
                <p:spPr>
                  <a:xfrm flipV="1" rot="3876600">
                    <a:off x="8309520" y="4738680"/>
                    <a:ext cx="270000" cy="30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2" name="椭圆 17485"/>
              <p:cNvSpPr/>
              <p:nvPr/>
            </p:nvSpPr>
            <p:spPr>
              <a:xfrm>
                <a:off x="6519960" y="2381400"/>
                <a:ext cx="1549440" cy="154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椭圆 17486"/>
              <p:cNvSpPr/>
              <p:nvPr/>
            </p:nvSpPr>
            <p:spPr>
              <a:xfrm>
                <a:off x="6519960" y="2381400"/>
                <a:ext cx="1549440" cy="15447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椭圆 17487"/>
              <p:cNvSpPr/>
              <p:nvPr/>
            </p:nvSpPr>
            <p:spPr>
              <a:xfrm>
                <a:off x="6616800" y="2482920"/>
                <a:ext cx="1344600" cy="13413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椭圆 17488"/>
              <p:cNvSpPr/>
              <p:nvPr/>
            </p:nvSpPr>
            <p:spPr>
              <a:xfrm>
                <a:off x="6618240" y="2484720"/>
                <a:ext cx="1344600" cy="134136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椭圆 17489"/>
              <p:cNvSpPr/>
              <p:nvPr/>
            </p:nvSpPr>
            <p:spPr>
              <a:xfrm>
                <a:off x="6680160" y="2549520"/>
                <a:ext cx="1211400" cy="1208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7" name="组合 17490"/>
              <p:cNvGrpSpPr/>
              <p:nvPr/>
            </p:nvGrpSpPr>
            <p:grpSpPr>
              <a:xfrm>
                <a:off x="6697800" y="2568600"/>
                <a:ext cx="1173240" cy="1171800"/>
                <a:chOff x="6697800" y="2568600"/>
                <a:chExt cx="1173240" cy="1171800"/>
              </a:xfrm>
            </p:grpSpPr>
            <p:sp>
              <p:nvSpPr>
                <p:cNvPr id="518" name="椭圆 17491"/>
                <p:cNvSpPr/>
                <p:nvPr/>
              </p:nvSpPr>
              <p:spPr>
                <a:xfrm>
                  <a:off x="6697800" y="2568600"/>
                  <a:ext cx="1173240" cy="117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椭圆 17492"/>
                <p:cNvSpPr/>
                <p:nvPr/>
              </p:nvSpPr>
              <p:spPr>
                <a:xfrm>
                  <a:off x="6712560" y="2575080"/>
                  <a:ext cx="1144800" cy="114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椭圆 17493"/>
                <p:cNvSpPr/>
                <p:nvPr/>
              </p:nvSpPr>
              <p:spPr>
                <a:xfrm>
                  <a:off x="6724800" y="2586240"/>
                  <a:ext cx="1089000" cy="106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椭圆 17494"/>
                <p:cNvSpPr/>
                <p:nvPr/>
              </p:nvSpPr>
              <p:spPr>
                <a:xfrm>
                  <a:off x="6788520" y="2616120"/>
                  <a:ext cx="968040" cy="86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2" name="文本框 17495"/>
              <p:cNvSpPr/>
              <p:nvPr/>
            </p:nvSpPr>
            <p:spPr>
              <a:xfrm rot="3925800">
                <a:off x="7140240" y="43650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文本框 17496"/>
              <p:cNvSpPr/>
              <p:nvPr/>
            </p:nvSpPr>
            <p:spPr>
              <a:xfrm rot="3925800">
                <a:off x="7647480" y="41544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4" name="文本框 17497"/>
            <p:cNvSpPr/>
            <p:nvPr/>
          </p:nvSpPr>
          <p:spPr>
            <a:xfrm>
              <a:off x="1046160" y="19432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文本框 17498"/>
            <p:cNvSpPr/>
            <p:nvPr/>
          </p:nvSpPr>
          <p:spPr>
            <a:xfrm>
              <a:off x="2936880" y="19432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文本框 17499"/>
            <p:cNvSpPr/>
            <p:nvPr/>
          </p:nvSpPr>
          <p:spPr>
            <a:xfrm>
              <a:off x="4817880" y="19432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文本框 17500"/>
            <p:cNvSpPr/>
            <p:nvPr/>
          </p:nvSpPr>
          <p:spPr>
            <a:xfrm>
              <a:off x="6764760" y="19051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8" name="直接箭头连接符 17501"/>
            <p:cNvCxnSpPr>
              <a:stCxn id="524" idx="3"/>
              <a:endCxn id="525" idx="1"/>
            </p:cNvCxnSpPr>
            <p:nvPr/>
          </p:nvCxnSpPr>
          <p:spPr>
            <a:xfrm>
              <a:off x="1743120" y="2107800"/>
              <a:ext cx="11624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529" name="直接箭头连接符 17502"/>
            <p:cNvCxnSpPr>
              <a:stCxn id="525" idx="3"/>
              <a:endCxn id="526" idx="1"/>
            </p:cNvCxnSpPr>
            <p:nvPr/>
          </p:nvCxnSpPr>
          <p:spPr>
            <a:xfrm>
              <a:off x="3634920" y="2107800"/>
              <a:ext cx="11516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530" name="直接箭头连接符 17503"/>
            <p:cNvCxnSpPr>
              <a:stCxn id="526" idx="3"/>
              <a:endCxn id="527" idx="1"/>
            </p:cNvCxnSpPr>
            <p:nvPr/>
          </p:nvCxnSpPr>
          <p:spPr>
            <a:xfrm>
              <a:off x="5516280" y="2107800"/>
              <a:ext cx="1159560" cy="252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燕尾形 18434"/>
          <p:cNvSpPr/>
          <p:nvPr/>
        </p:nvSpPr>
        <p:spPr>
          <a:xfrm>
            <a:off x="5486400" y="2743200"/>
            <a:ext cx="2590920" cy="26668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4" y="0"/>
                </a:lnTo>
                <a:lnTo>
                  <a:pt x="21600" y="10800"/>
                </a:lnTo>
                <a:lnTo>
                  <a:pt x="18044" y="21600"/>
                </a:lnTo>
                <a:lnTo>
                  <a:pt x="0" y="21600"/>
                </a:lnTo>
                <a:lnTo>
                  <a:pt x="3556" y="10800"/>
                </a:lnTo>
                <a:close/>
              </a:path>
            </a:pathLst>
          </a:custGeom>
          <a:solidFill>
            <a:srgbClr val="99998d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燕尾形 18435"/>
          <p:cNvSpPr/>
          <p:nvPr/>
        </p:nvSpPr>
        <p:spPr>
          <a:xfrm>
            <a:off x="3429000" y="2743200"/>
            <a:ext cx="2590920" cy="26668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6" y="0"/>
                </a:lnTo>
                <a:lnTo>
                  <a:pt x="21600" y="10800"/>
                </a:lnTo>
                <a:lnTo>
                  <a:pt x="17846" y="21600"/>
                </a:lnTo>
                <a:lnTo>
                  <a:pt x="0" y="21600"/>
                </a:lnTo>
                <a:lnTo>
                  <a:pt x="3754" y="10800"/>
                </a:lnTo>
                <a:close/>
              </a:path>
            </a:pathLst>
          </a:custGeom>
          <a:solidFill>
            <a:srgbClr val="ffcc66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燕尾形 18436"/>
          <p:cNvSpPr/>
          <p:nvPr/>
        </p:nvSpPr>
        <p:spPr>
          <a:xfrm>
            <a:off x="1295280" y="2743200"/>
            <a:ext cx="2667240" cy="266688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6" y="0"/>
                </a:lnTo>
                <a:lnTo>
                  <a:pt x="21600" y="10800"/>
                </a:lnTo>
                <a:lnTo>
                  <a:pt x="17846" y="21600"/>
                </a:lnTo>
                <a:lnTo>
                  <a:pt x="0" y="21600"/>
                </a:lnTo>
                <a:lnTo>
                  <a:pt x="3754" y="10800"/>
                </a:lnTo>
                <a:close/>
              </a:path>
            </a:pathLst>
          </a:custGeom>
          <a:solidFill>
            <a:srgbClr val="809ea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圆角矩形 18437"/>
          <p:cNvSpPr/>
          <p:nvPr/>
        </p:nvSpPr>
        <p:spPr>
          <a:xfrm>
            <a:off x="1430280" y="1905120"/>
            <a:ext cx="1846440" cy="533160"/>
          </a:xfrm>
          <a:prstGeom prst="roundRect">
            <a:avLst>
              <a:gd name="adj" fmla="val 50000"/>
            </a:avLst>
          </a:prstGeom>
          <a:solidFill>
            <a:srgbClr val="809ea8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圆角矩形 18438"/>
          <p:cNvSpPr/>
          <p:nvPr/>
        </p:nvSpPr>
        <p:spPr>
          <a:xfrm>
            <a:off x="3597120" y="1905120"/>
            <a:ext cx="1846440" cy="533160"/>
          </a:xfrm>
          <a:prstGeom prst="roundRect">
            <a:avLst>
              <a:gd name="adj" fmla="val 50000"/>
            </a:avLst>
          </a:prstGeom>
          <a:solidFill>
            <a:srgbClr val="ffcc66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圆角矩形 18439"/>
          <p:cNvSpPr/>
          <p:nvPr/>
        </p:nvSpPr>
        <p:spPr>
          <a:xfrm>
            <a:off x="5638680" y="1905120"/>
            <a:ext cx="1846440" cy="533160"/>
          </a:xfrm>
          <a:prstGeom prst="roundRect">
            <a:avLst>
              <a:gd name="adj" fmla="val 50000"/>
            </a:avLst>
          </a:prstGeom>
          <a:solidFill>
            <a:srgbClr val="99998d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文本框 18440"/>
          <p:cNvSpPr/>
          <p:nvPr/>
        </p:nvSpPr>
        <p:spPr>
          <a:xfrm>
            <a:off x="755640" y="981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cc66"/>
                </a:solidFill>
                <a:uFillTx/>
                <a:latin typeface="Arial"/>
                <a:ea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圆角矩形 19458"/>
          <p:cNvSpPr/>
          <p:nvPr/>
        </p:nvSpPr>
        <p:spPr>
          <a:xfrm>
            <a:off x="6477120" y="3200400"/>
            <a:ext cx="1511280" cy="2514600"/>
          </a:xfrm>
          <a:custGeom>
            <a:avLst/>
            <a:gdLst>
              <a:gd name="textAreaLeft" fmla="*/ 60840 w 1511280"/>
              <a:gd name="textAreaRight" fmla="*/ 1450440 w 1511280"/>
              <a:gd name="textAreaTop" fmla="*/ 60840 h 2514600"/>
              <a:gd name="textAreaBottom" fmla="*/ 2453760 h 2514600"/>
            </a:gdLst>
            <a:ahLst/>
            <a:rect l="textAreaLeft" t="textAreaTop" r="textAreaRight" b="textAreaBottom"/>
            <a:pathLst>
              <a:path w="21600" h="35937">
                <a:moveTo>
                  <a:pt x="2969" y="0"/>
                </a:moveTo>
                <a:arcTo wR="2969" hR="2969" stAng="16200000" swAng="-5400000"/>
                <a:lnTo>
                  <a:pt x="0" y="32968"/>
                </a:lnTo>
                <a:arcTo wR="2969" hR="2969" stAng="10800000" swAng="-5400000"/>
                <a:lnTo>
                  <a:pt x="18631" y="3593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圆角矩形 19459"/>
          <p:cNvSpPr/>
          <p:nvPr/>
        </p:nvSpPr>
        <p:spPr>
          <a:xfrm>
            <a:off x="4799160" y="3200400"/>
            <a:ext cx="1525320" cy="2514600"/>
          </a:xfrm>
          <a:custGeom>
            <a:avLst/>
            <a:gdLst>
              <a:gd name="textAreaLeft" fmla="*/ 61200 w 1525320"/>
              <a:gd name="textAreaRight" fmla="*/ 1464120 w 15253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606">
                <a:moveTo>
                  <a:pt x="2969" y="0"/>
                </a:moveTo>
                <a:arcTo wR="2969" hR="2969" stAng="16200000" swAng="-5400000"/>
                <a:lnTo>
                  <a:pt x="0" y="32637"/>
                </a:lnTo>
                <a:arcTo wR="2969" hR="2969" stAng="10800000" swAng="-5400000"/>
                <a:lnTo>
                  <a:pt x="18631" y="356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圆角矩形 19460"/>
          <p:cNvSpPr/>
          <p:nvPr/>
        </p:nvSpPr>
        <p:spPr>
          <a:xfrm>
            <a:off x="3048120" y="3200400"/>
            <a:ext cx="1595160" cy="2514600"/>
          </a:xfrm>
          <a:custGeom>
            <a:avLst/>
            <a:gdLst>
              <a:gd name="textAreaLeft" fmla="*/ 64080 w 1595160"/>
              <a:gd name="textAreaRight" fmla="*/ 1531080 w 1595160"/>
              <a:gd name="textAreaTop" fmla="*/ 64080 h 2514600"/>
              <a:gd name="textAreaBottom" fmla="*/ 2450520 h 2514600"/>
            </a:gdLst>
            <a:ahLst/>
            <a:rect l="textAreaLeft" t="textAreaTop" r="textAreaRight" b="textAreaBottom"/>
            <a:pathLst>
              <a:path w="21600" h="34047">
                <a:moveTo>
                  <a:pt x="2969" y="0"/>
                </a:moveTo>
                <a:arcTo wR="2969" hR="2969" stAng="16200000" swAng="-5400000"/>
                <a:lnTo>
                  <a:pt x="0" y="31078"/>
                </a:lnTo>
                <a:arcTo wR="2969" hR="2969" stAng="10800000" swAng="-5400000"/>
                <a:lnTo>
                  <a:pt x="18631" y="3404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圆角矩形 19461"/>
          <p:cNvSpPr/>
          <p:nvPr/>
        </p:nvSpPr>
        <p:spPr>
          <a:xfrm>
            <a:off x="1295280" y="3200400"/>
            <a:ext cx="1676520" cy="251460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14600"/>
              <a:gd name="textAreaBottom" fmla="*/ 2447280 h 2514600"/>
            </a:gdLst>
            <a:ahLst/>
            <a:rect l="textAreaLeft" t="textAreaTop" r="textAreaRight" b="textAreaBottom"/>
            <a:pathLst>
              <a:path w="21600" h="32395">
                <a:moveTo>
                  <a:pt x="2969" y="0"/>
                </a:moveTo>
                <a:arcTo wR="2969" hR="2969" stAng="16200000" swAng="-5400000"/>
                <a:lnTo>
                  <a:pt x="0" y="29426"/>
                </a:lnTo>
                <a:arcTo wR="2969" hR="2969" stAng="10800000" swAng="-5400000"/>
                <a:lnTo>
                  <a:pt x="18631" y="3239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" name="组合 19462"/>
          <p:cNvGrpSpPr/>
          <p:nvPr/>
        </p:nvGrpSpPr>
        <p:grpSpPr>
          <a:xfrm>
            <a:off x="1519920" y="1718280"/>
            <a:ext cx="6014520" cy="1287720"/>
            <a:chOff x="1519920" y="1718280"/>
            <a:chExt cx="6014520" cy="1287720"/>
          </a:xfrm>
        </p:grpSpPr>
        <p:grpSp>
          <p:nvGrpSpPr>
            <p:cNvPr id="545" name="组合 19463"/>
            <p:cNvGrpSpPr/>
            <p:nvPr/>
          </p:nvGrpSpPr>
          <p:grpSpPr>
            <a:xfrm>
              <a:off x="1519920" y="1718280"/>
              <a:ext cx="6014520" cy="1287720"/>
              <a:chOff x="1519920" y="1718280"/>
              <a:chExt cx="6014520" cy="1287720"/>
            </a:xfrm>
          </p:grpSpPr>
          <p:sp>
            <p:nvSpPr>
              <p:cNvPr id="546" name="矩形 19464"/>
              <p:cNvSpPr/>
              <p:nvPr/>
            </p:nvSpPr>
            <p:spPr>
              <a:xfrm rot="3418800">
                <a:off x="1719360" y="1923120"/>
                <a:ext cx="853200" cy="93888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765e2f"/>
                  </a:gs>
                </a:gsLst>
                <a:lin ang="19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7" name="组合 19465"/>
              <p:cNvGrpSpPr/>
              <p:nvPr/>
            </p:nvGrpSpPr>
            <p:grpSpPr>
              <a:xfrm>
                <a:off x="2615400" y="2088000"/>
                <a:ext cx="871560" cy="121320"/>
                <a:chOff x="2615400" y="2088000"/>
                <a:chExt cx="871560" cy="121320"/>
              </a:xfrm>
            </p:grpSpPr>
            <p:sp>
              <p:nvSpPr>
                <p:cNvPr id="548" name="椭圆 19466"/>
                <p:cNvSpPr/>
                <p:nvPr/>
              </p:nvSpPr>
              <p:spPr>
                <a:xfrm>
                  <a:off x="2615400" y="2088000"/>
                  <a:ext cx="14688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矩形 19467"/>
                <p:cNvSpPr/>
                <p:nvPr/>
              </p:nvSpPr>
              <p:spPr>
                <a:xfrm>
                  <a:off x="2698920" y="2088720"/>
                  <a:ext cx="72252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椭圆 19468"/>
                <p:cNvSpPr/>
                <p:nvPr/>
              </p:nvSpPr>
              <p:spPr>
                <a:xfrm>
                  <a:off x="3354840" y="2089800"/>
                  <a:ext cx="13212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0322b"/>
                    </a:gs>
                    <a:gs pos="50000">
                      <a:srgbClr val="686b5d"/>
                    </a:gs>
                    <a:gs pos="100000">
                      <a:srgbClr val="30322b"/>
                    </a:gs>
                  </a:gsLst>
                  <a:lin ang="5400000"/>
                </a:gradFill>
                <a:ln w="12600">
                  <a:solidFill>
                    <a:srgbClr val="686b5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椭圆 19469"/>
                <p:cNvSpPr/>
                <p:nvPr/>
              </p:nvSpPr>
              <p:spPr>
                <a:xfrm>
                  <a:off x="3425400" y="2127960"/>
                  <a:ext cx="3708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0322b"/>
                    </a:gs>
                    <a:gs pos="50000">
                      <a:srgbClr val="686b5d"/>
                    </a:gs>
                    <a:gs pos="100000">
                      <a:srgbClr val="3032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矩形 19470"/>
              <p:cNvSpPr/>
              <p:nvPr/>
            </p:nvSpPr>
            <p:spPr>
              <a:xfrm rot="3418800">
                <a:off x="3329280" y="1862280"/>
                <a:ext cx="853200" cy="938880"/>
              </a:xfrm>
              <a:prstGeom prst="rect">
                <a:avLst/>
              </a:prstGeom>
              <a:gradFill rotWithShape="0">
                <a:gsLst>
                  <a:gs pos="0">
                    <a:srgbClr val="809ea8"/>
                  </a:gs>
                  <a:gs pos="100000">
                    <a:srgbClr val="3b494e"/>
                  </a:gs>
                </a:gsLst>
                <a:lin ang="19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3" name="组合 19471"/>
              <p:cNvGrpSpPr/>
              <p:nvPr/>
            </p:nvGrpSpPr>
            <p:grpSpPr>
              <a:xfrm>
                <a:off x="4225320" y="2088000"/>
                <a:ext cx="871560" cy="121320"/>
                <a:chOff x="4225320" y="2088000"/>
                <a:chExt cx="871560" cy="121320"/>
              </a:xfrm>
            </p:grpSpPr>
            <p:sp>
              <p:nvSpPr>
                <p:cNvPr id="554" name="椭圆 19472"/>
                <p:cNvSpPr/>
                <p:nvPr/>
              </p:nvSpPr>
              <p:spPr>
                <a:xfrm>
                  <a:off x="4225320" y="2088000"/>
                  <a:ext cx="14688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矩形 19473"/>
                <p:cNvSpPr/>
                <p:nvPr/>
              </p:nvSpPr>
              <p:spPr>
                <a:xfrm>
                  <a:off x="4308840" y="2088720"/>
                  <a:ext cx="72252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椭圆 19474"/>
                <p:cNvSpPr/>
                <p:nvPr/>
              </p:nvSpPr>
              <p:spPr>
                <a:xfrm>
                  <a:off x="4964760" y="2089800"/>
                  <a:ext cx="13212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0322b"/>
                    </a:gs>
                    <a:gs pos="50000">
                      <a:srgbClr val="686b5d"/>
                    </a:gs>
                    <a:gs pos="100000">
                      <a:srgbClr val="30322b"/>
                    </a:gs>
                  </a:gsLst>
                  <a:lin ang="5400000"/>
                </a:gradFill>
                <a:ln w="12600">
                  <a:solidFill>
                    <a:srgbClr val="686b5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椭圆 19475"/>
                <p:cNvSpPr/>
                <p:nvPr/>
              </p:nvSpPr>
              <p:spPr>
                <a:xfrm>
                  <a:off x="5035320" y="2127960"/>
                  <a:ext cx="3708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0322b"/>
                    </a:gs>
                    <a:gs pos="50000">
                      <a:srgbClr val="686b5d"/>
                    </a:gs>
                    <a:gs pos="100000">
                      <a:srgbClr val="3032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矩形 19476"/>
              <p:cNvSpPr/>
              <p:nvPr/>
            </p:nvSpPr>
            <p:spPr>
              <a:xfrm rot="3418800">
                <a:off x="4871520" y="1861920"/>
                <a:ext cx="853200" cy="93924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765e2f"/>
                  </a:gs>
                </a:gsLst>
                <a:lin ang="19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9" name="组合 19477"/>
              <p:cNvGrpSpPr/>
              <p:nvPr/>
            </p:nvGrpSpPr>
            <p:grpSpPr>
              <a:xfrm>
                <a:off x="5835240" y="2088000"/>
                <a:ext cx="1140120" cy="121320"/>
                <a:chOff x="5835240" y="2088000"/>
                <a:chExt cx="1140120" cy="121320"/>
              </a:xfrm>
            </p:grpSpPr>
            <p:sp>
              <p:nvSpPr>
                <p:cNvPr id="560" name="椭圆 19478"/>
                <p:cNvSpPr/>
                <p:nvPr/>
              </p:nvSpPr>
              <p:spPr>
                <a:xfrm>
                  <a:off x="5835240" y="2088000"/>
                  <a:ext cx="19224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矩形 19479"/>
                <p:cNvSpPr/>
                <p:nvPr/>
              </p:nvSpPr>
              <p:spPr>
                <a:xfrm>
                  <a:off x="5944320" y="2088720"/>
                  <a:ext cx="94500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椭圆 19480"/>
                <p:cNvSpPr/>
                <p:nvPr/>
              </p:nvSpPr>
              <p:spPr>
                <a:xfrm>
                  <a:off x="6802560" y="2089800"/>
                  <a:ext cx="17280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0322b"/>
                    </a:gs>
                    <a:gs pos="50000">
                      <a:srgbClr val="686b5d"/>
                    </a:gs>
                    <a:gs pos="100000">
                      <a:srgbClr val="30322b"/>
                    </a:gs>
                  </a:gsLst>
                  <a:lin ang="5400000"/>
                </a:gradFill>
                <a:ln w="12600">
                  <a:solidFill>
                    <a:srgbClr val="686b5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椭圆 19481"/>
                <p:cNvSpPr/>
                <p:nvPr/>
              </p:nvSpPr>
              <p:spPr>
                <a:xfrm>
                  <a:off x="6894720" y="2127960"/>
                  <a:ext cx="4860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0322b"/>
                    </a:gs>
                    <a:gs pos="50000">
                      <a:srgbClr val="686b5d"/>
                    </a:gs>
                    <a:gs pos="100000">
                      <a:srgbClr val="3032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4" name="矩形 19482"/>
              <p:cNvSpPr/>
              <p:nvPr/>
            </p:nvSpPr>
            <p:spPr>
              <a:xfrm rot="3418800">
                <a:off x="6481440" y="1861920"/>
                <a:ext cx="853200" cy="939240"/>
              </a:xfrm>
              <a:prstGeom prst="rect">
                <a:avLst/>
              </a:prstGeom>
              <a:gradFill rotWithShape="0">
                <a:gsLst>
                  <a:gs pos="0">
                    <a:srgbClr val="809ea8"/>
                  </a:gs>
                  <a:gs pos="100000">
                    <a:srgbClr val="3b494e"/>
                  </a:gs>
                </a:gsLst>
                <a:lin ang="19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5" name="矩形 19483"/>
            <p:cNvSpPr/>
            <p:nvPr/>
          </p:nvSpPr>
          <p:spPr>
            <a:xfrm>
              <a:off x="182628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矩形 19484"/>
            <p:cNvSpPr/>
            <p:nvPr/>
          </p:nvSpPr>
          <p:spPr>
            <a:xfrm>
              <a:off x="346500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矩形 19485"/>
            <p:cNvSpPr/>
            <p:nvPr/>
          </p:nvSpPr>
          <p:spPr>
            <a:xfrm>
              <a:off x="496152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矩形 19486"/>
            <p:cNvSpPr/>
            <p:nvPr/>
          </p:nvSpPr>
          <p:spPr>
            <a:xfrm>
              <a:off x="660204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9" name="矩形 19487"/>
          <p:cNvSpPr/>
          <p:nvPr/>
        </p:nvSpPr>
        <p:spPr>
          <a:xfrm>
            <a:off x="167112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矩形 19488"/>
          <p:cNvSpPr/>
          <p:nvPr/>
        </p:nvSpPr>
        <p:spPr>
          <a:xfrm>
            <a:off x="342360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矩形 19489"/>
          <p:cNvSpPr/>
          <p:nvPr/>
        </p:nvSpPr>
        <p:spPr>
          <a:xfrm>
            <a:off x="510012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矩形 19490"/>
          <p:cNvSpPr/>
          <p:nvPr/>
        </p:nvSpPr>
        <p:spPr>
          <a:xfrm>
            <a:off x="685260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084320" y="2392200"/>
          <a:ext cx="7053120" cy="2982960"/>
        </p:xfrm>
        <a:graphic>
          <a:graphicData uri="http://schemas.openxmlformats.org/drawingml/2006/table">
            <a:tbl>
              <a:tblPr/>
              <a:tblGrid>
                <a:gridCol w="1590840"/>
                <a:gridCol w="1110960"/>
                <a:gridCol w="1087560"/>
                <a:gridCol w="1085760"/>
                <a:gridCol w="1090800"/>
                <a:gridCol w="1087200"/>
              </a:tblGrid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8d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组合 21506"/>
          <p:cNvGrpSpPr/>
          <p:nvPr/>
        </p:nvGrpSpPr>
        <p:grpSpPr>
          <a:xfrm>
            <a:off x="1162080" y="1372320"/>
            <a:ext cx="6496560" cy="4511160"/>
            <a:chOff x="1162080" y="1372320"/>
            <a:chExt cx="6496560" cy="4511160"/>
          </a:xfrm>
        </p:grpSpPr>
        <p:sp>
          <p:nvSpPr>
            <p:cNvPr id="577" name="椭圆 21507"/>
            <p:cNvSpPr/>
            <p:nvPr/>
          </p:nvSpPr>
          <p:spPr>
            <a:xfrm>
              <a:off x="2189160" y="4301640"/>
              <a:ext cx="5205240" cy="1184400"/>
            </a:xfrm>
            <a:prstGeom prst="ellipse">
              <a:avLst/>
            </a:prstGeom>
            <a:solidFill>
              <a:srgbClr val="00006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椭圆 21508"/>
            <p:cNvSpPr/>
            <p:nvPr/>
          </p:nvSpPr>
          <p:spPr>
            <a:xfrm rot="20601600">
              <a:off x="1458360" y="2246040"/>
              <a:ext cx="5623200" cy="289260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椭圆 21509"/>
            <p:cNvSpPr/>
            <p:nvPr/>
          </p:nvSpPr>
          <p:spPr>
            <a:xfrm rot="20601600">
              <a:off x="1514160" y="2090880"/>
              <a:ext cx="5428080" cy="280296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任意多边形 21510"/>
            <p:cNvSpPr/>
            <p:nvPr/>
          </p:nvSpPr>
          <p:spPr>
            <a:xfrm rot="20601600">
              <a:off x="4097520" y="2165040"/>
              <a:ext cx="2782080" cy="1475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0"/>
                  </a:moveTo>
                  <a:cubicBezTo>
                    <a:pt x="19544" y="3813"/>
                    <a:pt x="21600" y="8834"/>
                    <a:pt x="21600" y="14335"/>
                  </a:cubicBezTo>
                  <a:cubicBezTo>
                    <a:pt x="21600" y="17311"/>
                    <a:pt x="20998" y="20146"/>
                    <a:pt x="19911" y="22723"/>
                  </a:cubicBezTo>
                </a:path>
                <a:path stroke="0" w="21600" h="22718">
                  <a:moveTo>
                    <a:pt x="19906" y="22718"/>
                  </a:moveTo>
                  <a:cubicBezTo>
                    <a:pt x="20398" y="18083"/>
                    <a:pt x="21213" y="15054"/>
                    <a:pt x="22135" y="15054"/>
                  </a:cubicBezTo>
                  <a:cubicBezTo>
                    <a:pt x="23638" y="15054"/>
                    <a:pt x="24856" y="23098"/>
                    <a:pt x="24856" y="33021"/>
                  </a:cubicBezTo>
                  <a:cubicBezTo>
                    <a:pt x="24856" y="33593"/>
                    <a:pt x="24852" y="34158"/>
                    <a:pt x="24844" y="34711"/>
                  </a:cubicBezTo>
                  <a:lnTo>
                    <a:pt x="16157" y="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任意多边形 21511"/>
            <p:cNvSpPr/>
            <p:nvPr/>
          </p:nvSpPr>
          <p:spPr>
            <a:xfrm flipH="1" rot="20602200">
              <a:off x="1566360" y="3424320"/>
              <a:ext cx="2806920" cy="156384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0"/>
                  </a:moveTo>
                  <a:cubicBezTo>
                    <a:pt x="21198" y="2176"/>
                    <a:pt x="21600" y="4515"/>
                    <a:pt x="21600" y="6947"/>
                  </a:cubicBezTo>
                  <a:cubicBezTo>
                    <a:pt x="21600" y="14141"/>
                    <a:pt x="18083" y="20514"/>
                    <a:pt x="12674" y="24440"/>
                  </a:cubicBezTo>
                </a:path>
                <a:path stroke="0" w="21600" h="24439">
                  <a:moveTo>
                    <a:pt x="12672" y="24438"/>
                  </a:moveTo>
                  <a:cubicBezTo>
                    <a:pt x="12673" y="24669"/>
                    <a:pt x="12673" y="24902"/>
                    <a:pt x="12673" y="25136"/>
                  </a:cubicBezTo>
                  <a:cubicBezTo>
                    <a:pt x="12673" y="25267"/>
                    <a:pt x="12673" y="25397"/>
                    <a:pt x="12673" y="25526"/>
                  </a:cubicBezTo>
                  <a:lnTo>
                    <a:pt x="20452" y="0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任意多边形 21512"/>
            <p:cNvSpPr/>
            <p:nvPr/>
          </p:nvSpPr>
          <p:spPr>
            <a:xfrm rot="20601600">
              <a:off x="3360600" y="1905120"/>
              <a:ext cx="2745000" cy="135972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8"/>
                  </a:moveTo>
                  <a:cubicBezTo>
                    <a:pt x="1553" y="187"/>
                    <a:pt x="3174" y="-1"/>
                    <a:pt x="4839" y="-1"/>
                  </a:cubicBezTo>
                  <a:cubicBezTo>
                    <a:pt x="11488" y="-1"/>
                    <a:pt x="17435" y="3003"/>
                    <a:pt x="21397" y="7728"/>
                  </a:cubicBezTo>
                </a:path>
                <a:path stroke="0" w="21397" h="21600">
                  <a:moveTo>
                    <a:pt x="21397" y="7729"/>
                  </a:moveTo>
                  <a:cubicBezTo>
                    <a:pt x="18811" y="3837"/>
                    <a:pt x="17194" y="-1710"/>
                    <a:pt x="17194" y="-7866"/>
                  </a:cubicBezTo>
                  <a:cubicBezTo>
                    <a:pt x="17194" y="-19644"/>
                    <a:pt x="23112" y="-29192"/>
                    <a:pt x="30413" y="-29192"/>
                  </a:cubicBezTo>
                  <a:cubicBezTo>
                    <a:pt x="37714" y="-29192"/>
                    <a:pt x="43632" y="-19644"/>
                    <a:pt x="43632" y="-7866"/>
                  </a:cubicBezTo>
                  <a:cubicBezTo>
                    <a:pt x="43632" y="-4730"/>
                    <a:pt x="43213" y="-1753"/>
                    <a:pt x="42460" y="926"/>
                  </a:cubicBezTo>
                  <a:lnTo>
                    <a:pt x="0" y="548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任意多边形 21513"/>
            <p:cNvSpPr/>
            <p:nvPr/>
          </p:nvSpPr>
          <p:spPr>
            <a:xfrm flipH="1" rot="20602200">
              <a:off x="1370520" y="2530440"/>
              <a:ext cx="2695320" cy="132480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0"/>
                  </a:moveTo>
                  <a:cubicBezTo>
                    <a:pt x="12505" y="1681"/>
                    <a:pt x="18923" y="7870"/>
                    <a:pt x="20936" y="15808"/>
                  </a:cubicBezTo>
                </a:path>
                <a:path stroke="0" w="20934" h="21142">
                  <a:moveTo>
                    <a:pt x="20934" y="15819"/>
                  </a:moveTo>
                  <a:cubicBezTo>
                    <a:pt x="20723" y="13980"/>
                    <a:pt x="20612" y="12035"/>
                    <a:pt x="20612" y="10026"/>
                  </a:cubicBezTo>
                  <a:cubicBezTo>
                    <a:pt x="20612" y="-1777"/>
                    <a:pt x="24457" y="-11345"/>
                    <a:pt x="29200" y="-11345"/>
                  </a:cubicBezTo>
                  <a:cubicBezTo>
                    <a:pt x="33943" y="-11345"/>
                    <a:pt x="37788" y="-1777"/>
                    <a:pt x="37788" y="10026"/>
                  </a:cubicBezTo>
                  <a:cubicBezTo>
                    <a:pt x="37788" y="11841"/>
                    <a:pt x="37697" y="13604"/>
                    <a:pt x="37526" y="15281"/>
                  </a:cubicBezTo>
                  <a:lnTo>
                    <a:pt x="4423" y="0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椭圆 21514"/>
            <p:cNvSpPr/>
            <p:nvPr/>
          </p:nvSpPr>
          <p:spPr>
            <a:xfrm rot="20601600">
              <a:off x="2939400" y="2775600"/>
              <a:ext cx="2630160" cy="1284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文本框 21515"/>
            <p:cNvSpPr/>
            <p:nvPr/>
          </p:nvSpPr>
          <p:spPr>
            <a:xfrm>
              <a:off x="2261160" y="29890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文本框 21516"/>
            <p:cNvSpPr/>
            <p:nvPr/>
          </p:nvSpPr>
          <p:spPr>
            <a:xfrm>
              <a:off x="4120200" y="2112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文本框 21517"/>
            <p:cNvSpPr/>
            <p:nvPr/>
          </p:nvSpPr>
          <p:spPr>
            <a:xfrm>
              <a:off x="5757480" y="2550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任意多边形 21518"/>
            <p:cNvSpPr/>
            <p:nvPr/>
          </p:nvSpPr>
          <p:spPr>
            <a:xfrm>
              <a:off x="6181560" y="3062160"/>
              <a:ext cx="1264320" cy="16412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任意多边形 21519"/>
            <p:cNvSpPr/>
            <p:nvPr/>
          </p:nvSpPr>
          <p:spPr>
            <a:xfrm rot="20539200">
              <a:off x="4618800" y="3067920"/>
              <a:ext cx="2912400" cy="129096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0" y="12257"/>
                    <a:pt x="14630" y="16973"/>
                    <a:pt x="9249" y="19525"/>
                  </a:cubicBezTo>
                </a:path>
                <a:path stroke="0" w="20601" h="19523">
                  <a:moveTo>
                    <a:pt x="9242" y="19522"/>
                  </a:moveTo>
                  <a:cubicBezTo>
                    <a:pt x="9242" y="19598"/>
                    <a:pt x="9242" y="19675"/>
                    <a:pt x="9242" y="19752"/>
                  </a:cubicBezTo>
                  <a:cubicBezTo>
                    <a:pt x="9242" y="19892"/>
                    <a:pt x="9242" y="20031"/>
                    <a:pt x="9241" y="20168"/>
                  </a:cubicBez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任意多边形 21520"/>
            <p:cNvSpPr/>
            <p:nvPr/>
          </p:nvSpPr>
          <p:spPr>
            <a:xfrm>
              <a:off x="4522320" y="3523680"/>
              <a:ext cx="1716480" cy="118584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文本框 21521"/>
            <p:cNvSpPr/>
            <p:nvPr/>
          </p:nvSpPr>
          <p:spPr>
            <a:xfrm>
              <a:off x="5757480" y="350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文本框 21522"/>
            <p:cNvSpPr/>
            <p:nvPr/>
          </p:nvSpPr>
          <p:spPr>
            <a:xfrm>
              <a:off x="4047120" y="42314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文本框 21523"/>
            <p:cNvSpPr/>
            <p:nvPr/>
          </p:nvSpPr>
          <p:spPr>
            <a:xfrm>
              <a:off x="2188440" y="40852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椭圆 21524"/>
            <p:cNvSpPr/>
            <p:nvPr/>
          </p:nvSpPr>
          <p:spPr>
            <a:xfrm rot="20601600">
              <a:off x="3038400" y="3017880"/>
              <a:ext cx="2523240" cy="1045800"/>
            </a:xfrm>
            <a:prstGeom prst="ellipse">
              <a:avLst/>
            </a:prstGeom>
            <a:gradFill rotWithShape="0">
              <a:gsLst>
                <a:gs pos="0">
                  <a:srgbClr val="273033"/>
                </a:gs>
                <a:gs pos="100000">
                  <a:srgbClr val="809ea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任意多边形 21525"/>
            <p:cNvSpPr/>
            <p:nvPr/>
          </p:nvSpPr>
          <p:spPr>
            <a:xfrm>
              <a:off x="4694400" y="3902760"/>
              <a:ext cx="1251720" cy="98640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7" name="组合 22530"/>
          <p:cNvGrpSpPr/>
          <p:nvPr/>
        </p:nvGrpSpPr>
        <p:grpSpPr>
          <a:xfrm>
            <a:off x="1599840" y="1752480"/>
            <a:ext cx="6297840" cy="3878280"/>
            <a:chOff x="1599840" y="1752480"/>
            <a:chExt cx="6297840" cy="3878280"/>
          </a:xfrm>
        </p:grpSpPr>
        <p:grpSp>
          <p:nvGrpSpPr>
            <p:cNvPr id="598" name=""/>
            <p:cNvGrpSpPr/>
            <p:nvPr/>
          </p:nvGrpSpPr>
          <p:grpSpPr>
            <a:xfrm>
              <a:off x="1599840" y="5626080"/>
              <a:ext cx="1661040" cy="1440"/>
              <a:chOff x="1599840" y="5626080"/>
              <a:chExt cx="1661040" cy="1440"/>
            </a:xfrm>
          </p:grpSpPr>
          <p:sp>
            <p:nvSpPr>
              <p:cNvPr id="599" name="直接连接符 22531"/>
              <p:cNvSpPr/>
              <p:nvPr/>
            </p:nvSpPr>
            <p:spPr>
              <a:xfrm flipH="1">
                <a:off x="1599840" y="5626080"/>
                <a:ext cx="1660680" cy="144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 txBox="1"/>
              <p:nvPr/>
            </p:nvSpPr>
            <p:spPr>
              <a:xfrm>
                <a:off x="1600200" y="5626080"/>
                <a:ext cx="16606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1599840" y="4844880"/>
              <a:ext cx="2143440" cy="1800"/>
              <a:chOff x="1599840" y="4844880"/>
              <a:chExt cx="2143440" cy="1800"/>
            </a:xfrm>
          </p:grpSpPr>
          <p:sp>
            <p:nvSpPr>
              <p:cNvPr id="602" name="直接连接符 22532"/>
              <p:cNvSpPr/>
              <p:nvPr/>
            </p:nvSpPr>
            <p:spPr>
              <a:xfrm flipH="1">
                <a:off x="1599840" y="4844880"/>
                <a:ext cx="2143080" cy="180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>
                <a:off x="1600200" y="4844880"/>
                <a:ext cx="21430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1599840" y="4035240"/>
              <a:ext cx="2516400" cy="1800"/>
              <a:chOff x="1599840" y="4035240"/>
              <a:chExt cx="2516400" cy="1800"/>
            </a:xfrm>
          </p:grpSpPr>
          <p:sp>
            <p:nvSpPr>
              <p:cNvPr id="605" name="直接连接符 22533"/>
              <p:cNvSpPr/>
              <p:nvPr/>
            </p:nvSpPr>
            <p:spPr>
              <a:xfrm flipH="1">
                <a:off x="1599840" y="4035240"/>
                <a:ext cx="2516040" cy="180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 txBox="1"/>
              <p:nvPr/>
            </p:nvSpPr>
            <p:spPr>
              <a:xfrm>
                <a:off x="1600200" y="4035240"/>
                <a:ext cx="25160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1600200" y="3238560"/>
              <a:ext cx="2944800" cy="1440"/>
              <a:chOff x="1600200" y="3238560"/>
              <a:chExt cx="2944800" cy="1440"/>
            </a:xfrm>
          </p:grpSpPr>
          <p:sp>
            <p:nvSpPr>
              <p:cNvPr id="608" name="直接连接符 22534"/>
              <p:cNvSpPr/>
              <p:nvPr/>
            </p:nvSpPr>
            <p:spPr>
              <a:xfrm flipH="1">
                <a:off x="1600200" y="3238560"/>
                <a:ext cx="2944800" cy="144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 txBox="1"/>
              <p:nvPr/>
            </p:nvSpPr>
            <p:spPr>
              <a:xfrm>
                <a:off x="1600200" y="3238560"/>
                <a:ext cx="2944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1599840" y="2436840"/>
              <a:ext cx="3373920" cy="1440"/>
              <a:chOff x="1599840" y="2436840"/>
              <a:chExt cx="3373920" cy="1440"/>
            </a:xfrm>
          </p:grpSpPr>
          <p:sp>
            <p:nvSpPr>
              <p:cNvPr id="611" name="直接连接符 22535"/>
              <p:cNvSpPr/>
              <p:nvPr/>
            </p:nvSpPr>
            <p:spPr>
              <a:xfrm flipH="1">
                <a:off x="1599840" y="2436840"/>
                <a:ext cx="3373560" cy="144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 txBox="1"/>
              <p:nvPr/>
            </p:nvSpPr>
            <p:spPr>
              <a:xfrm>
                <a:off x="1600200" y="2436840"/>
                <a:ext cx="3373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1599840" y="1752480"/>
              <a:ext cx="3748320" cy="1440"/>
              <a:chOff x="1599840" y="1752480"/>
              <a:chExt cx="3748320" cy="1440"/>
            </a:xfrm>
          </p:grpSpPr>
          <p:sp>
            <p:nvSpPr>
              <p:cNvPr id="614" name="直接连接符 22536"/>
              <p:cNvSpPr/>
              <p:nvPr/>
            </p:nvSpPr>
            <p:spPr>
              <a:xfrm flipH="1">
                <a:off x="1599840" y="1752480"/>
                <a:ext cx="3747960" cy="144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 txBox="1"/>
              <p:nvPr/>
            </p:nvSpPr>
            <p:spPr>
              <a:xfrm>
                <a:off x="1600200" y="1752480"/>
                <a:ext cx="37479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1812960" y="1752480"/>
              <a:ext cx="1440" cy="684360"/>
              <a:chOff x="1812960" y="1752480"/>
              <a:chExt cx="1440" cy="684360"/>
            </a:xfrm>
          </p:grpSpPr>
          <p:sp>
            <p:nvSpPr>
              <p:cNvPr id="617" name="直接连接符 22537"/>
              <p:cNvSpPr/>
              <p:nvPr/>
            </p:nvSpPr>
            <p:spPr>
              <a:xfrm>
                <a:off x="1812960" y="1752480"/>
                <a:ext cx="1440" cy="68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 txBox="1"/>
              <p:nvPr/>
            </p:nvSpPr>
            <p:spPr>
              <a:xfrm>
                <a:off x="1812960" y="1752480"/>
                <a:ext cx="1440" cy="68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812960" y="2436840"/>
              <a:ext cx="1440" cy="809640"/>
              <a:chOff x="1812960" y="2436840"/>
              <a:chExt cx="1440" cy="809640"/>
            </a:xfrm>
          </p:grpSpPr>
          <p:sp>
            <p:nvSpPr>
              <p:cNvPr id="620" name="直接连接符 22538"/>
              <p:cNvSpPr/>
              <p:nvPr/>
            </p:nvSpPr>
            <p:spPr>
              <a:xfrm>
                <a:off x="1812960" y="2436840"/>
                <a:ext cx="1440" cy="80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>
                <a:off x="1812960" y="2436840"/>
                <a:ext cx="1440" cy="80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1812960" y="3246480"/>
              <a:ext cx="1440" cy="809640"/>
              <a:chOff x="1812960" y="3246480"/>
              <a:chExt cx="1440" cy="809640"/>
            </a:xfrm>
          </p:grpSpPr>
          <p:sp>
            <p:nvSpPr>
              <p:cNvPr id="623" name="直接连接符 22539"/>
              <p:cNvSpPr/>
              <p:nvPr/>
            </p:nvSpPr>
            <p:spPr>
              <a:xfrm>
                <a:off x="1812960" y="3246480"/>
                <a:ext cx="1440" cy="80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1812960" y="3246480"/>
                <a:ext cx="1440" cy="80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1812960" y="4056120"/>
              <a:ext cx="1440" cy="809280"/>
              <a:chOff x="1812960" y="4056120"/>
              <a:chExt cx="1440" cy="809280"/>
            </a:xfrm>
          </p:grpSpPr>
          <p:sp>
            <p:nvSpPr>
              <p:cNvPr id="626" name="直接连接符 22540"/>
              <p:cNvSpPr/>
              <p:nvPr/>
            </p:nvSpPr>
            <p:spPr>
              <a:xfrm>
                <a:off x="1812960" y="4056120"/>
                <a:ext cx="1440" cy="80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 txBox="1"/>
              <p:nvPr/>
            </p:nvSpPr>
            <p:spPr>
              <a:xfrm>
                <a:off x="1812960" y="4056120"/>
                <a:ext cx="1440" cy="80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1812960" y="4865400"/>
              <a:ext cx="1440" cy="746280"/>
              <a:chOff x="1812960" y="4865400"/>
              <a:chExt cx="1440" cy="746280"/>
            </a:xfrm>
          </p:grpSpPr>
          <p:sp>
            <p:nvSpPr>
              <p:cNvPr id="629" name="直接连接符 22541"/>
              <p:cNvSpPr/>
              <p:nvPr/>
            </p:nvSpPr>
            <p:spPr>
              <a:xfrm>
                <a:off x="1812960" y="4865400"/>
                <a:ext cx="1440" cy="7462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 txBox="1"/>
              <p:nvPr/>
            </p:nvSpPr>
            <p:spPr>
              <a:xfrm>
                <a:off x="1812960" y="4865400"/>
                <a:ext cx="1440" cy="74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" name="文本框 22542"/>
            <p:cNvSpPr/>
            <p:nvPr/>
          </p:nvSpPr>
          <p:spPr>
            <a:xfrm>
              <a:off x="1866240" y="1942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文本框 22543"/>
            <p:cNvSpPr/>
            <p:nvPr/>
          </p:nvSpPr>
          <p:spPr>
            <a:xfrm>
              <a:off x="1866240" y="2735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文本框 22544"/>
            <p:cNvSpPr/>
            <p:nvPr/>
          </p:nvSpPr>
          <p:spPr>
            <a:xfrm>
              <a:off x="1866240" y="3524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文本框 22545"/>
            <p:cNvSpPr/>
            <p:nvPr/>
          </p:nvSpPr>
          <p:spPr>
            <a:xfrm>
              <a:off x="1866240" y="4316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文本框 22546"/>
            <p:cNvSpPr/>
            <p:nvPr/>
          </p:nvSpPr>
          <p:spPr>
            <a:xfrm>
              <a:off x="1866240" y="51069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任意多边形 22547"/>
            <p:cNvSpPr/>
            <p:nvPr/>
          </p:nvSpPr>
          <p:spPr>
            <a:xfrm>
              <a:off x="7094520" y="4440240"/>
              <a:ext cx="803160" cy="118908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596e75"/>
                </a:gs>
                <a:gs pos="100000">
                  <a:srgbClr val="809e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任意多边形 22548"/>
            <p:cNvSpPr/>
            <p:nvPr/>
          </p:nvSpPr>
          <p:spPr>
            <a:xfrm>
              <a:off x="3711600" y="4440240"/>
              <a:ext cx="3738600" cy="5061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809ea8"/>
                </a:gs>
                <a:gs pos="100000">
                  <a:srgbClr val="5164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任意多边形 22549"/>
            <p:cNvSpPr/>
            <p:nvPr/>
          </p:nvSpPr>
          <p:spPr>
            <a:xfrm>
              <a:off x="3348000" y="4944960"/>
              <a:ext cx="4127400" cy="68580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aabec5"/>
                </a:gs>
                <a:gs pos="100000">
                  <a:srgbClr val="809e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任意多边形 22550"/>
            <p:cNvSpPr/>
            <p:nvPr/>
          </p:nvSpPr>
          <p:spPr>
            <a:xfrm>
              <a:off x="6676920" y="3767040"/>
              <a:ext cx="708120" cy="107640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707067"/>
                </a:gs>
                <a:gs pos="100000">
                  <a:srgbClr val="999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任意多边形 22551"/>
            <p:cNvSpPr/>
            <p:nvPr/>
          </p:nvSpPr>
          <p:spPr>
            <a:xfrm>
              <a:off x="4137120" y="3767040"/>
              <a:ext cx="2808360" cy="3794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99998d"/>
                </a:gs>
                <a:gs pos="100000">
                  <a:srgbClr val="4444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任意多边形 22552"/>
            <p:cNvSpPr/>
            <p:nvPr/>
          </p:nvSpPr>
          <p:spPr>
            <a:xfrm>
              <a:off x="3781440" y="4144680"/>
              <a:ext cx="3260880" cy="698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cfcfc9"/>
                </a:gs>
                <a:gs pos="100000">
                  <a:srgbClr val="999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任意多边形 22553"/>
            <p:cNvSpPr/>
            <p:nvPr/>
          </p:nvSpPr>
          <p:spPr>
            <a:xfrm>
              <a:off x="6257880" y="3101760"/>
              <a:ext cx="620640" cy="9352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989894"/>
                </a:gs>
                <a:gs pos="100000">
                  <a:srgbClr val="d1d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任意多边形 22554"/>
            <p:cNvSpPr/>
            <p:nvPr/>
          </p:nvSpPr>
          <p:spPr>
            <a:xfrm>
              <a:off x="4559400" y="3101760"/>
              <a:ext cx="1874880" cy="25236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d1d1cb"/>
                </a:gs>
                <a:gs pos="100000">
                  <a:srgbClr val="6363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任意多边形 22555"/>
            <p:cNvSpPr/>
            <p:nvPr/>
          </p:nvSpPr>
          <p:spPr>
            <a:xfrm>
              <a:off x="4197240" y="3352680"/>
              <a:ext cx="2427480" cy="6843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e9e9e6"/>
                </a:gs>
                <a:gs pos="100000">
                  <a:srgbClr val="d1d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任意多边形 22556"/>
            <p:cNvSpPr/>
            <p:nvPr/>
          </p:nvSpPr>
          <p:spPr>
            <a:xfrm>
              <a:off x="5834160" y="2427120"/>
              <a:ext cx="533160" cy="812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aa251"/>
                </a:gs>
                <a:gs pos="100000">
                  <a:srgbClr val="ffcc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任意多边形 22557"/>
            <p:cNvSpPr/>
            <p:nvPr/>
          </p:nvSpPr>
          <p:spPr>
            <a:xfrm>
              <a:off x="4987800" y="2427120"/>
              <a:ext cx="936720" cy="12240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8268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任意多边形 22558"/>
            <p:cNvSpPr/>
            <p:nvPr/>
          </p:nvSpPr>
          <p:spPr>
            <a:xfrm>
              <a:off x="4619520" y="2547720"/>
              <a:ext cx="1581120" cy="69228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ffe5b2"/>
                </a:gs>
                <a:gs pos="100000">
                  <a:srgbClr val="ffcc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任意多边形 22559"/>
            <p:cNvSpPr/>
            <p:nvPr/>
          </p:nvSpPr>
          <p:spPr>
            <a:xfrm>
              <a:off x="5407200" y="1752480"/>
              <a:ext cx="450720" cy="689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solidFill>
              <a:srgbClr val="e9dc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任意多边形 22560"/>
            <p:cNvSpPr/>
            <p:nvPr/>
          </p:nvSpPr>
          <p:spPr>
            <a:xfrm>
              <a:off x="5040360" y="1752480"/>
              <a:ext cx="733320" cy="689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f7f2e4"/>
                </a:gs>
                <a:gs pos="100000">
                  <a:srgbClr val="e9d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文本框 22561"/>
            <p:cNvSpPr/>
            <p:nvPr/>
          </p:nvSpPr>
          <p:spPr>
            <a:xfrm>
              <a:off x="5137560" y="21193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文本框 22562"/>
            <p:cNvSpPr/>
            <p:nvPr/>
          </p:nvSpPr>
          <p:spPr>
            <a:xfrm>
              <a:off x="5137560" y="28447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文本框 22563"/>
            <p:cNvSpPr/>
            <p:nvPr/>
          </p:nvSpPr>
          <p:spPr>
            <a:xfrm>
              <a:off x="5137560" y="3635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文本框 22564"/>
            <p:cNvSpPr/>
            <p:nvPr/>
          </p:nvSpPr>
          <p:spPr>
            <a:xfrm>
              <a:off x="5137560" y="4425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文本框 22565"/>
            <p:cNvSpPr/>
            <p:nvPr/>
          </p:nvSpPr>
          <p:spPr>
            <a:xfrm>
              <a:off x="5137560" y="521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组合 5122"/>
          <p:cNvGrpSpPr/>
          <p:nvPr/>
        </p:nvGrpSpPr>
        <p:grpSpPr>
          <a:xfrm>
            <a:off x="1905120" y="1981080"/>
            <a:ext cx="5333400" cy="634680"/>
            <a:chOff x="1905120" y="1981080"/>
            <a:chExt cx="5333400" cy="634680"/>
          </a:xfrm>
        </p:grpSpPr>
        <p:grpSp>
          <p:nvGrpSpPr>
            <p:cNvPr id="136" name=""/>
            <p:cNvGrpSpPr/>
            <p:nvPr/>
          </p:nvGrpSpPr>
          <p:grpSpPr>
            <a:xfrm>
              <a:off x="2438280" y="2612880"/>
              <a:ext cx="4800240" cy="360"/>
              <a:chOff x="2438280" y="2612880"/>
              <a:chExt cx="4800240" cy="360"/>
            </a:xfrm>
          </p:grpSpPr>
          <p:sp>
            <p:nvSpPr>
              <p:cNvPr id="137" name="直接连接符 5123"/>
              <p:cNvSpPr/>
              <p:nvPr/>
            </p:nvSpPr>
            <p:spPr>
              <a:xfrm>
                <a:off x="2438280" y="2612880"/>
                <a:ext cx="48002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2438280" y="2612880"/>
                <a:ext cx="4800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" name="文本框 5124"/>
            <p:cNvSpPr/>
            <p:nvPr/>
          </p:nvSpPr>
          <p:spPr>
            <a:xfrm>
              <a:off x="2895480" y="207936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组合 5125"/>
            <p:cNvGrpSpPr/>
            <p:nvPr/>
          </p:nvGrpSpPr>
          <p:grpSpPr>
            <a:xfrm>
              <a:off x="1905120" y="1981080"/>
              <a:ext cx="685080" cy="634680"/>
              <a:chOff x="1905120" y="1981080"/>
              <a:chExt cx="685080" cy="634680"/>
            </a:xfrm>
          </p:grpSpPr>
          <p:sp>
            <p:nvSpPr>
              <p:cNvPr id="141" name="六边形 5126"/>
              <p:cNvSpPr/>
              <p:nvPr/>
            </p:nvSpPr>
            <p:spPr>
              <a:xfrm>
                <a:off x="1910520" y="199152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六边形 5127"/>
              <p:cNvSpPr/>
              <p:nvPr/>
            </p:nvSpPr>
            <p:spPr>
              <a:xfrm>
                <a:off x="1905120" y="198108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六边形 5128"/>
              <p:cNvSpPr/>
              <p:nvPr/>
            </p:nvSpPr>
            <p:spPr>
              <a:xfrm>
                <a:off x="1944720" y="201852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3b494e"/>
                  </a:gs>
                  <a:gs pos="50000">
                    <a:srgbClr val="809ea8"/>
                  </a:gs>
                  <a:gs pos="100000">
                    <a:srgbClr val="3b494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" name="文本框 5129"/>
            <p:cNvSpPr/>
            <p:nvPr/>
          </p:nvSpPr>
          <p:spPr>
            <a:xfrm>
              <a:off x="2065320" y="2074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组合 5130"/>
          <p:cNvGrpSpPr/>
          <p:nvPr/>
        </p:nvGrpSpPr>
        <p:grpSpPr>
          <a:xfrm>
            <a:off x="1905120" y="2809800"/>
            <a:ext cx="5333400" cy="634680"/>
            <a:chOff x="1905120" y="2809800"/>
            <a:chExt cx="5333400" cy="634680"/>
          </a:xfrm>
        </p:grpSpPr>
        <p:grpSp>
          <p:nvGrpSpPr>
            <p:cNvPr id="146" name=""/>
            <p:cNvGrpSpPr/>
            <p:nvPr/>
          </p:nvGrpSpPr>
          <p:grpSpPr>
            <a:xfrm>
              <a:off x="2438280" y="3432240"/>
              <a:ext cx="4800240" cy="360"/>
              <a:chOff x="2438280" y="3432240"/>
              <a:chExt cx="4800240" cy="360"/>
            </a:xfrm>
          </p:grpSpPr>
          <p:sp>
            <p:nvSpPr>
              <p:cNvPr id="147" name="直接连接符 5131"/>
              <p:cNvSpPr/>
              <p:nvPr/>
            </p:nvSpPr>
            <p:spPr>
              <a:xfrm>
                <a:off x="2438280" y="3432240"/>
                <a:ext cx="48002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2438280" y="3432240"/>
                <a:ext cx="4800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9" name="文本框 5132"/>
            <p:cNvSpPr/>
            <p:nvPr/>
          </p:nvSpPr>
          <p:spPr>
            <a:xfrm>
              <a:off x="2895480" y="289872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0" name="组合 5133"/>
            <p:cNvGrpSpPr/>
            <p:nvPr/>
          </p:nvGrpSpPr>
          <p:grpSpPr>
            <a:xfrm>
              <a:off x="1905120" y="2809800"/>
              <a:ext cx="685080" cy="634680"/>
              <a:chOff x="1905120" y="2809800"/>
              <a:chExt cx="685080" cy="634680"/>
            </a:xfrm>
          </p:grpSpPr>
          <p:sp>
            <p:nvSpPr>
              <p:cNvPr id="151" name="六边形 5134"/>
              <p:cNvSpPr/>
              <p:nvPr/>
            </p:nvSpPr>
            <p:spPr>
              <a:xfrm>
                <a:off x="1910520" y="282024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六边形 5135"/>
              <p:cNvSpPr/>
              <p:nvPr/>
            </p:nvSpPr>
            <p:spPr>
              <a:xfrm>
                <a:off x="1905120" y="280980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六边形 5136"/>
              <p:cNvSpPr/>
              <p:nvPr/>
            </p:nvSpPr>
            <p:spPr>
              <a:xfrm>
                <a:off x="1944720" y="284724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474741"/>
                  </a:gs>
                  <a:gs pos="100000">
                    <a:srgbClr val="99998d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文本框 5137"/>
            <p:cNvSpPr/>
            <p:nvPr/>
          </p:nvSpPr>
          <p:spPr>
            <a:xfrm>
              <a:off x="2065320" y="29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组合 5138"/>
          <p:cNvGrpSpPr/>
          <p:nvPr/>
        </p:nvGrpSpPr>
        <p:grpSpPr>
          <a:xfrm>
            <a:off x="1905120" y="3668760"/>
            <a:ext cx="5333400" cy="634680"/>
            <a:chOff x="1905120" y="3668760"/>
            <a:chExt cx="5333400" cy="634680"/>
          </a:xfrm>
        </p:grpSpPr>
        <p:grpSp>
          <p:nvGrpSpPr>
            <p:cNvPr id="156" name=""/>
            <p:cNvGrpSpPr/>
            <p:nvPr/>
          </p:nvGrpSpPr>
          <p:grpSpPr>
            <a:xfrm>
              <a:off x="2438280" y="4270320"/>
              <a:ext cx="4800240" cy="360"/>
              <a:chOff x="2438280" y="4270320"/>
              <a:chExt cx="4800240" cy="360"/>
            </a:xfrm>
          </p:grpSpPr>
          <p:sp>
            <p:nvSpPr>
              <p:cNvPr id="157" name="直接连接符 5139"/>
              <p:cNvSpPr/>
              <p:nvPr/>
            </p:nvSpPr>
            <p:spPr>
              <a:xfrm>
                <a:off x="2438280" y="4270320"/>
                <a:ext cx="48002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>
                <a:off x="2438280" y="4270320"/>
                <a:ext cx="4800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" name="文本框 5140"/>
            <p:cNvSpPr/>
            <p:nvPr/>
          </p:nvSpPr>
          <p:spPr>
            <a:xfrm>
              <a:off x="2895480" y="371484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" name="组合 5141"/>
            <p:cNvGrpSpPr/>
            <p:nvPr/>
          </p:nvGrpSpPr>
          <p:grpSpPr>
            <a:xfrm>
              <a:off x="1905120" y="3668760"/>
              <a:ext cx="685080" cy="634680"/>
              <a:chOff x="1905120" y="3668760"/>
              <a:chExt cx="685080" cy="634680"/>
            </a:xfrm>
          </p:grpSpPr>
          <p:sp>
            <p:nvSpPr>
              <p:cNvPr id="161" name="六边形 5142"/>
              <p:cNvSpPr/>
              <p:nvPr/>
            </p:nvSpPr>
            <p:spPr>
              <a:xfrm>
                <a:off x="1910520" y="367920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六边形 5143"/>
              <p:cNvSpPr/>
              <p:nvPr/>
            </p:nvSpPr>
            <p:spPr>
              <a:xfrm>
                <a:off x="1905120" y="366876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六边形 5144"/>
              <p:cNvSpPr/>
              <p:nvPr/>
            </p:nvSpPr>
            <p:spPr>
              <a:xfrm>
                <a:off x="1944720" y="370620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3b494e"/>
                  </a:gs>
                  <a:gs pos="50000">
                    <a:srgbClr val="809ea8"/>
                  </a:gs>
                  <a:gs pos="100000">
                    <a:srgbClr val="3b494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文本框 5145"/>
            <p:cNvSpPr/>
            <p:nvPr/>
          </p:nvSpPr>
          <p:spPr>
            <a:xfrm>
              <a:off x="2065320" y="3737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组合 5146"/>
          <p:cNvGrpSpPr/>
          <p:nvPr/>
        </p:nvGrpSpPr>
        <p:grpSpPr>
          <a:xfrm>
            <a:off x="1905120" y="4495680"/>
            <a:ext cx="5333400" cy="634680"/>
            <a:chOff x="1905120" y="4495680"/>
            <a:chExt cx="5333400" cy="634680"/>
          </a:xfrm>
        </p:grpSpPr>
        <p:grpSp>
          <p:nvGrpSpPr>
            <p:cNvPr id="166" name=""/>
            <p:cNvGrpSpPr/>
            <p:nvPr/>
          </p:nvGrpSpPr>
          <p:grpSpPr>
            <a:xfrm>
              <a:off x="2438280" y="5108400"/>
              <a:ext cx="4800240" cy="360"/>
              <a:chOff x="2438280" y="5108400"/>
              <a:chExt cx="4800240" cy="360"/>
            </a:xfrm>
          </p:grpSpPr>
          <p:sp>
            <p:nvSpPr>
              <p:cNvPr id="167" name="直接连接符 5147"/>
              <p:cNvSpPr/>
              <p:nvPr/>
            </p:nvSpPr>
            <p:spPr>
              <a:xfrm>
                <a:off x="2438280" y="5108400"/>
                <a:ext cx="48002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2438280" y="5108400"/>
                <a:ext cx="4800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文本框 5148"/>
            <p:cNvSpPr/>
            <p:nvPr/>
          </p:nvSpPr>
          <p:spPr>
            <a:xfrm>
              <a:off x="2895480" y="457488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0" name="组合 5149"/>
            <p:cNvGrpSpPr/>
            <p:nvPr/>
          </p:nvGrpSpPr>
          <p:grpSpPr>
            <a:xfrm>
              <a:off x="1905120" y="4495680"/>
              <a:ext cx="685080" cy="634680"/>
              <a:chOff x="1905120" y="4495680"/>
              <a:chExt cx="685080" cy="634680"/>
            </a:xfrm>
          </p:grpSpPr>
          <p:sp>
            <p:nvSpPr>
              <p:cNvPr id="171" name="六边形 5150"/>
              <p:cNvSpPr/>
              <p:nvPr/>
            </p:nvSpPr>
            <p:spPr>
              <a:xfrm>
                <a:off x="1910520" y="450612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六边形 5151"/>
              <p:cNvSpPr/>
              <p:nvPr/>
            </p:nvSpPr>
            <p:spPr>
              <a:xfrm>
                <a:off x="1905120" y="449568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六边形 5152"/>
              <p:cNvSpPr/>
              <p:nvPr/>
            </p:nvSpPr>
            <p:spPr>
              <a:xfrm>
                <a:off x="1944720" y="453312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474741"/>
                  </a:gs>
                  <a:gs pos="100000">
                    <a:srgbClr val="99998d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" name="文本框 5153"/>
            <p:cNvSpPr/>
            <p:nvPr/>
          </p:nvSpPr>
          <p:spPr>
            <a:xfrm>
              <a:off x="2065320" y="458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DB3E-36A7-4F88-B042-E3FF4EF10930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矩形 23553"/>
          <p:cNvSpPr txBox="1"/>
          <p:nvPr/>
        </p:nvSpPr>
        <p:spPr>
          <a:xfrm>
            <a:off x="1752480" y="3581280"/>
            <a:ext cx="5334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809ea8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ffcc66"/>
                  </a:gs>
                  <a:gs pos="100000">
                    <a:srgbClr val="809ea8"/>
                  </a:gs>
                </a:gsLst>
                <a:lin ang="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91920" y="1734840"/>
            <a:ext cx="79167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n click [Slide Master] or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矩形 6147"/>
          <p:cNvSpPr/>
          <p:nvPr/>
        </p:nvSpPr>
        <p:spPr>
          <a:xfrm>
            <a:off x="1523880" y="5486400"/>
            <a:ext cx="6324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组合 7170"/>
          <p:cNvGrpSpPr/>
          <p:nvPr/>
        </p:nvGrpSpPr>
        <p:grpSpPr>
          <a:xfrm>
            <a:off x="5486400" y="2971800"/>
            <a:ext cx="2286000" cy="2666880"/>
            <a:chOff x="5486400" y="2971800"/>
            <a:chExt cx="2286000" cy="2666880"/>
          </a:xfrm>
        </p:grpSpPr>
        <p:sp>
          <p:nvSpPr>
            <p:cNvPr id="180" name="圆角矩形 7171"/>
            <p:cNvSpPr/>
            <p:nvPr/>
          </p:nvSpPr>
          <p:spPr>
            <a:xfrm>
              <a:off x="5486400" y="29718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d1d1c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文本框 7172"/>
            <p:cNvSpPr/>
            <p:nvPr/>
          </p:nvSpPr>
          <p:spPr>
            <a:xfrm>
              <a:off x="5562720" y="3166920"/>
              <a:ext cx="20574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组合 7173"/>
          <p:cNvGrpSpPr/>
          <p:nvPr/>
        </p:nvGrpSpPr>
        <p:grpSpPr>
          <a:xfrm>
            <a:off x="1295280" y="2971800"/>
            <a:ext cx="2286000" cy="2666880"/>
            <a:chOff x="1295280" y="2971800"/>
            <a:chExt cx="2286000" cy="2666880"/>
          </a:xfrm>
        </p:grpSpPr>
        <p:sp>
          <p:nvSpPr>
            <p:cNvPr id="183" name="圆角矩形 7174"/>
            <p:cNvSpPr/>
            <p:nvPr/>
          </p:nvSpPr>
          <p:spPr>
            <a:xfrm>
              <a:off x="1295280" y="29718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d1d1c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文本框 7175"/>
            <p:cNvSpPr/>
            <p:nvPr/>
          </p:nvSpPr>
          <p:spPr>
            <a:xfrm>
              <a:off x="1390680" y="31719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矩形 7176"/>
          <p:cNvSpPr/>
          <p:nvPr/>
        </p:nvSpPr>
        <p:spPr>
          <a:xfrm>
            <a:off x="3222720" y="287172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任意多边形 7177"/>
          <p:cNvSpPr/>
          <p:nvPr/>
        </p:nvSpPr>
        <p:spPr>
          <a:xfrm>
            <a:off x="3222720" y="28749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86b5d"/>
              </a:gs>
              <a:gs pos="100000">
                <a:srgbClr val="cfd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7178"/>
          <p:cNvSpPr/>
          <p:nvPr/>
        </p:nvSpPr>
        <p:spPr>
          <a:xfrm flipH="1">
            <a:off x="4869000" y="287172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任意多边形 7179"/>
          <p:cNvSpPr/>
          <p:nvPr/>
        </p:nvSpPr>
        <p:spPr>
          <a:xfrm flipH="1">
            <a:off x="4874400" y="28749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8d"/>
              </a:gs>
              <a:gs pos="100000">
                <a:srgbClr val="dfdf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组合 7180"/>
          <p:cNvGrpSpPr/>
          <p:nvPr/>
        </p:nvGrpSpPr>
        <p:grpSpPr>
          <a:xfrm>
            <a:off x="3048120" y="1476360"/>
            <a:ext cx="2998440" cy="1601280"/>
            <a:chOff x="3048120" y="1476360"/>
            <a:chExt cx="2998440" cy="1601280"/>
          </a:xfrm>
        </p:grpSpPr>
        <p:grpSp>
          <p:nvGrpSpPr>
            <p:cNvPr id="190" name="组合 7181"/>
            <p:cNvGrpSpPr/>
            <p:nvPr/>
          </p:nvGrpSpPr>
          <p:grpSpPr>
            <a:xfrm>
              <a:off x="3048120" y="1476360"/>
              <a:ext cx="2998440" cy="1601280"/>
              <a:chOff x="3048120" y="1476360"/>
              <a:chExt cx="2998440" cy="1601280"/>
            </a:xfrm>
          </p:grpSpPr>
          <p:grpSp>
            <p:nvGrpSpPr>
              <p:cNvPr id="191" name="组合 7182"/>
              <p:cNvGrpSpPr/>
              <p:nvPr/>
            </p:nvGrpSpPr>
            <p:grpSpPr>
              <a:xfrm>
                <a:off x="3048120" y="1619280"/>
                <a:ext cx="2998440" cy="1458360"/>
                <a:chOff x="3048120" y="1619280"/>
                <a:chExt cx="2998440" cy="1458360"/>
              </a:xfrm>
            </p:grpSpPr>
            <p:sp>
              <p:nvSpPr>
                <p:cNvPr id="192" name="椭圆 7183"/>
                <p:cNvSpPr/>
                <p:nvPr/>
              </p:nvSpPr>
              <p:spPr>
                <a:xfrm>
                  <a:off x="3080880" y="16657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7c633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椭圆 7184"/>
                <p:cNvSpPr/>
                <p:nvPr/>
              </p:nvSpPr>
              <p:spPr>
                <a:xfrm>
                  <a:off x="3048120" y="161928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8bb"/>
                    </a:gs>
                    <a:gs pos="100000">
                      <a:srgbClr val="ff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椭圆 7185"/>
              <p:cNvSpPr/>
              <p:nvPr/>
            </p:nvSpPr>
            <p:spPr>
              <a:xfrm>
                <a:off x="3189240" y="147636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74741"/>
                  </a:gs>
                  <a:gs pos="100000">
                    <a:srgbClr val="99998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椭圆 7186"/>
              <p:cNvSpPr/>
              <p:nvPr/>
            </p:nvSpPr>
            <p:spPr>
              <a:xfrm>
                <a:off x="3224160" y="148428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99998d">
                      <a:alpha val="0"/>
                    </a:srgbClr>
                  </a:gs>
                  <a:gs pos="100000">
                    <a:srgbClr val="dbdbd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椭圆 7187"/>
              <p:cNvSpPr/>
              <p:nvPr/>
            </p:nvSpPr>
            <p:spPr>
              <a:xfrm>
                <a:off x="3251160" y="149688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797970"/>
                  </a:gs>
                  <a:gs pos="100000">
                    <a:srgbClr val="99998d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椭圆 7188"/>
              <p:cNvSpPr/>
              <p:nvPr/>
            </p:nvSpPr>
            <p:spPr>
              <a:xfrm>
                <a:off x="3382920" y="152388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998d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" name="文本框 7189"/>
            <p:cNvSpPr/>
            <p:nvPr/>
          </p:nvSpPr>
          <p:spPr>
            <a:xfrm>
              <a:off x="3882960" y="16765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组合 8194"/>
          <p:cNvGrpSpPr/>
          <p:nvPr/>
        </p:nvGrpSpPr>
        <p:grpSpPr>
          <a:xfrm>
            <a:off x="906120" y="1494360"/>
            <a:ext cx="7554600" cy="4800960"/>
            <a:chOff x="906120" y="1494360"/>
            <a:chExt cx="7554600" cy="4800960"/>
          </a:xfrm>
        </p:grpSpPr>
        <p:sp>
          <p:nvSpPr>
            <p:cNvPr id="201" name="任意多边形 8195"/>
            <p:cNvSpPr/>
            <p:nvPr/>
          </p:nvSpPr>
          <p:spPr>
            <a:xfrm rot="20241600">
              <a:off x="1485720" y="2628360"/>
              <a:ext cx="6400800" cy="2532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ffaf1"/>
                </a:gs>
                <a:gs pos="100000">
                  <a:srgbClr val="ffcc6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椭圆 8196"/>
            <p:cNvSpPr/>
            <p:nvPr/>
          </p:nvSpPr>
          <p:spPr>
            <a:xfrm rot="20056200">
              <a:off x="4749840" y="2538000"/>
              <a:ext cx="995400" cy="27612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椭圆 8197"/>
            <p:cNvSpPr/>
            <p:nvPr/>
          </p:nvSpPr>
          <p:spPr>
            <a:xfrm rot="20056200">
              <a:off x="7453440" y="2814480"/>
              <a:ext cx="996840" cy="27468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椭圆 8198"/>
            <p:cNvSpPr/>
            <p:nvPr/>
          </p:nvSpPr>
          <p:spPr>
            <a:xfrm rot="20056200">
              <a:off x="3040200" y="5599080"/>
              <a:ext cx="996840" cy="27468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椭圆 8199"/>
            <p:cNvSpPr/>
            <p:nvPr/>
          </p:nvSpPr>
          <p:spPr>
            <a:xfrm rot="20056200">
              <a:off x="5816520" y="4878000"/>
              <a:ext cx="997200" cy="27612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椭圆 8200"/>
            <p:cNvSpPr/>
            <p:nvPr/>
          </p:nvSpPr>
          <p:spPr>
            <a:xfrm rot="20056200">
              <a:off x="2400480" y="3914280"/>
              <a:ext cx="996840" cy="27648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椭圆 8201"/>
            <p:cNvSpPr/>
            <p:nvPr/>
          </p:nvSpPr>
          <p:spPr>
            <a:xfrm>
              <a:off x="4038480" y="1851120"/>
              <a:ext cx="1198800" cy="11509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5846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椭圆 8202"/>
            <p:cNvSpPr/>
            <p:nvPr/>
          </p:nvSpPr>
          <p:spPr>
            <a:xfrm>
              <a:off x="1689120" y="3227400"/>
              <a:ext cx="1200240" cy="1150920"/>
            </a:xfrm>
            <a:prstGeom prst="ellipse">
              <a:avLst/>
            </a:prstGeom>
            <a:gradFill rotWithShape="0">
              <a:gsLst>
                <a:gs pos="0">
                  <a:srgbClr val="99998d"/>
                </a:gs>
                <a:gs pos="100000">
                  <a:srgbClr val="3030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椭圆 8203"/>
            <p:cNvSpPr/>
            <p:nvPr/>
          </p:nvSpPr>
          <p:spPr>
            <a:xfrm>
              <a:off x="2513160" y="4829040"/>
              <a:ext cx="1198440" cy="1150920"/>
            </a:xfrm>
            <a:prstGeom prst="ellipse">
              <a:avLst/>
            </a:prstGeom>
            <a:gradFill rotWithShape="0">
              <a:gsLst>
                <a:gs pos="0">
                  <a:srgbClr val="809ea8"/>
                </a:gs>
                <a:gs pos="100000">
                  <a:srgbClr val="2e383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椭圆 8204"/>
            <p:cNvSpPr/>
            <p:nvPr/>
          </p:nvSpPr>
          <p:spPr>
            <a:xfrm>
              <a:off x="5105520" y="4191120"/>
              <a:ext cx="1199880" cy="1150920"/>
            </a:xfrm>
            <a:prstGeom prst="ellipse">
              <a:avLst/>
            </a:prstGeom>
            <a:gradFill rotWithShape="0">
              <a:gsLst>
                <a:gs pos="0">
                  <a:srgbClr val="d476d6"/>
                </a:gs>
                <a:gs pos="100000">
                  <a:srgbClr val="5a325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椭圆 8205"/>
            <p:cNvSpPr/>
            <p:nvPr/>
          </p:nvSpPr>
          <p:spPr>
            <a:xfrm>
              <a:off x="6813720" y="2057400"/>
              <a:ext cx="1131840" cy="1150920"/>
            </a:xfrm>
            <a:prstGeom prst="ellipse">
              <a:avLst/>
            </a:prstGeom>
            <a:gradFill rotWithShape="0">
              <a:gsLst>
                <a:gs pos="0">
                  <a:srgbClr val="e9dcb9"/>
                </a:gs>
                <a:gs pos="100000">
                  <a:srgbClr val="504c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文本框 8206"/>
            <p:cNvSpPr/>
            <p:nvPr/>
          </p:nvSpPr>
          <p:spPr>
            <a:xfrm>
              <a:off x="1965600" y="36385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文本框 8207"/>
            <p:cNvSpPr/>
            <p:nvPr/>
          </p:nvSpPr>
          <p:spPr>
            <a:xfrm>
              <a:off x="4346640" y="2263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文本框 8208"/>
            <p:cNvSpPr/>
            <p:nvPr/>
          </p:nvSpPr>
          <p:spPr>
            <a:xfrm>
              <a:off x="7086600" y="25146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文本框 8209"/>
            <p:cNvSpPr/>
            <p:nvPr/>
          </p:nvSpPr>
          <p:spPr>
            <a:xfrm>
              <a:off x="5413320" y="4603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文本框 8210"/>
            <p:cNvSpPr/>
            <p:nvPr/>
          </p:nvSpPr>
          <p:spPr>
            <a:xfrm>
              <a:off x="2779920" y="52354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文本框 8211"/>
            <p:cNvSpPr/>
            <p:nvPr/>
          </p:nvSpPr>
          <p:spPr>
            <a:xfrm>
              <a:off x="3681360" y="3645000"/>
              <a:ext cx="24210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789280" y="2109600"/>
              <a:ext cx="1676520" cy="1462320"/>
              <a:chOff x="2789280" y="2109600"/>
              <a:chExt cx="1676520" cy="1462320"/>
            </a:xfrm>
          </p:grpSpPr>
          <p:sp>
            <p:nvSpPr>
              <p:cNvPr id="219" name="直接连接符 8212"/>
              <p:cNvSpPr/>
              <p:nvPr/>
            </p:nvSpPr>
            <p:spPr>
              <a:xfrm>
                <a:off x="2789280" y="2109600"/>
                <a:ext cx="1676520" cy="146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2789280" y="2109600"/>
                <a:ext cx="1676520" cy="146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21" name="直接箭头连接符 8213"/>
            <p:cNvCxnSpPr/>
            <p:nvPr/>
          </p:nvCxnSpPr>
          <p:spPr>
            <a:xfrm flipH="1">
              <a:off x="906120" y="2109240"/>
              <a:ext cx="18835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</a:ln>
          </p:spPr>
        </p:cxnSp>
        <p:sp>
          <p:nvSpPr>
            <p:cNvPr id="222" name="文本框 8214"/>
            <p:cNvSpPr/>
            <p:nvPr/>
          </p:nvSpPr>
          <p:spPr>
            <a:xfrm>
              <a:off x="981720" y="17128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组合 9218"/>
          <p:cNvGrpSpPr/>
          <p:nvPr/>
        </p:nvGrpSpPr>
        <p:grpSpPr>
          <a:xfrm>
            <a:off x="1219320" y="1811160"/>
            <a:ext cx="6629400" cy="4056840"/>
            <a:chOff x="1219320" y="1811160"/>
            <a:chExt cx="6629400" cy="4056840"/>
          </a:xfrm>
        </p:grpSpPr>
        <p:sp>
          <p:nvSpPr>
            <p:cNvPr id="225" name="圆柱形 9219"/>
            <p:cNvSpPr/>
            <p:nvPr/>
          </p:nvSpPr>
          <p:spPr>
            <a:xfrm>
              <a:off x="3741120" y="4078080"/>
              <a:ext cx="1585080" cy="567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6656"/>
                </a:gs>
                <a:gs pos="50000">
                  <a:srgbClr val="e9dcb9"/>
                </a:gs>
                <a:gs pos="100000">
                  <a:srgbClr val="6c665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圆柱形 9220"/>
            <p:cNvSpPr/>
            <p:nvPr/>
          </p:nvSpPr>
          <p:spPr>
            <a:xfrm>
              <a:off x="3741120" y="3582360"/>
              <a:ext cx="1585080" cy="566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6656"/>
                </a:gs>
                <a:gs pos="50000">
                  <a:srgbClr val="e9dcb9"/>
                </a:gs>
                <a:gs pos="100000">
                  <a:srgbClr val="6c665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圆柱形 9221"/>
            <p:cNvSpPr/>
            <p:nvPr/>
          </p:nvSpPr>
          <p:spPr>
            <a:xfrm>
              <a:off x="3741120" y="3086280"/>
              <a:ext cx="1585080" cy="566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6656"/>
                </a:gs>
                <a:gs pos="50000">
                  <a:srgbClr val="e9dcb9"/>
                </a:gs>
                <a:gs pos="100000">
                  <a:srgbClr val="6c665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文本框 9222"/>
            <p:cNvSpPr/>
            <p:nvPr/>
          </p:nvSpPr>
          <p:spPr>
            <a:xfrm>
              <a:off x="4236480" y="33001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文本框 9223"/>
            <p:cNvSpPr/>
            <p:nvPr/>
          </p:nvSpPr>
          <p:spPr>
            <a:xfrm>
              <a:off x="4236480" y="3796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文本框 9224"/>
            <p:cNvSpPr/>
            <p:nvPr/>
          </p:nvSpPr>
          <p:spPr>
            <a:xfrm>
              <a:off x="4236480" y="4292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左箭头 9225"/>
            <p:cNvSpPr/>
            <p:nvPr/>
          </p:nvSpPr>
          <p:spPr>
            <a:xfrm>
              <a:off x="3092760" y="2873880"/>
              <a:ext cx="504360" cy="1912680"/>
            </a:xfrm>
            <a:prstGeom prst="leftArrow">
              <a:avLst>
                <a:gd name="adj1" fmla="val 65583"/>
                <a:gd name="adj2" fmla="val 65176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圆角矩形 9226"/>
            <p:cNvSpPr/>
            <p:nvPr/>
          </p:nvSpPr>
          <p:spPr>
            <a:xfrm>
              <a:off x="1219320" y="2377800"/>
              <a:ext cx="1729440" cy="290484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04840"/>
                <a:gd name="textAreaBottom" fmla="*/ 2820600 h 2904840"/>
              </a:gdLst>
              <a:ahLst/>
              <a:rect l="textAreaLeft" t="textAreaTop" r="textAreaRight" b="textAreaBottom"/>
              <a:pathLst>
                <a:path w="21600" h="36277">
                  <a:moveTo>
                    <a:pt x="3600" y="0"/>
                  </a:moveTo>
                  <a:arcTo wR="3600" hR="3600" stAng="16200000" swAng="-5400000"/>
                  <a:lnTo>
                    <a:pt x="0" y="32677"/>
                  </a:lnTo>
                  <a:arcTo wR="3600" hR="3600" stAng="10800000" swAng="-5400000"/>
                  <a:lnTo>
                    <a:pt x="18000" y="36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9ea8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文本框 9227"/>
            <p:cNvSpPr/>
            <p:nvPr/>
          </p:nvSpPr>
          <p:spPr>
            <a:xfrm>
              <a:off x="1291320" y="25902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圆角矩形 9228"/>
            <p:cNvSpPr/>
            <p:nvPr/>
          </p:nvSpPr>
          <p:spPr>
            <a:xfrm>
              <a:off x="6119280" y="2377800"/>
              <a:ext cx="1729440" cy="290484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04840"/>
                <a:gd name="textAreaBottom" fmla="*/ 2820600 h 2904840"/>
              </a:gdLst>
              <a:ahLst/>
              <a:rect l="textAreaLeft" t="textAreaTop" r="textAreaRight" b="textAreaBottom"/>
              <a:pathLst>
                <a:path w="21600" h="36277">
                  <a:moveTo>
                    <a:pt x="3600" y="0"/>
                  </a:moveTo>
                  <a:arcTo wR="3600" hR="3600" stAng="16200000" swAng="-5400000"/>
                  <a:lnTo>
                    <a:pt x="0" y="32677"/>
                  </a:lnTo>
                  <a:arcTo wR="3600" hR="3600" stAng="10800000" swAng="-5400000"/>
                  <a:lnTo>
                    <a:pt x="18000" y="36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9ea8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文本框 9229"/>
            <p:cNvSpPr/>
            <p:nvPr/>
          </p:nvSpPr>
          <p:spPr>
            <a:xfrm>
              <a:off x="6191280" y="25902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右箭头 9230"/>
            <p:cNvSpPr/>
            <p:nvPr/>
          </p:nvSpPr>
          <p:spPr>
            <a:xfrm>
              <a:off x="5473800" y="2873880"/>
              <a:ext cx="501120" cy="1912680"/>
            </a:xfrm>
            <a:prstGeom prst="rightArrow">
              <a:avLst>
                <a:gd name="adj1" fmla="val 67750"/>
                <a:gd name="adj2" fmla="val 66162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圆柱形 9231"/>
            <p:cNvSpPr/>
            <p:nvPr/>
          </p:nvSpPr>
          <p:spPr>
            <a:xfrm>
              <a:off x="3020760" y="1811160"/>
              <a:ext cx="2882160" cy="5666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0322b"/>
                </a:gs>
                <a:gs pos="50000">
                  <a:srgbClr val="686b5d"/>
                </a:gs>
                <a:gs pos="100000">
                  <a:srgbClr val="30322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上箭头 9232"/>
            <p:cNvSpPr/>
            <p:nvPr/>
          </p:nvSpPr>
          <p:spPr>
            <a:xfrm>
              <a:off x="3709800" y="2519640"/>
              <a:ext cx="1657080" cy="495720"/>
            </a:xfrm>
            <a:prstGeom prst="upArrow">
              <a:avLst>
                <a:gd name="adj1" fmla="val 68380"/>
                <a:gd name="adj2" fmla="val 70829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文本框 9233"/>
            <p:cNvSpPr/>
            <p:nvPr/>
          </p:nvSpPr>
          <p:spPr>
            <a:xfrm>
              <a:off x="4214160" y="202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圆柱形 9234"/>
            <p:cNvSpPr/>
            <p:nvPr/>
          </p:nvSpPr>
          <p:spPr>
            <a:xfrm>
              <a:off x="3092760" y="5282640"/>
              <a:ext cx="2882160" cy="5666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文本框 9235"/>
            <p:cNvSpPr/>
            <p:nvPr/>
          </p:nvSpPr>
          <p:spPr>
            <a:xfrm>
              <a:off x="4214160" y="5499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下箭头 9236"/>
            <p:cNvSpPr/>
            <p:nvPr/>
          </p:nvSpPr>
          <p:spPr>
            <a:xfrm>
              <a:off x="3688560" y="4715640"/>
              <a:ext cx="1660320" cy="488520"/>
            </a:xfrm>
            <a:prstGeom prst="downArrow">
              <a:avLst>
                <a:gd name="adj1" fmla="val 67093"/>
                <a:gd name="adj2" fmla="val 64046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组合 10242"/>
          <p:cNvGrpSpPr/>
          <p:nvPr/>
        </p:nvGrpSpPr>
        <p:grpSpPr>
          <a:xfrm>
            <a:off x="838080" y="2057400"/>
            <a:ext cx="7391520" cy="3581280"/>
            <a:chOff x="838080" y="2057400"/>
            <a:chExt cx="7391520" cy="3581280"/>
          </a:xfrm>
        </p:grpSpPr>
        <p:sp>
          <p:nvSpPr>
            <p:cNvPr id="245" name="圆柱形 10243"/>
            <p:cNvSpPr/>
            <p:nvPr/>
          </p:nvSpPr>
          <p:spPr>
            <a:xfrm>
              <a:off x="838080" y="36576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494e"/>
                </a:gs>
                <a:gs pos="50000">
                  <a:srgbClr val="809ea8"/>
                </a:gs>
                <a:gs pos="100000">
                  <a:srgbClr val="3b49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圆柱形 10244"/>
            <p:cNvSpPr/>
            <p:nvPr/>
          </p:nvSpPr>
          <p:spPr>
            <a:xfrm>
              <a:off x="838080" y="312408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494e"/>
                </a:gs>
                <a:gs pos="50000">
                  <a:srgbClr val="809ea8"/>
                </a:gs>
                <a:gs pos="100000">
                  <a:srgbClr val="3b49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圆柱形 10245"/>
            <p:cNvSpPr/>
            <p:nvPr/>
          </p:nvSpPr>
          <p:spPr>
            <a:xfrm>
              <a:off x="838080" y="2590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494e"/>
                </a:gs>
                <a:gs pos="50000">
                  <a:srgbClr val="809ea8"/>
                </a:gs>
                <a:gs pos="100000">
                  <a:srgbClr val="3b49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圆柱形 10246"/>
            <p:cNvSpPr/>
            <p:nvPr/>
          </p:nvSpPr>
          <p:spPr>
            <a:xfrm>
              <a:off x="6324480" y="36576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4741"/>
                </a:gs>
                <a:gs pos="50000">
                  <a:srgbClr val="99998d"/>
                </a:gs>
                <a:gs pos="100000">
                  <a:srgbClr val="4747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圆柱形 10247"/>
            <p:cNvSpPr/>
            <p:nvPr/>
          </p:nvSpPr>
          <p:spPr>
            <a:xfrm>
              <a:off x="6324480" y="312408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4741"/>
                </a:gs>
                <a:gs pos="50000">
                  <a:srgbClr val="99998d"/>
                </a:gs>
                <a:gs pos="100000">
                  <a:srgbClr val="4747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圆柱形 10248"/>
            <p:cNvSpPr/>
            <p:nvPr/>
          </p:nvSpPr>
          <p:spPr>
            <a:xfrm>
              <a:off x="6324480" y="2590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4741"/>
                </a:gs>
                <a:gs pos="50000">
                  <a:srgbClr val="99998d"/>
                </a:gs>
                <a:gs pos="100000">
                  <a:srgbClr val="4747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1" name="组合 10249"/>
            <p:cNvGrpSpPr/>
            <p:nvPr/>
          </p:nvGrpSpPr>
          <p:grpSpPr>
            <a:xfrm>
              <a:off x="2895480" y="2057400"/>
              <a:ext cx="3196800" cy="2841480"/>
              <a:chOff x="2895480" y="2057400"/>
              <a:chExt cx="3196800" cy="2841480"/>
            </a:xfrm>
          </p:grpSpPr>
          <p:sp>
            <p:nvSpPr>
              <p:cNvPr id="252" name="上箭头 10250"/>
              <p:cNvSpPr/>
              <p:nvPr/>
            </p:nvSpPr>
            <p:spPr>
              <a:xfrm flipH="1" rot="16200000">
                <a:off x="2813400" y="317088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9998d"/>
                  </a:gs>
                  <a:gs pos="100000">
                    <a:srgbClr val="d7d7d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上箭头 10251"/>
              <p:cNvSpPr/>
              <p:nvPr/>
            </p:nvSpPr>
            <p:spPr>
              <a:xfrm flipH="1" rot="5400000">
                <a:off x="5683320" y="311652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9998d"/>
                  </a:gs>
                  <a:gs pos="100000">
                    <a:srgbClr val="d7d7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上箭头 10252"/>
              <p:cNvSpPr/>
              <p:nvPr/>
            </p:nvSpPr>
            <p:spPr>
              <a:xfrm flipH="1" rot="10800000">
                <a:off x="4250520" y="4572000"/>
                <a:ext cx="48960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9998d"/>
                  </a:gs>
                  <a:gs pos="100000">
                    <a:srgbClr val="d7d7d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椭圆 10253"/>
              <p:cNvSpPr/>
              <p:nvPr/>
            </p:nvSpPr>
            <p:spPr>
              <a:xfrm>
                <a:off x="3222360" y="2057400"/>
                <a:ext cx="2566440" cy="2563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椭圆 10254"/>
              <p:cNvSpPr/>
              <p:nvPr/>
            </p:nvSpPr>
            <p:spPr>
              <a:xfrm>
                <a:off x="3368880" y="2201760"/>
                <a:ext cx="2272320" cy="227016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椭圆 10255"/>
              <p:cNvSpPr/>
              <p:nvPr/>
            </p:nvSpPr>
            <p:spPr>
              <a:xfrm>
                <a:off x="3502440" y="233676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6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椭圆 10256"/>
              <p:cNvSpPr/>
              <p:nvPr/>
            </p:nvSpPr>
            <p:spPr>
              <a:xfrm>
                <a:off x="3502440" y="233676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椭圆 10257"/>
              <p:cNvSpPr/>
              <p:nvPr/>
            </p:nvSpPr>
            <p:spPr>
              <a:xfrm>
                <a:off x="3634560" y="246852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8a6e37"/>
                  </a:gs>
                  <a:gs pos="50000">
                    <a:srgbClr val="ffcc66"/>
                  </a:gs>
                  <a:gs pos="100000">
                    <a:srgbClr val="8a6e3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椭圆 10258"/>
              <p:cNvSpPr/>
              <p:nvPr/>
            </p:nvSpPr>
            <p:spPr>
              <a:xfrm>
                <a:off x="3634560" y="246852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文本框 10259"/>
              <p:cNvSpPr/>
              <p:nvPr/>
            </p:nvSpPr>
            <p:spPr>
              <a:xfrm>
                <a:off x="3813480" y="31240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2" name="圆角矩形 10260"/>
            <p:cNvSpPr/>
            <p:nvPr/>
          </p:nvSpPr>
          <p:spPr>
            <a:xfrm>
              <a:off x="2557440" y="510552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9ea8"/>
                </a:gs>
                <a:gs pos="50000">
                  <a:srgbClr val="d4dee2"/>
                </a:gs>
                <a:gs pos="100000">
                  <a:srgbClr val="809ea8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文本框 10261"/>
            <p:cNvSpPr/>
            <p:nvPr/>
          </p:nvSpPr>
          <p:spPr>
            <a:xfrm>
              <a:off x="13730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文本框 10262"/>
            <p:cNvSpPr/>
            <p:nvPr/>
          </p:nvSpPr>
          <p:spPr>
            <a:xfrm>
              <a:off x="13730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文本框 10263"/>
            <p:cNvSpPr/>
            <p:nvPr/>
          </p:nvSpPr>
          <p:spPr>
            <a:xfrm>
              <a:off x="13730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文本框 10264"/>
            <p:cNvSpPr/>
            <p:nvPr/>
          </p:nvSpPr>
          <p:spPr>
            <a:xfrm>
              <a:off x="69926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文本框 10265"/>
            <p:cNvSpPr/>
            <p:nvPr/>
          </p:nvSpPr>
          <p:spPr>
            <a:xfrm>
              <a:off x="69926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文本框 10266"/>
            <p:cNvSpPr/>
            <p:nvPr/>
          </p:nvSpPr>
          <p:spPr>
            <a:xfrm>
              <a:off x="69926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组合 11266"/>
          <p:cNvGrpSpPr/>
          <p:nvPr/>
        </p:nvGrpSpPr>
        <p:grpSpPr>
          <a:xfrm>
            <a:off x="1294920" y="1981080"/>
            <a:ext cx="7086960" cy="3581280"/>
            <a:chOff x="1294920" y="1981080"/>
            <a:chExt cx="7086960" cy="3581280"/>
          </a:xfrm>
        </p:grpSpPr>
        <p:sp>
          <p:nvSpPr>
            <p:cNvPr id="271" name="任意多边形 11267"/>
            <p:cNvSpPr/>
            <p:nvPr/>
          </p:nvSpPr>
          <p:spPr>
            <a:xfrm>
              <a:off x="7792920" y="1981080"/>
              <a:ext cx="582480" cy="905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任意多边形 11268"/>
            <p:cNvSpPr/>
            <p:nvPr/>
          </p:nvSpPr>
          <p:spPr>
            <a:xfrm>
              <a:off x="5002200" y="1981080"/>
              <a:ext cx="3379680" cy="5778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任意多边形 11269"/>
            <p:cNvSpPr/>
            <p:nvPr/>
          </p:nvSpPr>
          <p:spPr>
            <a:xfrm>
              <a:off x="7207200" y="2879640"/>
              <a:ext cx="581040" cy="89856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任意多边形 11270"/>
            <p:cNvSpPr/>
            <p:nvPr/>
          </p:nvSpPr>
          <p:spPr>
            <a:xfrm>
              <a:off x="4163760" y="2869920"/>
              <a:ext cx="3632400" cy="58608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任意多边形 11271"/>
            <p:cNvSpPr/>
            <p:nvPr/>
          </p:nvSpPr>
          <p:spPr>
            <a:xfrm>
              <a:off x="6619680" y="3767040"/>
              <a:ext cx="579600" cy="90468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任意多边形 11272"/>
            <p:cNvSpPr/>
            <p:nvPr/>
          </p:nvSpPr>
          <p:spPr>
            <a:xfrm>
              <a:off x="6035400" y="4657680"/>
              <a:ext cx="584280" cy="9046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任意多边形 11273"/>
            <p:cNvSpPr/>
            <p:nvPr/>
          </p:nvSpPr>
          <p:spPr>
            <a:xfrm>
              <a:off x="2493720" y="4662360"/>
              <a:ext cx="4125960" cy="5778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1294920" y="5556240"/>
              <a:ext cx="1198800" cy="360"/>
              <a:chOff x="1294920" y="5556240"/>
              <a:chExt cx="1198800" cy="360"/>
            </a:xfrm>
          </p:grpSpPr>
          <p:sp>
            <p:nvSpPr>
              <p:cNvPr id="279" name="直接连接符 11274"/>
              <p:cNvSpPr/>
              <p:nvPr/>
            </p:nvSpPr>
            <p:spPr>
              <a:xfrm flipH="1">
                <a:off x="1294920" y="5556240"/>
                <a:ext cx="1198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 txBox="1"/>
              <p:nvPr/>
            </p:nvSpPr>
            <p:spPr>
              <a:xfrm>
                <a:off x="1295280" y="5556240"/>
                <a:ext cx="119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1295280" y="4657680"/>
              <a:ext cx="2036880" cy="360"/>
              <a:chOff x="1295280" y="4657680"/>
              <a:chExt cx="2036880" cy="360"/>
            </a:xfrm>
          </p:grpSpPr>
          <p:sp>
            <p:nvSpPr>
              <p:cNvPr id="282" name="直接连接符 11275"/>
              <p:cNvSpPr/>
              <p:nvPr/>
            </p:nvSpPr>
            <p:spPr>
              <a:xfrm flipH="1">
                <a:off x="1295280" y="4657680"/>
                <a:ext cx="2036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 txBox="1"/>
              <p:nvPr/>
            </p:nvSpPr>
            <p:spPr>
              <a:xfrm>
                <a:off x="1295280" y="4657680"/>
                <a:ext cx="2036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1295280" y="3771720"/>
              <a:ext cx="2876400" cy="360"/>
              <a:chOff x="1295280" y="3771720"/>
              <a:chExt cx="2876400" cy="360"/>
            </a:xfrm>
          </p:grpSpPr>
          <p:sp>
            <p:nvSpPr>
              <p:cNvPr id="285" name="直接连接符 11276"/>
              <p:cNvSpPr/>
              <p:nvPr/>
            </p:nvSpPr>
            <p:spPr>
              <a:xfrm flipH="1">
                <a:off x="1295280" y="3771720"/>
                <a:ext cx="2876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>
                <a:off x="1295280" y="3771720"/>
                <a:ext cx="2876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1294920" y="2886120"/>
              <a:ext cx="3715200" cy="360"/>
              <a:chOff x="1294920" y="2886120"/>
              <a:chExt cx="3715200" cy="360"/>
            </a:xfrm>
          </p:grpSpPr>
          <p:sp>
            <p:nvSpPr>
              <p:cNvPr id="288" name="直接连接符 11277"/>
              <p:cNvSpPr/>
              <p:nvPr/>
            </p:nvSpPr>
            <p:spPr>
              <a:xfrm flipH="1">
                <a:off x="1294920" y="2886120"/>
                <a:ext cx="3714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 txBox="1"/>
              <p:nvPr/>
            </p:nvSpPr>
            <p:spPr>
              <a:xfrm>
                <a:off x="1295280" y="2886120"/>
                <a:ext cx="3714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1294920" y="1987560"/>
              <a:ext cx="4553280" cy="360"/>
              <a:chOff x="1294920" y="1987560"/>
              <a:chExt cx="4553280" cy="360"/>
            </a:xfrm>
          </p:grpSpPr>
          <p:sp>
            <p:nvSpPr>
              <p:cNvPr id="291" name="直接连接符 11278"/>
              <p:cNvSpPr/>
              <p:nvPr/>
            </p:nvSpPr>
            <p:spPr>
              <a:xfrm flipH="1">
                <a:off x="1294920" y="1987560"/>
                <a:ext cx="4552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 txBox="1"/>
              <p:nvPr/>
            </p:nvSpPr>
            <p:spPr>
              <a:xfrm>
                <a:off x="1295280" y="1987560"/>
                <a:ext cx="455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1476360" y="1981080"/>
              <a:ext cx="360" cy="932040"/>
              <a:chOff x="1476360" y="1981080"/>
              <a:chExt cx="360" cy="932040"/>
            </a:xfrm>
          </p:grpSpPr>
          <p:sp>
            <p:nvSpPr>
              <p:cNvPr id="294" name="直接连接符 11279"/>
              <p:cNvSpPr/>
              <p:nvPr/>
            </p:nvSpPr>
            <p:spPr>
              <a:xfrm>
                <a:off x="1476360" y="1981080"/>
                <a:ext cx="0" cy="9320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 txBox="1"/>
              <p:nvPr/>
            </p:nvSpPr>
            <p:spPr>
              <a:xfrm>
                <a:off x="1476360" y="1981080"/>
                <a:ext cx="360" cy="93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476360" y="2913120"/>
              <a:ext cx="360" cy="871200"/>
              <a:chOff x="1476360" y="2913120"/>
              <a:chExt cx="360" cy="871200"/>
            </a:xfrm>
          </p:grpSpPr>
          <p:sp>
            <p:nvSpPr>
              <p:cNvPr id="297" name="直接连接符 11280"/>
              <p:cNvSpPr/>
              <p:nvPr/>
            </p:nvSpPr>
            <p:spPr>
              <a:xfrm>
                <a:off x="1476360" y="2913120"/>
                <a:ext cx="0" cy="871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 txBox="1"/>
              <p:nvPr/>
            </p:nvSpPr>
            <p:spPr>
              <a:xfrm>
                <a:off x="1476360" y="2913120"/>
                <a:ext cx="360" cy="87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476360" y="3784320"/>
              <a:ext cx="360" cy="873360"/>
              <a:chOff x="1476360" y="3784320"/>
              <a:chExt cx="360" cy="873360"/>
            </a:xfrm>
          </p:grpSpPr>
          <p:sp>
            <p:nvSpPr>
              <p:cNvPr id="300" name="直接连接符 11281"/>
              <p:cNvSpPr/>
              <p:nvPr/>
            </p:nvSpPr>
            <p:spPr>
              <a:xfrm>
                <a:off x="1476360" y="3784320"/>
                <a:ext cx="0" cy="873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 txBox="1"/>
              <p:nvPr/>
            </p:nvSpPr>
            <p:spPr>
              <a:xfrm>
                <a:off x="1476360" y="3784320"/>
                <a:ext cx="360" cy="87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476360" y="4657680"/>
              <a:ext cx="360" cy="873000"/>
              <a:chOff x="1476360" y="4657680"/>
              <a:chExt cx="360" cy="873000"/>
            </a:xfrm>
          </p:grpSpPr>
          <p:sp>
            <p:nvSpPr>
              <p:cNvPr id="303" name="直接连接符 11282"/>
              <p:cNvSpPr/>
              <p:nvPr/>
            </p:nvSpPr>
            <p:spPr>
              <a:xfrm>
                <a:off x="1476360" y="4657680"/>
                <a:ext cx="0" cy="87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 txBox="1"/>
              <p:nvPr/>
            </p:nvSpPr>
            <p:spPr>
              <a:xfrm>
                <a:off x="1476360" y="4657680"/>
                <a:ext cx="360" cy="87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5" name="任意多边形 11283"/>
            <p:cNvSpPr/>
            <p:nvPr/>
          </p:nvSpPr>
          <p:spPr>
            <a:xfrm>
              <a:off x="3092400" y="2155680"/>
              <a:ext cx="1857240" cy="29098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矩形 11284"/>
            <p:cNvSpPr/>
            <p:nvPr/>
          </p:nvSpPr>
          <p:spPr>
            <a:xfrm>
              <a:off x="5008320" y="2558880"/>
              <a:ext cx="2797200" cy="32544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矩形 11285"/>
            <p:cNvSpPr/>
            <p:nvPr/>
          </p:nvSpPr>
          <p:spPr>
            <a:xfrm>
              <a:off x="4165560" y="3456000"/>
              <a:ext cx="3047760" cy="31896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任意多边形 11286"/>
            <p:cNvSpPr/>
            <p:nvPr/>
          </p:nvSpPr>
          <p:spPr>
            <a:xfrm>
              <a:off x="3330360" y="3767040"/>
              <a:ext cx="3875040" cy="5824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矩形 11287"/>
            <p:cNvSpPr/>
            <p:nvPr/>
          </p:nvSpPr>
          <p:spPr>
            <a:xfrm>
              <a:off x="3332160" y="4349520"/>
              <a:ext cx="3300120" cy="31752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矩形 11288"/>
            <p:cNvSpPr/>
            <p:nvPr/>
          </p:nvSpPr>
          <p:spPr>
            <a:xfrm>
              <a:off x="2492280" y="5241960"/>
              <a:ext cx="3551040" cy="31752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文本框 11289"/>
            <p:cNvSpPr/>
            <p:nvPr/>
          </p:nvSpPr>
          <p:spPr>
            <a:xfrm>
              <a:off x="1513440" y="2327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文本框 11290"/>
            <p:cNvSpPr/>
            <p:nvPr/>
          </p:nvSpPr>
          <p:spPr>
            <a:xfrm>
              <a:off x="1513440" y="32097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文本框 11291"/>
            <p:cNvSpPr/>
            <p:nvPr/>
          </p:nvSpPr>
          <p:spPr>
            <a:xfrm>
              <a:off x="1513440" y="4133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文本框 11292"/>
            <p:cNvSpPr/>
            <p:nvPr/>
          </p:nvSpPr>
          <p:spPr>
            <a:xfrm>
              <a:off x="1513440" y="4994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文本框 11293"/>
          <p:cNvSpPr/>
          <p:nvPr/>
        </p:nvSpPr>
        <p:spPr>
          <a:xfrm>
            <a:off x="755640" y="981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cc66"/>
                </a:solidFill>
                <a:uFillTx/>
                <a:latin typeface="Arial"/>
                <a:ea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右箭头 12290"/>
          <p:cNvSpPr/>
          <p:nvPr/>
        </p:nvSpPr>
        <p:spPr>
          <a:xfrm>
            <a:off x="0" y="1600200"/>
            <a:ext cx="5562720" cy="4191120"/>
          </a:xfrm>
          <a:prstGeom prst="rightArrow">
            <a:avLst>
              <a:gd name="adj1" fmla="val 79306"/>
              <a:gd name="adj2" fmla="val 32868"/>
            </a:avLst>
          </a:prstGeom>
          <a:solidFill>
            <a:srgbClr val="66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圆角矩形 12291"/>
          <p:cNvSpPr/>
          <p:nvPr/>
        </p:nvSpPr>
        <p:spPr>
          <a:xfrm>
            <a:off x="422280" y="2168640"/>
            <a:ext cx="373212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9dcb9"/>
              </a:gs>
              <a:gs pos="100000">
                <a:srgbClr val="6c6656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圆角矩形 12292"/>
          <p:cNvSpPr/>
          <p:nvPr/>
        </p:nvSpPr>
        <p:spPr>
          <a:xfrm>
            <a:off x="422280" y="3233880"/>
            <a:ext cx="373212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998d"/>
              </a:gs>
              <a:gs pos="100000">
                <a:srgbClr val="47474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圆角矩形 12293"/>
          <p:cNvSpPr/>
          <p:nvPr/>
        </p:nvSpPr>
        <p:spPr>
          <a:xfrm>
            <a:off x="422280" y="4299120"/>
            <a:ext cx="373212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09ea8"/>
              </a:gs>
              <a:gs pos="100000">
                <a:srgbClr val="3b494e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圆角矩形 12294"/>
          <p:cNvSpPr/>
          <p:nvPr/>
        </p:nvSpPr>
        <p:spPr>
          <a:xfrm>
            <a:off x="5562720" y="2971800"/>
            <a:ext cx="27432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8:45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57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