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E3A-5C8D-4DA8-917C-DE2A51D8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782520"/>
            <a:ext cx="7620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C6A-6163-4081-86FB-BC819CF6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7825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7825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32C-F9CE-46F3-96EB-DA1FE506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2193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2193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7825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7825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7825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6B6A-49E6-4B45-87CB-F11C8F6A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B4DE-F750-4A80-9195-8D2F80B9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219320"/>
            <a:ext cx="76201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6B6B-5C14-47A8-A862-D8AF9FF5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C814-03DF-47B2-AC09-1E28C659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7184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219320"/>
            <a:ext cx="37184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E62B-CD4F-48AE-AA4F-96EB50F4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AA18-4B3E-459C-8622-0E3167B7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152280"/>
            <a:ext cx="815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2E44-EEA7-42F3-93A9-552FBF03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219320"/>
            <a:ext cx="37184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7825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6F39-B65F-45B5-8159-F20A827B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219320"/>
            <a:ext cx="76201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C0E-CF63-453E-B19F-76C66F8A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7184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7825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A66B-DE77-49AA-893F-323FA821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782520"/>
            <a:ext cx="7620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5858-9DA8-412D-881C-0DBAB932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782520"/>
            <a:ext cx="7620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372C-2193-4741-9568-DC82150D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7825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7825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77E9-33D7-4C59-B806-D0F8F6DA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2193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2193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7825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7825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7825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E183-63FC-4CA9-9D6B-A164A93F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33E62-E501-492C-8E29-572DDCBE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320" y="1219320"/>
            <a:ext cx="76201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51EF-ABF8-434D-BE33-137F41E8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17B4D-15EE-4FC9-BD10-7874658E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7184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71240" y="1219320"/>
            <a:ext cx="37184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D4AC5-A81A-4925-859B-082A5807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DFC0B-BE46-4DC4-993E-CC6E503D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48A4-68BD-4268-91D0-7A83490D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152280"/>
            <a:ext cx="815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F3997-C45A-46F3-AD6C-ADEA3900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1240" y="1219320"/>
            <a:ext cx="37184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7825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0E1B9-820C-4339-9EE1-987B7639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7184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124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71240" y="37825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078E7-E9FD-49EA-908F-B58AD685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782520"/>
            <a:ext cx="7620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80CB-42F7-42B9-A1C9-73B76EFB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320" y="3782520"/>
            <a:ext cx="7620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12D02-1109-4B9C-8E06-A7FB024B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124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320" y="37825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71240" y="37825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C6D76-8CF0-40B6-99D3-C5EE570F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2840" y="12193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19360" y="12193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66320" y="37825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2840" y="37825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19360" y="3782520"/>
            <a:ext cx="24534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14AE2-6CD8-4D92-8380-E52D7DA1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7184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219320"/>
            <a:ext cx="37184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742-418D-40B9-8DBB-77346E38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610-755F-4A81-B2D9-D716854A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52280"/>
            <a:ext cx="815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1C22-0FEB-46D4-99B4-DE492DC8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219320"/>
            <a:ext cx="37184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7825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DC3-FDEF-4563-8613-B4208E6B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7184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7825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EF40-94B7-434B-AC25-4F7F2E2F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219320"/>
            <a:ext cx="37184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782520"/>
            <a:ext cx="7620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353-FF1F-4E65-ADAE-490BA9F0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219320"/>
            <a:ext cx="7620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25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15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251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15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25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15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251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15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251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15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15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15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7137-960F-4A6A-ACEE-637DCD064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0862-46AE-4F44-9F1F-61539330FFC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3D4B-1FBC-4D7B-B28B-F1B09FAD4F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66320" y="1219320"/>
            <a:ext cx="7620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25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15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251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15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25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15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251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15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251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15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15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15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394B-353E-46D7-9B11-01A3D2F12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36196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lculated Ri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676160" y="46479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1" lang="en-US" sz="24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3303360" y="685800"/>
            <a:ext cx="46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计算风险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251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515e"/>
                </a:solidFill>
                <a:latin typeface="Arial"/>
              </a:rPr>
              <a:t>YOUR SUBTOPICS GO HERE</a:t>
            </a: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1" lang="en-US" sz="2800" spc="-1" strike="noStrike">
              <a:solidFill>
                <a:srgbClr val="32515e"/>
              </a:solidFill>
              <a:latin typeface="Arial"/>
            </a:endParaRPr>
          </a:p>
        </p:txBody>
      </p:sp>
      <p:sp>
        <p:nvSpPr>
          <p:cNvPr id="131" name="文本框 6147"/>
          <p:cNvSpPr/>
          <p:nvPr/>
        </p:nvSpPr>
        <p:spPr>
          <a:xfrm>
            <a:off x="1219320" y="25909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AF06-087E-4533-B668-42A9C11758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图片 8194" descr="calculated_risk_prt"/>
          <p:cNvPicPr/>
          <p:nvPr/>
        </p:nvPicPr>
        <p:blipFill>
          <a:blip r:embed="rId1"/>
          <a:stretch/>
        </p:blipFill>
        <p:spPr>
          <a:xfrm>
            <a:off x="5715000" y="417204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39" name="图片 8195" descr="calculated_risk_qx"/>
          <p:cNvPicPr/>
          <p:nvPr/>
        </p:nvPicPr>
        <p:blipFill>
          <a:blip r:embed="rId2"/>
          <a:stretch/>
        </p:blipFill>
        <p:spPr>
          <a:xfrm>
            <a:off x="2133720" y="1428840"/>
            <a:ext cx="304776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40" name="图片 8196" descr="calculated_risk_sld"/>
          <p:cNvPicPr/>
          <p:nvPr/>
        </p:nvPicPr>
        <p:blipFill>
          <a:blip r:embed="rId3"/>
          <a:stretch/>
        </p:blipFill>
        <p:spPr>
          <a:xfrm>
            <a:off x="2133720" y="4172040"/>
            <a:ext cx="304776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41" name="图片 8197" descr="calculated_risk_trs"/>
          <p:cNvPicPr/>
          <p:nvPr/>
        </p:nvPicPr>
        <p:blipFill>
          <a:blip r:embed="rId4"/>
          <a:stretch/>
        </p:blipFill>
        <p:spPr>
          <a:xfrm>
            <a:off x="5715000" y="1428840"/>
            <a:ext cx="3048120" cy="228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7:18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45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