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EB4C-A84A-47B8-8B2A-4D5185F80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B81B-B864-4491-AD14-1948AC706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EB3B-97FE-4EB9-9841-C2D7DC1BA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B401-CB18-4788-829D-00F7C79BE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4E171-EC02-4653-9927-77E4DE086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165C4-ED20-4321-9E37-5A78E7E01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50B22-8E10-407B-BF1C-A470A80F7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B3836-E3EC-4C1F-8960-7447AB581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390BA-ED29-45E2-9F53-A11F2FA45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3FFBA-8EE2-42EF-882D-100D9E6C7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3233F-652B-40D1-939A-0B322B97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F8E1-D97D-42AE-9284-0549F6E56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079A9-A266-4618-B780-7F81DC6A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05BC5-41DF-4DE2-9E1D-0B7ED60C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87E7E-B368-4A8D-A000-C515CB1ED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4C624-E7FA-4495-94DB-EC781183F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4F57C-97D8-48C0-8347-B0A38DFBC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843C-4234-4BF1-B512-57078FC28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E62E-F117-4AC1-92AD-354969B1B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B10F-0FCF-4C26-A22B-AD7202738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95E3-5CA8-4558-8158-DE865C298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70E1-7CC4-45FD-A4B7-66BD395A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FE51-C94B-4F64-8D04-3201207C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0A79-BC6A-4EA6-BF32-E59CDD83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FF983-7511-4258-B123-C1384A841A0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6A848-F8D9-4725-9546-149A36B69B5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A064B-DA83-4E39-977A-EE6687B90CA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8D5FE-2045-4EEC-BBF6-55E84C3DA9D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2857680" y="4127400"/>
            <a:ext cx="5286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3203640" y="522936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卡通可爱及相关类别演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307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3076"/>
          <p:cNvSpPr/>
          <p:nvPr/>
        </p:nvSpPr>
        <p:spPr>
          <a:xfrm>
            <a:off x="2653560" y="83664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简约可爱小熊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3857760" y="1055520"/>
            <a:ext cx="2571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2"/>
          <p:cNvSpPr/>
          <p:nvPr/>
        </p:nvSpPr>
        <p:spPr>
          <a:xfrm>
            <a:off x="1926000" y="563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4"/>
          <p:cNvSpPr/>
          <p:nvPr/>
        </p:nvSpPr>
        <p:spPr>
          <a:xfrm>
            <a:off x="4212000" y="563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5"/>
          <p:cNvSpPr/>
          <p:nvPr/>
        </p:nvSpPr>
        <p:spPr>
          <a:xfrm>
            <a:off x="6426720" y="563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8"/>
          <p:cNvSpPr/>
          <p:nvPr/>
        </p:nvSpPr>
        <p:spPr>
          <a:xfrm>
            <a:off x="3681720" y="64296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5"/>
          <p:cNvSpPr/>
          <p:nvPr/>
        </p:nvSpPr>
        <p:spPr>
          <a:xfrm>
            <a:off x="214056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6"/>
          <p:cNvSpPr/>
          <p:nvPr/>
        </p:nvSpPr>
        <p:spPr>
          <a:xfrm>
            <a:off x="628380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7"/>
          <p:cNvSpPr/>
          <p:nvPr/>
        </p:nvSpPr>
        <p:spPr>
          <a:xfrm>
            <a:off x="214056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8"/>
          <p:cNvSpPr/>
          <p:nvPr/>
        </p:nvSpPr>
        <p:spPr>
          <a:xfrm>
            <a:off x="642672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87638-78CE-496B-890A-4C2FA0145F8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1"/>
          <p:cNvSpPr/>
          <p:nvPr/>
        </p:nvSpPr>
        <p:spPr>
          <a:xfrm>
            <a:off x="221184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4"/>
          <p:cNvSpPr/>
          <p:nvPr/>
        </p:nvSpPr>
        <p:spPr>
          <a:xfrm>
            <a:off x="62125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5"/>
          <p:cNvSpPr/>
          <p:nvPr/>
        </p:nvSpPr>
        <p:spPr>
          <a:xfrm>
            <a:off x="3681720" y="50004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7"/>
          <p:cNvSpPr/>
          <p:nvPr/>
        </p:nvSpPr>
        <p:spPr>
          <a:xfrm>
            <a:off x="421200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6149"/>
          <p:cNvSpPr/>
          <p:nvPr/>
        </p:nvSpPr>
        <p:spPr>
          <a:xfrm>
            <a:off x="1692360" y="58770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7:26Z</dcterms:modified>
  <cp:revision>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