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EEDB3-6F69-4BAD-ADF6-23F5DAF1E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1896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44772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5149A-0897-4A98-8D6C-B33095E24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13350-9920-47C5-8E85-70CBBE761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6E840-02E3-48B4-A989-FF5025898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A8077-1092-4E16-BF28-8E9FE96BB4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218960"/>
            <a:ext cx="8229600" cy="4267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168F8-E521-4E47-8D66-7EE8DF318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218960"/>
            <a:ext cx="8229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58FA9-B4E8-44F3-BEB9-C13478FC4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70E9E-09A5-4104-B807-E1B998175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618AD-2CF9-41A3-9D9B-E6DA0A353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4830B-912F-4D9B-AF6E-DF7365B71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6D717-271D-4773-B902-3B5B45D74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18960"/>
            <a:ext cx="8229600" cy="4267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E3C76-363A-406C-B123-8054AE3A6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BEFA2-5435-45AF-96C7-46A5E7404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44772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D0284-7D21-4C8E-B93D-115627CC7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21896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44772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8CDB4-70CF-4DC6-9D75-0CE3F374E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8EEDBE-D991-447B-9296-5CEA93768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2FD81-2435-4740-BBD9-09424EA80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1096BE-7D64-4413-95B7-D0848D604B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218960"/>
            <a:ext cx="8229600" cy="4267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04BAA8-9EB8-4A9F-9C07-FD3DF6C1D6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218960"/>
            <a:ext cx="8229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1167BC-B1D0-47E5-9720-1CF9A73713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7424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EDAE54-FD2C-425E-AAB6-C1A24974A5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C67836-865A-40AD-8E50-8B5E8F8B04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18960"/>
            <a:ext cx="8229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DF18B-823E-4CAE-9AA2-5D664C191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6DD240-90E6-4CBE-AC11-E68E9BD444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424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5720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33F97D-614F-4309-B261-D5683D1D6C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467424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B09B31-75CD-4ADB-9234-0F151C243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457200" y="344772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1A04FC-4897-4118-A71C-7E92883469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21896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57200" y="344772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F64433-E5BB-4310-8AFC-6B0131179D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5720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5"/>
          <p:cNvSpPr>
            <a:spLocks noGrp="1"/>
          </p:cNvSpPr>
          <p:nvPr>
            <p:ph/>
          </p:nvPr>
        </p:nvSpPr>
        <p:spPr>
          <a:xfrm>
            <a:off x="467424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E5ACD2-DA57-4BCD-81D6-6FD2719109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323964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602208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5720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6"/>
          <p:cNvSpPr>
            <a:spLocks noGrp="1"/>
          </p:cNvSpPr>
          <p:nvPr>
            <p:ph/>
          </p:nvPr>
        </p:nvSpPr>
        <p:spPr>
          <a:xfrm>
            <a:off x="323964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7"/>
          <p:cNvSpPr>
            <a:spLocks noGrp="1"/>
          </p:cNvSpPr>
          <p:nvPr>
            <p:ph/>
          </p:nvPr>
        </p:nvSpPr>
        <p:spPr>
          <a:xfrm>
            <a:off x="602208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8C2E1B-3634-4D0B-85A6-0E38693A00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6CD563-0F87-4011-A989-A42E37FB7B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218960"/>
            <a:ext cx="8229600" cy="4267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2CC4D7-FFB8-4621-B6B3-678B0CE788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218960"/>
            <a:ext cx="8229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7B5375-C0C5-4652-9FCA-A6A077B95F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6F2D4-6E76-400E-9B10-D32F405AC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67424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32275C-B162-4F0A-B96A-A5DFA1A47C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0C8C73-AEF6-4A8D-B271-8875D0C253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986BDC-74D8-4E3A-92CD-6DA58C276A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7424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5720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D2AA0-3B56-4923-964E-8C0BDA1019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467424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93B682-341F-46B9-B32E-B41F301611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4"/>
          <p:cNvSpPr>
            <a:spLocks noGrp="1"/>
          </p:cNvSpPr>
          <p:nvPr>
            <p:ph/>
          </p:nvPr>
        </p:nvSpPr>
        <p:spPr>
          <a:xfrm>
            <a:off x="457200" y="344772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43D5DD-7796-486F-AC2C-1176C3865B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21896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3"/>
          <p:cNvSpPr>
            <a:spLocks noGrp="1"/>
          </p:cNvSpPr>
          <p:nvPr>
            <p:ph/>
          </p:nvPr>
        </p:nvSpPr>
        <p:spPr>
          <a:xfrm>
            <a:off x="457200" y="344772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438841-287F-4873-8B6E-42D8D575A8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4"/>
          <p:cNvSpPr>
            <a:spLocks noGrp="1"/>
          </p:cNvSpPr>
          <p:nvPr>
            <p:ph/>
          </p:nvPr>
        </p:nvSpPr>
        <p:spPr>
          <a:xfrm>
            <a:off x="45720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5"/>
          <p:cNvSpPr>
            <a:spLocks noGrp="1"/>
          </p:cNvSpPr>
          <p:nvPr>
            <p:ph/>
          </p:nvPr>
        </p:nvSpPr>
        <p:spPr>
          <a:xfrm>
            <a:off x="467424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6BE0AD-D9BB-40B8-9287-41FFD02112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3"/>
          <p:cNvSpPr>
            <a:spLocks noGrp="1"/>
          </p:cNvSpPr>
          <p:nvPr>
            <p:ph/>
          </p:nvPr>
        </p:nvSpPr>
        <p:spPr>
          <a:xfrm>
            <a:off x="323964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4"/>
          <p:cNvSpPr>
            <a:spLocks noGrp="1"/>
          </p:cNvSpPr>
          <p:nvPr>
            <p:ph/>
          </p:nvPr>
        </p:nvSpPr>
        <p:spPr>
          <a:xfrm>
            <a:off x="602208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5"/>
          <p:cNvSpPr>
            <a:spLocks noGrp="1"/>
          </p:cNvSpPr>
          <p:nvPr>
            <p:ph/>
          </p:nvPr>
        </p:nvSpPr>
        <p:spPr>
          <a:xfrm>
            <a:off x="45720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6"/>
          <p:cNvSpPr>
            <a:spLocks noGrp="1"/>
          </p:cNvSpPr>
          <p:nvPr>
            <p:ph/>
          </p:nvPr>
        </p:nvSpPr>
        <p:spPr>
          <a:xfrm>
            <a:off x="323964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7"/>
          <p:cNvSpPr>
            <a:spLocks noGrp="1"/>
          </p:cNvSpPr>
          <p:nvPr>
            <p:ph/>
          </p:nvPr>
        </p:nvSpPr>
        <p:spPr>
          <a:xfrm>
            <a:off x="602208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87250A-0596-42B4-90ED-03CC5A7E0A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4254E-CAA6-4776-96C9-98E391F84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FC2A8-450F-4237-9E88-DB41DC172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DB956-8DF9-422D-B33F-297DB71FF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4121A-5C96-4D9C-9E3D-68FD394B2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44772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B1915-62BE-4C76-8C7E-723CF343E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18960"/>
            <a:ext cx="82296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FFE7-3D36-4721-9731-A9880D1101B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D1ED-120F-4110-BA35-8DB2A570FF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218960"/>
            <a:ext cx="82296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D720-CED6-4B33-BBDF-91A428E071F2}" type="datetime">
              <a:rPr b="0" lang="en-US" sz="1200" spc="-1" strike="noStrike">
                <a:solidFill>
                  <a:srgbClr val="898989"/>
                </a:solidFill>
                <a:latin typeface="Calibri"/>
                <a:ea typeface="PMingLiU"/>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79A9-D924-45E4-8E7B-F8738B5E3E6E}"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218960"/>
            <a:ext cx="82296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1ED2-2B40-4CB9-B641-2721FCE82836}" type="datetime">
              <a:rPr b="0" lang="en-US" sz="1200" spc="-1" strike="noStrike">
                <a:solidFill>
                  <a:srgbClr val="898989"/>
                </a:solidFill>
                <a:latin typeface="Calibri"/>
                <a:ea typeface="PMingLiU"/>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7253-2523-4F80-B970-277450054E9A}"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2002-7A15-4476-9A47-7D9EF95A6959}"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836D-C0DC-46B3-9B2E-425F8FA6B27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66720" y="5847840"/>
            <a:ext cx="4491000" cy="628920"/>
          </a:xfrm>
          <a:prstGeom prst="rect">
            <a:avLst/>
          </a:prstGeom>
          <a:noFill/>
          <a:ln w="0">
            <a:noFill/>
          </a:ln>
        </p:spPr>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endParaRPr b="0" lang="en-US" sz="2000" spc="-1" strike="noStrike">
              <a:solidFill>
                <a:srgbClr val="000000"/>
              </a:solidFill>
              <a:latin typeface="Arial"/>
            </a:endParaRPr>
          </a:p>
        </p:txBody>
      </p:sp>
      <p:sp>
        <p:nvSpPr>
          <p:cNvPr id="165" name="PlaceHolder 2"/>
          <p:cNvSpPr>
            <a:spLocks noGrp="1"/>
          </p:cNvSpPr>
          <p:nvPr>
            <p:ph type="title"/>
          </p:nvPr>
        </p:nvSpPr>
        <p:spPr>
          <a:xfrm>
            <a:off x="4266720" y="5181120"/>
            <a:ext cx="4496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  </a:t>
            </a:r>
            <a:endParaRPr b="0" lang="en-US" sz="4400" spc="-1" strike="noStrike">
              <a:solidFill>
                <a:srgbClr val="000000"/>
              </a:solidFill>
              <a:latin typeface="Arial"/>
            </a:endParaRPr>
          </a:p>
        </p:txBody>
      </p:sp>
      <p:sp>
        <p:nvSpPr>
          <p:cNvPr id="166" name="文本框 5123"/>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167" name="文本框 5124"/>
          <p:cNvSpPr/>
          <p:nvPr/>
        </p:nvSpPr>
        <p:spPr>
          <a:xfrm>
            <a:off x="2790720" y="117360"/>
            <a:ext cx="5067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可爱表情卡通</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Slide Master</a:t>
            </a:r>
            <a:endParaRPr b="0" lang="en-US" sz="4400" spc="-1" strike="noStrike">
              <a:solidFill>
                <a:srgbClr val="000000"/>
              </a:solidFill>
              <a:latin typeface="Arial"/>
            </a:endParaRPr>
          </a:p>
        </p:txBody>
      </p:sp>
      <p:sp>
        <p:nvSpPr>
          <p:cNvPr id="169" name=""/>
          <p:cNvSpPr txBox="1"/>
          <p:nvPr/>
        </p:nvSpPr>
        <p:spPr>
          <a:xfrm>
            <a:off x="457200" y="1218960"/>
            <a:ext cx="82296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Your Text he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文本框 6147"/>
          <p:cNvSpPr/>
          <p:nvPr/>
        </p:nvSpPr>
        <p:spPr>
          <a:xfrm>
            <a:off x="828720" y="155736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a07500"/>
                </a:solidFill>
                <a:uFillTx/>
                <a:latin typeface="Arial"/>
                <a:ea typeface="Arial"/>
                <a:hlinkClick r:id="rId1"/>
              </a:rPr>
              <a:t>ppt</a:t>
            </a:r>
            <a:r>
              <a:rPr b="0" lang="zh-CN" sz="1600" spc="-1" strike="noStrike" u="sng">
                <a:solidFill>
                  <a:srgbClr val="a07500"/>
                </a:solidFill>
                <a:uFillTx/>
                <a:latin typeface="Arial"/>
                <a:ea typeface="Arial"/>
                <a:hlinkClick r:id="rId2"/>
              </a:rPr>
              <a:t>模版免费下载</a:t>
            </a:r>
            <a:r>
              <a:rPr b="0" lang="en-US" sz="1600" spc="-1" strike="noStrike">
                <a:solidFill>
                  <a:srgbClr val="000000"/>
                </a:solidFill>
                <a:latin typeface="Arial"/>
                <a:ea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7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74"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5CEB-75BE-48A3-854D-8C26355D613C}"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0574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Print Master</a:t>
            </a:r>
            <a:endParaRPr b="0" lang="en-US" sz="4400" spc="-1" strike="noStrike">
              <a:solidFill>
                <a:srgbClr val="000000"/>
              </a:solidFill>
              <a:latin typeface="Arial"/>
            </a:endParaRPr>
          </a:p>
        </p:txBody>
      </p:sp>
      <p:sp>
        <p:nvSpPr>
          <p:cNvPr id="176" name=""/>
          <p:cNvSpPr txBox="1"/>
          <p:nvPr/>
        </p:nvSpPr>
        <p:spPr>
          <a:xfrm>
            <a:off x="2057400" y="1676160"/>
            <a:ext cx="68580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Your Text he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uis autem vel eum iriure dolor in hendrerit in vulputate veli 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幻灯片之家：www.eeppt.com</dc:creator>
  <dc:description>幻灯片之家：www.eeppt.com</dc:description>
  <cp:keywords>幻灯片之家：www.eeppt.com</cp:keywords>
  <dc:language>en-US</dc:language>
  <cp:lastModifiedBy>pc</cp:lastModifiedBy>
  <dcterms:modified xsi:type="dcterms:W3CDTF">2015-11-13T04:32:09Z</dcterms:modified>
  <cp:revision>3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