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200-3E86-4691-9279-AA7149DA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AAB-A1D6-44FF-A4E6-BE4F162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659-4BB2-4258-A321-7ECEE85A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179-0DE3-44BF-948B-94DC1E3A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0A9C-FC03-4AE8-B693-676E9FEC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21DE-506B-49B5-9CE1-D30C5301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43EA-C1E7-4B06-A3C0-DE89AB45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E3FE-DFF5-4386-8638-74DDD6F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9A15-5107-4714-9E8B-645544D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640-5123-44D4-BB8C-A3D916E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4730-E97B-4849-902F-A7F7048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56D-493C-4B12-82A7-F4290430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5445-C4C6-43DB-B020-4BBCD615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164B-B254-4DF5-B5FA-8F101EF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F902-D0D7-403C-9CAB-DDCF20E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286-960C-44C2-A626-983305FD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C285-0B87-4C98-ADC2-166FCE76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D4D7-1774-497D-8889-C161C208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7527-FE18-4589-AB17-29B3C3E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808C-390F-43F6-A003-454B95E9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A4DD-C951-49FB-8BB1-8681E16F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8E65-38E7-4CF9-BDC9-E4E41288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FDD-F311-464C-9749-45C1839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4C766-CBB7-4CCE-9DF0-37DCD97A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C308-E05F-4EA9-9D05-F1CE4E9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A8D8-3E22-4F4D-9702-6A93CB1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C3FC-BA5D-4251-ABAC-037ED43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454D-515D-4ACA-88FE-3B93E8B6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3503-3370-4159-B068-B23869C5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79B97-5E0D-4A2D-9979-32313E78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275-A235-47AB-8D46-D6A1B738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096-C6B7-4A97-9522-E37E0109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BDF-98EF-4D44-8D19-7CA2A8D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F36-1E37-4ED3-94F8-7C64A5F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9DD-1111-4727-BC44-539B92E9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FA8-F043-4795-B661-E64BE28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large_zrvi_3334p204234[1]"/>
          <p:cNvPicPr/>
          <p:nvPr/>
        </p:nvPicPr>
        <p:blipFill>
          <a:blip r:embed="rId2"/>
          <a:stretch/>
        </p:blipFill>
        <p:spPr>
          <a:xfrm>
            <a:off x="0" y="3240"/>
            <a:ext cx="917424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C756-8654-4B69-ADF0-938665ECFD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049" descr="large_vsrH_4521o132014[1]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ACC6-349A-42CF-98B0-543928CE49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39F8-2175-4103-87CC-6D022660B8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123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5124"/>
          <p:cNvSpPr/>
          <p:nvPr/>
        </p:nvSpPr>
        <p:spPr>
          <a:xfrm>
            <a:off x="192708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可爱插画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超粗圆"/>
                <a:ea typeface="迷你简超粗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60360" y="350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9A1-101B-4213-AF4B-1E76FB21BE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7169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7170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cccc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24000" y="443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7440" y="5302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1:25:0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0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