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17F-048D-49DC-8EBF-96EA1B38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360-1655-439B-A176-F834F19C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FD0-9441-413D-B69A-137D458E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0A8-A4FE-4250-8FF1-6953FCE2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C52-B6A9-459E-8B5E-EDEE9CF3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5E7-1738-4A84-8515-D4EB341C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0AF-4C74-4600-8F53-ED2F1D0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50B-83FD-48B1-AB05-694EBB0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AF4-DC56-417D-8187-A1AFFD41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AF4-09AB-4915-AB8C-C7E4319E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73C-6354-4C73-BE1B-244901E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B2B-09E4-4051-AC66-4D186F7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68BE-5D7F-49C2-A804-FE89588CBF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3"/>
          <p:cNvSpPr/>
          <p:nvPr/>
        </p:nvSpPr>
        <p:spPr>
          <a:xfrm>
            <a:off x="5154480" y="2059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4"/>
          <p:cNvSpPr/>
          <p:nvPr/>
        </p:nvSpPr>
        <p:spPr>
          <a:xfrm>
            <a:off x="5155200" y="2923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5227560" y="3859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077"/>
          <p:cNvSpPr/>
          <p:nvPr/>
        </p:nvSpPr>
        <p:spPr>
          <a:xfrm>
            <a:off x="2696400" y="404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长颈鹿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0258560" y="2492280"/>
            <a:ext cx="111301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098"/>
          <p:cNvSpPr/>
          <p:nvPr/>
        </p:nvSpPr>
        <p:spPr>
          <a:xfrm rot="21120000">
            <a:off x="5278680" y="1986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099"/>
          <p:cNvSpPr/>
          <p:nvPr/>
        </p:nvSpPr>
        <p:spPr>
          <a:xfrm rot="21060000">
            <a:off x="5380200" y="299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0"/>
          <p:cNvSpPr/>
          <p:nvPr/>
        </p:nvSpPr>
        <p:spPr>
          <a:xfrm rot="21060000">
            <a:off x="5524560" y="400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1"/>
          <p:cNvSpPr/>
          <p:nvPr/>
        </p:nvSpPr>
        <p:spPr>
          <a:xfrm rot="21360000">
            <a:off x="5567760" y="508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01F7-3499-44BF-A014-284D63EC13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5121"/>
          <p:cNvSpPr/>
          <p:nvPr/>
        </p:nvSpPr>
        <p:spPr>
          <a:xfrm>
            <a:off x="7007760" y="5732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122"/>
          <p:cNvSpPr/>
          <p:nvPr/>
        </p:nvSpPr>
        <p:spPr>
          <a:xfrm>
            <a:off x="3911400" y="537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123"/>
          <p:cNvSpPr/>
          <p:nvPr/>
        </p:nvSpPr>
        <p:spPr>
          <a:xfrm>
            <a:off x="5855040" y="2706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124"/>
          <p:cNvSpPr/>
          <p:nvPr/>
        </p:nvSpPr>
        <p:spPr>
          <a:xfrm>
            <a:off x="2987640" y="400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1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