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893-1B38-4FAE-92EF-EECDBFDE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795-277A-4847-B1B5-AD701AD8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AFC-438F-45E6-B8F8-373FE969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74A-1888-4815-95C0-E8B13CF2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E78F-004C-4C5D-9F4D-9BBC6EBC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A36D-8148-4741-ACB1-D1891D91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A0C6-DC26-41CD-9C40-08AC5261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123F-8C4A-4FE2-8724-152058F6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42EB-9EED-459B-A8F5-C485E868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92FA-4710-401E-B229-6444D783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4C97-B11C-4C37-9AC0-63CD1CC1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2D2-DC0C-403A-A969-2EB4B25B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AA04-D4A9-43DE-B5BC-641D6CED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0578-A1C0-4F35-843F-A76D6F53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378C-625B-45AE-BBF8-C834DEA9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DDA4-B33D-49FD-85F7-C0399BE9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CDB2-E8A6-4094-AA5F-ED63737E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223-B953-4442-9B12-F891EEB9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01D-6980-4E1E-8828-246B4562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22A-12AB-4838-B5B5-D773F502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8DC-21A1-41B1-8A9D-C06BCBCB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B49-508D-4A54-895C-30EC0448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22B-823B-42BE-9281-22F7C905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58D-4058-4066-A120-C902ED97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EA0B-8C66-4FDB-B7E9-37FAA2D2C1E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8E26-E8F7-4526-8E7B-861A99D6E79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AFD0-8645-49CB-B9A3-5222181C36F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4660-F9EC-4E80-882A-4B3C8ABADB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3691080" y="1928880"/>
            <a:ext cx="4373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2155320" y="4809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科技商务企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4104"/>
          <p:cNvGrpSpPr/>
          <p:nvPr/>
        </p:nvGrpSpPr>
        <p:grpSpPr>
          <a:xfrm>
            <a:off x="1826640" y="2787840"/>
            <a:ext cx="639000" cy="603000"/>
            <a:chOff x="1826640" y="2787840"/>
            <a:chExt cx="639000" cy="603000"/>
          </a:xfrm>
        </p:grpSpPr>
        <p:sp>
          <p:nvSpPr>
            <p:cNvPr id="93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0077da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组合 4106"/>
            <p:cNvGrpSpPr/>
            <p:nvPr/>
          </p:nvGrpSpPr>
          <p:grpSpPr>
            <a:xfrm>
              <a:off x="1826640" y="3083040"/>
              <a:ext cx="476280" cy="307800"/>
              <a:chOff x="1826640" y="3083040"/>
              <a:chExt cx="476280" cy="307800"/>
            </a:xfrm>
          </p:grpSpPr>
          <p:grpSp>
            <p:nvGrpSpPr>
              <p:cNvPr id="95" name="组合 4107"/>
              <p:cNvGrpSpPr/>
              <p:nvPr/>
            </p:nvGrpSpPr>
            <p:grpSpPr>
              <a:xfrm>
                <a:off x="1826640" y="3083040"/>
                <a:ext cx="476280" cy="307800"/>
                <a:chOff x="1826640" y="3083040"/>
                <a:chExt cx="476280" cy="307800"/>
              </a:xfrm>
            </p:grpSpPr>
            <p:grpSp>
              <p:nvGrpSpPr>
                <p:cNvPr id="96" name="组合 4108"/>
                <p:cNvGrpSpPr/>
                <p:nvPr/>
              </p:nvGrpSpPr>
              <p:grpSpPr>
                <a:xfrm>
                  <a:off x="1881000" y="3171600"/>
                  <a:ext cx="421920" cy="210600"/>
                  <a:chOff x="1881000" y="3171600"/>
                  <a:chExt cx="421920" cy="210600"/>
                </a:xfrm>
              </p:grpSpPr>
              <p:sp>
                <p:nvSpPr>
                  <p:cNvPr id="97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AutoShape 12"/>
                  <p:cNvSpPr/>
                  <p:nvPr/>
                </p:nvSpPr>
                <p:spPr>
                  <a:xfrm flipH="1" flipV="1" rot="7017600">
                    <a:off x="1995480" y="31230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组合 4113"/>
                <p:cNvGrpSpPr/>
                <p:nvPr/>
              </p:nvGrpSpPr>
              <p:grpSpPr>
                <a:xfrm>
                  <a:off x="1826640" y="3083040"/>
                  <a:ext cx="383760" cy="307800"/>
                  <a:chOff x="1826640" y="3083040"/>
                  <a:chExt cx="383760" cy="307800"/>
                </a:xfrm>
              </p:grpSpPr>
              <p:sp>
                <p:nvSpPr>
                  <p:cNvPr id="102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17"/>
                  <p:cNvSpPr/>
                  <p:nvPr/>
                </p:nvSpPr>
                <p:spPr>
                  <a:xfrm flipH="1" flipV="1" rot="8370600">
                    <a:off x="1915920" y="30722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组合 4118"/>
              <p:cNvGrpSpPr/>
              <p:nvPr/>
            </p:nvGrpSpPr>
            <p:grpSpPr>
              <a:xfrm>
                <a:off x="1868040" y="3115800"/>
                <a:ext cx="390240" cy="251280"/>
                <a:chOff x="1868040" y="3115800"/>
                <a:chExt cx="390240" cy="251280"/>
              </a:xfrm>
            </p:grpSpPr>
            <p:grpSp>
              <p:nvGrpSpPr>
                <p:cNvPr id="107" name="组合 4119"/>
                <p:cNvGrpSpPr/>
                <p:nvPr/>
              </p:nvGrpSpPr>
              <p:grpSpPr>
                <a:xfrm>
                  <a:off x="1912680" y="3186720"/>
                  <a:ext cx="345600" cy="172440"/>
                  <a:chOff x="1912680" y="3186720"/>
                  <a:chExt cx="345600" cy="172440"/>
                </a:xfrm>
              </p:grpSpPr>
              <p:sp>
                <p:nvSpPr>
                  <p:cNvPr id="108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AutoShape 23"/>
                  <p:cNvSpPr/>
                  <p:nvPr/>
                </p:nvSpPr>
                <p:spPr>
                  <a:xfrm flipH="1" flipV="1" rot="7017600">
                    <a:off x="200664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组合 4124"/>
                <p:cNvGrpSpPr/>
                <p:nvPr/>
              </p:nvGrpSpPr>
              <p:grpSpPr>
                <a:xfrm>
                  <a:off x="1868040" y="3115800"/>
                  <a:ext cx="315000" cy="251280"/>
                  <a:chOff x="1868040" y="3115800"/>
                  <a:chExt cx="315000" cy="251280"/>
                </a:xfrm>
              </p:grpSpPr>
              <p:sp>
                <p:nvSpPr>
                  <p:cNvPr id="113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28"/>
                  <p:cNvSpPr/>
                  <p:nvPr/>
                </p:nvSpPr>
                <p:spPr>
                  <a:xfrm flipH="1" flipV="1" rot="8370600">
                    <a:off x="194148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" name="组合 41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18" name="组合 41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19" name="组合 41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20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34"/>
                  <p:cNvSpPr/>
                  <p:nvPr/>
                </p:nvSpPr>
                <p:spPr>
                  <a:xfrm flipH="1" flipV="1" rot="18003000">
                    <a:off x="2219040" y="2751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AutoShape 35"/>
                  <p:cNvSpPr/>
                  <p:nvPr/>
                </p:nvSpPr>
                <p:spPr>
                  <a:xfrm flipH="1" flipV="1" rot="18535200">
                    <a:off x="2249280" y="2770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组合 41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25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" name="组合 41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30" name="组合 41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31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41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36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0" name="组合 4152"/>
          <p:cNvGrpSpPr/>
          <p:nvPr/>
        </p:nvGrpSpPr>
        <p:grpSpPr>
          <a:xfrm>
            <a:off x="1830240" y="1976400"/>
            <a:ext cx="613080" cy="599040"/>
            <a:chOff x="1830240" y="1976400"/>
            <a:chExt cx="613080" cy="599040"/>
          </a:xfrm>
        </p:grpSpPr>
        <p:sp>
          <p:nvSpPr>
            <p:cNvPr id="141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1759a9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组合 4154"/>
            <p:cNvGrpSpPr/>
            <p:nvPr/>
          </p:nvGrpSpPr>
          <p:grpSpPr>
            <a:xfrm>
              <a:off x="1830240" y="2272680"/>
              <a:ext cx="469080" cy="302760"/>
              <a:chOff x="1830240" y="2272680"/>
              <a:chExt cx="469080" cy="302760"/>
            </a:xfrm>
          </p:grpSpPr>
          <p:grpSp>
            <p:nvGrpSpPr>
              <p:cNvPr id="143" name="组合 4155"/>
              <p:cNvGrpSpPr/>
              <p:nvPr/>
            </p:nvGrpSpPr>
            <p:grpSpPr>
              <a:xfrm>
                <a:off x="1830240" y="2272680"/>
                <a:ext cx="469080" cy="302760"/>
                <a:chOff x="1830240" y="2272680"/>
                <a:chExt cx="469080" cy="302760"/>
              </a:xfrm>
            </p:grpSpPr>
            <p:grpSp>
              <p:nvGrpSpPr>
                <p:cNvPr id="144" name="组合 4156"/>
                <p:cNvGrpSpPr/>
                <p:nvPr/>
              </p:nvGrpSpPr>
              <p:grpSpPr>
                <a:xfrm>
                  <a:off x="1883880" y="2359080"/>
                  <a:ext cx="415440" cy="207000"/>
                  <a:chOff x="1883880" y="2359080"/>
                  <a:chExt cx="415440" cy="207000"/>
                </a:xfrm>
              </p:grpSpPr>
              <p:sp>
                <p:nvSpPr>
                  <p:cNvPr id="145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60"/>
                  <p:cNvSpPr/>
                  <p:nvPr/>
                </p:nvSpPr>
                <p:spPr>
                  <a:xfrm flipH="1" flipV="1" rot="7017600">
                    <a:off x="199620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组合 4161"/>
                <p:cNvGrpSpPr/>
                <p:nvPr/>
              </p:nvGrpSpPr>
              <p:grpSpPr>
                <a:xfrm>
                  <a:off x="1830240" y="2272680"/>
                  <a:ext cx="377640" cy="302760"/>
                  <a:chOff x="1830240" y="2272680"/>
                  <a:chExt cx="377640" cy="302760"/>
                </a:xfrm>
              </p:grpSpPr>
              <p:sp>
                <p:nvSpPr>
                  <p:cNvPr id="150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65"/>
                  <p:cNvSpPr/>
                  <p:nvPr/>
                </p:nvSpPr>
                <p:spPr>
                  <a:xfrm flipH="1" flipV="1" rot="8370600">
                    <a:off x="1918800" y="2261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" name="组合 4166"/>
              <p:cNvGrpSpPr/>
              <p:nvPr/>
            </p:nvGrpSpPr>
            <p:grpSpPr>
              <a:xfrm>
                <a:off x="1871640" y="2304360"/>
                <a:ext cx="384120" cy="247680"/>
                <a:chOff x="1871640" y="2304360"/>
                <a:chExt cx="384120" cy="247680"/>
              </a:xfrm>
            </p:grpSpPr>
            <p:grpSp>
              <p:nvGrpSpPr>
                <p:cNvPr id="155" name="组合 4167"/>
                <p:cNvGrpSpPr/>
                <p:nvPr/>
              </p:nvGrpSpPr>
              <p:grpSpPr>
                <a:xfrm>
                  <a:off x="1915200" y="2374560"/>
                  <a:ext cx="340560" cy="169560"/>
                  <a:chOff x="1915200" y="2374560"/>
                  <a:chExt cx="340560" cy="169560"/>
                </a:xfrm>
              </p:grpSpPr>
              <p:sp>
                <p:nvSpPr>
                  <p:cNvPr id="156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71"/>
                  <p:cNvSpPr/>
                  <p:nvPr/>
                </p:nvSpPr>
                <p:spPr>
                  <a:xfrm flipH="1" flipV="1" rot="7017600">
                    <a:off x="2008080" y="2334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组合 4172"/>
                <p:cNvGrpSpPr/>
                <p:nvPr/>
              </p:nvGrpSpPr>
              <p:grpSpPr>
                <a:xfrm>
                  <a:off x="1871640" y="2304360"/>
                  <a:ext cx="309240" cy="247680"/>
                  <a:chOff x="1871640" y="2304360"/>
                  <a:chExt cx="309240" cy="247680"/>
                </a:xfrm>
              </p:grpSpPr>
              <p:sp>
                <p:nvSpPr>
                  <p:cNvPr id="161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76"/>
                  <p:cNvSpPr/>
                  <p:nvPr/>
                </p:nvSpPr>
                <p:spPr>
                  <a:xfrm flipH="1" flipV="1" rot="8370600">
                    <a:off x="194400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" name="组合 41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66" name="组合 41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67" name="组合 41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68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组合 41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73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组合 41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78" name="组合 41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79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41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84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8" name="组合 4200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89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53a9f7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42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91" name="组合 42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92" name="组合 42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93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组合 42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98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组合 42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03" name="组合 42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04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组合 42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09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3" name="组合 4225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14" name="组合 4226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15" name="组合 4227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16" name="组合 4228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17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组合 4233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22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136"/>
                    <p:cNvSpPr/>
                    <p:nvPr/>
                  </p:nvSpPr>
                  <p:spPr>
                    <a:xfrm flipH="1" flipV="1" rot="19636800">
                      <a:off x="2275920" y="35517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AutoShape 137"/>
                    <p:cNvSpPr/>
                    <p:nvPr/>
                  </p:nvSpPr>
                  <p:spPr>
                    <a:xfrm flipH="1" flipV="1" rot="20169000">
                      <a:off x="2294280" y="3581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6" name="组合 4238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27" name="组合 4239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28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组合 4244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33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AutoShape 148"/>
                    <p:cNvSpPr/>
                    <p:nvPr/>
                  </p:nvSpPr>
                  <p:spPr>
                    <a:xfrm flipH="1" flipV="1" rot="20169000">
                      <a:off x="2285280" y="359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7" name="组合 4249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38" name="组合 4250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39" name="组合 4251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40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组合 4256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45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59"/>
                    <p:cNvSpPr/>
                    <p:nvPr/>
                  </p:nvSpPr>
                  <p:spPr>
                    <a:xfrm flipH="1" flipV="1" rot="19636800">
                      <a:off x="2292120" y="35629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160"/>
                    <p:cNvSpPr/>
                    <p:nvPr/>
                  </p:nvSpPr>
                  <p:spPr>
                    <a:xfrm flipH="1" flipV="1" rot="20169000">
                      <a:off x="2310840" y="3592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" name="组合 4261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50" name="组合 4262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51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组合 4267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56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71"/>
                    <p:cNvSpPr/>
                    <p:nvPr/>
                  </p:nvSpPr>
                  <p:spPr>
                    <a:xfrm flipH="1" flipV="1" rot="20169000">
                      <a:off x="2301480" y="360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0" name="组合 42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61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053275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组合 42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63" name="组合 42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64" name="组合 42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65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组合 42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70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组合 4286"/>
              <p:cNvGrpSpPr/>
              <p:nvPr/>
            </p:nvGrpSpPr>
            <p:grpSpPr>
              <a:xfrm>
                <a:off x="1863360" y="1515600"/>
                <a:ext cx="399600" cy="257400"/>
                <a:chOff x="1863360" y="1515600"/>
                <a:chExt cx="399600" cy="257400"/>
              </a:xfrm>
            </p:grpSpPr>
            <p:grpSp>
              <p:nvGrpSpPr>
                <p:cNvPr id="275" name="组合 42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276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91"/>
                  <p:cNvSpPr/>
                  <p:nvPr/>
                </p:nvSpPr>
                <p:spPr>
                  <a:xfrm flipH="1" flipV="1" rot="7017600">
                    <a:off x="200556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组合 4292"/>
                <p:cNvGrpSpPr/>
                <p:nvPr/>
              </p:nvGrpSpPr>
              <p:grpSpPr>
                <a:xfrm>
                  <a:off x="1863360" y="1515600"/>
                  <a:ext cx="321840" cy="257400"/>
                  <a:chOff x="1863360" y="1515600"/>
                  <a:chExt cx="321840" cy="257400"/>
                </a:xfrm>
              </p:grpSpPr>
              <p:sp>
                <p:nvSpPr>
                  <p:cNvPr id="281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utoShape 196"/>
                  <p:cNvSpPr/>
                  <p:nvPr/>
                </p:nvSpPr>
                <p:spPr>
                  <a:xfrm flipH="1" flipV="1" rot="8370600">
                    <a:off x="1938960" y="1505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5" name="组合 42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6" name="组合 42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7" name="组合 42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8" name="组合 43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89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组合 43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4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8" name="组合 4310"/>
                <p:cNvGrpSpPr/>
                <p:nvPr/>
              </p:nvGrpSpPr>
              <p:grpSpPr>
                <a:xfrm>
                  <a:off x="2051280" y="1178280"/>
                  <a:ext cx="352800" cy="312480"/>
                  <a:chOff x="2051280" y="1178280"/>
                  <a:chExt cx="352800" cy="312480"/>
                </a:xfrm>
              </p:grpSpPr>
              <p:grpSp>
                <p:nvGrpSpPr>
                  <p:cNvPr id="299" name="组合 4311"/>
                  <p:cNvGrpSpPr/>
                  <p:nvPr/>
                </p:nvGrpSpPr>
                <p:grpSpPr>
                  <a:xfrm>
                    <a:off x="2051280" y="1178280"/>
                    <a:ext cx="334440" cy="235440"/>
                    <a:chOff x="2051280" y="1178280"/>
                    <a:chExt cx="334440" cy="235440"/>
                  </a:xfrm>
                </p:grpSpPr>
                <p:sp>
                  <p:nvSpPr>
                    <p:cNvPr id="300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组合 4316"/>
                  <p:cNvGrpSpPr/>
                  <p:nvPr/>
                </p:nvGrpSpPr>
                <p:grpSpPr>
                  <a:xfrm>
                    <a:off x="2138040" y="1179720"/>
                    <a:ext cx="266040" cy="311040"/>
                    <a:chOff x="2138040" y="1179720"/>
                    <a:chExt cx="266040" cy="311040"/>
                  </a:xfrm>
                </p:grpSpPr>
                <p:sp>
                  <p:nvSpPr>
                    <p:cNvPr id="305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AutoShape 219"/>
                    <p:cNvSpPr/>
                    <p:nvPr/>
                  </p:nvSpPr>
                  <p:spPr>
                    <a:xfrm flipH="1" flipV="1" rot="19636800">
                      <a:off x="2273040" y="1205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9" name="组合 43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10" name="组合 43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11" name="组合 43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2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组合 43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7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1" name="组合 4333"/>
                <p:cNvGrpSpPr/>
                <p:nvPr/>
              </p:nvGrpSpPr>
              <p:grpSpPr>
                <a:xfrm>
                  <a:off x="2068200" y="1189800"/>
                  <a:ext cx="352800" cy="312480"/>
                  <a:chOff x="2068200" y="1189800"/>
                  <a:chExt cx="352800" cy="312480"/>
                </a:xfrm>
              </p:grpSpPr>
              <p:grpSp>
                <p:nvGrpSpPr>
                  <p:cNvPr id="322" name="组合 4334"/>
                  <p:cNvGrpSpPr/>
                  <p:nvPr/>
                </p:nvGrpSpPr>
                <p:grpSpPr>
                  <a:xfrm>
                    <a:off x="2068200" y="1189800"/>
                    <a:ext cx="334440" cy="235440"/>
                    <a:chOff x="2068200" y="1189800"/>
                    <a:chExt cx="334440" cy="235440"/>
                  </a:xfrm>
                </p:grpSpPr>
                <p:sp>
                  <p:nvSpPr>
                    <p:cNvPr id="323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组合 4339"/>
                  <p:cNvGrpSpPr/>
                  <p:nvPr/>
                </p:nvGrpSpPr>
                <p:grpSpPr>
                  <a:xfrm>
                    <a:off x="2155320" y="1190880"/>
                    <a:ext cx="265680" cy="311400"/>
                    <a:chOff x="2155320" y="1190880"/>
                    <a:chExt cx="265680" cy="311400"/>
                  </a:xfrm>
                </p:grpSpPr>
                <p:sp>
                  <p:nvSpPr>
                    <p:cNvPr id="328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42"/>
                    <p:cNvSpPr/>
                    <p:nvPr/>
                  </p:nvSpPr>
                  <p:spPr>
                    <a:xfrm flipH="1" flipV="1" rot="19636800">
                      <a:off x="2290320" y="1217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2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4347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36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e8ac04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组合 4349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38" name="组合 4350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39" name="组合 4351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40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组合 4356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45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113"/>
                  <p:cNvSpPr/>
                  <p:nvPr/>
                </p:nvSpPr>
                <p:spPr>
                  <a:xfrm flipH="1" flipV="1" rot="8370600">
                    <a:off x="1919880" y="4620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组合 4361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50" name="组合 4362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51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组合 4367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56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0" name="组合 4372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61" name="组合 4373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62" name="组合 4374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63" name="组合 4375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4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组合 4380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69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3" name="组合 4385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74" name="组合 4386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5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组合 4391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80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4" name="组合 4396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85" name="组合 4397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86" name="组合 4398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7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组合 4403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92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组合 4408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97" name="组合 4409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8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组合 4414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03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7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852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612800" y="3527280"/>
            <a:ext cx="360" cy="335160"/>
            <a:chOff x="1612800" y="3527280"/>
            <a:chExt cx="360" cy="335160"/>
          </a:xfrm>
        </p:grpSpPr>
        <p:sp>
          <p:nvSpPr>
            <p:cNvPr id="416" name="Line 58"/>
            <p:cNvSpPr/>
            <p:nvPr/>
          </p:nvSpPr>
          <p:spPr>
            <a:xfrm>
              <a:off x="1612800" y="3527280"/>
              <a:ext cx="0" cy="33516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1612800" y="352728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57160" y="3871800"/>
            <a:ext cx="1495440" cy="360"/>
            <a:chOff x="857160" y="3871800"/>
            <a:chExt cx="1495440" cy="360"/>
          </a:xfrm>
        </p:grpSpPr>
        <p:sp>
          <p:nvSpPr>
            <p:cNvPr id="419" name="Line 59"/>
            <p:cNvSpPr/>
            <p:nvPr/>
          </p:nvSpPr>
          <p:spPr>
            <a:xfrm flipH="1">
              <a:off x="857160" y="3871800"/>
              <a:ext cx="149544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857160" y="3871800"/>
              <a:ext cx="149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461360" y="2006640"/>
            <a:ext cx="360" cy="334800"/>
            <a:chOff x="7461360" y="2006640"/>
            <a:chExt cx="360" cy="334800"/>
          </a:xfrm>
        </p:grpSpPr>
        <p:sp>
          <p:nvSpPr>
            <p:cNvPr id="422" name="Line 65"/>
            <p:cNvSpPr/>
            <p:nvPr/>
          </p:nvSpPr>
          <p:spPr>
            <a:xfrm>
              <a:off x="7461360" y="2006640"/>
              <a:ext cx="0" cy="334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7461360" y="200664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565680" y="1992240"/>
            <a:ext cx="1632240" cy="360"/>
            <a:chOff x="6565680" y="1992240"/>
            <a:chExt cx="1632240" cy="360"/>
          </a:xfrm>
        </p:grpSpPr>
        <p:sp>
          <p:nvSpPr>
            <p:cNvPr id="425" name="Line 66"/>
            <p:cNvSpPr/>
            <p:nvPr/>
          </p:nvSpPr>
          <p:spPr>
            <a:xfrm flipH="1">
              <a:off x="6565680" y="1992240"/>
              <a:ext cx="163188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6566040" y="1992240"/>
              <a:ext cx="163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581280" y="2009880"/>
            <a:ext cx="360" cy="334800"/>
            <a:chOff x="3581280" y="2009880"/>
            <a:chExt cx="360" cy="334800"/>
          </a:xfrm>
        </p:grpSpPr>
        <p:sp>
          <p:nvSpPr>
            <p:cNvPr id="428" name="Line 68"/>
            <p:cNvSpPr/>
            <p:nvPr/>
          </p:nvSpPr>
          <p:spPr>
            <a:xfrm>
              <a:off x="3581280" y="2009880"/>
              <a:ext cx="0" cy="334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3581280" y="200988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657160" y="1992240"/>
            <a:ext cx="1771920" cy="360"/>
            <a:chOff x="2657160" y="1992240"/>
            <a:chExt cx="1771920" cy="360"/>
          </a:xfrm>
        </p:grpSpPr>
        <p:sp>
          <p:nvSpPr>
            <p:cNvPr id="431" name="Line 69"/>
            <p:cNvSpPr/>
            <p:nvPr/>
          </p:nvSpPr>
          <p:spPr>
            <a:xfrm flipH="1">
              <a:off x="2657160" y="1992240"/>
              <a:ext cx="177156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2657520" y="1992240"/>
              <a:ext cx="177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530680" y="3494160"/>
            <a:ext cx="360" cy="334800"/>
            <a:chOff x="5530680" y="3494160"/>
            <a:chExt cx="360" cy="334800"/>
          </a:xfrm>
        </p:grpSpPr>
        <p:sp>
          <p:nvSpPr>
            <p:cNvPr id="434" name="Line 71"/>
            <p:cNvSpPr/>
            <p:nvPr/>
          </p:nvSpPr>
          <p:spPr>
            <a:xfrm>
              <a:off x="5530680" y="3494160"/>
              <a:ext cx="0" cy="334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5530680" y="349416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19600" y="3828960"/>
            <a:ext cx="1587600" cy="360"/>
            <a:chOff x="4719600" y="3828960"/>
            <a:chExt cx="1587600" cy="360"/>
          </a:xfrm>
        </p:grpSpPr>
        <p:sp>
          <p:nvSpPr>
            <p:cNvPr id="437" name="Line 72"/>
            <p:cNvSpPr/>
            <p:nvPr/>
          </p:nvSpPr>
          <p:spPr>
            <a:xfrm flipH="1">
              <a:off x="4719600" y="3828960"/>
              <a:ext cx="15876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4719600" y="382896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5131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40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053275"/>
            </a:solidFill>
            <a:ln w="572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1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组合 5134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43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1759a9"/>
            </a:solidFill>
            <a:ln w="572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组合 5137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46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0077da"/>
            </a:solidFill>
            <a:ln w="572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7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组合 514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49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e8ac04"/>
            </a:solidFill>
            <a:ln w="57240">
              <a:solidFill>
                <a:srgbClr val="f8f8f8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0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5151"/>
          <p:cNvSpPr/>
          <p:nvPr/>
        </p:nvSpPr>
        <p:spPr>
          <a:xfrm>
            <a:off x="611280" y="770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7da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77da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1245-8F9C-4E05-B053-2B6953990E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4"/>
          <p:cNvSpPr txBox="1"/>
          <p:nvPr/>
        </p:nvSpPr>
        <p:spPr>
          <a:xfrm>
            <a:off x="5054760" y="29653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65" name="WordArt 5"/>
          <p:cNvSpPr txBox="1"/>
          <p:nvPr/>
        </p:nvSpPr>
        <p:spPr>
          <a:xfrm>
            <a:off x="5532480" y="367992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11Z</dcterms:modified>
  <cp:revision>3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