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A91-2766-4A1E-A696-83AF477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DA3-40C5-42F9-846B-5266E16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8A7-59AC-4C5A-89F5-37571127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37F-6E96-4CEB-8AF6-F172D29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1818-0A62-401E-A899-CB0A8F77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E9C2-374C-4D66-A01C-0862EFC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C2F-E0D4-44A7-86DA-E9367FC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1433-6883-47DA-B3C4-6F191E7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4FB-3134-49E9-8AE8-BE464CA3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4393-B2B9-4FC2-8FCC-747D11C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A62-95CE-489A-88D6-C7E0E63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9F3-4265-4B32-98C4-B8667485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2284-4707-46C0-ADF0-3A9623E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AFE0-1B01-418F-9321-E90E75B4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EEE8-E909-43BA-8161-A148940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AB6-0611-4CA0-9FA3-C45F6A56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20A8-F6F4-43FB-9806-85818FDE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C58-862E-4FC4-ACC5-BDCED8EE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E8D-C3D9-46AA-915B-CBCD460B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5E1-792A-4B3E-B727-830582A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141-5FCD-455B-ABFA-4FE4500D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CF5-8865-4222-968D-6CA5108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EB2-8D4D-4A61-B78A-7AFBF7D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C98-9431-440D-857F-6BAF54E6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4F69-D901-4D46-8CB7-1292479D79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469-F905-4955-B6A3-924FC7D1C9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D9F9-A19D-469C-8AEA-DA24A8B24B5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3766-1C4C-4DE7-91BA-1897B56FF9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1857240" y="288432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286000" y="37861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30580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便签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E14-8B4F-46F2-8484-6683C88085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145"/>
          <p:cNvSpPr/>
          <p:nvPr/>
        </p:nvSpPr>
        <p:spPr>
          <a:xfrm>
            <a:off x="2556000" y="486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8Z</dcterms:modified>
  <cp:revision>7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