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D5C-2E88-4096-B0DF-F779F83D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AD5-B200-41B6-94F2-F2AD5B9C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AD9-129E-4C93-A2F2-8FCA5C4C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AE9-E3C8-44ED-8CA4-4DD2C455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E3A4-3666-4357-8CEF-10EEE640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B2A6-9822-4616-8BAA-1A5B8750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1F2-AE76-45E6-8CF4-4EFF635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3109-1689-474A-B31E-B05BE0B5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BC6-BD83-412D-9DAE-FB53C110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7C08-E946-492A-B7C8-184A8421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374B-13CE-4E4A-8F90-41508E7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903-EDBB-46E6-95B3-7BCFF5A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B43-6009-4BB9-80C4-0BFF266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0BC-9D74-4EE2-95C8-F369455C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E552-C3AB-467C-A33D-F8E42175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4D05-6039-4300-87F8-5D6984B7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5C5C-B065-4EDA-BFF9-6DE0A661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D45-B770-41F0-90F9-190E22E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0416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0120" y="205704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20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0416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0120" y="4106880"/>
            <a:ext cx="2643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4E0-FF55-4D40-B75B-2E86931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7E2-FB0D-4CC6-97CE-3BA1CBF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6094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E17-7811-452B-B694-7FD30D92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9A7-4A41-4D20-8329-65EAE69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520" y="410688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FA3-1BBB-4598-A18B-3D14749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520" y="2057040"/>
            <a:ext cx="4006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106880"/>
            <a:ext cx="8210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037-AD43-4F3A-BC27-9FB35FE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8744-B5FB-41BF-8B87-9872002BD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E8A-1709-4BB4-A322-3F651EF5930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302D-678F-4D84-A29E-E014186D4B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a9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ea97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5334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Impact"/>
              </a:rPr>
              <a:t>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563868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eaeaea"/>
                </a:solidFill>
                <a:latin typeface="Trebuchet MS"/>
              </a:rPr>
              <a:t>Your Subti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4099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4100"/>
          <p:cNvSpPr/>
          <p:nvPr/>
        </p:nvSpPr>
        <p:spPr>
          <a:xfrm>
            <a:off x="2761560" y="3276720"/>
            <a:ext cx="51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卡通抽象人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634D-7914-4F0B-BB51-24A1978B50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200" y="2057040"/>
            <a:ext cx="82105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5123"/>
          <p:cNvSpPr/>
          <p:nvPr/>
        </p:nvSpPr>
        <p:spPr>
          <a:xfrm>
            <a:off x="1523880" y="38862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18:48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2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