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7FB-5257-413D-BC15-F717F1B2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A56-1110-45AA-90E2-810A984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496-65A2-43F1-B0A5-127048B0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23D-3AF6-44B5-9008-5A579D3B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3752-8A28-4E22-8838-88F9729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75B2-AB15-471A-AD9A-82F74741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FF6-368E-4C0E-8C0F-D325E1B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1AA8-E501-4D7D-825A-40B3973D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EB83-4605-42FF-8C47-9041689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953-DDE9-4383-91B7-5FD08EC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76B3-91BD-4EB5-AE3F-F5C2FBC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A1C-9D5D-46DD-918A-FAEFDFE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690B-E42E-4472-AB47-F3B1ED53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1594-A486-48C9-8031-DD09AFD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8DF5-30E5-4789-85FB-13786C9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10EC-7A6A-4400-8673-B5E835AC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FBDE-3976-4D1F-92BA-602FD896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607-2707-4C89-84CA-C761B30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274-83CD-4324-9E59-C0DC6D3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725-BD24-40B3-98E9-0E68DC2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07C-8A47-4F89-86A7-29FF1A2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297-CE2A-4C04-BFBB-BAB1FE6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F68-46B1-40F7-9880-DEE0DA5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B3A-516C-4B21-BD0F-579451D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D9BF-3D90-4A38-826E-569294B5CF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F63C-5A7D-4319-B88C-D607F90EBC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88E-8AF2-4326-95A9-9E3885C4BAC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6EE-E322-4AB6-8E90-588D49F48E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00280" y="464328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714840" y="52164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5"/>
          <p:cNvSpPr/>
          <p:nvPr/>
        </p:nvSpPr>
        <p:spPr>
          <a:xfrm flipV="1">
            <a:off x="3643200" y="520812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143240" y="5338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51424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动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6569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425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712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283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855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568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5640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926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28548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569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2926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17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31406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069-C0FD-4EDF-91A4-A54C14C58C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2711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4354920" y="484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1Z</dcterms:modified>
  <cp:revision>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