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矩形 1026"/>
            <p:cNvSpPr/>
            <p:nvPr/>
          </p:nvSpPr>
          <p:spPr>
            <a:xfrm>
              <a:off x="0" y="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矩形 1027"/>
            <p:cNvSpPr/>
            <p:nvPr/>
          </p:nvSpPr>
          <p:spPr>
            <a:xfrm>
              <a:off x="0" y="342900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0" y="3716280"/>
            <a:ext cx="9144000" cy="360"/>
            <a:chOff x="0" y="3716280"/>
            <a:chExt cx="9144000" cy="360"/>
          </a:xfrm>
        </p:grpSpPr>
        <p:sp>
          <p:nvSpPr>
            <p:cNvPr id="4" name="直接连接符 1028"/>
            <p:cNvSpPr/>
            <p:nvPr/>
          </p:nvSpPr>
          <p:spPr>
            <a:xfrm>
              <a:off x="0" y="371628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0" y="37162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任意多边形 1029"/>
          <p:cNvSpPr/>
          <p:nvPr/>
        </p:nvSpPr>
        <p:spPr>
          <a:xfrm>
            <a:off x="-252360" y="3249720"/>
            <a:ext cx="3530520" cy="466560"/>
          </a:xfrm>
          <a:custGeom>
            <a:avLst/>
            <a:gdLst/>
            <a:ahLst/>
            <a:rect l="l" t="t" r="r" b="b"/>
            <a:pathLst>
              <a:path w="2224" h="294">
                <a:moveTo>
                  <a:pt x="181" y="294"/>
                </a:moveTo>
                <a:cubicBezTo>
                  <a:pt x="0" y="256"/>
                  <a:pt x="907" y="91"/>
                  <a:pt x="1134" y="68"/>
                </a:cubicBezTo>
                <a:cubicBezTo>
                  <a:pt x="1361" y="45"/>
                  <a:pt x="1360" y="169"/>
                  <a:pt x="1542" y="158"/>
                </a:cubicBezTo>
                <a:lnTo>
                  <a:pt x="2224" y="0"/>
                </a:lnTo>
                <a:lnTo>
                  <a:pt x="2223" y="294"/>
                </a:lnTo>
                <a:lnTo>
                  <a:pt x="181" y="294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0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任意多边形 1030"/>
          <p:cNvSpPr/>
          <p:nvPr/>
        </p:nvSpPr>
        <p:spPr>
          <a:xfrm>
            <a:off x="2843280" y="2602080"/>
            <a:ext cx="3384360" cy="1114200"/>
          </a:xfrm>
          <a:custGeom>
            <a:avLst/>
            <a:gdLst/>
            <a:ahLst/>
            <a:rect l="l" t="t" r="r" b="b"/>
            <a:pathLst>
              <a:path w="1559" h="702">
                <a:moveTo>
                  <a:pt x="0" y="702"/>
                </a:moveTo>
                <a:cubicBezTo>
                  <a:pt x="106" y="435"/>
                  <a:pt x="478" y="36"/>
                  <a:pt x="753" y="0"/>
                </a:cubicBezTo>
                <a:cubicBezTo>
                  <a:pt x="1054" y="89"/>
                  <a:pt x="1329" y="373"/>
                  <a:pt x="1559" y="700"/>
                </a:cubicBezTo>
                <a:cubicBezTo>
                  <a:pt x="1559" y="700"/>
                  <a:pt x="0" y="702"/>
                  <a:pt x="0" y="702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0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任意多边形 1031"/>
          <p:cNvSpPr/>
          <p:nvPr/>
        </p:nvSpPr>
        <p:spPr>
          <a:xfrm>
            <a:off x="6084720" y="2960640"/>
            <a:ext cx="3024360" cy="755640"/>
          </a:xfrm>
          <a:custGeom>
            <a:avLst/>
            <a:gdLst/>
            <a:ahLst/>
            <a:rect l="l" t="t" r="r" b="b"/>
            <a:pathLst>
              <a:path w="1559" h="702">
                <a:moveTo>
                  <a:pt x="0" y="702"/>
                </a:moveTo>
                <a:cubicBezTo>
                  <a:pt x="106" y="435"/>
                  <a:pt x="478" y="36"/>
                  <a:pt x="753" y="0"/>
                </a:cubicBezTo>
                <a:cubicBezTo>
                  <a:pt x="1054" y="89"/>
                  <a:pt x="1329" y="373"/>
                  <a:pt x="1559" y="700"/>
                </a:cubicBezTo>
                <a:cubicBezTo>
                  <a:pt x="1559" y="700"/>
                  <a:pt x="0" y="702"/>
                  <a:pt x="0" y="702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0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灯片编号占位符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B109-B2DF-40C8-827D-A7E1EF1A55C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椭圆 3073"/>
          <p:cNvSpPr/>
          <p:nvPr/>
        </p:nvSpPr>
        <p:spPr>
          <a:xfrm>
            <a:off x="6372360" y="3500280"/>
            <a:ext cx="1512720" cy="576360"/>
          </a:xfrm>
          <a:prstGeom prst="ellipse">
            <a:avLst/>
          </a:prstGeom>
          <a:gradFill rotWithShape="0">
            <a:gsLst>
              <a:gs pos="0">
                <a:srgbClr val="808080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3074"/>
          <p:cNvSpPr/>
          <p:nvPr/>
        </p:nvSpPr>
        <p:spPr>
          <a:xfrm>
            <a:off x="4572000" y="4078440"/>
            <a:ext cx="2232000" cy="574560"/>
          </a:xfrm>
          <a:prstGeom prst="ellipse">
            <a:avLst/>
          </a:prstGeom>
          <a:gradFill rotWithShape="0">
            <a:gsLst>
              <a:gs pos="0">
                <a:srgbClr val="808080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3075"/>
          <p:cNvSpPr/>
          <p:nvPr/>
        </p:nvSpPr>
        <p:spPr>
          <a:xfrm>
            <a:off x="2268360" y="5229360"/>
            <a:ext cx="2953080" cy="718920"/>
          </a:xfrm>
          <a:prstGeom prst="ellipse">
            <a:avLst/>
          </a:prstGeom>
          <a:gradFill rotWithShape="0">
            <a:gsLst>
              <a:gs pos="0">
                <a:srgbClr val="808080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3076"/>
          <p:cNvGrpSpPr/>
          <p:nvPr/>
        </p:nvGrpSpPr>
        <p:grpSpPr>
          <a:xfrm>
            <a:off x="6372360" y="2708280"/>
            <a:ext cx="965160" cy="1297080"/>
            <a:chOff x="6372360" y="2708280"/>
            <a:chExt cx="965160" cy="1297080"/>
          </a:xfrm>
        </p:grpSpPr>
        <p:sp>
          <p:nvSpPr>
            <p:cNvPr id="53" name="任意多边形 3077"/>
            <p:cNvSpPr/>
            <p:nvPr/>
          </p:nvSpPr>
          <p:spPr>
            <a:xfrm>
              <a:off x="6457680" y="3201840"/>
              <a:ext cx="815400" cy="803520"/>
            </a:xfrm>
            <a:custGeom>
              <a:avLst/>
              <a:gdLst/>
              <a:ahLst/>
              <a:rect l="l" t="t" r="r" b="b"/>
              <a:pathLst>
                <a:path w="1724" h="1699">
                  <a:moveTo>
                    <a:pt x="182" y="0"/>
                  </a:moveTo>
                  <a:lnTo>
                    <a:pt x="0" y="1587"/>
                  </a:lnTo>
                  <a:cubicBezTo>
                    <a:pt x="0" y="1587"/>
                    <a:pt x="395" y="1699"/>
                    <a:pt x="835" y="1687"/>
                  </a:cubicBezTo>
                  <a:cubicBezTo>
                    <a:pt x="1360" y="1683"/>
                    <a:pt x="1724" y="1587"/>
                    <a:pt x="1724" y="1587"/>
                  </a:cubicBezTo>
                  <a:lnTo>
                    <a:pt x="1588" y="0"/>
                  </a:lnTo>
                  <a:cubicBezTo>
                    <a:pt x="1588" y="0"/>
                    <a:pt x="1173" y="96"/>
                    <a:pt x="851" y="83"/>
                  </a:cubicBezTo>
                  <a:cubicBezTo>
                    <a:pt x="504" y="96"/>
                    <a:pt x="182" y="0"/>
                    <a:pt x="18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cfcfc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等腰三角形 3078"/>
            <p:cNvSpPr/>
            <p:nvPr/>
          </p:nvSpPr>
          <p:spPr>
            <a:xfrm>
              <a:off x="6372360" y="2708280"/>
              <a:ext cx="965160" cy="5792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组合 3079"/>
            <p:cNvGrpSpPr/>
            <p:nvPr/>
          </p:nvGrpSpPr>
          <p:grpSpPr>
            <a:xfrm>
              <a:off x="6758280" y="2901600"/>
              <a:ext cx="192960" cy="235440"/>
              <a:chOff x="6758280" y="2901600"/>
              <a:chExt cx="192960" cy="235440"/>
            </a:xfrm>
          </p:grpSpPr>
          <p:sp>
            <p:nvSpPr>
              <p:cNvPr id="56" name="椭圆 3080"/>
              <p:cNvSpPr/>
              <p:nvPr/>
            </p:nvSpPr>
            <p:spPr>
              <a:xfrm>
                <a:off x="6790320" y="2922840"/>
                <a:ext cx="150120" cy="21420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椭圆 3081"/>
              <p:cNvSpPr/>
              <p:nvPr/>
            </p:nvSpPr>
            <p:spPr>
              <a:xfrm>
                <a:off x="6758280" y="2901600"/>
                <a:ext cx="192960" cy="192960"/>
              </a:xfrm>
              <a:prstGeom prst="ellips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椭圆 3082"/>
              <p:cNvSpPr/>
              <p:nvPr/>
            </p:nvSpPr>
            <p:spPr>
              <a:xfrm>
                <a:off x="6768000" y="2911320"/>
                <a:ext cx="173520" cy="173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ddddd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椭圆 3083"/>
              <p:cNvSpPr/>
              <p:nvPr/>
            </p:nvSpPr>
            <p:spPr>
              <a:xfrm>
                <a:off x="6776640" y="2919960"/>
                <a:ext cx="156600" cy="156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矩形 3084"/>
            <p:cNvSpPr/>
            <p:nvPr/>
          </p:nvSpPr>
          <p:spPr>
            <a:xfrm>
              <a:off x="6779880" y="3789360"/>
              <a:ext cx="149760" cy="21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3085"/>
            <p:cNvSpPr/>
            <p:nvPr/>
          </p:nvSpPr>
          <p:spPr>
            <a:xfrm>
              <a:off x="6788520" y="3806640"/>
              <a:ext cx="134640" cy="192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3086"/>
            <p:cNvSpPr/>
            <p:nvPr/>
          </p:nvSpPr>
          <p:spPr>
            <a:xfrm>
              <a:off x="6818760" y="3832200"/>
              <a:ext cx="75960" cy="171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角三角形 3087"/>
            <p:cNvSpPr/>
            <p:nvPr/>
          </p:nvSpPr>
          <p:spPr>
            <a:xfrm rot="5172000">
              <a:off x="6778080" y="3813480"/>
              <a:ext cx="104400" cy="84600"/>
            </a:xfrm>
            <a:prstGeom prst="rtTriangle">
              <a:avLst/>
            </a:prstGeom>
            <a:solidFill>
              <a:srgbClr val="b2b2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3088"/>
            <p:cNvSpPr/>
            <p:nvPr/>
          </p:nvSpPr>
          <p:spPr>
            <a:xfrm>
              <a:off x="6775200" y="3308760"/>
              <a:ext cx="171720" cy="42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3089"/>
          <p:cNvGrpSpPr/>
          <p:nvPr/>
        </p:nvGrpSpPr>
        <p:grpSpPr>
          <a:xfrm>
            <a:off x="6263640" y="2424960"/>
            <a:ext cx="1214280" cy="1172520"/>
            <a:chOff x="6263640" y="2424960"/>
            <a:chExt cx="1214280" cy="1172520"/>
          </a:xfrm>
        </p:grpSpPr>
        <p:grpSp>
          <p:nvGrpSpPr>
            <p:cNvPr id="66" name="组合 3090"/>
            <p:cNvGrpSpPr/>
            <p:nvPr/>
          </p:nvGrpSpPr>
          <p:grpSpPr>
            <a:xfrm>
              <a:off x="6263640" y="2445840"/>
              <a:ext cx="1214280" cy="1131120"/>
              <a:chOff x="6263640" y="2445840"/>
              <a:chExt cx="1214280" cy="1131120"/>
            </a:xfrm>
          </p:grpSpPr>
          <p:sp>
            <p:nvSpPr>
              <p:cNvPr id="67" name="矩形 3091"/>
              <p:cNvSpPr/>
              <p:nvPr/>
            </p:nvSpPr>
            <p:spPr>
              <a:xfrm flipV="1" rot="2545800">
                <a:off x="6894360" y="3221280"/>
                <a:ext cx="603720" cy="1746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矩形 3092"/>
              <p:cNvSpPr/>
              <p:nvPr/>
            </p:nvSpPr>
            <p:spPr>
              <a:xfrm flipV="1" rot="2545800">
                <a:off x="6243480" y="2626200"/>
                <a:ext cx="603720" cy="174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矩形 3093"/>
              <p:cNvSpPr/>
              <p:nvPr/>
            </p:nvSpPr>
            <p:spPr>
              <a:xfrm flipV="1" rot="2545800">
                <a:off x="6127920" y="2991600"/>
                <a:ext cx="1485360" cy="388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dbdbd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组合 3094"/>
            <p:cNvGrpSpPr/>
            <p:nvPr/>
          </p:nvGrpSpPr>
          <p:grpSpPr>
            <a:xfrm>
              <a:off x="6282720" y="2424960"/>
              <a:ext cx="1175400" cy="1172520"/>
              <a:chOff x="6282720" y="2424960"/>
              <a:chExt cx="1175400" cy="1172520"/>
            </a:xfrm>
          </p:grpSpPr>
          <p:sp>
            <p:nvSpPr>
              <p:cNvPr id="71" name="矩形 3095"/>
              <p:cNvSpPr/>
              <p:nvPr/>
            </p:nvSpPr>
            <p:spPr>
              <a:xfrm flipV="1" rot="18904800">
                <a:off x="6880680" y="2612160"/>
                <a:ext cx="603720" cy="174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矩形 3096"/>
              <p:cNvSpPr/>
              <p:nvPr/>
            </p:nvSpPr>
            <p:spPr>
              <a:xfrm flipV="1" rot="18904800">
                <a:off x="6256080" y="3234960"/>
                <a:ext cx="603720" cy="174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矩形 3097"/>
              <p:cNvSpPr/>
              <p:nvPr/>
            </p:nvSpPr>
            <p:spPr>
              <a:xfrm flipV="1" rot="18904800">
                <a:off x="6127560" y="2991240"/>
                <a:ext cx="1485360" cy="39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dbdbd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组合 3098"/>
          <p:cNvGrpSpPr/>
          <p:nvPr/>
        </p:nvGrpSpPr>
        <p:grpSpPr>
          <a:xfrm>
            <a:off x="4356000" y="2492280"/>
            <a:ext cx="1552680" cy="2087640"/>
            <a:chOff x="4356000" y="2492280"/>
            <a:chExt cx="1552680" cy="2087640"/>
          </a:xfrm>
        </p:grpSpPr>
        <p:sp>
          <p:nvSpPr>
            <p:cNvPr id="75" name="任意多边形 3099"/>
            <p:cNvSpPr/>
            <p:nvPr/>
          </p:nvSpPr>
          <p:spPr>
            <a:xfrm>
              <a:off x="4493520" y="3286800"/>
              <a:ext cx="1311480" cy="1293120"/>
            </a:xfrm>
            <a:custGeom>
              <a:avLst/>
              <a:gdLst/>
              <a:ahLst/>
              <a:rect l="l" t="t" r="r" b="b"/>
              <a:pathLst>
                <a:path w="1724" h="1699">
                  <a:moveTo>
                    <a:pt x="182" y="0"/>
                  </a:moveTo>
                  <a:lnTo>
                    <a:pt x="0" y="1587"/>
                  </a:lnTo>
                  <a:cubicBezTo>
                    <a:pt x="0" y="1587"/>
                    <a:pt x="395" y="1699"/>
                    <a:pt x="835" y="1687"/>
                  </a:cubicBezTo>
                  <a:cubicBezTo>
                    <a:pt x="1360" y="1683"/>
                    <a:pt x="1724" y="1587"/>
                    <a:pt x="1724" y="1587"/>
                  </a:cubicBezTo>
                  <a:lnTo>
                    <a:pt x="1588" y="0"/>
                  </a:lnTo>
                  <a:cubicBezTo>
                    <a:pt x="1588" y="0"/>
                    <a:pt x="1173" y="96"/>
                    <a:pt x="851" y="83"/>
                  </a:cubicBezTo>
                  <a:cubicBezTo>
                    <a:pt x="504" y="96"/>
                    <a:pt x="182" y="0"/>
                    <a:pt x="18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cfcfc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等腰三角形 3100"/>
            <p:cNvSpPr/>
            <p:nvPr/>
          </p:nvSpPr>
          <p:spPr>
            <a:xfrm>
              <a:off x="4356000" y="2492280"/>
              <a:ext cx="1552680" cy="9324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组合 3101"/>
            <p:cNvGrpSpPr/>
            <p:nvPr/>
          </p:nvGrpSpPr>
          <p:grpSpPr>
            <a:xfrm>
              <a:off x="4976640" y="2803320"/>
              <a:ext cx="310320" cy="378360"/>
              <a:chOff x="4976640" y="2803320"/>
              <a:chExt cx="310320" cy="378360"/>
            </a:xfrm>
          </p:grpSpPr>
          <p:sp>
            <p:nvSpPr>
              <p:cNvPr id="78" name="椭圆 3102"/>
              <p:cNvSpPr/>
              <p:nvPr/>
            </p:nvSpPr>
            <p:spPr>
              <a:xfrm>
                <a:off x="5028120" y="2837160"/>
                <a:ext cx="241200" cy="3445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椭圆 3103"/>
              <p:cNvSpPr/>
              <p:nvPr/>
            </p:nvSpPr>
            <p:spPr>
              <a:xfrm>
                <a:off x="4976640" y="2803320"/>
                <a:ext cx="310320" cy="310320"/>
              </a:xfrm>
              <a:prstGeom prst="ellips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椭圆 3104"/>
              <p:cNvSpPr/>
              <p:nvPr/>
            </p:nvSpPr>
            <p:spPr>
              <a:xfrm>
                <a:off x="4992480" y="2819160"/>
                <a:ext cx="279000" cy="279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ddddd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椭圆 3105"/>
              <p:cNvSpPr/>
              <p:nvPr/>
            </p:nvSpPr>
            <p:spPr>
              <a:xfrm>
                <a:off x="5006160" y="2832840"/>
                <a:ext cx="251640" cy="251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矩形 3106"/>
            <p:cNvSpPr/>
            <p:nvPr/>
          </p:nvSpPr>
          <p:spPr>
            <a:xfrm>
              <a:off x="5011560" y="4232160"/>
              <a:ext cx="241200" cy="34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3107"/>
            <p:cNvSpPr/>
            <p:nvPr/>
          </p:nvSpPr>
          <p:spPr>
            <a:xfrm>
              <a:off x="5025600" y="4260240"/>
              <a:ext cx="216360" cy="310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3108"/>
            <p:cNvSpPr/>
            <p:nvPr/>
          </p:nvSpPr>
          <p:spPr>
            <a:xfrm>
              <a:off x="5074200" y="4301280"/>
              <a:ext cx="122400" cy="27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角三角形 3109"/>
            <p:cNvSpPr/>
            <p:nvPr/>
          </p:nvSpPr>
          <p:spPr>
            <a:xfrm rot="5172000">
              <a:off x="5009400" y="4271400"/>
              <a:ext cx="168120" cy="136080"/>
            </a:xfrm>
            <a:prstGeom prst="rtTriangle">
              <a:avLst/>
            </a:prstGeom>
            <a:solidFill>
              <a:srgbClr val="b2b2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3110"/>
            <p:cNvSpPr/>
            <p:nvPr/>
          </p:nvSpPr>
          <p:spPr>
            <a:xfrm>
              <a:off x="5004000" y="3458520"/>
              <a:ext cx="276120" cy="69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3111"/>
          <p:cNvGrpSpPr/>
          <p:nvPr/>
        </p:nvGrpSpPr>
        <p:grpSpPr>
          <a:xfrm>
            <a:off x="4143240" y="2020320"/>
            <a:ext cx="1956240" cy="1888920"/>
            <a:chOff x="4143240" y="2020320"/>
            <a:chExt cx="1956240" cy="1888920"/>
          </a:xfrm>
        </p:grpSpPr>
        <p:grpSp>
          <p:nvGrpSpPr>
            <p:cNvPr id="88" name="组合 3112"/>
            <p:cNvGrpSpPr/>
            <p:nvPr/>
          </p:nvGrpSpPr>
          <p:grpSpPr>
            <a:xfrm>
              <a:off x="4143240" y="2053440"/>
              <a:ext cx="1956240" cy="1822320"/>
              <a:chOff x="4143240" y="2053440"/>
              <a:chExt cx="1956240" cy="1822320"/>
            </a:xfrm>
          </p:grpSpPr>
          <p:sp>
            <p:nvSpPr>
              <p:cNvPr id="89" name="矩形 3113"/>
              <p:cNvSpPr/>
              <p:nvPr/>
            </p:nvSpPr>
            <p:spPr>
              <a:xfrm flipV="1" rot="2545800">
                <a:off x="5159160" y="3303000"/>
                <a:ext cx="972720" cy="2811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矩形 3114"/>
              <p:cNvSpPr/>
              <p:nvPr/>
            </p:nvSpPr>
            <p:spPr>
              <a:xfrm flipV="1" rot="2545800">
                <a:off x="4110480" y="2344320"/>
                <a:ext cx="972720" cy="2811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矩形 3115"/>
              <p:cNvSpPr/>
              <p:nvPr/>
            </p:nvSpPr>
            <p:spPr>
              <a:xfrm flipV="1" rot="2545800">
                <a:off x="3924720" y="2932560"/>
                <a:ext cx="2393280" cy="62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dbdbd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组合 3116"/>
            <p:cNvGrpSpPr/>
            <p:nvPr/>
          </p:nvGrpSpPr>
          <p:grpSpPr>
            <a:xfrm>
              <a:off x="4174560" y="2020320"/>
              <a:ext cx="1893240" cy="1888920"/>
              <a:chOff x="4174560" y="2020320"/>
              <a:chExt cx="1893240" cy="1888920"/>
            </a:xfrm>
          </p:grpSpPr>
          <p:sp>
            <p:nvSpPr>
              <p:cNvPr id="93" name="矩形 3117"/>
              <p:cNvSpPr/>
              <p:nvPr/>
            </p:nvSpPr>
            <p:spPr>
              <a:xfrm flipV="1" rot="18904800">
                <a:off x="5137920" y="2322720"/>
                <a:ext cx="972720" cy="2808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矩形 3118"/>
              <p:cNvSpPr/>
              <p:nvPr/>
            </p:nvSpPr>
            <p:spPr>
              <a:xfrm flipV="1" rot="18904800">
                <a:off x="4131720" y="3326040"/>
                <a:ext cx="972720" cy="2808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3119"/>
              <p:cNvSpPr/>
              <p:nvPr/>
            </p:nvSpPr>
            <p:spPr>
              <a:xfrm flipV="1" rot="18904800">
                <a:off x="3924720" y="2932200"/>
                <a:ext cx="2393280" cy="62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dbdbd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" name="组合 3120"/>
          <p:cNvGrpSpPr/>
          <p:nvPr/>
        </p:nvGrpSpPr>
        <p:grpSpPr>
          <a:xfrm>
            <a:off x="942840" y="2349360"/>
            <a:ext cx="2624400" cy="3528720"/>
            <a:chOff x="942840" y="2349360"/>
            <a:chExt cx="2624400" cy="3528720"/>
          </a:xfrm>
        </p:grpSpPr>
        <p:sp>
          <p:nvSpPr>
            <p:cNvPr id="97" name="任意多边形 3121"/>
            <p:cNvSpPr/>
            <p:nvPr/>
          </p:nvSpPr>
          <p:spPr>
            <a:xfrm>
              <a:off x="1175400" y="3692520"/>
              <a:ext cx="2216880" cy="2185560"/>
            </a:xfrm>
            <a:custGeom>
              <a:avLst/>
              <a:gdLst/>
              <a:ahLst/>
              <a:rect l="l" t="t" r="r" b="b"/>
              <a:pathLst>
                <a:path w="1724" h="1699">
                  <a:moveTo>
                    <a:pt x="182" y="0"/>
                  </a:moveTo>
                  <a:lnTo>
                    <a:pt x="0" y="1587"/>
                  </a:lnTo>
                  <a:cubicBezTo>
                    <a:pt x="0" y="1587"/>
                    <a:pt x="395" y="1699"/>
                    <a:pt x="835" y="1687"/>
                  </a:cubicBezTo>
                  <a:cubicBezTo>
                    <a:pt x="1360" y="1683"/>
                    <a:pt x="1724" y="1587"/>
                    <a:pt x="1724" y="1587"/>
                  </a:cubicBezTo>
                  <a:lnTo>
                    <a:pt x="1588" y="0"/>
                  </a:lnTo>
                  <a:cubicBezTo>
                    <a:pt x="1588" y="0"/>
                    <a:pt x="1173" y="96"/>
                    <a:pt x="851" y="83"/>
                  </a:cubicBezTo>
                  <a:cubicBezTo>
                    <a:pt x="504" y="96"/>
                    <a:pt x="182" y="0"/>
                    <a:pt x="18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cfcfc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等腰三角形 3122"/>
            <p:cNvSpPr/>
            <p:nvPr/>
          </p:nvSpPr>
          <p:spPr>
            <a:xfrm>
              <a:off x="942840" y="2349360"/>
              <a:ext cx="2624400" cy="1576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组合 3123"/>
            <p:cNvGrpSpPr/>
            <p:nvPr/>
          </p:nvGrpSpPr>
          <p:grpSpPr>
            <a:xfrm>
              <a:off x="1991880" y="2875680"/>
              <a:ext cx="524880" cy="640080"/>
              <a:chOff x="1991880" y="2875680"/>
              <a:chExt cx="524880" cy="640080"/>
            </a:xfrm>
          </p:grpSpPr>
          <p:sp>
            <p:nvSpPr>
              <p:cNvPr id="100" name="椭圆 3124"/>
              <p:cNvSpPr/>
              <p:nvPr/>
            </p:nvSpPr>
            <p:spPr>
              <a:xfrm>
                <a:off x="2079360" y="2933280"/>
                <a:ext cx="407880" cy="58248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椭圆 3125"/>
              <p:cNvSpPr/>
              <p:nvPr/>
            </p:nvSpPr>
            <p:spPr>
              <a:xfrm>
                <a:off x="1991880" y="2875680"/>
                <a:ext cx="524880" cy="524520"/>
              </a:xfrm>
              <a:prstGeom prst="ellips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椭圆 3126"/>
              <p:cNvSpPr/>
              <p:nvPr/>
            </p:nvSpPr>
            <p:spPr>
              <a:xfrm>
                <a:off x="2018880" y="2902680"/>
                <a:ext cx="471960" cy="471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ddddd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椭圆 3127"/>
              <p:cNvSpPr/>
              <p:nvPr/>
            </p:nvSpPr>
            <p:spPr>
              <a:xfrm>
                <a:off x="2041920" y="2925720"/>
                <a:ext cx="425880" cy="425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矩形 3128"/>
            <p:cNvSpPr/>
            <p:nvPr/>
          </p:nvSpPr>
          <p:spPr>
            <a:xfrm>
              <a:off x="2050920" y="5290560"/>
              <a:ext cx="407520" cy="58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3129"/>
            <p:cNvSpPr/>
            <p:nvPr/>
          </p:nvSpPr>
          <p:spPr>
            <a:xfrm>
              <a:off x="2074320" y="5338080"/>
              <a:ext cx="366120" cy="524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3130"/>
            <p:cNvSpPr/>
            <p:nvPr/>
          </p:nvSpPr>
          <p:spPr>
            <a:xfrm>
              <a:off x="2156760" y="5407560"/>
              <a:ext cx="207000" cy="466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角三角形 3131"/>
            <p:cNvSpPr/>
            <p:nvPr/>
          </p:nvSpPr>
          <p:spPr>
            <a:xfrm rot="5172000">
              <a:off x="2046600" y="5357160"/>
              <a:ext cx="284400" cy="230040"/>
            </a:xfrm>
            <a:prstGeom prst="rtTriangle">
              <a:avLst/>
            </a:prstGeom>
            <a:solidFill>
              <a:srgbClr val="b2b2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3132"/>
            <p:cNvSpPr/>
            <p:nvPr/>
          </p:nvSpPr>
          <p:spPr>
            <a:xfrm>
              <a:off x="2038320" y="3983040"/>
              <a:ext cx="466560" cy="117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3133"/>
          <p:cNvGrpSpPr/>
          <p:nvPr/>
        </p:nvGrpSpPr>
        <p:grpSpPr>
          <a:xfrm>
            <a:off x="608040" y="1556280"/>
            <a:ext cx="3297600" cy="3184200"/>
            <a:chOff x="608040" y="1556280"/>
            <a:chExt cx="3297600" cy="3184200"/>
          </a:xfrm>
        </p:grpSpPr>
        <p:grpSp>
          <p:nvGrpSpPr>
            <p:cNvPr id="110" name="组合 3134"/>
            <p:cNvGrpSpPr/>
            <p:nvPr/>
          </p:nvGrpSpPr>
          <p:grpSpPr>
            <a:xfrm>
              <a:off x="608040" y="1612440"/>
              <a:ext cx="3297600" cy="3071880"/>
              <a:chOff x="608040" y="1612440"/>
              <a:chExt cx="3297600" cy="3071880"/>
            </a:xfrm>
          </p:grpSpPr>
          <p:sp>
            <p:nvSpPr>
              <p:cNvPr id="111" name="矩形 3135"/>
              <p:cNvSpPr/>
              <p:nvPr/>
            </p:nvSpPr>
            <p:spPr>
              <a:xfrm flipV="1" rot="2545800">
                <a:off x="2320560" y="3718440"/>
                <a:ext cx="1639080" cy="4748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矩形 3136"/>
              <p:cNvSpPr/>
              <p:nvPr/>
            </p:nvSpPr>
            <p:spPr>
              <a:xfrm flipV="1" rot="2545800">
                <a:off x="553320" y="2102400"/>
                <a:ext cx="1638720" cy="47484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矩形 3137"/>
              <p:cNvSpPr/>
              <p:nvPr/>
            </p:nvSpPr>
            <p:spPr>
              <a:xfrm flipV="1" rot="2545800">
                <a:off x="241200" y="3094920"/>
                <a:ext cx="4032360" cy="1058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dbdbd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组合 3138"/>
            <p:cNvGrpSpPr/>
            <p:nvPr/>
          </p:nvGrpSpPr>
          <p:grpSpPr>
            <a:xfrm>
              <a:off x="660600" y="1556280"/>
              <a:ext cx="3191400" cy="3184200"/>
              <a:chOff x="660600" y="1556280"/>
              <a:chExt cx="3191400" cy="3184200"/>
            </a:xfrm>
          </p:grpSpPr>
          <p:sp>
            <p:nvSpPr>
              <p:cNvPr id="115" name="矩形 3139"/>
              <p:cNvSpPr/>
              <p:nvPr/>
            </p:nvSpPr>
            <p:spPr>
              <a:xfrm flipV="1" rot="18904800">
                <a:off x="2284200" y="2064960"/>
                <a:ext cx="1639080" cy="47484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矩形 3140"/>
              <p:cNvSpPr/>
              <p:nvPr/>
            </p:nvSpPr>
            <p:spPr>
              <a:xfrm flipV="1" rot="18904800">
                <a:off x="588960" y="3756240"/>
                <a:ext cx="1638720" cy="47484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矩形 3141"/>
              <p:cNvSpPr/>
              <p:nvPr/>
            </p:nvSpPr>
            <p:spPr>
              <a:xfrm flipV="1" rot="18904800">
                <a:off x="240120" y="3094920"/>
                <a:ext cx="4032360" cy="1054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dbdbd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Cloud"/>
          <p:cNvSpPr/>
          <p:nvPr/>
        </p:nvSpPr>
        <p:spPr>
          <a:xfrm>
            <a:off x="9252000" y="44280"/>
            <a:ext cx="2743200" cy="1152720"/>
          </a:xfrm>
          <a:custGeom>
            <a:avLst/>
            <a:gdLst/>
            <a:ahLst/>
            <a:rect l="l" t="t" r="r" b="b"/>
            <a:pathLst>
              <a:path w="21631" h="21614">
                <a:moveTo>
                  <a:pt x="1950" y="7185"/>
                </a:moveTo>
                <a:cubicBezTo>
                  <a:pt x="854" y="7337"/>
                  <a:pt x="-1" y="8603"/>
                  <a:pt x="-1" y="10142"/>
                </a:cubicBezTo>
                <a:cubicBezTo>
                  <a:pt x="-1" y="11236"/>
                  <a:pt x="431" y="12192"/>
                  <a:pt x="1074" y="12708"/>
                </a:cubicBezTo>
                <a:cubicBezTo>
                  <a:pt x="709" y="13237"/>
                  <a:pt x="486" y="13948"/>
                  <a:pt x="486" y="14730"/>
                </a:cubicBezTo>
                <a:cubicBezTo>
                  <a:pt x="486" y="16364"/>
                  <a:pt x="1462" y="17689"/>
                  <a:pt x="2666" y="17689"/>
                </a:cubicBezTo>
                <a:cubicBezTo>
                  <a:pt x="2752" y="17689"/>
                  <a:pt x="2837" y="17682"/>
                  <a:pt x="2921" y="17669"/>
                </a:cubicBezTo>
                <a:cubicBezTo>
                  <a:pt x="3587" y="19254"/>
                  <a:pt x="4837" y="20320"/>
                  <a:pt x="6270" y="20320"/>
                </a:cubicBezTo>
                <a:cubicBezTo>
                  <a:pt x="6998" y="20320"/>
                  <a:pt x="7678" y="20045"/>
                  <a:pt x="8259" y="19567"/>
                </a:cubicBezTo>
                <a:cubicBezTo>
                  <a:pt x="8865" y="20802"/>
                  <a:pt x="9896" y="21614"/>
                  <a:pt x="11066" y="21614"/>
                </a:cubicBezTo>
                <a:cubicBezTo>
                  <a:pt x="12590" y="21614"/>
                  <a:pt x="13878" y="20236"/>
                  <a:pt x="14298" y="18343"/>
                </a:cubicBezTo>
                <a:cubicBezTo>
                  <a:pt x="14741" y="18721"/>
                  <a:pt x="15266" y="18939"/>
                  <a:pt x="15829" y="18939"/>
                </a:cubicBezTo>
                <a:cubicBezTo>
                  <a:pt x="17419" y="18939"/>
                  <a:pt x="18709" y="17195"/>
                  <a:pt x="18722" y="15037"/>
                </a:cubicBezTo>
                <a:cubicBezTo>
                  <a:pt x="20367" y="14720"/>
                  <a:pt x="21630" y="12798"/>
                  <a:pt x="21630" y="10474"/>
                </a:cubicBezTo>
                <a:cubicBezTo>
                  <a:pt x="21630" y="9417"/>
                  <a:pt x="21369" y="8443"/>
                  <a:pt x="20929" y="7666"/>
                </a:cubicBezTo>
                <a:cubicBezTo>
                  <a:pt x="21068" y="7226"/>
                  <a:pt x="21145" y="6741"/>
                  <a:pt x="21145" y="6232"/>
                </a:cubicBezTo>
                <a:cubicBezTo>
                  <a:pt x="21145" y="4555"/>
                  <a:pt x="20312" y="3142"/>
                  <a:pt x="19180" y="2722"/>
                </a:cubicBezTo>
                <a:cubicBezTo>
                  <a:pt x="18976" y="1178"/>
                  <a:pt x="17983" y="8"/>
                  <a:pt x="16789" y="8"/>
                </a:cubicBezTo>
                <a:cubicBezTo>
                  <a:pt x="16046" y="8"/>
                  <a:pt x="15382" y="460"/>
                  <a:pt x="14936" y="1173"/>
                </a:cubicBezTo>
                <a:cubicBezTo>
                  <a:pt x="14537" y="461"/>
                  <a:pt x="13908" y="2"/>
                  <a:pt x="13200" y="2"/>
                </a:cubicBezTo>
                <a:cubicBezTo>
                  <a:pt x="12345" y="2"/>
                  <a:pt x="11604" y="672"/>
                  <a:pt x="11246" y="1647"/>
                </a:cubicBezTo>
                <a:cubicBezTo>
                  <a:pt x="10765" y="1001"/>
                  <a:pt x="10104" y="602"/>
                  <a:pt x="9375" y="602"/>
                </a:cubicBezTo>
                <a:cubicBezTo>
                  <a:pt x="8354" y="602"/>
                  <a:pt x="7468" y="1383"/>
                  <a:pt x="7019" y="2531"/>
                </a:cubicBezTo>
                <a:cubicBezTo>
                  <a:pt x="6519" y="2130"/>
                  <a:pt x="5935" y="1900"/>
                  <a:pt x="5312" y="1900"/>
                </a:cubicBezTo>
                <a:cubicBezTo>
                  <a:pt x="3447" y="1900"/>
                  <a:pt x="1935" y="3957"/>
                  <a:pt x="1935" y="6495"/>
                </a:cubicBezTo>
                <a:cubicBezTo>
                  <a:pt x="1935" y="6706"/>
                  <a:pt x="1945" y="6913"/>
                  <a:pt x="1966" y="7117"/>
                </a:cubicBezTo>
                <a:close/>
              </a:path>
              <a:path fill="none" w="21631" h="21614">
                <a:moveTo>
                  <a:pt x="1080" y="12690"/>
                </a:moveTo>
                <a:cubicBezTo>
                  <a:pt x="1402" y="12949"/>
                  <a:pt x="1778" y="13097"/>
                  <a:pt x="2178" y="13097"/>
                </a:cubicBezTo>
                <a:cubicBezTo>
                  <a:pt x="2235" y="13097"/>
                  <a:pt x="2292" y="13094"/>
                  <a:pt x="2348" y="13088"/>
                </a:cubicBezTo>
              </a:path>
              <a:path fill="none" w="21631" h="21614">
                <a:moveTo>
                  <a:pt x="2910" y="17640"/>
                </a:moveTo>
                <a:cubicBezTo>
                  <a:pt x="3105" y="17609"/>
                  <a:pt x="3290" y="17544"/>
                  <a:pt x="3465" y="17450"/>
                </a:cubicBezTo>
              </a:path>
              <a:path fill="none" w="21631" h="21614">
                <a:moveTo>
                  <a:pt x="7905" y="18675"/>
                </a:moveTo>
                <a:cubicBezTo>
                  <a:pt x="7993" y="18984"/>
                  <a:pt x="8105" y="19275"/>
                  <a:pt x="8238" y="19546"/>
                </a:cubicBezTo>
              </a:path>
              <a:path fill="none" w="21631" h="21614">
                <a:moveTo>
                  <a:pt x="14280" y="18330"/>
                </a:moveTo>
                <a:cubicBezTo>
                  <a:pt x="14349" y="18025"/>
                  <a:pt x="14394" y="17705"/>
                  <a:pt x="14414" y="17375"/>
                </a:cubicBezTo>
              </a:path>
              <a:path fill="none" w="21631" h="21614">
                <a:moveTo>
                  <a:pt x="18690" y="15045"/>
                </a:moveTo>
                <a:cubicBezTo>
                  <a:pt x="18690" y="15034"/>
                  <a:pt x="18690" y="15024"/>
                  <a:pt x="18690" y="15013"/>
                </a:cubicBezTo>
                <a:cubicBezTo>
                  <a:pt x="18690" y="13459"/>
                  <a:pt x="18027" y="12115"/>
                  <a:pt x="17065" y="11476"/>
                </a:cubicBezTo>
              </a:path>
              <a:path fill="none" w="21631" h="21614">
                <a:moveTo>
                  <a:pt x="20175" y="9015"/>
                </a:moveTo>
                <a:cubicBezTo>
                  <a:pt x="20486" y="8654"/>
                  <a:pt x="20736" y="8197"/>
                  <a:pt x="20900" y="7678"/>
                </a:cubicBezTo>
              </a:path>
              <a:path fill="none" w="21631" h="21614">
                <a:moveTo>
                  <a:pt x="19200" y="3345"/>
                </a:moveTo>
                <a:cubicBezTo>
                  <a:pt x="19200" y="3329"/>
                  <a:pt x="19200" y="3313"/>
                  <a:pt x="19200" y="3297"/>
                </a:cubicBezTo>
                <a:cubicBezTo>
                  <a:pt x="19200" y="3097"/>
                  <a:pt x="19187" y="2901"/>
                  <a:pt x="19162" y="2711"/>
                </a:cubicBezTo>
              </a:path>
              <a:path fill="none" w="21631" h="21614">
                <a:moveTo>
                  <a:pt x="14910" y="1170"/>
                </a:moveTo>
                <a:cubicBezTo>
                  <a:pt x="14759" y="1412"/>
                  <a:pt x="14634" y="1683"/>
                  <a:pt x="14539" y="1976"/>
                </a:cubicBezTo>
              </a:path>
              <a:path fill="none" w="21631" h="21614">
                <a:moveTo>
                  <a:pt x="11250" y="1665"/>
                </a:moveTo>
                <a:cubicBezTo>
                  <a:pt x="11169" y="1882"/>
                  <a:pt x="11108" y="2115"/>
                  <a:pt x="11069" y="2360"/>
                </a:cubicBezTo>
              </a:path>
              <a:path fill="none" w="21631" h="21614">
                <a:moveTo>
                  <a:pt x="7650" y="3270"/>
                </a:moveTo>
                <a:cubicBezTo>
                  <a:pt x="7455" y="3011"/>
                  <a:pt x="7237" y="2784"/>
                  <a:pt x="7001" y="2595"/>
                </a:cubicBezTo>
              </a:path>
              <a:path fill="none" w="21631" h="21614">
                <a:moveTo>
                  <a:pt x="1950" y="7185"/>
                </a:moveTo>
                <a:cubicBezTo>
                  <a:pt x="1974" y="7430"/>
                  <a:pt x="2012" y="7667"/>
                  <a:pt x="2063" y="7896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loud"/>
          <p:cNvSpPr/>
          <p:nvPr/>
        </p:nvSpPr>
        <p:spPr>
          <a:xfrm>
            <a:off x="5724360" y="189000"/>
            <a:ext cx="2303640" cy="792000"/>
          </a:xfrm>
          <a:custGeom>
            <a:avLst/>
            <a:gdLst/>
            <a:ahLst/>
            <a:rect l="l" t="t" r="r" b="b"/>
            <a:pathLst>
              <a:path w="21631" h="21614">
                <a:moveTo>
                  <a:pt x="1950" y="7185"/>
                </a:moveTo>
                <a:cubicBezTo>
                  <a:pt x="854" y="7337"/>
                  <a:pt x="-1" y="8603"/>
                  <a:pt x="-1" y="10142"/>
                </a:cubicBezTo>
                <a:cubicBezTo>
                  <a:pt x="-1" y="11236"/>
                  <a:pt x="431" y="12192"/>
                  <a:pt x="1074" y="12708"/>
                </a:cubicBezTo>
                <a:cubicBezTo>
                  <a:pt x="709" y="13237"/>
                  <a:pt x="486" y="13948"/>
                  <a:pt x="486" y="14730"/>
                </a:cubicBezTo>
                <a:cubicBezTo>
                  <a:pt x="486" y="16364"/>
                  <a:pt x="1462" y="17689"/>
                  <a:pt x="2666" y="17689"/>
                </a:cubicBezTo>
                <a:cubicBezTo>
                  <a:pt x="2752" y="17689"/>
                  <a:pt x="2837" y="17682"/>
                  <a:pt x="2921" y="17669"/>
                </a:cubicBezTo>
                <a:cubicBezTo>
                  <a:pt x="3587" y="19254"/>
                  <a:pt x="4837" y="20320"/>
                  <a:pt x="6270" y="20320"/>
                </a:cubicBezTo>
                <a:cubicBezTo>
                  <a:pt x="6998" y="20320"/>
                  <a:pt x="7678" y="20045"/>
                  <a:pt x="8259" y="19567"/>
                </a:cubicBezTo>
                <a:cubicBezTo>
                  <a:pt x="8865" y="20802"/>
                  <a:pt x="9896" y="21614"/>
                  <a:pt x="11066" y="21614"/>
                </a:cubicBezTo>
                <a:cubicBezTo>
                  <a:pt x="12590" y="21614"/>
                  <a:pt x="13878" y="20236"/>
                  <a:pt x="14298" y="18343"/>
                </a:cubicBezTo>
                <a:cubicBezTo>
                  <a:pt x="14741" y="18721"/>
                  <a:pt x="15266" y="18939"/>
                  <a:pt x="15829" y="18939"/>
                </a:cubicBezTo>
                <a:cubicBezTo>
                  <a:pt x="17419" y="18939"/>
                  <a:pt x="18709" y="17195"/>
                  <a:pt x="18722" y="15037"/>
                </a:cubicBezTo>
                <a:cubicBezTo>
                  <a:pt x="20367" y="14720"/>
                  <a:pt x="21630" y="12798"/>
                  <a:pt x="21630" y="10474"/>
                </a:cubicBezTo>
                <a:cubicBezTo>
                  <a:pt x="21630" y="9417"/>
                  <a:pt x="21369" y="8443"/>
                  <a:pt x="20929" y="7666"/>
                </a:cubicBezTo>
                <a:cubicBezTo>
                  <a:pt x="21068" y="7226"/>
                  <a:pt x="21145" y="6741"/>
                  <a:pt x="21145" y="6232"/>
                </a:cubicBezTo>
                <a:cubicBezTo>
                  <a:pt x="21145" y="4555"/>
                  <a:pt x="20312" y="3142"/>
                  <a:pt x="19180" y="2722"/>
                </a:cubicBezTo>
                <a:cubicBezTo>
                  <a:pt x="18976" y="1178"/>
                  <a:pt x="17983" y="8"/>
                  <a:pt x="16789" y="8"/>
                </a:cubicBezTo>
                <a:cubicBezTo>
                  <a:pt x="16046" y="8"/>
                  <a:pt x="15382" y="460"/>
                  <a:pt x="14936" y="1173"/>
                </a:cubicBezTo>
                <a:cubicBezTo>
                  <a:pt x="14537" y="461"/>
                  <a:pt x="13908" y="2"/>
                  <a:pt x="13200" y="2"/>
                </a:cubicBezTo>
                <a:cubicBezTo>
                  <a:pt x="12345" y="2"/>
                  <a:pt x="11604" y="672"/>
                  <a:pt x="11246" y="1647"/>
                </a:cubicBezTo>
                <a:cubicBezTo>
                  <a:pt x="10765" y="1001"/>
                  <a:pt x="10104" y="602"/>
                  <a:pt x="9375" y="602"/>
                </a:cubicBezTo>
                <a:cubicBezTo>
                  <a:pt x="8354" y="602"/>
                  <a:pt x="7468" y="1383"/>
                  <a:pt x="7019" y="2531"/>
                </a:cubicBezTo>
                <a:cubicBezTo>
                  <a:pt x="6519" y="2130"/>
                  <a:pt x="5935" y="1900"/>
                  <a:pt x="5312" y="1900"/>
                </a:cubicBezTo>
                <a:cubicBezTo>
                  <a:pt x="3447" y="1900"/>
                  <a:pt x="1935" y="3957"/>
                  <a:pt x="1935" y="6495"/>
                </a:cubicBezTo>
                <a:cubicBezTo>
                  <a:pt x="1935" y="6706"/>
                  <a:pt x="1945" y="6913"/>
                  <a:pt x="1966" y="7117"/>
                </a:cubicBezTo>
                <a:close/>
              </a:path>
              <a:path fill="none" w="21631" h="21614">
                <a:moveTo>
                  <a:pt x="1080" y="12690"/>
                </a:moveTo>
                <a:cubicBezTo>
                  <a:pt x="1402" y="12949"/>
                  <a:pt x="1778" y="13097"/>
                  <a:pt x="2178" y="13097"/>
                </a:cubicBezTo>
                <a:cubicBezTo>
                  <a:pt x="2235" y="13097"/>
                  <a:pt x="2292" y="13094"/>
                  <a:pt x="2348" y="13088"/>
                </a:cubicBezTo>
              </a:path>
              <a:path fill="none" w="21631" h="21614">
                <a:moveTo>
                  <a:pt x="2910" y="17640"/>
                </a:moveTo>
                <a:cubicBezTo>
                  <a:pt x="3105" y="17609"/>
                  <a:pt x="3290" y="17544"/>
                  <a:pt x="3465" y="17450"/>
                </a:cubicBezTo>
              </a:path>
              <a:path fill="none" w="21631" h="21614">
                <a:moveTo>
                  <a:pt x="7905" y="18675"/>
                </a:moveTo>
                <a:cubicBezTo>
                  <a:pt x="7993" y="18984"/>
                  <a:pt x="8105" y="19275"/>
                  <a:pt x="8238" y="19546"/>
                </a:cubicBezTo>
              </a:path>
              <a:path fill="none" w="21631" h="21614">
                <a:moveTo>
                  <a:pt x="14280" y="18330"/>
                </a:moveTo>
                <a:cubicBezTo>
                  <a:pt x="14349" y="18025"/>
                  <a:pt x="14394" y="17705"/>
                  <a:pt x="14414" y="17375"/>
                </a:cubicBezTo>
              </a:path>
              <a:path fill="none" w="21631" h="21614">
                <a:moveTo>
                  <a:pt x="18690" y="15045"/>
                </a:moveTo>
                <a:cubicBezTo>
                  <a:pt x="18690" y="15034"/>
                  <a:pt x="18690" y="15024"/>
                  <a:pt x="18690" y="15013"/>
                </a:cubicBezTo>
                <a:cubicBezTo>
                  <a:pt x="18690" y="13459"/>
                  <a:pt x="18027" y="12115"/>
                  <a:pt x="17065" y="11476"/>
                </a:cubicBezTo>
              </a:path>
              <a:path fill="none" w="21631" h="21614">
                <a:moveTo>
                  <a:pt x="20175" y="9015"/>
                </a:moveTo>
                <a:cubicBezTo>
                  <a:pt x="20486" y="8654"/>
                  <a:pt x="20736" y="8197"/>
                  <a:pt x="20900" y="7678"/>
                </a:cubicBezTo>
              </a:path>
              <a:path fill="none" w="21631" h="21614">
                <a:moveTo>
                  <a:pt x="19200" y="3345"/>
                </a:moveTo>
                <a:cubicBezTo>
                  <a:pt x="19200" y="3329"/>
                  <a:pt x="19200" y="3313"/>
                  <a:pt x="19200" y="3297"/>
                </a:cubicBezTo>
                <a:cubicBezTo>
                  <a:pt x="19200" y="3097"/>
                  <a:pt x="19187" y="2901"/>
                  <a:pt x="19162" y="2711"/>
                </a:cubicBezTo>
              </a:path>
              <a:path fill="none" w="21631" h="21614">
                <a:moveTo>
                  <a:pt x="14910" y="1170"/>
                </a:moveTo>
                <a:cubicBezTo>
                  <a:pt x="14759" y="1412"/>
                  <a:pt x="14634" y="1683"/>
                  <a:pt x="14539" y="1976"/>
                </a:cubicBezTo>
              </a:path>
              <a:path fill="none" w="21631" h="21614">
                <a:moveTo>
                  <a:pt x="11250" y="1665"/>
                </a:moveTo>
                <a:cubicBezTo>
                  <a:pt x="11169" y="1882"/>
                  <a:pt x="11108" y="2115"/>
                  <a:pt x="11069" y="2360"/>
                </a:cubicBezTo>
              </a:path>
              <a:path fill="none" w="21631" h="21614">
                <a:moveTo>
                  <a:pt x="7650" y="3270"/>
                </a:moveTo>
                <a:cubicBezTo>
                  <a:pt x="7455" y="3011"/>
                  <a:pt x="7237" y="2784"/>
                  <a:pt x="7001" y="2595"/>
                </a:cubicBezTo>
              </a:path>
              <a:path fill="none" w="21631" h="21614">
                <a:moveTo>
                  <a:pt x="1950" y="7185"/>
                </a:moveTo>
                <a:cubicBezTo>
                  <a:pt x="1974" y="7430"/>
                  <a:pt x="2012" y="7667"/>
                  <a:pt x="2063" y="7896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loud"/>
          <p:cNvSpPr/>
          <p:nvPr/>
        </p:nvSpPr>
        <p:spPr>
          <a:xfrm>
            <a:off x="1476360" y="620640"/>
            <a:ext cx="2303640" cy="792360"/>
          </a:xfrm>
          <a:custGeom>
            <a:avLst/>
            <a:gdLst/>
            <a:ahLst/>
            <a:rect l="l" t="t" r="r" b="b"/>
            <a:pathLst>
              <a:path w="21631" h="21614">
                <a:moveTo>
                  <a:pt x="1950" y="7185"/>
                </a:moveTo>
                <a:cubicBezTo>
                  <a:pt x="854" y="7337"/>
                  <a:pt x="-1" y="8603"/>
                  <a:pt x="-1" y="10142"/>
                </a:cubicBezTo>
                <a:cubicBezTo>
                  <a:pt x="-1" y="11236"/>
                  <a:pt x="431" y="12192"/>
                  <a:pt x="1074" y="12708"/>
                </a:cubicBezTo>
                <a:cubicBezTo>
                  <a:pt x="709" y="13237"/>
                  <a:pt x="486" y="13948"/>
                  <a:pt x="486" y="14730"/>
                </a:cubicBezTo>
                <a:cubicBezTo>
                  <a:pt x="486" y="16364"/>
                  <a:pt x="1462" y="17689"/>
                  <a:pt x="2666" y="17689"/>
                </a:cubicBezTo>
                <a:cubicBezTo>
                  <a:pt x="2752" y="17689"/>
                  <a:pt x="2837" y="17682"/>
                  <a:pt x="2921" y="17669"/>
                </a:cubicBezTo>
                <a:cubicBezTo>
                  <a:pt x="3587" y="19254"/>
                  <a:pt x="4837" y="20320"/>
                  <a:pt x="6270" y="20320"/>
                </a:cubicBezTo>
                <a:cubicBezTo>
                  <a:pt x="6998" y="20320"/>
                  <a:pt x="7678" y="20045"/>
                  <a:pt x="8259" y="19567"/>
                </a:cubicBezTo>
                <a:cubicBezTo>
                  <a:pt x="8865" y="20802"/>
                  <a:pt x="9896" y="21614"/>
                  <a:pt x="11066" y="21614"/>
                </a:cubicBezTo>
                <a:cubicBezTo>
                  <a:pt x="12590" y="21614"/>
                  <a:pt x="13878" y="20236"/>
                  <a:pt x="14298" y="18343"/>
                </a:cubicBezTo>
                <a:cubicBezTo>
                  <a:pt x="14741" y="18721"/>
                  <a:pt x="15266" y="18939"/>
                  <a:pt x="15829" y="18939"/>
                </a:cubicBezTo>
                <a:cubicBezTo>
                  <a:pt x="17419" y="18939"/>
                  <a:pt x="18709" y="17195"/>
                  <a:pt x="18722" y="15037"/>
                </a:cubicBezTo>
                <a:cubicBezTo>
                  <a:pt x="20367" y="14720"/>
                  <a:pt x="21630" y="12798"/>
                  <a:pt x="21630" y="10474"/>
                </a:cubicBezTo>
                <a:cubicBezTo>
                  <a:pt x="21630" y="9417"/>
                  <a:pt x="21369" y="8443"/>
                  <a:pt x="20929" y="7666"/>
                </a:cubicBezTo>
                <a:cubicBezTo>
                  <a:pt x="21068" y="7226"/>
                  <a:pt x="21145" y="6741"/>
                  <a:pt x="21145" y="6232"/>
                </a:cubicBezTo>
                <a:cubicBezTo>
                  <a:pt x="21145" y="4555"/>
                  <a:pt x="20312" y="3142"/>
                  <a:pt x="19180" y="2722"/>
                </a:cubicBezTo>
                <a:cubicBezTo>
                  <a:pt x="18976" y="1178"/>
                  <a:pt x="17983" y="8"/>
                  <a:pt x="16789" y="8"/>
                </a:cubicBezTo>
                <a:cubicBezTo>
                  <a:pt x="16046" y="8"/>
                  <a:pt x="15382" y="460"/>
                  <a:pt x="14936" y="1173"/>
                </a:cubicBezTo>
                <a:cubicBezTo>
                  <a:pt x="14537" y="461"/>
                  <a:pt x="13908" y="2"/>
                  <a:pt x="13200" y="2"/>
                </a:cubicBezTo>
                <a:cubicBezTo>
                  <a:pt x="12345" y="2"/>
                  <a:pt x="11604" y="672"/>
                  <a:pt x="11246" y="1647"/>
                </a:cubicBezTo>
                <a:cubicBezTo>
                  <a:pt x="10765" y="1001"/>
                  <a:pt x="10104" y="602"/>
                  <a:pt x="9375" y="602"/>
                </a:cubicBezTo>
                <a:cubicBezTo>
                  <a:pt x="8354" y="602"/>
                  <a:pt x="7468" y="1383"/>
                  <a:pt x="7019" y="2531"/>
                </a:cubicBezTo>
                <a:cubicBezTo>
                  <a:pt x="6519" y="2130"/>
                  <a:pt x="5935" y="1900"/>
                  <a:pt x="5312" y="1900"/>
                </a:cubicBezTo>
                <a:cubicBezTo>
                  <a:pt x="3447" y="1900"/>
                  <a:pt x="1935" y="3957"/>
                  <a:pt x="1935" y="6495"/>
                </a:cubicBezTo>
                <a:cubicBezTo>
                  <a:pt x="1935" y="6706"/>
                  <a:pt x="1945" y="6913"/>
                  <a:pt x="1966" y="7117"/>
                </a:cubicBezTo>
                <a:close/>
              </a:path>
              <a:path fill="none" w="21631" h="21614">
                <a:moveTo>
                  <a:pt x="1080" y="12690"/>
                </a:moveTo>
                <a:cubicBezTo>
                  <a:pt x="1402" y="12949"/>
                  <a:pt x="1778" y="13097"/>
                  <a:pt x="2178" y="13097"/>
                </a:cubicBezTo>
                <a:cubicBezTo>
                  <a:pt x="2235" y="13097"/>
                  <a:pt x="2292" y="13094"/>
                  <a:pt x="2348" y="13088"/>
                </a:cubicBezTo>
              </a:path>
              <a:path fill="none" w="21631" h="21614">
                <a:moveTo>
                  <a:pt x="2910" y="17640"/>
                </a:moveTo>
                <a:cubicBezTo>
                  <a:pt x="3105" y="17609"/>
                  <a:pt x="3290" y="17544"/>
                  <a:pt x="3465" y="17450"/>
                </a:cubicBezTo>
              </a:path>
              <a:path fill="none" w="21631" h="21614">
                <a:moveTo>
                  <a:pt x="7905" y="18675"/>
                </a:moveTo>
                <a:cubicBezTo>
                  <a:pt x="7993" y="18984"/>
                  <a:pt x="8105" y="19275"/>
                  <a:pt x="8238" y="19546"/>
                </a:cubicBezTo>
              </a:path>
              <a:path fill="none" w="21631" h="21614">
                <a:moveTo>
                  <a:pt x="14280" y="18330"/>
                </a:moveTo>
                <a:cubicBezTo>
                  <a:pt x="14349" y="18025"/>
                  <a:pt x="14394" y="17705"/>
                  <a:pt x="14414" y="17375"/>
                </a:cubicBezTo>
              </a:path>
              <a:path fill="none" w="21631" h="21614">
                <a:moveTo>
                  <a:pt x="18690" y="15045"/>
                </a:moveTo>
                <a:cubicBezTo>
                  <a:pt x="18690" y="15034"/>
                  <a:pt x="18690" y="15024"/>
                  <a:pt x="18690" y="15013"/>
                </a:cubicBezTo>
                <a:cubicBezTo>
                  <a:pt x="18690" y="13459"/>
                  <a:pt x="18027" y="12115"/>
                  <a:pt x="17065" y="11476"/>
                </a:cubicBezTo>
              </a:path>
              <a:path fill="none" w="21631" h="21614">
                <a:moveTo>
                  <a:pt x="20175" y="9015"/>
                </a:moveTo>
                <a:cubicBezTo>
                  <a:pt x="20486" y="8654"/>
                  <a:pt x="20736" y="8197"/>
                  <a:pt x="20900" y="7678"/>
                </a:cubicBezTo>
              </a:path>
              <a:path fill="none" w="21631" h="21614">
                <a:moveTo>
                  <a:pt x="19200" y="3345"/>
                </a:moveTo>
                <a:cubicBezTo>
                  <a:pt x="19200" y="3329"/>
                  <a:pt x="19200" y="3313"/>
                  <a:pt x="19200" y="3297"/>
                </a:cubicBezTo>
                <a:cubicBezTo>
                  <a:pt x="19200" y="3097"/>
                  <a:pt x="19187" y="2901"/>
                  <a:pt x="19162" y="2711"/>
                </a:cubicBezTo>
              </a:path>
              <a:path fill="none" w="21631" h="21614">
                <a:moveTo>
                  <a:pt x="14910" y="1170"/>
                </a:moveTo>
                <a:cubicBezTo>
                  <a:pt x="14759" y="1412"/>
                  <a:pt x="14634" y="1683"/>
                  <a:pt x="14539" y="1976"/>
                </a:cubicBezTo>
              </a:path>
              <a:path fill="none" w="21631" h="21614">
                <a:moveTo>
                  <a:pt x="11250" y="1665"/>
                </a:moveTo>
                <a:cubicBezTo>
                  <a:pt x="11169" y="1882"/>
                  <a:pt x="11108" y="2115"/>
                  <a:pt x="11069" y="2360"/>
                </a:cubicBezTo>
              </a:path>
              <a:path fill="none" w="21631" h="21614">
                <a:moveTo>
                  <a:pt x="7650" y="3270"/>
                </a:moveTo>
                <a:cubicBezTo>
                  <a:pt x="7455" y="3011"/>
                  <a:pt x="7237" y="2784"/>
                  <a:pt x="7001" y="2595"/>
                </a:cubicBezTo>
              </a:path>
              <a:path fill="none" w="21631" h="21614">
                <a:moveTo>
                  <a:pt x="1950" y="7185"/>
                </a:moveTo>
                <a:cubicBezTo>
                  <a:pt x="1974" y="7430"/>
                  <a:pt x="2012" y="7667"/>
                  <a:pt x="2063" y="7896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3145"/>
          <p:cNvGrpSpPr/>
          <p:nvPr/>
        </p:nvGrpSpPr>
        <p:grpSpPr>
          <a:xfrm>
            <a:off x="7444080" y="4358880"/>
            <a:ext cx="1203480" cy="2453760"/>
            <a:chOff x="7444080" y="4358880"/>
            <a:chExt cx="1203480" cy="2453760"/>
          </a:xfrm>
        </p:grpSpPr>
        <p:grpSp>
          <p:nvGrpSpPr>
            <p:cNvPr id="122" name="组合 3146"/>
            <p:cNvGrpSpPr/>
            <p:nvPr/>
          </p:nvGrpSpPr>
          <p:grpSpPr>
            <a:xfrm>
              <a:off x="7836120" y="4358880"/>
              <a:ext cx="811440" cy="1228320"/>
              <a:chOff x="7836120" y="4358880"/>
              <a:chExt cx="811440" cy="1228320"/>
            </a:xfrm>
          </p:grpSpPr>
          <p:sp>
            <p:nvSpPr>
              <p:cNvPr id="123" name="任意多边形 3147"/>
              <p:cNvSpPr/>
              <p:nvPr/>
            </p:nvSpPr>
            <p:spPr>
              <a:xfrm>
                <a:off x="8062920" y="4714920"/>
                <a:ext cx="196200" cy="872280"/>
              </a:xfrm>
              <a:custGeom>
                <a:avLst/>
                <a:gdLst/>
                <a:ahLst/>
                <a:rect l="l" t="t" r="r" b="b"/>
                <a:pathLst>
                  <a:path w="204" h="907">
                    <a:moveTo>
                      <a:pt x="136" y="0"/>
                    </a:moveTo>
                    <a:cubicBezTo>
                      <a:pt x="170" y="242"/>
                      <a:pt x="204" y="484"/>
                      <a:pt x="181" y="635"/>
                    </a:cubicBezTo>
                    <a:cubicBezTo>
                      <a:pt x="158" y="786"/>
                      <a:pt x="79" y="846"/>
                      <a:pt x="0" y="907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组合 3148"/>
              <p:cNvGrpSpPr/>
              <p:nvPr/>
            </p:nvGrpSpPr>
            <p:grpSpPr>
              <a:xfrm>
                <a:off x="7881840" y="4358880"/>
                <a:ext cx="625680" cy="625680"/>
                <a:chOff x="7881840" y="4358880"/>
                <a:chExt cx="625680" cy="625680"/>
              </a:xfrm>
            </p:grpSpPr>
            <p:grpSp>
              <p:nvGrpSpPr>
                <p:cNvPr id="125" name="组合 3149"/>
                <p:cNvGrpSpPr/>
                <p:nvPr/>
              </p:nvGrpSpPr>
              <p:grpSpPr>
                <a:xfrm>
                  <a:off x="7881840" y="4358880"/>
                  <a:ext cx="625680" cy="625680"/>
                  <a:chOff x="7881840" y="4358880"/>
                  <a:chExt cx="625680" cy="625680"/>
                </a:xfrm>
              </p:grpSpPr>
              <p:sp>
                <p:nvSpPr>
                  <p:cNvPr id="126" name="椭圆 3150"/>
                  <p:cNvSpPr/>
                  <p:nvPr/>
                </p:nvSpPr>
                <p:spPr>
                  <a:xfrm rot="608400">
                    <a:off x="8128440" y="436536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椭圆 3151"/>
                  <p:cNvSpPr/>
                  <p:nvPr/>
                </p:nvSpPr>
                <p:spPr>
                  <a:xfrm rot="6008400">
                    <a:off x="8129160" y="436500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组合 3152"/>
                <p:cNvGrpSpPr/>
                <p:nvPr/>
              </p:nvGrpSpPr>
              <p:grpSpPr>
                <a:xfrm>
                  <a:off x="7905600" y="4382640"/>
                  <a:ext cx="577080" cy="577080"/>
                  <a:chOff x="7905600" y="4382640"/>
                  <a:chExt cx="577080" cy="577080"/>
                </a:xfrm>
              </p:grpSpPr>
              <p:sp>
                <p:nvSpPr>
                  <p:cNvPr id="129" name="椭圆 3153"/>
                  <p:cNvSpPr/>
                  <p:nvPr/>
                </p:nvSpPr>
                <p:spPr>
                  <a:xfrm rot="3308400">
                    <a:off x="8128440" y="436500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椭圆 3154"/>
                  <p:cNvSpPr/>
                  <p:nvPr/>
                </p:nvSpPr>
                <p:spPr>
                  <a:xfrm rot="8708400">
                    <a:off x="8129520" y="436500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" name="椭圆 3155"/>
                <p:cNvSpPr/>
                <p:nvPr/>
              </p:nvSpPr>
              <p:spPr>
                <a:xfrm rot="608400">
                  <a:off x="8064000" y="4541040"/>
                  <a:ext cx="262080" cy="262080"/>
                </a:xfrm>
                <a:prstGeom prst="ellipse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任意多边形 3156"/>
              <p:cNvSpPr/>
              <p:nvPr/>
            </p:nvSpPr>
            <p:spPr>
              <a:xfrm rot="20208000">
                <a:off x="8193600" y="501984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任意多边形 3157"/>
              <p:cNvSpPr/>
              <p:nvPr/>
            </p:nvSpPr>
            <p:spPr>
              <a:xfrm rot="13030800">
                <a:off x="7844400" y="515016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组合 3158"/>
            <p:cNvGrpSpPr/>
            <p:nvPr/>
          </p:nvGrpSpPr>
          <p:grpSpPr>
            <a:xfrm>
              <a:off x="7444080" y="5582160"/>
              <a:ext cx="814680" cy="1230480"/>
              <a:chOff x="7444080" y="5582160"/>
              <a:chExt cx="814680" cy="1230480"/>
            </a:xfrm>
          </p:grpSpPr>
          <p:sp>
            <p:nvSpPr>
              <p:cNvPr id="135" name="任意多边形 3159"/>
              <p:cNvSpPr/>
              <p:nvPr/>
            </p:nvSpPr>
            <p:spPr>
              <a:xfrm rot="11032800">
                <a:off x="7834680" y="5587560"/>
                <a:ext cx="196200" cy="872280"/>
              </a:xfrm>
              <a:custGeom>
                <a:avLst/>
                <a:gdLst/>
                <a:ahLst/>
                <a:rect l="l" t="t" r="r" b="b"/>
                <a:pathLst>
                  <a:path w="204" h="907">
                    <a:moveTo>
                      <a:pt x="136" y="0"/>
                    </a:moveTo>
                    <a:cubicBezTo>
                      <a:pt x="170" y="242"/>
                      <a:pt x="204" y="484"/>
                      <a:pt x="181" y="635"/>
                    </a:cubicBezTo>
                    <a:cubicBezTo>
                      <a:pt x="158" y="786"/>
                      <a:pt x="79" y="846"/>
                      <a:pt x="0" y="907"/>
                    </a:cubicBezTo>
                  </a:path>
                </a:pathLst>
              </a:custGeom>
              <a:noFill/>
              <a:ln w="38160">
                <a:solidFill>
                  <a:srgbClr val="0099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" name="组合 3160"/>
              <p:cNvGrpSpPr/>
              <p:nvPr/>
            </p:nvGrpSpPr>
            <p:grpSpPr>
              <a:xfrm>
                <a:off x="7553880" y="6186960"/>
                <a:ext cx="625680" cy="625680"/>
                <a:chOff x="7553880" y="6186960"/>
                <a:chExt cx="625680" cy="625680"/>
              </a:xfrm>
            </p:grpSpPr>
            <p:grpSp>
              <p:nvGrpSpPr>
                <p:cNvPr id="137" name="组合 3161"/>
                <p:cNvGrpSpPr/>
                <p:nvPr/>
              </p:nvGrpSpPr>
              <p:grpSpPr>
                <a:xfrm>
                  <a:off x="7553880" y="6186960"/>
                  <a:ext cx="625680" cy="625680"/>
                  <a:chOff x="7553880" y="6186960"/>
                  <a:chExt cx="625680" cy="625680"/>
                </a:xfrm>
              </p:grpSpPr>
              <p:sp>
                <p:nvSpPr>
                  <p:cNvPr id="138" name="椭圆 3162"/>
                  <p:cNvSpPr/>
                  <p:nvPr/>
                </p:nvSpPr>
                <p:spPr>
                  <a:xfrm rot="11641200">
                    <a:off x="7801920" y="619380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椭圆 3163"/>
                  <p:cNvSpPr/>
                  <p:nvPr/>
                </p:nvSpPr>
                <p:spPr>
                  <a:xfrm rot="17041200">
                    <a:off x="7800840" y="619416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组合 3164"/>
                <p:cNvGrpSpPr/>
                <p:nvPr/>
              </p:nvGrpSpPr>
              <p:grpSpPr>
                <a:xfrm>
                  <a:off x="7571520" y="6204240"/>
                  <a:ext cx="591840" cy="591840"/>
                  <a:chOff x="7571520" y="6204240"/>
                  <a:chExt cx="591840" cy="591840"/>
                </a:xfrm>
              </p:grpSpPr>
              <p:sp>
                <p:nvSpPr>
                  <p:cNvPr id="141" name="椭圆 3165"/>
                  <p:cNvSpPr/>
                  <p:nvPr/>
                </p:nvSpPr>
                <p:spPr>
                  <a:xfrm rot="14341200">
                    <a:off x="7801920" y="619452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椭圆 3166"/>
                  <p:cNvSpPr/>
                  <p:nvPr/>
                </p:nvSpPr>
                <p:spPr>
                  <a:xfrm rot="19741200">
                    <a:off x="7800480" y="619416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3" name="椭圆 3167"/>
                <p:cNvSpPr/>
                <p:nvPr/>
              </p:nvSpPr>
              <p:spPr>
                <a:xfrm rot="11641200">
                  <a:off x="7735320" y="6368040"/>
                  <a:ext cx="262080" cy="262080"/>
                </a:xfrm>
                <a:prstGeom prst="ellipse">
                  <a:avLst/>
                </a:prstGeom>
                <a:noFill/>
                <a:ln w="9360">
                  <a:solidFill>
                    <a:srgbClr val="000000">
                      <a:alpha val="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任意多边形 3168"/>
              <p:cNvSpPr/>
              <p:nvPr/>
            </p:nvSpPr>
            <p:spPr>
              <a:xfrm rot="9640800">
                <a:off x="7460280" y="596268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solidFill>
                <a:srgbClr val="009900">
                  <a:alpha val="1000"/>
                </a:srgbClr>
              </a:solidFill>
              <a:ln w="9360">
                <a:solidFill>
                  <a:srgbClr val="0000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任意多边形 3169"/>
              <p:cNvSpPr/>
              <p:nvPr/>
            </p:nvSpPr>
            <p:spPr>
              <a:xfrm rot="2463600">
                <a:off x="7818120" y="585612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solidFill>
                <a:srgbClr val="009900">
                  <a:alpha val="1000"/>
                </a:srgbClr>
              </a:solidFill>
              <a:ln w="9360">
                <a:solidFill>
                  <a:srgbClr val="0000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组合 3170"/>
          <p:cNvGrpSpPr/>
          <p:nvPr/>
        </p:nvGrpSpPr>
        <p:grpSpPr>
          <a:xfrm>
            <a:off x="6796440" y="4934880"/>
            <a:ext cx="1203480" cy="2454120"/>
            <a:chOff x="6796440" y="4934880"/>
            <a:chExt cx="1203480" cy="2454120"/>
          </a:xfrm>
        </p:grpSpPr>
        <p:grpSp>
          <p:nvGrpSpPr>
            <p:cNvPr id="147" name="组合 3171"/>
            <p:cNvGrpSpPr/>
            <p:nvPr/>
          </p:nvGrpSpPr>
          <p:grpSpPr>
            <a:xfrm>
              <a:off x="7188480" y="4934880"/>
              <a:ext cx="811440" cy="1228680"/>
              <a:chOff x="7188480" y="4934880"/>
              <a:chExt cx="811440" cy="1228680"/>
            </a:xfrm>
          </p:grpSpPr>
          <p:sp>
            <p:nvSpPr>
              <p:cNvPr id="148" name="任意多边形 3172"/>
              <p:cNvSpPr/>
              <p:nvPr/>
            </p:nvSpPr>
            <p:spPr>
              <a:xfrm>
                <a:off x="7415280" y="5290920"/>
                <a:ext cx="196200" cy="872640"/>
              </a:xfrm>
              <a:custGeom>
                <a:avLst/>
                <a:gdLst/>
                <a:ahLst/>
                <a:rect l="l" t="t" r="r" b="b"/>
                <a:pathLst>
                  <a:path w="204" h="907">
                    <a:moveTo>
                      <a:pt x="136" y="0"/>
                    </a:moveTo>
                    <a:cubicBezTo>
                      <a:pt x="170" y="242"/>
                      <a:pt x="204" y="484"/>
                      <a:pt x="181" y="635"/>
                    </a:cubicBezTo>
                    <a:cubicBezTo>
                      <a:pt x="158" y="786"/>
                      <a:pt x="79" y="846"/>
                      <a:pt x="0" y="907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组合 3173"/>
              <p:cNvGrpSpPr/>
              <p:nvPr/>
            </p:nvGrpSpPr>
            <p:grpSpPr>
              <a:xfrm>
                <a:off x="7234200" y="4934880"/>
                <a:ext cx="625680" cy="625680"/>
                <a:chOff x="7234200" y="4934880"/>
                <a:chExt cx="625680" cy="625680"/>
              </a:xfrm>
            </p:grpSpPr>
            <p:grpSp>
              <p:nvGrpSpPr>
                <p:cNvPr id="150" name="组合 3174"/>
                <p:cNvGrpSpPr/>
                <p:nvPr/>
              </p:nvGrpSpPr>
              <p:grpSpPr>
                <a:xfrm>
                  <a:off x="7234200" y="4934880"/>
                  <a:ext cx="625680" cy="625680"/>
                  <a:chOff x="7234200" y="4934880"/>
                  <a:chExt cx="625680" cy="625680"/>
                </a:xfrm>
              </p:grpSpPr>
              <p:sp>
                <p:nvSpPr>
                  <p:cNvPr id="151" name="椭圆 3175"/>
                  <p:cNvSpPr/>
                  <p:nvPr/>
                </p:nvSpPr>
                <p:spPr>
                  <a:xfrm rot="608400">
                    <a:off x="7480800" y="494136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椭圆 3176"/>
                  <p:cNvSpPr/>
                  <p:nvPr/>
                </p:nvSpPr>
                <p:spPr>
                  <a:xfrm rot="6008400">
                    <a:off x="7481520" y="494100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组合 3177"/>
                <p:cNvGrpSpPr/>
                <p:nvPr/>
              </p:nvGrpSpPr>
              <p:grpSpPr>
                <a:xfrm>
                  <a:off x="7257960" y="4958640"/>
                  <a:ext cx="577080" cy="577080"/>
                  <a:chOff x="7257960" y="4958640"/>
                  <a:chExt cx="577080" cy="577080"/>
                </a:xfrm>
              </p:grpSpPr>
              <p:sp>
                <p:nvSpPr>
                  <p:cNvPr id="154" name="椭圆 3178"/>
                  <p:cNvSpPr/>
                  <p:nvPr/>
                </p:nvSpPr>
                <p:spPr>
                  <a:xfrm rot="3308400">
                    <a:off x="7480800" y="494100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椭圆 3179"/>
                  <p:cNvSpPr/>
                  <p:nvPr/>
                </p:nvSpPr>
                <p:spPr>
                  <a:xfrm rot="8708400">
                    <a:off x="7481880" y="494100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椭圆 3180"/>
                <p:cNvSpPr/>
                <p:nvPr/>
              </p:nvSpPr>
              <p:spPr>
                <a:xfrm rot="608400">
                  <a:off x="7416360" y="5117040"/>
                  <a:ext cx="262080" cy="262080"/>
                </a:xfrm>
                <a:prstGeom prst="ellipse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任意多边形 3181"/>
              <p:cNvSpPr/>
              <p:nvPr/>
            </p:nvSpPr>
            <p:spPr>
              <a:xfrm rot="20208000">
                <a:off x="7545960" y="559620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任意多边形 3182"/>
              <p:cNvSpPr/>
              <p:nvPr/>
            </p:nvSpPr>
            <p:spPr>
              <a:xfrm rot="13030800">
                <a:off x="7196760" y="572652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组合 3183"/>
            <p:cNvGrpSpPr/>
            <p:nvPr/>
          </p:nvGrpSpPr>
          <p:grpSpPr>
            <a:xfrm>
              <a:off x="6796440" y="6158160"/>
              <a:ext cx="814680" cy="1230840"/>
              <a:chOff x="6796440" y="6158160"/>
              <a:chExt cx="814680" cy="1230840"/>
            </a:xfrm>
          </p:grpSpPr>
          <p:sp>
            <p:nvSpPr>
              <p:cNvPr id="160" name="任意多边形 3184"/>
              <p:cNvSpPr/>
              <p:nvPr/>
            </p:nvSpPr>
            <p:spPr>
              <a:xfrm rot="11032800">
                <a:off x="7187040" y="6163560"/>
                <a:ext cx="196200" cy="872640"/>
              </a:xfrm>
              <a:custGeom>
                <a:avLst/>
                <a:gdLst/>
                <a:ahLst/>
                <a:rect l="l" t="t" r="r" b="b"/>
                <a:pathLst>
                  <a:path w="204" h="907">
                    <a:moveTo>
                      <a:pt x="136" y="0"/>
                    </a:moveTo>
                    <a:cubicBezTo>
                      <a:pt x="170" y="242"/>
                      <a:pt x="204" y="484"/>
                      <a:pt x="181" y="635"/>
                    </a:cubicBezTo>
                    <a:cubicBezTo>
                      <a:pt x="158" y="786"/>
                      <a:pt x="79" y="846"/>
                      <a:pt x="0" y="907"/>
                    </a:cubicBezTo>
                  </a:path>
                </a:pathLst>
              </a:custGeom>
              <a:noFill/>
              <a:ln w="38160">
                <a:solidFill>
                  <a:srgbClr val="0099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组合 3185"/>
              <p:cNvGrpSpPr/>
              <p:nvPr/>
            </p:nvGrpSpPr>
            <p:grpSpPr>
              <a:xfrm>
                <a:off x="6906240" y="6763320"/>
                <a:ext cx="625680" cy="625680"/>
                <a:chOff x="6906240" y="6763320"/>
                <a:chExt cx="625680" cy="625680"/>
              </a:xfrm>
            </p:grpSpPr>
            <p:grpSp>
              <p:nvGrpSpPr>
                <p:cNvPr id="162" name="组合 3186"/>
                <p:cNvGrpSpPr/>
                <p:nvPr/>
              </p:nvGrpSpPr>
              <p:grpSpPr>
                <a:xfrm>
                  <a:off x="6906240" y="6763320"/>
                  <a:ext cx="625680" cy="625680"/>
                  <a:chOff x="6906240" y="6763320"/>
                  <a:chExt cx="625680" cy="625680"/>
                </a:xfrm>
              </p:grpSpPr>
              <p:sp>
                <p:nvSpPr>
                  <p:cNvPr id="163" name="椭圆 3187"/>
                  <p:cNvSpPr/>
                  <p:nvPr/>
                </p:nvSpPr>
                <p:spPr>
                  <a:xfrm rot="11641200">
                    <a:off x="7154280" y="677016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椭圆 3188"/>
                  <p:cNvSpPr/>
                  <p:nvPr/>
                </p:nvSpPr>
                <p:spPr>
                  <a:xfrm rot="17041200">
                    <a:off x="7153200" y="677052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组合 3189"/>
                <p:cNvGrpSpPr/>
                <p:nvPr/>
              </p:nvGrpSpPr>
              <p:grpSpPr>
                <a:xfrm>
                  <a:off x="6923880" y="6780600"/>
                  <a:ext cx="591840" cy="591840"/>
                  <a:chOff x="6923880" y="6780600"/>
                  <a:chExt cx="591840" cy="591840"/>
                </a:xfrm>
              </p:grpSpPr>
              <p:sp>
                <p:nvSpPr>
                  <p:cNvPr id="166" name="椭圆 3190"/>
                  <p:cNvSpPr/>
                  <p:nvPr/>
                </p:nvSpPr>
                <p:spPr>
                  <a:xfrm rot="14341200">
                    <a:off x="7154280" y="677088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椭圆 3191"/>
                  <p:cNvSpPr/>
                  <p:nvPr/>
                </p:nvSpPr>
                <p:spPr>
                  <a:xfrm rot="19741200">
                    <a:off x="7152840" y="677052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8" name="椭圆 3192"/>
                <p:cNvSpPr/>
                <p:nvPr/>
              </p:nvSpPr>
              <p:spPr>
                <a:xfrm rot="11641200">
                  <a:off x="7087680" y="6944400"/>
                  <a:ext cx="262080" cy="262080"/>
                </a:xfrm>
                <a:prstGeom prst="ellipse">
                  <a:avLst/>
                </a:prstGeom>
                <a:noFill/>
                <a:ln w="9360">
                  <a:solidFill>
                    <a:srgbClr val="000000">
                      <a:alpha val="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任意多边形 3193"/>
              <p:cNvSpPr/>
              <p:nvPr/>
            </p:nvSpPr>
            <p:spPr>
              <a:xfrm rot="9640800">
                <a:off x="6812640" y="653868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solidFill>
                <a:srgbClr val="009900">
                  <a:alpha val="1000"/>
                </a:srgbClr>
              </a:solidFill>
              <a:ln w="9360">
                <a:solidFill>
                  <a:srgbClr val="0000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任意多边形 3194"/>
              <p:cNvSpPr/>
              <p:nvPr/>
            </p:nvSpPr>
            <p:spPr>
              <a:xfrm rot="2463600">
                <a:off x="7170480" y="643212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solidFill>
                <a:srgbClr val="009900">
                  <a:alpha val="1000"/>
                </a:srgbClr>
              </a:solidFill>
              <a:ln w="9360">
                <a:solidFill>
                  <a:srgbClr val="0000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组合 3195"/>
          <p:cNvGrpSpPr/>
          <p:nvPr/>
        </p:nvGrpSpPr>
        <p:grpSpPr>
          <a:xfrm>
            <a:off x="5356440" y="4862160"/>
            <a:ext cx="1203480" cy="2453760"/>
            <a:chOff x="5356440" y="4862160"/>
            <a:chExt cx="1203480" cy="2453760"/>
          </a:xfrm>
        </p:grpSpPr>
        <p:grpSp>
          <p:nvGrpSpPr>
            <p:cNvPr id="172" name="组合 3196"/>
            <p:cNvGrpSpPr/>
            <p:nvPr/>
          </p:nvGrpSpPr>
          <p:grpSpPr>
            <a:xfrm>
              <a:off x="5748480" y="4862160"/>
              <a:ext cx="811440" cy="1228320"/>
              <a:chOff x="5748480" y="4862160"/>
              <a:chExt cx="811440" cy="1228320"/>
            </a:xfrm>
          </p:grpSpPr>
          <p:sp>
            <p:nvSpPr>
              <p:cNvPr id="173" name="任意多边形 3197"/>
              <p:cNvSpPr/>
              <p:nvPr/>
            </p:nvSpPr>
            <p:spPr>
              <a:xfrm>
                <a:off x="5975280" y="5218200"/>
                <a:ext cx="196200" cy="872280"/>
              </a:xfrm>
              <a:custGeom>
                <a:avLst/>
                <a:gdLst/>
                <a:ahLst/>
                <a:rect l="l" t="t" r="r" b="b"/>
                <a:pathLst>
                  <a:path w="204" h="907">
                    <a:moveTo>
                      <a:pt x="136" y="0"/>
                    </a:moveTo>
                    <a:cubicBezTo>
                      <a:pt x="170" y="242"/>
                      <a:pt x="204" y="484"/>
                      <a:pt x="181" y="635"/>
                    </a:cubicBezTo>
                    <a:cubicBezTo>
                      <a:pt x="158" y="786"/>
                      <a:pt x="79" y="846"/>
                      <a:pt x="0" y="907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组合 3198"/>
              <p:cNvGrpSpPr/>
              <p:nvPr/>
            </p:nvGrpSpPr>
            <p:grpSpPr>
              <a:xfrm>
                <a:off x="5794200" y="4862160"/>
                <a:ext cx="625680" cy="625680"/>
                <a:chOff x="5794200" y="4862160"/>
                <a:chExt cx="625680" cy="625680"/>
              </a:xfrm>
            </p:grpSpPr>
            <p:grpSp>
              <p:nvGrpSpPr>
                <p:cNvPr id="175" name="组合 3199"/>
                <p:cNvGrpSpPr/>
                <p:nvPr/>
              </p:nvGrpSpPr>
              <p:grpSpPr>
                <a:xfrm>
                  <a:off x="5794200" y="4862160"/>
                  <a:ext cx="625680" cy="625680"/>
                  <a:chOff x="5794200" y="4862160"/>
                  <a:chExt cx="625680" cy="625680"/>
                </a:xfrm>
              </p:grpSpPr>
              <p:sp>
                <p:nvSpPr>
                  <p:cNvPr id="176" name="椭圆 3200"/>
                  <p:cNvSpPr/>
                  <p:nvPr/>
                </p:nvSpPr>
                <p:spPr>
                  <a:xfrm rot="608400">
                    <a:off x="6040800" y="486864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椭圆 3201"/>
                  <p:cNvSpPr/>
                  <p:nvPr/>
                </p:nvSpPr>
                <p:spPr>
                  <a:xfrm rot="6008400">
                    <a:off x="6041520" y="486828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组合 3202"/>
                <p:cNvGrpSpPr/>
                <p:nvPr/>
              </p:nvGrpSpPr>
              <p:grpSpPr>
                <a:xfrm>
                  <a:off x="5817960" y="4885920"/>
                  <a:ext cx="577080" cy="577080"/>
                  <a:chOff x="5817960" y="4885920"/>
                  <a:chExt cx="577080" cy="577080"/>
                </a:xfrm>
              </p:grpSpPr>
              <p:sp>
                <p:nvSpPr>
                  <p:cNvPr id="179" name="椭圆 3203"/>
                  <p:cNvSpPr/>
                  <p:nvPr/>
                </p:nvSpPr>
                <p:spPr>
                  <a:xfrm rot="3308400">
                    <a:off x="6040800" y="486828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椭圆 3204"/>
                  <p:cNvSpPr/>
                  <p:nvPr/>
                </p:nvSpPr>
                <p:spPr>
                  <a:xfrm rot="8708400">
                    <a:off x="6041880" y="486828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椭圆 3205"/>
                <p:cNvSpPr/>
                <p:nvPr/>
              </p:nvSpPr>
              <p:spPr>
                <a:xfrm rot="608400">
                  <a:off x="5976360" y="5044320"/>
                  <a:ext cx="262080" cy="262080"/>
                </a:xfrm>
                <a:prstGeom prst="ellipse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任意多边形 3206"/>
              <p:cNvSpPr/>
              <p:nvPr/>
            </p:nvSpPr>
            <p:spPr>
              <a:xfrm rot="20208000">
                <a:off x="6105960" y="552312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任意多边形 3207"/>
              <p:cNvSpPr/>
              <p:nvPr/>
            </p:nvSpPr>
            <p:spPr>
              <a:xfrm rot="13030800">
                <a:off x="5756760" y="565344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组合 3208"/>
            <p:cNvGrpSpPr/>
            <p:nvPr/>
          </p:nvGrpSpPr>
          <p:grpSpPr>
            <a:xfrm>
              <a:off x="5356440" y="6085440"/>
              <a:ext cx="814680" cy="1230480"/>
              <a:chOff x="5356440" y="6085440"/>
              <a:chExt cx="814680" cy="1230480"/>
            </a:xfrm>
          </p:grpSpPr>
          <p:sp>
            <p:nvSpPr>
              <p:cNvPr id="185" name="任意多边形 3209"/>
              <p:cNvSpPr/>
              <p:nvPr/>
            </p:nvSpPr>
            <p:spPr>
              <a:xfrm rot="11032800">
                <a:off x="5747040" y="6090840"/>
                <a:ext cx="196200" cy="872280"/>
              </a:xfrm>
              <a:custGeom>
                <a:avLst/>
                <a:gdLst/>
                <a:ahLst/>
                <a:rect l="l" t="t" r="r" b="b"/>
                <a:pathLst>
                  <a:path w="204" h="907">
                    <a:moveTo>
                      <a:pt x="136" y="0"/>
                    </a:moveTo>
                    <a:cubicBezTo>
                      <a:pt x="170" y="242"/>
                      <a:pt x="204" y="484"/>
                      <a:pt x="181" y="635"/>
                    </a:cubicBezTo>
                    <a:cubicBezTo>
                      <a:pt x="158" y="786"/>
                      <a:pt x="79" y="846"/>
                      <a:pt x="0" y="907"/>
                    </a:cubicBezTo>
                  </a:path>
                </a:pathLst>
              </a:custGeom>
              <a:noFill/>
              <a:ln w="38160">
                <a:solidFill>
                  <a:srgbClr val="0099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组合 3210"/>
              <p:cNvGrpSpPr/>
              <p:nvPr/>
            </p:nvGrpSpPr>
            <p:grpSpPr>
              <a:xfrm>
                <a:off x="5466240" y="6690240"/>
                <a:ext cx="625680" cy="625680"/>
                <a:chOff x="5466240" y="6690240"/>
                <a:chExt cx="625680" cy="625680"/>
              </a:xfrm>
            </p:grpSpPr>
            <p:grpSp>
              <p:nvGrpSpPr>
                <p:cNvPr id="187" name="组合 3211"/>
                <p:cNvGrpSpPr/>
                <p:nvPr/>
              </p:nvGrpSpPr>
              <p:grpSpPr>
                <a:xfrm>
                  <a:off x="5466240" y="6690240"/>
                  <a:ext cx="625680" cy="625680"/>
                  <a:chOff x="5466240" y="6690240"/>
                  <a:chExt cx="625680" cy="625680"/>
                </a:xfrm>
              </p:grpSpPr>
              <p:sp>
                <p:nvSpPr>
                  <p:cNvPr id="188" name="椭圆 3212"/>
                  <p:cNvSpPr/>
                  <p:nvPr/>
                </p:nvSpPr>
                <p:spPr>
                  <a:xfrm rot="11641200">
                    <a:off x="5714280" y="669708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椭圆 3213"/>
                  <p:cNvSpPr/>
                  <p:nvPr/>
                </p:nvSpPr>
                <p:spPr>
                  <a:xfrm rot="17041200">
                    <a:off x="5713200" y="669744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组合 3214"/>
                <p:cNvGrpSpPr/>
                <p:nvPr/>
              </p:nvGrpSpPr>
              <p:grpSpPr>
                <a:xfrm>
                  <a:off x="5483880" y="6707520"/>
                  <a:ext cx="591840" cy="591840"/>
                  <a:chOff x="5483880" y="6707520"/>
                  <a:chExt cx="591840" cy="591840"/>
                </a:xfrm>
              </p:grpSpPr>
              <p:sp>
                <p:nvSpPr>
                  <p:cNvPr id="191" name="椭圆 3215"/>
                  <p:cNvSpPr/>
                  <p:nvPr/>
                </p:nvSpPr>
                <p:spPr>
                  <a:xfrm rot="14341200">
                    <a:off x="5714280" y="669780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椭圆 3216"/>
                  <p:cNvSpPr/>
                  <p:nvPr/>
                </p:nvSpPr>
                <p:spPr>
                  <a:xfrm rot="19741200">
                    <a:off x="5712840" y="669744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" name="椭圆 3217"/>
                <p:cNvSpPr/>
                <p:nvPr/>
              </p:nvSpPr>
              <p:spPr>
                <a:xfrm rot="11641200">
                  <a:off x="5647680" y="6871320"/>
                  <a:ext cx="262080" cy="262080"/>
                </a:xfrm>
                <a:prstGeom prst="ellipse">
                  <a:avLst/>
                </a:prstGeom>
                <a:noFill/>
                <a:ln w="9360">
                  <a:solidFill>
                    <a:srgbClr val="000000">
                      <a:alpha val="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任意多边形 3218"/>
              <p:cNvSpPr/>
              <p:nvPr/>
            </p:nvSpPr>
            <p:spPr>
              <a:xfrm rot="9640800">
                <a:off x="5372640" y="646596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solidFill>
                <a:srgbClr val="009900">
                  <a:alpha val="1000"/>
                </a:srgbClr>
              </a:solidFill>
              <a:ln w="9360">
                <a:solidFill>
                  <a:srgbClr val="0000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任意多边形 3219"/>
              <p:cNvSpPr/>
              <p:nvPr/>
            </p:nvSpPr>
            <p:spPr>
              <a:xfrm rot="2463600">
                <a:off x="5730480" y="635940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solidFill>
                <a:srgbClr val="009900">
                  <a:alpha val="1000"/>
                </a:srgbClr>
              </a:solidFill>
              <a:ln w="9360">
                <a:solidFill>
                  <a:srgbClr val="0000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组合 3220"/>
          <p:cNvGrpSpPr/>
          <p:nvPr/>
        </p:nvGrpSpPr>
        <p:grpSpPr>
          <a:xfrm>
            <a:off x="6077160" y="5222520"/>
            <a:ext cx="1203480" cy="2453760"/>
            <a:chOff x="6077160" y="5222520"/>
            <a:chExt cx="1203480" cy="2453760"/>
          </a:xfrm>
        </p:grpSpPr>
        <p:grpSp>
          <p:nvGrpSpPr>
            <p:cNvPr id="197" name="组合 3221"/>
            <p:cNvGrpSpPr/>
            <p:nvPr/>
          </p:nvGrpSpPr>
          <p:grpSpPr>
            <a:xfrm>
              <a:off x="6469200" y="5222520"/>
              <a:ext cx="811440" cy="1228320"/>
              <a:chOff x="6469200" y="5222520"/>
              <a:chExt cx="811440" cy="1228320"/>
            </a:xfrm>
          </p:grpSpPr>
          <p:sp>
            <p:nvSpPr>
              <p:cNvPr id="198" name="任意多边形 3222"/>
              <p:cNvSpPr/>
              <p:nvPr/>
            </p:nvSpPr>
            <p:spPr>
              <a:xfrm>
                <a:off x="6696000" y="5578560"/>
                <a:ext cx="196200" cy="872280"/>
              </a:xfrm>
              <a:custGeom>
                <a:avLst/>
                <a:gdLst/>
                <a:ahLst/>
                <a:rect l="l" t="t" r="r" b="b"/>
                <a:pathLst>
                  <a:path w="204" h="907">
                    <a:moveTo>
                      <a:pt x="136" y="0"/>
                    </a:moveTo>
                    <a:cubicBezTo>
                      <a:pt x="170" y="242"/>
                      <a:pt x="204" y="484"/>
                      <a:pt x="181" y="635"/>
                    </a:cubicBezTo>
                    <a:cubicBezTo>
                      <a:pt x="158" y="786"/>
                      <a:pt x="79" y="846"/>
                      <a:pt x="0" y="907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组合 3223"/>
              <p:cNvGrpSpPr/>
              <p:nvPr/>
            </p:nvGrpSpPr>
            <p:grpSpPr>
              <a:xfrm>
                <a:off x="6514920" y="5222520"/>
                <a:ext cx="625680" cy="625680"/>
                <a:chOff x="6514920" y="5222520"/>
                <a:chExt cx="625680" cy="625680"/>
              </a:xfrm>
            </p:grpSpPr>
            <p:grpSp>
              <p:nvGrpSpPr>
                <p:cNvPr id="200" name="组合 3224"/>
                <p:cNvGrpSpPr/>
                <p:nvPr/>
              </p:nvGrpSpPr>
              <p:grpSpPr>
                <a:xfrm>
                  <a:off x="6514920" y="5222520"/>
                  <a:ext cx="625680" cy="625680"/>
                  <a:chOff x="6514920" y="5222520"/>
                  <a:chExt cx="625680" cy="625680"/>
                </a:xfrm>
              </p:grpSpPr>
              <p:sp>
                <p:nvSpPr>
                  <p:cNvPr id="201" name="椭圆 3225"/>
                  <p:cNvSpPr/>
                  <p:nvPr/>
                </p:nvSpPr>
                <p:spPr>
                  <a:xfrm rot="608400">
                    <a:off x="6761520" y="522900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椭圆 3226"/>
                  <p:cNvSpPr/>
                  <p:nvPr/>
                </p:nvSpPr>
                <p:spPr>
                  <a:xfrm rot="6008400">
                    <a:off x="6762240" y="522864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组合 3227"/>
                <p:cNvGrpSpPr/>
                <p:nvPr/>
              </p:nvGrpSpPr>
              <p:grpSpPr>
                <a:xfrm>
                  <a:off x="6538680" y="5246280"/>
                  <a:ext cx="577080" cy="577080"/>
                  <a:chOff x="6538680" y="5246280"/>
                  <a:chExt cx="577080" cy="577080"/>
                </a:xfrm>
              </p:grpSpPr>
              <p:sp>
                <p:nvSpPr>
                  <p:cNvPr id="204" name="椭圆 3228"/>
                  <p:cNvSpPr/>
                  <p:nvPr/>
                </p:nvSpPr>
                <p:spPr>
                  <a:xfrm rot="3308400">
                    <a:off x="6761520" y="522864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椭圆 3229"/>
                  <p:cNvSpPr/>
                  <p:nvPr/>
                </p:nvSpPr>
                <p:spPr>
                  <a:xfrm rot="8708400">
                    <a:off x="6762600" y="522864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6" name="椭圆 3230"/>
                <p:cNvSpPr/>
                <p:nvPr/>
              </p:nvSpPr>
              <p:spPr>
                <a:xfrm rot="608400">
                  <a:off x="6697080" y="5404680"/>
                  <a:ext cx="262080" cy="262080"/>
                </a:xfrm>
                <a:prstGeom prst="ellipse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任意多边形 3231"/>
              <p:cNvSpPr/>
              <p:nvPr/>
            </p:nvSpPr>
            <p:spPr>
              <a:xfrm rot="20208000">
                <a:off x="6826680" y="588348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任意多边形 3232"/>
              <p:cNvSpPr/>
              <p:nvPr/>
            </p:nvSpPr>
            <p:spPr>
              <a:xfrm rot="13030800">
                <a:off x="6477480" y="601380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组合 3233"/>
            <p:cNvGrpSpPr/>
            <p:nvPr/>
          </p:nvGrpSpPr>
          <p:grpSpPr>
            <a:xfrm>
              <a:off x="6077160" y="6445800"/>
              <a:ext cx="814680" cy="1230480"/>
              <a:chOff x="6077160" y="6445800"/>
              <a:chExt cx="814680" cy="1230480"/>
            </a:xfrm>
          </p:grpSpPr>
          <p:sp>
            <p:nvSpPr>
              <p:cNvPr id="210" name="任意多边形 3234"/>
              <p:cNvSpPr/>
              <p:nvPr/>
            </p:nvSpPr>
            <p:spPr>
              <a:xfrm rot="11032800">
                <a:off x="6467760" y="6451200"/>
                <a:ext cx="196200" cy="872280"/>
              </a:xfrm>
              <a:custGeom>
                <a:avLst/>
                <a:gdLst/>
                <a:ahLst/>
                <a:rect l="l" t="t" r="r" b="b"/>
                <a:pathLst>
                  <a:path w="204" h="907">
                    <a:moveTo>
                      <a:pt x="136" y="0"/>
                    </a:moveTo>
                    <a:cubicBezTo>
                      <a:pt x="170" y="242"/>
                      <a:pt x="204" y="484"/>
                      <a:pt x="181" y="635"/>
                    </a:cubicBezTo>
                    <a:cubicBezTo>
                      <a:pt x="158" y="786"/>
                      <a:pt x="79" y="846"/>
                      <a:pt x="0" y="907"/>
                    </a:cubicBezTo>
                  </a:path>
                </a:pathLst>
              </a:custGeom>
              <a:noFill/>
              <a:ln w="38160">
                <a:solidFill>
                  <a:srgbClr val="0099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组合 3235"/>
              <p:cNvGrpSpPr/>
              <p:nvPr/>
            </p:nvGrpSpPr>
            <p:grpSpPr>
              <a:xfrm>
                <a:off x="6186960" y="7050600"/>
                <a:ext cx="625680" cy="625680"/>
                <a:chOff x="6186960" y="7050600"/>
                <a:chExt cx="625680" cy="625680"/>
              </a:xfrm>
            </p:grpSpPr>
            <p:grpSp>
              <p:nvGrpSpPr>
                <p:cNvPr id="212" name="组合 3236"/>
                <p:cNvGrpSpPr/>
                <p:nvPr/>
              </p:nvGrpSpPr>
              <p:grpSpPr>
                <a:xfrm>
                  <a:off x="6186960" y="7050600"/>
                  <a:ext cx="625680" cy="625680"/>
                  <a:chOff x="6186960" y="7050600"/>
                  <a:chExt cx="625680" cy="625680"/>
                </a:xfrm>
              </p:grpSpPr>
              <p:sp>
                <p:nvSpPr>
                  <p:cNvPr id="213" name="椭圆 3237"/>
                  <p:cNvSpPr/>
                  <p:nvPr/>
                </p:nvSpPr>
                <p:spPr>
                  <a:xfrm rot="11641200">
                    <a:off x="6435000" y="705744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椭圆 3238"/>
                  <p:cNvSpPr/>
                  <p:nvPr/>
                </p:nvSpPr>
                <p:spPr>
                  <a:xfrm rot="17041200">
                    <a:off x="6433920" y="705780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组合 3239"/>
                <p:cNvGrpSpPr/>
                <p:nvPr/>
              </p:nvGrpSpPr>
              <p:grpSpPr>
                <a:xfrm>
                  <a:off x="6204600" y="7067880"/>
                  <a:ext cx="591840" cy="591840"/>
                  <a:chOff x="6204600" y="7067880"/>
                  <a:chExt cx="591840" cy="591840"/>
                </a:xfrm>
              </p:grpSpPr>
              <p:sp>
                <p:nvSpPr>
                  <p:cNvPr id="216" name="椭圆 3240"/>
                  <p:cNvSpPr/>
                  <p:nvPr/>
                </p:nvSpPr>
                <p:spPr>
                  <a:xfrm rot="14341200">
                    <a:off x="6435000" y="705816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椭圆 3241"/>
                  <p:cNvSpPr/>
                  <p:nvPr/>
                </p:nvSpPr>
                <p:spPr>
                  <a:xfrm rot="19741200">
                    <a:off x="6433560" y="705780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椭圆 3242"/>
                <p:cNvSpPr/>
                <p:nvPr/>
              </p:nvSpPr>
              <p:spPr>
                <a:xfrm rot="11641200">
                  <a:off x="6368400" y="7231680"/>
                  <a:ext cx="262080" cy="262080"/>
                </a:xfrm>
                <a:prstGeom prst="ellipse">
                  <a:avLst/>
                </a:prstGeom>
                <a:noFill/>
                <a:ln w="9360">
                  <a:solidFill>
                    <a:srgbClr val="000000">
                      <a:alpha val="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9" name="任意多边形 3243"/>
              <p:cNvSpPr/>
              <p:nvPr/>
            </p:nvSpPr>
            <p:spPr>
              <a:xfrm rot="9640800">
                <a:off x="6093360" y="682632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solidFill>
                <a:srgbClr val="009900">
                  <a:alpha val="1000"/>
                </a:srgbClr>
              </a:solidFill>
              <a:ln w="9360">
                <a:solidFill>
                  <a:srgbClr val="0000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任意多边形 3244"/>
              <p:cNvSpPr/>
              <p:nvPr/>
            </p:nvSpPr>
            <p:spPr>
              <a:xfrm rot="2463600">
                <a:off x="6451200" y="671976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solidFill>
                <a:srgbClr val="009900">
                  <a:alpha val="1000"/>
                </a:srgbClr>
              </a:solidFill>
              <a:ln w="9360">
                <a:solidFill>
                  <a:srgbClr val="0000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组合 3245"/>
          <p:cNvGrpSpPr/>
          <p:nvPr/>
        </p:nvGrpSpPr>
        <p:grpSpPr>
          <a:xfrm>
            <a:off x="4420080" y="5438160"/>
            <a:ext cx="1203480" cy="2454120"/>
            <a:chOff x="4420080" y="5438160"/>
            <a:chExt cx="1203480" cy="2454120"/>
          </a:xfrm>
        </p:grpSpPr>
        <p:grpSp>
          <p:nvGrpSpPr>
            <p:cNvPr id="222" name="组合 3246"/>
            <p:cNvGrpSpPr/>
            <p:nvPr/>
          </p:nvGrpSpPr>
          <p:grpSpPr>
            <a:xfrm>
              <a:off x="4812120" y="5438160"/>
              <a:ext cx="811440" cy="1228680"/>
              <a:chOff x="4812120" y="5438160"/>
              <a:chExt cx="811440" cy="1228680"/>
            </a:xfrm>
          </p:grpSpPr>
          <p:sp>
            <p:nvSpPr>
              <p:cNvPr id="223" name="任意多边形 3247"/>
              <p:cNvSpPr/>
              <p:nvPr/>
            </p:nvSpPr>
            <p:spPr>
              <a:xfrm>
                <a:off x="5038920" y="5794200"/>
                <a:ext cx="196200" cy="872640"/>
              </a:xfrm>
              <a:custGeom>
                <a:avLst/>
                <a:gdLst/>
                <a:ahLst/>
                <a:rect l="l" t="t" r="r" b="b"/>
                <a:pathLst>
                  <a:path w="204" h="907">
                    <a:moveTo>
                      <a:pt x="136" y="0"/>
                    </a:moveTo>
                    <a:cubicBezTo>
                      <a:pt x="170" y="242"/>
                      <a:pt x="204" y="484"/>
                      <a:pt x="181" y="635"/>
                    </a:cubicBezTo>
                    <a:cubicBezTo>
                      <a:pt x="158" y="786"/>
                      <a:pt x="79" y="846"/>
                      <a:pt x="0" y="907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组合 3248"/>
              <p:cNvGrpSpPr/>
              <p:nvPr/>
            </p:nvGrpSpPr>
            <p:grpSpPr>
              <a:xfrm>
                <a:off x="4857840" y="5438160"/>
                <a:ext cx="625680" cy="625680"/>
                <a:chOff x="4857840" y="5438160"/>
                <a:chExt cx="625680" cy="625680"/>
              </a:xfrm>
            </p:grpSpPr>
            <p:grpSp>
              <p:nvGrpSpPr>
                <p:cNvPr id="225" name="组合 3249"/>
                <p:cNvGrpSpPr/>
                <p:nvPr/>
              </p:nvGrpSpPr>
              <p:grpSpPr>
                <a:xfrm>
                  <a:off x="4857840" y="5438160"/>
                  <a:ext cx="625680" cy="625680"/>
                  <a:chOff x="4857840" y="5438160"/>
                  <a:chExt cx="625680" cy="625680"/>
                </a:xfrm>
              </p:grpSpPr>
              <p:sp>
                <p:nvSpPr>
                  <p:cNvPr id="226" name="椭圆 3250"/>
                  <p:cNvSpPr/>
                  <p:nvPr/>
                </p:nvSpPr>
                <p:spPr>
                  <a:xfrm rot="608400">
                    <a:off x="5104440" y="544464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椭圆 3251"/>
                  <p:cNvSpPr/>
                  <p:nvPr/>
                </p:nvSpPr>
                <p:spPr>
                  <a:xfrm rot="6008400">
                    <a:off x="5105160" y="544428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组合 3252"/>
                <p:cNvGrpSpPr/>
                <p:nvPr/>
              </p:nvGrpSpPr>
              <p:grpSpPr>
                <a:xfrm>
                  <a:off x="4881600" y="5461920"/>
                  <a:ext cx="577080" cy="577080"/>
                  <a:chOff x="4881600" y="5461920"/>
                  <a:chExt cx="577080" cy="577080"/>
                </a:xfrm>
              </p:grpSpPr>
              <p:sp>
                <p:nvSpPr>
                  <p:cNvPr id="229" name="椭圆 3253"/>
                  <p:cNvSpPr/>
                  <p:nvPr/>
                </p:nvSpPr>
                <p:spPr>
                  <a:xfrm rot="3308400">
                    <a:off x="5104440" y="544428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椭圆 3254"/>
                  <p:cNvSpPr/>
                  <p:nvPr/>
                </p:nvSpPr>
                <p:spPr>
                  <a:xfrm rot="8708400">
                    <a:off x="5105520" y="544428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1" name="椭圆 3255"/>
                <p:cNvSpPr/>
                <p:nvPr/>
              </p:nvSpPr>
              <p:spPr>
                <a:xfrm rot="608400">
                  <a:off x="5040000" y="5620320"/>
                  <a:ext cx="262080" cy="262080"/>
                </a:xfrm>
                <a:prstGeom prst="ellipse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任意多边形 3256"/>
              <p:cNvSpPr/>
              <p:nvPr/>
            </p:nvSpPr>
            <p:spPr>
              <a:xfrm rot="20208000">
                <a:off x="5169600" y="609948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 3257"/>
              <p:cNvSpPr/>
              <p:nvPr/>
            </p:nvSpPr>
            <p:spPr>
              <a:xfrm rot="13030800">
                <a:off x="4820400" y="622980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组合 3258"/>
            <p:cNvGrpSpPr/>
            <p:nvPr/>
          </p:nvGrpSpPr>
          <p:grpSpPr>
            <a:xfrm>
              <a:off x="4420080" y="6661440"/>
              <a:ext cx="814680" cy="1230840"/>
              <a:chOff x="4420080" y="6661440"/>
              <a:chExt cx="814680" cy="1230840"/>
            </a:xfrm>
          </p:grpSpPr>
          <p:sp>
            <p:nvSpPr>
              <p:cNvPr id="235" name="任意多边形 3259"/>
              <p:cNvSpPr/>
              <p:nvPr/>
            </p:nvSpPr>
            <p:spPr>
              <a:xfrm rot="11032800">
                <a:off x="4810680" y="6666840"/>
                <a:ext cx="196200" cy="872640"/>
              </a:xfrm>
              <a:custGeom>
                <a:avLst/>
                <a:gdLst/>
                <a:ahLst/>
                <a:rect l="l" t="t" r="r" b="b"/>
                <a:pathLst>
                  <a:path w="204" h="907">
                    <a:moveTo>
                      <a:pt x="136" y="0"/>
                    </a:moveTo>
                    <a:cubicBezTo>
                      <a:pt x="170" y="242"/>
                      <a:pt x="204" y="484"/>
                      <a:pt x="181" y="635"/>
                    </a:cubicBezTo>
                    <a:cubicBezTo>
                      <a:pt x="158" y="786"/>
                      <a:pt x="79" y="846"/>
                      <a:pt x="0" y="907"/>
                    </a:cubicBezTo>
                  </a:path>
                </a:pathLst>
              </a:custGeom>
              <a:noFill/>
              <a:ln w="38160">
                <a:solidFill>
                  <a:srgbClr val="0099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组合 3260"/>
              <p:cNvGrpSpPr/>
              <p:nvPr/>
            </p:nvGrpSpPr>
            <p:grpSpPr>
              <a:xfrm>
                <a:off x="4529880" y="7266600"/>
                <a:ext cx="625680" cy="625680"/>
                <a:chOff x="4529880" y="7266600"/>
                <a:chExt cx="625680" cy="625680"/>
              </a:xfrm>
            </p:grpSpPr>
            <p:grpSp>
              <p:nvGrpSpPr>
                <p:cNvPr id="237" name="组合 3261"/>
                <p:cNvGrpSpPr/>
                <p:nvPr/>
              </p:nvGrpSpPr>
              <p:grpSpPr>
                <a:xfrm>
                  <a:off x="4529880" y="7266600"/>
                  <a:ext cx="625680" cy="625680"/>
                  <a:chOff x="4529880" y="7266600"/>
                  <a:chExt cx="625680" cy="625680"/>
                </a:xfrm>
              </p:grpSpPr>
              <p:sp>
                <p:nvSpPr>
                  <p:cNvPr id="238" name="椭圆 3262"/>
                  <p:cNvSpPr/>
                  <p:nvPr/>
                </p:nvSpPr>
                <p:spPr>
                  <a:xfrm rot="11641200">
                    <a:off x="4777920" y="727344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椭圆 3263"/>
                  <p:cNvSpPr/>
                  <p:nvPr/>
                </p:nvSpPr>
                <p:spPr>
                  <a:xfrm rot="17041200">
                    <a:off x="4776840" y="727380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组合 3264"/>
                <p:cNvGrpSpPr/>
                <p:nvPr/>
              </p:nvGrpSpPr>
              <p:grpSpPr>
                <a:xfrm>
                  <a:off x="4547520" y="7283880"/>
                  <a:ext cx="591840" cy="591840"/>
                  <a:chOff x="4547520" y="7283880"/>
                  <a:chExt cx="591840" cy="591840"/>
                </a:xfrm>
              </p:grpSpPr>
              <p:sp>
                <p:nvSpPr>
                  <p:cNvPr id="241" name="椭圆 3265"/>
                  <p:cNvSpPr/>
                  <p:nvPr/>
                </p:nvSpPr>
                <p:spPr>
                  <a:xfrm rot="14341200">
                    <a:off x="4777920" y="727416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椭圆 3266"/>
                  <p:cNvSpPr/>
                  <p:nvPr/>
                </p:nvSpPr>
                <p:spPr>
                  <a:xfrm rot="19741200">
                    <a:off x="4776480" y="727380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3" name="椭圆 3267"/>
                <p:cNvSpPr/>
                <p:nvPr/>
              </p:nvSpPr>
              <p:spPr>
                <a:xfrm rot="11641200">
                  <a:off x="4711320" y="7447680"/>
                  <a:ext cx="262080" cy="262080"/>
                </a:xfrm>
                <a:prstGeom prst="ellipse">
                  <a:avLst/>
                </a:prstGeom>
                <a:noFill/>
                <a:ln w="9360">
                  <a:solidFill>
                    <a:srgbClr val="000000">
                      <a:alpha val="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任意多边形 3268"/>
              <p:cNvSpPr/>
              <p:nvPr/>
            </p:nvSpPr>
            <p:spPr>
              <a:xfrm rot="9640800">
                <a:off x="4436280" y="704196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solidFill>
                <a:srgbClr val="009900">
                  <a:alpha val="1000"/>
                </a:srgbClr>
              </a:solidFill>
              <a:ln w="9360">
                <a:solidFill>
                  <a:srgbClr val="0000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任意多边形 3269"/>
              <p:cNvSpPr/>
              <p:nvPr/>
            </p:nvSpPr>
            <p:spPr>
              <a:xfrm rot="2463600">
                <a:off x="4794120" y="693540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solidFill>
                <a:srgbClr val="009900">
                  <a:alpha val="1000"/>
                </a:srgbClr>
              </a:solidFill>
              <a:ln w="9360">
                <a:solidFill>
                  <a:srgbClr val="0000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文本框 327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3271"/>
          <p:cNvSpPr/>
          <p:nvPr/>
        </p:nvSpPr>
        <p:spPr>
          <a:xfrm>
            <a:off x="2298240" y="476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动态风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7.40741E-007 L -1.09497 0.02106 E">
                                      <p:cBhvr>
                                        <p:cTn id="12" dur="1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L -1.09497 0.02106 E">
                                      <p:cBhvr>
                                        <p:cTn id="14" dur="1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L -1.09497 0.02106 E">
                                      <p:cBhvr>
                                        <p:cTn id="16" dur="1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1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2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2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2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59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50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