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E6F-8A9E-4A41-A6E4-4D7D4709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464-BE19-4EEA-AC79-46ED721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D7C-B731-43BE-AB6C-2FE0A5B6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A18-550E-4F1B-9242-9806176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C00-AEEB-4401-BBE5-B65B6FB5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254-C296-4AEE-B745-9612D6DC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783-9AB4-4710-A883-638BF1D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398-0892-445C-8534-8391D48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2DD-83C4-47C9-B531-721C6D3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2C2-82EA-461D-A6C1-1D10F48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F42-9B15-415F-996A-944A7596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4B6-B5D3-4E4B-A2F6-EF1022EB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75F6-8DA1-4DEC-B458-CEE06DA49F8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A51D-A970-445C-8337-E6EACE71C2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101"/>
          <p:cNvSpPr/>
          <p:nvPr/>
        </p:nvSpPr>
        <p:spPr>
          <a:xfrm>
            <a:off x="2185560" y="3808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简洁美食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cretionary Calori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ras for luxury f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are discretionary calor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any discretionary calories children should eat every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licit class feedback for examples of ways to use discretionary cal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ysical Activity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rive for 60 minutes or more 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physical activ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moderate vs. vigorous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licit class feedback for examples of moderate and vigorous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3CF9-99A1-49E0-B681-3EDCBC3178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use the MyPyramid Worksheet, for a week, and to eat their favorite foods in each group to meet their daily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ownload the worksheet here: MyPyramid Work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their findings at the end of the we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w might each child eat more healthfull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1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point of this lesson, which is that the class will be learning about the relationship between good nutrition and heal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153"/>
          <p:cNvSpPr/>
          <p:nvPr/>
        </p:nvSpPr>
        <p:spPr>
          <a:xfrm>
            <a:off x="533520" y="26668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rai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ke half of your grains w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grain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gr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egetabl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ary your veg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vegetable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vege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ruit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ocus on fr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fruit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fru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220"/>
          <p:cNvSpPr/>
          <p:nvPr/>
        </p:nvSpPr>
        <p:spPr>
          <a:xfrm>
            <a:off x="1752480" y="41148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il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Know your f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oils and f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daily and what foods contain oils and f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associated with the different kinds of oils and f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lk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t your calcium rich f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milk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milk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at and Bea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o lean on 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st a few examples of meat and bean products that are plentiful in your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gether, research and discuss the health benefits of meat and be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09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79;#Template 12;#65;#Microsoft Office PowerPoint 2007;#64;#PowerPoint 2003;#184;#Office 2000;#182;#Office XP</vt:lpwstr>
  </property>
  <property fmtid="{D5CDD505-2E9C-101B-9397-08002B2CF9AE}" pid="7" name="AssetId">
    <vt:lpwstr>TS001018804</vt:lpwstr>
  </property>
  <property fmtid="{D5CDD505-2E9C-101B-9397-08002B2CF9AE}" pid="8" name="AssetType">
    <vt:lpwstr>TP</vt:lpwstr>
  </property>
  <property fmtid="{D5CDD505-2E9C-101B-9397-08002B2CF9AE}" pid="9" name="AuthoringAssetId">
    <vt:lpwstr>TP001018804</vt:lpwstr>
  </property>
  <property fmtid="{D5CDD505-2E9C-101B-9397-08002B2CF9AE}" pid="10" name="BugNumber">
    <vt:lpwstr>498502L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KSOProductBuildVer">
    <vt:lpwstr>2052-10.1.0.5346</vt:lpwstr>
  </property>
  <property fmtid="{D5CDD505-2E9C-101B-9397-08002B2CF9AE}" pid="16" name="Markets">
    <vt:lpwstr>en-us</vt:lpwstr>
  </property>
  <property fmtid="{D5CDD505-2E9C-101B-9397-08002B2CF9AE}" pid="17" name="Milestone">
    <vt:lpwstr>Continuous</vt:lpwstr>
  </property>
  <property fmtid="{D5CDD505-2E9C-101B-9397-08002B2CF9AE}" pid="18" name="NumericAssetId">
    <vt:lpwstr/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58962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Food pyramid presentation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Food pyramid presentation</vt:lpwstr>
  </property>
  <property fmtid="{D5CDD505-2E9C-101B-9397-08002B2CF9AE}" pid="33" name="TPInstallLocation">
    <vt:lpwstr>{My Templat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emplateStatus">
    <vt:lpwstr>Complete</vt:lpwstr>
  </property>
  <property fmtid="{D5CDD505-2E9C-101B-9397-08002B2CF9AE}" pid="38" name="TemplateType">
    <vt:lpwstr>Presentations</vt:lpwstr>
  </property>
  <property fmtid="{D5CDD505-2E9C-101B-9397-08002B2CF9AE}" pid="39" name="TrustLevel">
    <vt:lpwstr>Microsoft Managed Content</vt:lpwstr>
  </property>
  <property fmtid="{D5CDD505-2E9C-101B-9397-08002B2CF9AE}" pid="40" name="UACurrentWords">
    <vt:lpwstr>0</vt:lpwstr>
  </property>
  <property fmtid="{D5CDD505-2E9C-101B-9397-08002B2CF9AE}" pid="41" name="UALocRecommendation">
    <vt:lpwstr>Localize</vt:lpwstr>
  </property>
  <property fmtid="{D5CDD505-2E9C-101B-9397-08002B2CF9AE}" pid="42" name="UANotes">
    <vt:lpwstr>314KB file size. Assigned to Luann for retrofit pass</vt:lpwstr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