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33A-EB83-458E-AC21-6156FC07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D90-E4D4-472E-902D-D560275E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4C9-9306-4EC4-B0E5-0EB89405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6E5-B7AE-4541-95FA-26CDCD9D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1DBA-28B6-4E5F-AC9C-483D03AF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A3F8-0427-4CF1-843C-096CFBF4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0433-2C82-43CA-9822-CE99E5BD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4C76-7151-4307-9365-67A15E0E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D53F-BD68-40D2-9630-36F4C028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0EE7-A642-44DC-B8EB-74F79BA7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C13F-F111-4550-9FDA-8C4BEE82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9E2-B7DF-4B4F-B980-119F86B1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891A-197A-41DA-854D-5DD9B17B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3EE4-C714-4D56-8747-4B24B257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8272-C4C7-4313-AD48-AEEF4230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B91C-D195-4392-A64D-02EA7BB5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2F84-05EA-4D93-AA28-29126EDC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916-E204-4056-91AA-B6949930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995C-5041-4F51-9EF2-B01E2E5F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290-286D-43CD-899E-A962D89B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6B9-05D4-4AA5-8F56-C87C3904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CF1-FFC7-4435-A73F-F50355FD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5EB-E384-4ECD-8CC7-3FBA0A58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212-D13C-427E-A7A3-5083A8DE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ACBE-B868-4947-BE7D-2F7D51A9241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7D05-7ACA-415E-878C-309B10DF97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A3B4-D2A4-4DFC-959B-0096BAF3928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4984-0465-4545-B1A5-2B3EFDE503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1286280" y="1285920"/>
            <a:ext cx="1642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702440" y="437112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17512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2666160" y="549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人偶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E83F-93EC-4E66-A52A-AFF58562F2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9"/>
          <p:cNvSpPr/>
          <p:nvPr/>
        </p:nvSpPr>
        <p:spPr>
          <a:xfrm>
            <a:off x="49266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32119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1568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6569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34261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34261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3426120" y="3416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3426120" y="413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3854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49266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328356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2357280" y="4286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19260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51408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49978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135720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/>
          <p:cNvSpPr/>
          <p:nvPr/>
        </p:nvSpPr>
        <p:spPr>
          <a:xfrm>
            <a:off x="6426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3569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2640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5569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2997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7355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2783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9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997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4212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1854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0245"/>
          <p:cNvSpPr/>
          <p:nvPr/>
        </p:nvSpPr>
        <p:spPr>
          <a:xfrm>
            <a:off x="1619280" y="4653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5712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34261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22831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45691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45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