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61A-827C-42B1-82C6-21C20E5A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381-CFCF-4969-BB23-5AE165FB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420-32EB-4E85-BB9C-3CB06723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07D-590C-4F64-8898-6D110BB1F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1B23-A2C7-4D9D-91E5-71AB524A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D6FD-2258-4340-8A80-BFDE8B39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E7E-9654-4525-B723-E002E7C3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A27-51CE-49B2-874A-E77EEC7A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B3CE-23CD-431D-A07C-8000D510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88D0-E387-4A2F-8A76-7881B4C4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1A13-62F4-407C-9158-A621188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CA8-55FB-400F-A427-A24C3E32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2AE3-98F4-4E12-A512-F2161AF7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464-ED1F-41A0-AC50-55905E4F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72C1-72CD-4C60-A5D5-E1697F1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69F-7041-4B58-860F-4373E576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8697-B5C7-460B-B87C-A1FE665A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956-F5EF-489C-A956-4F1D179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BAC-E9B1-4C32-AD45-3FA2D39E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ABB-0164-435B-B28F-6586DEFF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C33-6BCC-4F92-B4A6-2C8F500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5A7-9F55-47F9-B858-A99055A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54C-B4A1-4F46-BB51-C20F70F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47B-DDE7-4BF2-844E-9CBF1F0F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DD62-9DC5-4062-8E0D-2217968935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02DA-4A6C-4FB5-8D3A-C4997558A5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A9D4-5897-468C-9E79-12E1D6D699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332-3425-4F7F-9E61-52BF4CBBEA1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图片7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图片7_副本.jpg"/>
          <p:cNvPicPr/>
          <p:nvPr/>
        </p:nvPicPr>
        <p:blipFill>
          <a:blip r:embed="rId2"/>
          <a:stretch/>
        </p:blipFill>
        <p:spPr>
          <a:xfrm>
            <a:off x="8072280" y="1571760"/>
            <a:ext cx="1071720" cy="42145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3075"/>
          <p:cNvSpPr/>
          <p:nvPr/>
        </p:nvSpPr>
        <p:spPr>
          <a:xfrm>
            <a:off x="828720" y="530208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2658600" y="2637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松鼠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F1C5-A593-4312-BF24-D1CF731C393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7" descr="截图08_副本.jpg"/>
          <p:cNvPicPr/>
          <p:nvPr/>
        </p:nvPicPr>
        <p:blipFill>
          <a:blip r:embed="rId1"/>
          <a:stretch/>
        </p:blipFill>
        <p:spPr>
          <a:xfrm>
            <a:off x="0" y="6124680"/>
            <a:ext cx="9144000" cy="733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09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20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