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382E-A5EF-4A3E-BF5F-AB53B7C1D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F535-0787-4BDB-A0C5-BF73FDD90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5E55-2EB7-426F-A9E4-FA6258DBE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BCE9-688E-4F38-9826-6A326E0DB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C676D-2978-4873-A106-72EED7AC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5473-C706-4DBC-ABD7-4798E45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C0749-5F56-4CA4-AC05-EA0B8A9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3BAB1-EAED-4BE8-A082-A564E087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24B5B-1A67-4922-AF55-86D6F39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9A5D-9CCF-4986-B734-5650B97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C5AA2-723B-4120-9770-FDADEB5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0D14-DE9B-4247-A3DC-3FCB0456B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6FD3-AB3C-4826-B4ED-75B96F5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09C5-BE0A-44F2-BEF7-AC96CDC0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32F06-DF64-4A9C-ABD0-FF98C978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E4AE0-A6F2-4AAA-99E1-D19EAE1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A0E58-ABFC-427E-9834-1C35B73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16AD2-89D3-4CB9-ADED-46D36E83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CFDF1-7FE4-45B7-AF76-92C8BAC9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3A10B-708B-4355-994B-413B6FA0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1E272-FA44-4FA2-9B91-936599E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7F47B-8DDF-4C46-AB51-E6E44BE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E1A7-0857-4F8C-83C3-D76F207EB0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54B93-3DC0-4DC4-9E25-4E99E075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49394-CF82-4084-991F-1128658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C9FDF-E623-4D0B-AF6C-43499E8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DF892-0387-4252-9172-AD526A6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7E612-732A-4A5B-9088-76C56F18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1BED0-8771-48D8-B680-70DDC8F2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400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9907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1896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400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7767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4C3D0-984F-4B2A-8D7C-1B937608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34A3-9A0C-4696-8F6F-931C58503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2EC8-FA5B-4DC2-AF62-4CE26EAC3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137A-DD5C-4411-89B7-3D8278026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3A9B-3E0C-4290-98CA-CE64CBD36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5400" y="377676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A25C-DD75-4822-9F1A-8444F2FFC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5400" y="990720"/>
            <a:ext cx="3643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76760"/>
            <a:ext cx="7467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A78E-FA60-461B-B83D-3A5913F8F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8686800" y="457200"/>
            <a:ext cx="457200" cy="3962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pic>
        <p:nvPicPr>
          <p:cNvPr id="1" name="对象 1026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943240" y="6444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05320" y="646380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197-FACA-499F-AA06-5DFDF0829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472080"/>
            <a:ext cx="8250120" cy="360"/>
            <a:chOff x="425520" y="6472080"/>
            <a:chExt cx="8250120" cy="360"/>
          </a:xfrm>
        </p:grpSpPr>
        <p:sp>
          <p:nvSpPr>
            <p:cNvPr id="7" name="直接连接符 1031"/>
            <p:cNvSpPr/>
            <p:nvPr/>
          </p:nvSpPr>
          <p:spPr>
            <a:xfrm>
              <a:off x="425520" y="6472080"/>
              <a:ext cx="8250120" cy="0"/>
            </a:xfrm>
            <a:prstGeom prst="line">
              <a:avLst/>
            </a:prstGeom>
            <a:ln w="9360">
              <a:solidFill>
                <a:srgbClr val="2e4f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472080"/>
              <a:ext cx="825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6B0-E0D1-423A-A052-C0E1863E8D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C57-91CF-436F-8B2B-CFACFF5CC7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2054"/>
          <p:cNvSpPr/>
          <p:nvPr/>
        </p:nvSpPr>
        <p:spPr>
          <a:xfrm>
            <a:off x="7534440" y="601992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3A4-16EA-4C72-9E9D-64266CB96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76360" y="2362320"/>
            <a:ext cx="5638680" cy="12952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7dd21"/>
                </a:solidFill>
                <a:uFillTx/>
                <a:latin typeface="Verdana"/>
                <a:ea typeface="굴림"/>
              </a:rPr>
              <a:t>PowerPoint Templa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720" y="40384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1" name="文本框 4100"/>
          <p:cNvSpPr/>
          <p:nvPr/>
        </p:nvSpPr>
        <p:spPr>
          <a:xfrm>
            <a:off x="2953440" y="4572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绿色灯光企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2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5121"/>
          <p:cNvSpPr/>
          <p:nvPr/>
        </p:nvSpPr>
        <p:spPr>
          <a:xfrm>
            <a:off x="2168640" y="460548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2e4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4" name="圆角矩形 5122"/>
          <p:cNvSpPr/>
          <p:nvPr/>
        </p:nvSpPr>
        <p:spPr>
          <a:xfrm>
            <a:off x="2168640" y="201924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5" name="圆角矩形 5123"/>
          <p:cNvSpPr/>
          <p:nvPr/>
        </p:nvSpPr>
        <p:spPr>
          <a:xfrm>
            <a:off x="2182680" y="2876400"/>
            <a:ext cx="5473800" cy="360360"/>
          </a:xfrm>
          <a:prstGeom prst="roundRect">
            <a:avLst>
              <a:gd name="adj" fmla="val 16667"/>
            </a:avLst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6" name="圆角矩形 5124"/>
          <p:cNvSpPr/>
          <p:nvPr/>
        </p:nvSpPr>
        <p:spPr>
          <a:xfrm>
            <a:off x="2168640" y="372744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487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7" name="椭圆 5125"/>
          <p:cNvSpPr/>
          <p:nvPr/>
        </p:nvSpPr>
        <p:spPr>
          <a:xfrm>
            <a:off x="1752480" y="1903320"/>
            <a:ext cx="648000" cy="64764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8" name="椭圆 5126"/>
          <p:cNvSpPr/>
          <p:nvPr/>
        </p:nvSpPr>
        <p:spPr>
          <a:xfrm>
            <a:off x="1752480" y="2695680"/>
            <a:ext cx="648000" cy="64764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39" name="椭圆 5127"/>
          <p:cNvSpPr/>
          <p:nvPr/>
        </p:nvSpPr>
        <p:spPr>
          <a:xfrm>
            <a:off x="1752480" y="3560760"/>
            <a:ext cx="648000" cy="64764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0" name="椭圆 5128"/>
          <p:cNvSpPr/>
          <p:nvPr/>
        </p:nvSpPr>
        <p:spPr>
          <a:xfrm>
            <a:off x="1752480" y="4495680"/>
            <a:ext cx="648000" cy="64800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圆角矩形 5130"/>
          <p:cNvSpPr/>
          <p:nvPr/>
        </p:nvSpPr>
        <p:spPr>
          <a:xfrm>
            <a:off x="2490840" y="1979640"/>
            <a:ext cx="49356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3" name="圆角矩形 5131"/>
          <p:cNvSpPr/>
          <p:nvPr/>
        </p:nvSpPr>
        <p:spPr>
          <a:xfrm>
            <a:off x="2490840" y="2817720"/>
            <a:ext cx="4949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4" name="圆角矩形 5132"/>
          <p:cNvSpPr/>
          <p:nvPr/>
        </p:nvSpPr>
        <p:spPr>
          <a:xfrm>
            <a:off x="2490840" y="3656160"/>
            <a:ext cx="49356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s Forward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5" name="圆角矩形 5133"/>
          <p:cNvSpPr/>
          <p:nvPr/>
        </p:nvSpPr>
        <p:spPr>
          <a:xfrm>
            <a:off x="2567160" y="4548240"/>
            <a:ext cx="494028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Competitors 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</a:rPr>
              <a:t>Strengths</a:t>
            </a: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Arial"/>
              </a:rPr>
              <a:t>Weaknesses</a:t>
            </a: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Arial"/>
            </a:endParaRPr>
          </a:p>
        </p:txBody>
      </p:sp>
      <p:sp>
        <p:nvSpPr>
          <p:cNvPr id="149" name="文本框 6147"/>
          <p:cNvSpPr/>
          <p:nvPr/>
        </p:nvSpPr>
        <p:spPr>
          <a:xfrm>
            <a:off x="1371600" y="23623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66d48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4f56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50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0948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内容占位符 7170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554360"/>
          </a:xfrm>
          <a:prstGeom prst="rect">
            <a:avLst/>
          </a:prstGeom>
          <a:ln w="0">
            <a:noFill/>
          </a:ln>
        </p:spPr>
      </p:pic>
      <p:sp>
        <p:nvSpPr>
          <p:cNvPr id="153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033-3644-40A0-A352-B5EBCA7AAD8C}" type="slidenum">
              <a:rPr b="0" lang="zh-CN" sz="1400" spc="-1" strike="noStrike">
                <a:solidFill>
                  <a:srgbClr val="2e4f5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内容占位符 8193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4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685800"/>
          </a:xfrm>
          <a:prstGeom prst="rect">
            <a:avLst/>
          </a:prstGeom>
          <a:solidFill>
            <a:srgbClr val="2e4f5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8195"/>
          <p:cNvSpPr txBox="1"/>
          <p:nvPr/>
        </p:nvSpPr>
        <p:spPr>
          <a:xfrm>
            <a:off x="1676520" y="1981080"/>
            <a:ext cx="583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2e4f56"/>
                    </a:gs>
                    <a:gs pos="100000">
                      <a:srgbClr val="b66d48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2e4f56"/>
                  </a:gs>
                  <a:gs pos="100000">
                    <a:srgbClr val="b66d48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页脚占位符 1"/>
          <p:cNvSpPr/>
          <p:nvPr/>
        </p:nvSpPr>
        <p:spPr>
          <a:xfrm>
            <a:off x="5943600" y="6445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f56"/>
                </a:solidFill>
                <a:latin typeface="Lucida Sans Unicode"/>
              </a:rPr>
              <a:t>Company Logo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9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