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A8596-5355-4C12-BC37-9D98CC92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53FFF-971D-45F6-89D8-E7E46146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2E6C4-C2BB-404F-BD26-D3B6F379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F5005-FFF6-4DBF-88EA-EC12560E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CF5A8-777E-47A0-A373-65E78618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3AE9C-468F-4F2A-A9D0-D9F51077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CD20E-9057-4AC1-A6A0-B30C5CB8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BF0B8-D094-4071-80EB-9A40B2B3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9E456-AA08-49A2-8BD5-60CCE7AE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C4E1E-797C-49B7-A384-00CB1A35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9ACE1-861D-4111-83E7-1FCD3680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9842A-C483-48FB-996F-332212CE8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21FAA22A-274D-49AB-88C8-B9A9352D49CE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C102-7B50-44D7-A6BE-DBC66E748F5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B79B-5CBD-4BAB-B33E-B7C801C2037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9600" y="3428640"/>
            <a:ext cx="70596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ffffff"/>
                </a:solidFill>
                <a:latin typeface="Arial"/>
              </a:rPr>
              <a:t>Insert the title of your </a:t>
            </a:r>
            <a:br>
              <a:rPr sz="3000"/>
            </a:br>
            <a:r>
              <a:rPr b="1" sz="3000" spc="-1" strike="noStrike">
                <a:solidFill>
                  <a:srgbClr val="ffffff"/>
                </a:solidFill>
                <a:latin typeface="Arial"/>
              </a:rPr>
              <a:t>presentation he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09600" y="4592520"/>
            <a:ext cx="708336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</a:rPr>
              <a:t>Enter your subtitle or main author‘s nam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3" descr="Logo_ptl_schwarz"/>
          <p:cNvPicPr/>
          <p:nvPr/>
        </p:nvPicPr>
        <p:blipFill>
          <a:blip r:embed="rId1"/>
          <a:stretch/>
        </p:blipFill>
        <p:spPr>
          <a:xfrm>
            <a:off x="6648480" y="6181560"/>
            <a:ext cx="2224080" cy="39240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4100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4101"/>
          <p:cNvSpPr/>
          <p:nvPr/>
        </p:nvSpPr>
        <p:spPr>
          <a:xfrm>
            <a:off x="1790280" y="66996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绿色格子工作计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Arial"/>
              </a:rPr>
              <a:t>Sample Slide </a:t>
            </a:r>
            <a:r>
              <a:rPr b="1" sz="2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sz="2600" spc="-1" strike="noStrike">
                <a:solidFill>
                  <a:srgbClr val="000000"/>
                </a:solidFill>
                <a:latin typeface="Arial"/>
              </a:rPr>
              <a:t> Bullet Poi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e text demonstrates how your own text will look when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 replace the placeholder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is is a placeholder text. This text can be replaced with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f you don’t want to use the style and size of the fonts as used in this placeholder it is possible to replace it by selecting different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or replacing the placeholder text you need to click on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placeholder text and insert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text that you insert will retain the same style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format as the placeholde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6647040" y="6181560"/>
            <a:ext cx="2225520" cy="392400"/>
            <a:chOff x="6647040" y="6181560"/>
            <a:chExt cx="2225520" cy="392400"/>
          </a:xfrm>
        </p:grpSpPr>
        <p:pic>
          <p:nvPicPr>
            <p:cNvPr id="128" name="Picture 12" descr="Logo_ptl_für schwarz"/>
            <p:cNvPicPr/>
            <p:nvPr/>
          </p:nvPicPr>
          <p:blipFill>
            <a:blip r:embed="rId1"/>
            <a:stretch/>
          </p:blipFill>
          <p:spPr>
            <a:xfrm>
              <a:off x="6647040" y="6181560"/>
              <a:ext cx="2225520" cy="3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12" descr="Logo_ptl_für schwarz"/>
            <p:cNvPicPr/>
            <p:nvPr/>
          </p:nvPicPr>
          <p:blipFill>
            <a:blip r:embed="rId2"/>
            <a:srcRect l="0" t="0" r="30532" b="0"/>
            <a:stretch/>
          </p:blipFill>
          <p:spPr>
            <a:xfrm>
              <a:off x="6647040" y="6181560"/>
              <a:ext cx="1546200" cy="3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文本框 5126"/>
          <p:cNvSpPr/>
          <p:nvPr/>
        </p:nvSpPr>
        <p:spPr>
          <a:xfrm>
            <a:off x="701640" y="11145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40505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c40505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DFFF-57DB-4D8B-A125-2F07B68C2D9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uppieren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6" name="Rectangle 2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"/>
            <p:cNvSpPr/>
            <p:nvPr/>
          </p:nvSpPr>
          <p:spPr>
            <a:xfrm>
              <a:off x="461880" y="726840"/>
              <a:ext cx="8539200" cy="50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Feel free to use this PowerPoint template and background for your personal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educational and business presentation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Make a </a:t>
              </a: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py for backups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 on your harddrive or local network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Use the free templates for your presentations and project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Print hand outs or other promotional item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Link back to our website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 if you like our free design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Display screenshots of our templates on your website or blog.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(should provide a link to our website – no dow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load purpos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Arial"/>
                </a:rPr>
                <a:t>Please feel free to contact us, if you do have any questions about usag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a50021"/>
                  </a:solidFill>
                  <a:latin typeface="Arial"/>
                </a:rPr>
                <a:t>Don‘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Resell or distribute the templates or background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Make it available on a</a:t>
              </a: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 website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, portal or social network website </a:t>
              </a: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for download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(Incl. groups, file sharing networks, Slideshare etc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Edit or modify the downloaded templates and claim / pass off as your own work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All copyright and intellectual property rights, without limitation, are retained b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PresentationLoad.com. By downloading and using this template, you agree to this statemen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4"/>
            <p:cNvSpPr/>
            <p:nvPr/>
          </p:nvSpPr>
          <p:spPr>
            <a:xfrm>
              <a:off x="459720" y="288720"/>
              <a:ext cx="220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Copyright not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6"/>
          <p:cNvGrpSpPr/>
          <p:nvPr/>
        </p:nvGrpSpPr>
        <p:grpSpPr>
          <a:xfrm>
            <a:off x="6647040" y="6181560"/>
            <a:ext cx="2225520" cy="392400"/>
            <a:chOff x="6647040" y="6181560"/>
            <a:chExt cx="2225520" cy="392400"/>
          </a:xfrm>
        </p:grpSpPr>
        <p:pic>
          <p:nvPicPr>
            <p:cNvPr id="140" name="Picture 12" descr="Logo_ptl_für schwarz"/>
            <p:cNvPicPr/>
            <p:nvPr/>
          </p:nvPicPr>
          <p:blipFill>
            <a:blip r:embed="rId1"/>
            <a:stretch/>
          </p:blipFill>
          <p:spPr>
            <a:xfrm>
              <a:off x="6647040" y="6181560"/>
              <a:ext cx="2225520" cy="3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2" descr="Logo_ptl_für schwarz"/>
            <p:cNvPicPr/>
            <p:nvPr/>
          </p:nvPicPr>
          <p:blipFill>
            <a:blip r:embed="rId2"/>
            <a:srcRect l="0" t="0" r="30532" b="0"/>
            <a:stretch/>
          </p:blipFill>
          <p:spPr>
            <a:xfrm>
              <a:off x="6647040" y="6181560"/>
              <a:ext cx="1546200" cy="39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7:56Z</dcterms:modified>
  <cp:revision>7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