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67194-44DC-448B-8DB5-BDEF045EE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523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B09F-A8A6-4609-91B1-5D271F3BD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14A6-3532-431D-A610-4DE67701D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523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523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523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94D75-4A17-4A84-ADF8-EDCD5DD68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975D1-AF31-4952-9FDB-D79BB91D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4538E-7913-4732-84EB-D56A9DE4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D3533-29F0-4BEB-A260-088A2526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FD65C-4DF8-42F5-936F-5BE2B96B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113DB-551C-4825-A117-2176F11F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720" y="228240"/>
            <a:ext cx="44956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02EFB-BB2B-41C8-BDA8-97E8D6A5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6C08C-B495-47FC-87FA-B2D496A8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E956F-2F5A-4D21-9C9B-668D66BB2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F225D-FBF8-4AD4-BA78-F239AA26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523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65506-F248-4858-8320-24DE04C8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523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A893E-07EC-465C-8DEC-14A1ED9E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01F2E-F521-4248-AA68-4FB62469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523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523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523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4943D-626C-41F7-B081-F73F6944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358D9-A75B-4DAC-AFAD-3140BCD4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353108-99A3-45AA-BF59-2C70F60A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3C81A-5492-4F51-9EF3-EA8B0DB2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28000-C4FB-4FC1-8B63-D40A2C97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2B96A4-43F7-4360-B75D-44B34BE6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6D514-9EC6-4B1E-94F1-9F997D3FB8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90720" y="228240"/>
            <a:ext cx="44956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652B0-995B-4C36-93EE-00DD61AA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68FAA-55FD-4735-8D42-47B5D59D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1C3DF-A92E-4D41-804E-51F64A30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523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CEE57-4AF5-463E-9CE2-FE8DFB69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523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5AE5B-6672-46E1-8E94-801492CB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D4CF0-1545-4457-8618-A02D2F23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523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523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523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8F632-31CA-4E90-BA92-2F8CA04C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257D4-E64D-495D-9998-8AD4E3EE4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7F509-952B-4BAE-B23C-DC428FA9C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228240"/>
            <a:ext cx="44956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F57AD-487E-4994-90AE-BA76AA1C9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7BF4C-C463-4BF7-BB9C-791AFC3F8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0B22-24D0-4334-91F0-72873BB8A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523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DC672-AB8A-4E2D-AA70-58EA609F3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10_back_b"/>
          <p:cNvPicPr/>
          <p:nvPr/>
        </p:nvPicPr>
        <p:blipFill>
          <a:blip r:embed="rId2"/>
          <a:stretch/>
        </p:blipFill>
        <p:spPr>
          <a:xfrm>
            <a:off x="228600" y="1295280"/>
            <a:ext cx="3324240" cy="5200920"/>
          </a:xfrm>
          <a:prstGeom prst="rect">
            <a:avLst/>
          </a:prstGeom>
          <a:ln w="0">
            <a:noFill/>
          </a:ln>
        </p:spPr>
      </p:pic>
      <p:sp>
        <p:nvSpPr>
          <p:cNvPr id="1" name="矩形 1026"/>
          <p:cNvSpPr/>
          <p:nvPr/>
        </p:nvSpPr>
        <p:spPr>
          <a:xfrm>
            <a:off x="228600" y="561960"/>
            <a:ext cx="8686800" cy="5915160"/>
          </a:xfrm>
          <a:prstGeom prst="rect">
            <a:avLst/>
          </a:prstGeom>
          <a:noFill/>
          <a:ln w="28440">
            <a:solidFill>
              <a:srgbClr val="2a4c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" name="矩形 1027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c4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cb65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a4c4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a4c4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6057720" y="64670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151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6D2E-07C5-44B3-8591-4FF26E54349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图片 1032" descr="09_icon"/>
          <p:cNvPicPr/>
          <p:nvPr/>
        </p:nvPicPr>
        <p:blipFill>
          <a:blip r:embed="rId3"/>
          <a:stretch/>
        </p:blipFill>
        <p:spPr>
          <a:xfrm>
            <a:off x="5477040" y="237960"/>
            <a:ext cx="622080" cy="76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D399-F80D-441A-B2A1-C8FC6F82540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669D-FF15-46F7-9C0C-02549F9FF5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2049"/>
          <p:cNvSpPr/>
          <p:nvPr/>
        </p:nvSpPr>
        <p:spPr>
          <a:xfrm>
            <a:off x="271440" y="276120"/>
            <a:ext cx="8621640" cy="6305760"/>
          </a:xfrm>
          <a:prstGeom prst="rect">
            <a:avLst/>
          </a:prstGeom>
          <a:noFill/>
          <a:ln w="38160">
            <a:solidFill>
              <a:srgbClr val="2a4c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pic>
        <p:nvPicPr>
          <p:cNvPr id="86" name="图片 2050" descr="10_back"/>
          <p:cNvPicPr/>
          <p:nvPr/>
        </p:nvPicPr>
        <p:blipFill>
          <a:blip r:embed="rId2"/>
          <a:stretch/>
        </p:blipFill>
        <p:spPr>
          <a:xfrm>
            <a:off x="4137120" y="304920"/>
            <a:ext cx="4734000" cy="624816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2054"/>
          <p:cNvSpPr/>
          <p:nvPr/>
        </p:nvSpPr>
        <p:spPr>
          <a:xfrm>
            <a:off x="457200" y="4572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LOGO</a:t>
            </a:r>
            <a:endParaRPr b="0" lang="en-US" sz="2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c4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cb65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a4c4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a4c4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6"/>
          </p:nvPr>
        </p:nvSpPr>
        <p:spPr>
          <a:xfrm>
            <a:off x="274320" y="6605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7"/>
          </p:nvPr>
        </p:nvSpPr>
        <p:spPr>
          <a:xfrm>
            <a:off x="5976720" y="6594120"/>
            <a:ext cx="289548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8"/>
          </p:nvPr>
        </p:nvSpPr>
        <p:spPr>
          <a:xfrm>
            <a:off x="346500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1CDA-A1E4-443F-8C51-AE698D60E2C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680" y="3161880"/>
            <a:ext cx="712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a4c41"/>
                </a:solidFill>
                <a:latin typeface="Verdana"/>
              </a:rPr>
              <a:t>PowerPoint Templ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4098" descr="09_icon"/>
          <p:cNvPicPr/>
          <p:nvPr/>
        </p:nvPicPr>
        <p:blipFill>
          <a:blip r:embed="rId1"/>
          <a:stretch/>
        </p:blipFill>
        <p:spPr>
          <a:xfrm>
            <a:off x="5181480" y="3657600"/>
            <a:ext cx="747720" cy="914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440" y="3901320"/>
            <a:ext cx="4343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文本框 4100"/>
          <p:cNvSpPr/>
          <p:nvPr/>
        </p:nvSpPr>
        <p:spPr>
          <a:xfrm>
            <a:off x="457200" y="60958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a4c41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a4c41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33" name="文本框 4101"/>
          <p:cNvSpPr/>
          <p:nvPr/>
        </p:nvSpPr>
        <p:spPr>
          <a:xfrm>
            <a:off x="1784160" y="106668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4c41"/>
                </a:solidFill>
                <a:latin typeface="Arial"/>
                <a:ea typeface="Arial"/>
              </a:rPr>
              <a:t>绿色清新企业</a:t>
            </a:r>
            <a:r>
              <a:rPr b="0" lang="zh-CN" sz="4000" spc="-1" strike="noStrike">
                <a:solidFill>
                  <a:srgbClr val="2a4c41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2a4c41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2a4c41"/>
                </a:solidFill>
                <a:latin typeface="Arial"/>
                <a:ea typeface="宋体"/>
              </a:rPr>
              <a:t>免费下载</a:t>
            </a:r>
            <a:endParaRPr b="0" lang="en-US" sz="40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34" name="页脚占位符 1"/>
          <p:cNvSpPr/>
          <p:nvPr/>
        </p:nvSpPr>
        <p:spPr>
          <a:xfrm>
            <a:off x="5977080" y="6594480"/>
            <a:ext cx="2895480" cy="16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组合 13314"/>
          <p:cNvGrpSpPr/>
          <p:nvPr/>
        </p:nvGrpSpPr>
        <p:grpSpPr>
          <a:xfrm>
            <a:off x="1219320" y="1447920"/>
            <a:ext cx="6781680" cy="4114800"/>
            <a:chOff x="1219320" y="1447920"/>
            <a:chExt cx="6781680" cy="4114800"/>
          </a:xfrm>
        </p:grpSpPr>
        <p:sp>
          <p:nvSpPr>
            <p:cNvPr id="325" name="圆角矩形 13315"/>
            <p:cNvSpPr/>
            <p:nvPr/>
          </p:nvSpPr>
          <p:spPr>
            <a:xfrm>
              <a:off x="3722760" y="327672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26" name="圆角矩形 13316"/>
            <p:cNvSpPr/>
            <p:nvPr/>
          </p:nvSpPr>
          <p:spPr>
            <a:xfrm>
              <a:off x="1219320" y="327672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27" name="圆角矩形 13317"/>
            <p:cNvSpPr/>
            <p:nvPr/>
          </p:nvSpPr>
          <p:spPr>
            <a:xfrm>
              <a:off x="6248520" y="327672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28" name="燕尾形 13318"/>
            <p:cNvSpPr/>
            <p:nvPr/>
          </p:nvSpPr>
          <p:spPr>
            <a:xfrm>
              <a:off x="3151440" y="207180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42a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29" name="燕尾形 13319"/>
            <p:cNvSpPr/>
            <p:nvPr/>
          </p:nvSpPr>
          <p:spPr>
            <a:xfrm>
              <a:off x="5613480" y="207180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91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0" name="椭圆 13320"/>
            <p:cNvSpPr/>
            <p:nvPr/>
          </p:nvSpPr>
          <p:spPr>
            <a:xfrm>
              <a:off x="6221520" y="14526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1cb6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1" name="椭圆 13321"/>
            <p:cNvSpPr/>
            <p:nvPr/>
          </p:nvSpPr>
          <p:spPr>
            <a:xfrm>
              <a:off x="6221520" y="14526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91cb6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2" name="椭圆 13322"/>
            <p:cNvSpPr/>
            <p:nvPr/>
          </p:nvSpPr>
          <p:spPr>
            <a:xfrm>
              <a:off x="6332760" y="15638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e6e37"/>
                </a:gs>
                <a:gs pos="50000">
                  <a:srgbClr val="91cb65"/>
                </a:gs>
                <a:gs pos="100000">
                  <a:srgbClr val="4e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3" name="椭圆 13323"/>
            <p:cNvSpPr/>
            <p:nvPr/>
          </p:nvSpPr>
          <p:spPr>
            <a:xfrm>
              <a:off x="6357960" y="15717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c8140"/>
                </a:gs>
                <a:gs pos="100000">
                  <a:srgbClr val="91cb6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4" name="椭圆 13324"/>
            <p:cNvSpPr/>
            <p:nvPr/>
          </p:nvSpPr>
          <p:spPr>
            <a:xfrm>
              <a:off x="6411960" y="163512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5" name="椭圆 13325"/>
            <p:cNvSpPr/>
            <p:nvPr/>
          </p:nvSpPr>
          <p:spPr>
            <a:xfrm>
              <a:off x="1295640" y="14479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9bd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6" name="椭圆 13326"/>
            <p:cNvSpPr/>
            <p:nvPr/>
          </p:nvSpPr>
          <p:spPr>
            <a:xfrm>
              <a:off x="1295640" y="14479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749bd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7" name="椭圆 13327"/>
            <p:cNvSpPr/>
            <p:nvPr/>
          </p:nvSpPr>
          <p:spPr>
            <a:xfrm>
              <a:off x="1406520" y="15573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f5473"/>
                </a:gs>
                <a:gs pos="50000">
                  <a:srgbClr val="749bd4"/>
                </a:gs>
                <a:gs pos="100000">
                  <a:srgbClr val="3f547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8" name="椭圆 13328"/>
            <p:cNvSpPr/>
            <p:nvPr/>
          </p:nvSpPr>
          <p:spPr>
            <a:xfrm>
              <a:off x="1408320" y="15606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a6287"/>
                </a:gs>
                <a:gs pos="100000">
                  <a:srgbClr val="749bd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9" name="椭圆 13329"/>
            <p:cNvSpPr/>
            <p:nvPr/>
          </p:nvSpPr>
          <p:spPr>
            <a:xfrm>
              <a:off x="1481400" y="163224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340" name="组合 13330"/>
            <p:cNvGrpSpPr/>
            <p:nvPr/>
          </p:nvGrpSpPr>
          <p:grpSpPr>
            <a:xfrm>
              <a:off x="1501920" y="1650960"/>
              <a:ext cx="1290600" cy="1278000"/>
              <a:chOff x="1501920" y="1650960"/>
              <a:chExt cx="1290600" cy="1278000"/>
            </a:xfrm>
          </p:grpSpPr>
          <p:sp>
            <p:nvSpPr>
              <p:cNvPr id="341" name="椭圆 13331"/>
              <p:cNvSpPr/>
              <p:nvPr/>
            </p:nvSpPr>
            <p:spPr>
              <a:xfrm>
                <a:off x="1501920" y="165096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42" name="椭圆 13332"/>
              <p:cNvSpPr/>
              <p:nvPr/>
            </p:nvSpPr>
            <p:spPr>
              <a:xfrm>
                <a:off x="1518480" y="165780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43" name="椭圆 13333"/>
              <p:cNvSpPr/>
              <p:nvPr/>
            </p:nvSpPr>
            <p:spPr>
              <a:xfrm>
                <a:off x="1531800" y="167040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44" name="椭圆 13334"/>
              <p:cNvSpPr/>
              <p:nvPr/>
            </p:nvSpPr>
            <p:spPr>
              <a:xfrm>
                <a:off x="1601640" y="170280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345" name="椭圆 13335"/>
            <p:cNvSpPr/>
            <p:nvPr/>
          </p:nvSpPr>
          <p:spPr>
            <a:xfrm>
              <a:off x="3759480" y="14526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2a6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46" name="椭圆 13336"/>
            <p:cNvSpPr/>
            <p:nvPr/>
          </p:nvSpPr>
          <p:spPr>
            <a:xfrm>
              <a:off x="3759480" y="14526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2a693">
                    <a:alpha val="32156"/>
                  </a:srgbClr>
                </a:gs>
                <a:gs pos="100000">
                  <a:srgbClr val="1f4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47" name="椭圆 13337"/>
            <p:cNvSpPr/>
            <p:nvPr/>
          </p:nvSpPr>
          <p:spPr>
            <a:xfrm>
              <a:off x="3870360" y="156384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245a50"/>
                </a:gs>
                <a:gs pos="50000">
                  <a:srgbClr val="42a693"/>
                </a:gs>
                <a:gs pos="100000">
                  <a:srgbClr val="245a5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48" name="椭圆 13338"/>
            <p:cNvSpPr/>
            <p:nvPr/>
          </p:nvSpPr>
          <p:spPr>
            <a:xfrm>
              <a:off x="3872160" y="15652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2a695d"/>
                </a:gs>
                <a:gs pos="100000">
                  <a:srgbClr val="42a69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49" name="椭圆 13339"/>
            <p:cNvSpPr/>
            <p:nvPr/>
          </p:nvSpPr>
          <p:spPr>
            <a:xfrm>
              <a:off x="3943440" y="163512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350" name="组合 13340"/>
            <p:cNvGrpSpPr/>
            <p:nvPr/>
          </p:nvGrpSpPr>
          <p:grpSpPr>
            <a:xfrm>
              <a:off x="3965760" y="1650960"/>
              <a:ext cx="1290600" cy="1278000"/>
              <a:chOff x="3965760" y="1650960"/>
              <a:chExt cx="1290600" cy="1278000"/>
            </a:xfrm>
          </p:grpSpPr>
          <p:sp>
            <p:nvSpPr>
              <p:cNvPr id="351" name="椭圆 13341"/>
              <p:cNvSpPr/>
              <p:nvPr/>
            </p:nvSpPr>
            <p:spPr>
              <a:xfrm>
                <a:off x="3965760" y="165096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52" name="椭圆 13342"/>
              <p:cNvSpPr/>
              <p:nvPr/>
            </p:nvSpPr>
            <p:spPr>
              <a:xfrm>
                <a:off x="3982320" y="165780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53" name="椭圆 13343"/>
              <p:cNvSpPr/>
              <p:nvPr/>
            </p:nvSpPr>
            <p:spPr>
              <a:xfrm>
                <a:off x="3995640" y="167040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54" name="椭圆 13344"/>
              <p:cNvSpPr/>
              <p:nvPr/>
            </p:nvSpPr>
            <p:spPr>
              <a:xfrm>
                <a:off x="4065480" y="170280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355" name="组合 13345"/>
            <p:cNvGrpSpPr/>
            <p:nvPr/>
          </p:nvGrpSpPr>
          <p:grpSpPr>
            <a:xfrm>
              <a:off x="6435720" y="1650960"/>
              <a:ext cx="1292400" cy="1278000"/>
              <a:chOff x="6435720" y="1650960"/>
              <a:chExt cx="1292400" cy="1278000"/>
            </a:xfrm>
          </p:grpSpPr>
          <p:sp>
            <p:nvSpPr>
              <p:cNvPr id="356" name="椭圆 13346"/>
              <p:cNvSpPr/>
              <p:nvPr/>
            </p:nvSpPr>
            <p:spPr>
              <a:xfrm>
                <a:off x="6435720" y="165096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57" name="椭圆 13347"/>
              <p:cNvSpPr/>
              <p:nvPr/>
            </p:nvSpPr>
            <p:spPr>
              <a:xfrm>
                <a:off x="6452280" y="165780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58" name="椭圆 13348"/>
              <p:cNvSpPr/>
              <p:nvPr/>
            </p:nvSpPr>
            <p:spPr>
              <a:xfrm>
                <a:off x="6465600" y="167040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59" name="椭圆 13349"/>
              <p:cNvSpPr/>
              <p:nvPr/>
            </p:nvSpPr>
            <p:spPr>
              <a:xfrm>
                <a:off x="6535800" y="170280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360" name="文本框 13350"/>
            <p:cNvSpPr/>
            <p:nvPr/>
          </p:nvSpPr>
          <p:spPr>
            <a:xfrm>
              <a:off x="1765080" y="212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1" name="文本框 13351"/>
            <p:cNvSpPr/>
            <p:nvPr/>
          </p:nvSpPr>
          <p:spPr>
            <a:xfrm>
              <a:off x="4233600" y="212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2" name="文本框 13352"/>
            <p:cNvSpPr/>
            <p:nvPr/>
          </p:nvSpPr>
          <p:spPr>
            <a:xfrm>
              <a:off x="6700680" y="212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363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组合 14338"/>
          <p:cNvGrpSpPr/>
          <p:nvPr/>
        </p:nvGrpSpPr>
        <p:grpSpPr>
          <a:xfrm>
            <a:off x="1949400" y="1349280"/>
            <a:ext cx="5365440" cy="4441680"/>
            <a:chOff x="1949400" y="1349280"/>
            <a:chExt cx="5365440" cy="4441680"/>
          </a:xfrm>
        </p:grpSpPr>
        <p:sp>
          <p:nvSpPr>
            <p:cNvPr id="366" name="矩形 14339"/>
            <p:cNvSpPr/>
            <p:nvPr/>
          </p:nvSpPr>
          <p:spPr>
            <a:xfrm rot="13770000">
              <a:off x="5091120" y="3720240"/>
              <a:ext cx="932040" cy="1839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7" name="矩形 14340"/>
            <p:cNvSpPr/>
            <p:nvPr/>
          </p:nvSpPr>
          <p:spPr>
            <a:xfrm rot="20856000">
              <a:off x="3177360" y="3280680"/>
              <a:ext cx="973080" cy="1674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8" name="矩形 14341"/>
            <p:cNvSpPr/>
            <p:nvPr/>
          </p:nvSpPr>
          <p:spPr>
            <a:xfrm rot="18394200">
              <a:off x="5211360" y="2215080"/>
              <a:ext cx="578160" cy="12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369" name="组合 14342"/>
            <p:cNvGrpSpPr/>
            <p:nvPr/>
          </p:nvGrpSpPr>
          <p:grpSpPr>
            <a:xfrm>
              <a:off x="4083120" y="2250360"/>
              <a:ext cx="1551960" cy="1545120"/>
              <a:chOff x="4083120" y="2250360"/>
              <a:chExt cx="1551960" cy="1545120"/>
            </a:xfrm>
          </p:grpSpPr>
          <p:grpSp>
            <p:nvGrpSpPr>
              <p:cNvPr id="370" name="组合 14343"/>
              <p:cNvGrpSpPr/>
              <p:nvPr/>
            </p:nvGrpSpPr>
            <p:grpSpPr>
              <a:xfrm>
                <a:off x="4083120" y="2250360"/>
                <a:ext cx="1551960" cy="1545120"/>
                <a:chOff x="4083120" y="2250360"/>
                <a:chExt cx="1551960" cy="1545120"/>
              </a:xfrm>
            </p:grpSpPr>
            <p:sp>
              <p:nvSpPr>
                <p:cNvPr id="371" name="椭圆 14344"/>
                <p:cNvSpPr/>
                <p:nvPr/>
              </p:nvSpPr>
              <p:spPr>
                <a:xfrm>
                  <a:off x="4083120" y="2250360"/>
                  <a:ext cx="1551960" cy="154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49bd4"/>
                    </a:gs>
                    <a:gs pos="100000">
                      <a:srgbClr val="1c26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372" name="任意多边形 14345"/>
                <p:cNvSpPr/>
                <p:nvPr/>
              </p:nvSpPr>
              <p:spPr>
                <a:xfrm>
                  <a:off x="4260240" y="2275920"/>
                  <a:ext cx="1197360" cy="583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49bd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3" name="文本框 14346"/>
              <p:cNvSpPr/>
              <p:nvPr/>
            </p:nvSpPr>
            <p:spPr>
              <a:xfrm>
                <a:off x="4142160" y="29221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374" name="组合 14347"/>
            <p:cNvGrpSpPr/>
            <p:nvPr/>
          </p:nvGrpSpPr>
          <p:grpSpPr>
            <a:xfrm>
              <a:off x="5429520" y="1349280"/>
              <a:ext cx="909360" cy="837360"/>
              <a:chOff x="5429520" y="1349280"/>
              <a:chExt cx="909360" cy="837360"/>
            </a:xfrm>
          </p:grpSpPr>
          <p:grpSp>
            <p:nvGrpSpPr>
              <p:cNvPr id="375" name="组合 14348"/>
              <p:cNvGrpSpPr/>
              <p:nvPr/>
            </p:nvGrpSpPr>
            <p:grpSpPr>
              <a:xfrm>
                <a:off x="5441400" y="1349280"/>
                <a:ext cx="838440" cy="837360"/>
                <a:chOff x="5441400" y="1349280"/>
                <a:chExt cx="838440" cy="837360"/>
              </a:xfrm>
            </p:grpSpPr>
            <p:sp>
              <p:nvSpPr>
                <p:cNvPr id="376" name="椭圆 14349"/>
                <p:cNvSpPr/>
                <p:nvPr/>
              </p:nvSpPr>
              <p:spPr>
                <a:xfrm>
                  <a:off x="5441400" y="1349280"/>
                  <a:ext cx="838440" cy="83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a693"/>
                    </a:gs>
                    <a:gs pos="100000">
                      <a:srgbClr val="1028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377" name="任意多边形 14350"/>
                <p:cNvSpPr/>
                <p:nvPr/>
              </p:nvSpPr>
              <p:spPr>
                <a:xfrm>
                  <a:off x="5537160" y="1362960"/>
                  <a:ext cx="646920" cy="316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2a69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8" name="文本框 14351"/>
              <p:cNvSpPr/>
              <p:nvPr/>
            </p:nvSpPr>
            <p:spPr>
              <a:xfrm>
                <a:off x="5429520" y="167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oncept</a:t>
                </a:r>
                <a:endParaRPr b="0" lang="en-US" sz="14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379" name="组合 14352"/>
            <p:cNvGrpSpPr/>
            <p:nvPr/>
          </p:nvGrpSpPr>
          <p:grpSpPr>
            <a:xfrm>
              <a:off x="1949400" y="2571480"/>
              <a:ext cx="1680120" cy="1738440"/>
              <a:chOff x="1949400" y="2571480"/>
              <a:chExt cx="1680120" cy="1738440"/>
            </a:xfrm>
          </p:grpSpPr>
          <p:grpSp>
            <p:nvGrpSpPr>
              <p:cNvPr id="380" name="组合 14353"/>
              <p:cNvGrpSpPr/>
              <p:nvPr/>
            </p:nvGrpSpPr>
            <p:grpSpPr>
              <a:xfrm>
                <a:off x="1949400" y="2571480"/>
                <a:ext cx="1680120" cy="1738440"/>
                <a:chOff x="1949400" y="2571480"/>
                <a:chExt cx="1680120" cy="1738440"/>
              </a:xfrm>
            </p:grpSpPr>
            <p:sp>
              <p:nvSpPr>
                <p:cNvPr id="381" name="椭圆 14354"/>
                <p:cNvSpPr/>
                <p:nvPr/>
              </p:nvSpPr>
              <p:spPr>
                <a:xfrm>
                  <a:off x="1949400" y="2571480"/>
                  <a:ext cx="1680120" cy="173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dc761"/>
                    </a:gs>
                    <a:gs pos="100000">
                      <a:srgbClr val="787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382" name="任意多边形 14355"/>
                <p:cNvSpPr/>
                <p:nvPr/>
              </p:nvSpPr>
              <p:spPr>
                <a:xfrm>
                  <a:off x="2141280" y="2600280"/>
                  <a:ext cx="1296000" cy="655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dc7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文本框 14356"/>
              <p:cNvSpPr/>
              <p:nvPr/>
            </p:nvSpPr>
            <p:spPr>
              <a:xfrm>
                <a:off x="2009880" y="33465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384" name="组合 14357"/>
            <p:cNvGrpSpPr/>
            <p:nvPr/>
          </p:nvGrpSpPr>
          <p:grpSpPr>
            <a:xfrm>
              <a:off x="5375160" y="3859560"/>
              <a:ext cx="1939680" cy="1931400"/>
              <a:chOff x="5375160" y="3859560"/>
              <a:chExt cx="1939680" cy="1931400"/>
            </a:xfrm>
          </p:grpSpPr>
          <p:grpSp>
            <p:nvGrpSpPr>
              <p:cNvPr id="385" name="组合 14358"/>
              <p:cNvGrpSpPr/>
              <p:nvPr/>
            </p:nvGrpSpPr>
            <p:grpSpPr>
              <a:xfrm>
                <a:off x="5375160" y="3859560"/>
                <a:ext cx="1939680" cy="1931400"/>
                <a:chOff x="5375160" y="3859560"/>
                <a:chExt cx="1939680" cy="1931400"/>
              </a:xfrm>
            </p:grpSpPr>
            <p:sp>
              <p:nvSpPr>
                <p:cNvPr id="386" name="椭圆 14359"/>
                <p:cNvSpPr/>
                <p:nvPr/>
              </p:nvSpPr>
              <p:spPr>
                <a:xfrm>
                  <a:off x="5375160" y="3859560"/>
                  <a:ext cx="1939680" cy="1931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cb65"/>
                    </a:gs>
                    <a:gs pos="100000">
                      <a:srgbClr val="4a68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387" name="任意多边形 14360"/>
                <p:cNvSpPr/>
                <p:nvPr/>
              </p:nvSpPr>
              <p:spPr>
                <a:xfrm>
                  <a:off x="5596920" y="3891600"/>
                  <a:ext cx="1496160" cy="729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1cb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文本框 14361"/>
              <p:cNvSpPr/>
              <p:nvPr/>
            </p:nvSpPr>
            <p:spPr>
              <a:xfrm>
                <a:off x="5625720" y="46965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</p:grpSp>
      <p:sp>
        <p:nvSpPr>
          <p:cNvPr id="389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组合 15362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92" name="右箭头 15363"/>
            <p:cNvSpPr/>
            <p:nvPr/>
          </p:nvSpPr>
          <p:spPr>
            <a:xfrm rot="17973000">
              <a:off x="4570920" y="2511720"/>
              <a:ext cx="792360" cy="289080"/>
            </a:xfrm>
            <a:prstGeom prst="rightArrow">
              <a:avLst>
                <a:gd name="adj1" fmla="val 35167"/>
                <a:gd name="adj2" fmla="val 110984"/>
              </a:avLst>
            </a:prstGeom>
            <a:solidFill>
              <a:srgbClr val="42a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93" name="右箭头 15364"/>
            <p:cNvSpPr/>
            <p:nvPr/>
          </p:nvSpPr>
          <p:spPr>
            <a:xfrm rot="3465600">
              <a:off x="4621320" y="462204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42a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94" name="右箭头 15365"/>
            <p:cNvSpPr/>
            <p:nvPr/>
          </p:nvSpPr>
          <p:spPr>
            <a:xfrm rot="14368800">
              <a:off x="3402360" y="253404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42a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95" name="右箭头 15366"/>
            <p:cNvSpPr/>
            <p:nvPr/>
          </p:nvSpPr>
          <p:spPr>
            <a:xfrm rot="7534800">
              <a:off x="3363840" y="4588200"/>
              <a:ext cx="792360" cy="289080"/>
            </a:xfrm>
            <a:prstGeom prst="rightArrow">
              <a:avLst>
                <a:gd name="adj1" fmla="val 35167"/>
                <a:gd name="adj2" fmla="val 110984"/>
              </a:avLst>
            </a:prstGeom>
            <a:solidFill>
              <a:srgbClr val="42a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96" name="右箭头 15367"/>
            <p:cNvSpPr/>
            <p:nvPr/>
          </p:nvSpPr>
          <p:spPr>
            <a:xfrm>
              <a:off x="5203800" y="358920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42a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97" name="右箭头 15368"/>
            <p:cNvSpPr/>
            <p:nvPr/>
          </p:nvSpPr>
          <p:spPr>
            <a:xfrm rot="10800000">
              <a:off x="2793600" y="3583080"/>
              <a:ext cx="863640" cy="288720"/>
            </a:xfrm>
            <a:prstGeom prst="rightArrow">
              <a:avLst>
                <a:gd name="adj1" fmla="val 35167"/>
                <a:gd name="adj2" fmla="val 121119"/>
              </a:avLst>
            </a:prstGeom>
            <a:solidFill>
              <a:srgbClr val="42a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98" name="椭圆 1536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99" name="文本框 1537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a4c41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00" name="文本框 1537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a4c41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01" name="文本框 1537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a4c41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02" name="文本框 1537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a4c41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03" name="文本框 1537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a4c41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04" name="文本框 1537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a4c41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05" name="椭圆 1537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fe4b2"/>
                </a:gs>
                <a:gs pos="100000">
                  <a:srgbClr val="bdc76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06" name="椭圆 1537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fe4b2"/>
                </a:gs>
                <a:gs pos="100000">
                  <a:srgbClr val="bdc76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07" name="椭圆 1537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fe4b2"/>
                </a:gs>
                <a:gs pos="100000">
                  <a:srgbClr val="bdc76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08" name="椭圆 1537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dfe4b2"/>
                </a:gs>
                <a:gs pos="100000">
                  <a:srgbClr val="bdc76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09" name="椭圆 1538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fe4b2"/>
                </a:gs>
                <a:gs pos="100000">
                  <a:srgbClr val="bdc76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10" name="椭圆 1538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fe4b2"/>
                </a:gs>
                <a:gs pos="100000">
                  <a:srgbClr val="bdc76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11" name="椭圆 1538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1cb6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12" name="椭圆 15383"/>
            <p:cNvSpPr/>
            <p:nvPr/>
          </p:nvSpPr>
          <p:spPr>
            <a:xfrm>
              <a:off x="354780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91cb6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13" name="椭圆 1538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e6e37"/>
                </a:gs>
                <a:gs pos="50000">
                  <a:srgbClr val="91cb65"/>
                </a:gs>
                <a:gs pos="100000">
                  <a:srgbClr val="4e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14" name="椭圆 15385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c8140"/>
                </a:gs>
                <a:gs pos="100000">
                  <a:srgbClr val="91cb6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15" name="椭圆 1538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416" name="组合 1538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17" name="椭圆 1538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18" name="椭圆 1538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19" name="椭圆 1539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20" name="椭圆 1539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421" name="文本框 1539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422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组合 16386"/>
          <p:cNvGrpSpPr/>
          <p:nvPr/>
        </p:nvGrpSpPr>
        <p:grpSpPr>
          <a:xfrm>
            <a:off x="1182600" y="2168640"/>
            <a:ext cx="2163600" cy="3165480"/>
            <a:chOff x="1182600" y="2168640"/>
            <a:chExt cx="2163600" cy="3165480"/>
          </a:xfrm>
        </p:grpSpPr>
        <p:sp>
          <p:nvSpPr>
            <p:cNvPr id="425" name="圆角矩形 16387"/>
            <p:cNvSpPr/>
            <p:nvPr/>
          </p:nvSpPr>
          <p:spPr>
            <a:xfrm>
              <a:off x="118260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26" name="圆角矩形 16388"/>
            <p:cNvSpPr/>
            <p:nvPr/>
          </p:nvSpPr>
          <p:spPr>
            <a:xfrm>
              <a:off x="121608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27" name="圆角矩形 16389"/>
            <p:cNvSpPr/>
            <p:nvPr/>
          </p:nvSpPr>
          <p:spPr>
            <a:xfrm>
              <a:off x="123336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28" name="圆角矩形 16390"/>
            <p:cNvSpPr/>
            <p:nvPr/>
          </p:nvSpPr>
          <p:spPr>
            <a:xfrm>
              <a:off x="123336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429" name="组合 16391"/>
            <p:cNvGrpSpPr/>
            <p:nvPr/>
          </p:nvGrpSpPr>
          <p:grpSpPr>
            <a:xfrm>
              <a:off x="1927080" y="2168640"/>
              <a:ext cx="642960" cy="642960"/>
              <a:chOff x="1927080" y="2168640"/>
              <a:chExt cx="642960" cy="642960"/>
            </a:xfrm>
          </p:grpSpPr>
          <p:sp>
            <p:nvSpPr>
              <p:cNvPr id="430" name="椭圆 16392"/>
              <p:cNvSpPr/>
              <p:nvPr/>
            </p:nvSpPr>
            <p:spPr>
              <a:xfrm>
                <a:off x="192708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31" name="椭圆 16393"/>
              <p:cNvSpPr/>
              <p:nvPr/>
            </p:nvSpPr>
            <p:spPr>
              <a:xfrm>
                <a:off x="193356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32" name="椭圆 16394"/>
              <p:cNvSpPr/>
              <p:nvPr/>
            </p:nvSpPr>
            <p:spPr>
              <a:xfrm>
                <a:off x="1941480" y="2177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33" name="椭圆 16395"/>
              <p:cNvSpPr/>
              <p:nvPr/>
            </p:nvSpPr>
            <p:spPr>
              <a:xfrm>
                <a:off x="194796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34" name="椭圆 16396"/>
              <p:cNvSpPr/>
              <p:nvPr/>
            </p:nvSpPr>
            <p:spPr>
              <a:xfrm>
                <a:off x="198180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435" name="文本框 16397"/>
            <p:cNvSpPr/>
            <p:nvPr/>
          </p:nvSpPr>
          <p:spPr>
            <a:xfrm>
              <a:off x="206712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36" name="文本框 16398"/>
            <p:cNvSpPr/>
            <p:nvPr/>
          </p:nvSpPr>
          <p:spPr>
            <a:xfrm>
              <a:off x="125892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437" name="组合 16399"/>
          <p:cNvGrpSpPr/>
          <p:nvPr/>
        </p:nvGrpSpPr>
        <p:grpSpPr>
          <a:xfrm>
            <a:off x="5913360" y="2165400"/>
            <a:ext cx="2163600" cy="3165480"/>
            <a:chOff x="5913360" y="2165400"/>
            <a:chExt cx="2163600" cy="3165480"/>
          </a:xfrm>
        </p:grpSpPr>
        <p:sp>
          <p:nvSpPr>
            <p:cNvPr id="438" name="圆角矩形 16400"/>
            <p:cNvSpPr/>
            <p:nvPr/>
          </p:nvSpPr>
          <p:spPr>
            <a:xfrm>
              <a:off x="5913360" y="2473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39" name="圆角矩形 16401"/>
            <p:cNvSpPr/>
            <p:nvPr/>
          </p:nvSpPr>
          <p:spPr>
            <a:xfrm>
              <a:off x="5946840" y="2481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40" name="圆角矩形 16402"/>
            <p:cNvSpPr/>
            <p:nvPr/>
          </p:nvSpPr>
          <p:spPr>
            <a:xfrm>
              <a:off x="5964120" y="4545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41" name="圆角矩形 16403"/>
            <p:cNvSpPr/>
            <p:nvPr/>
          </p:nvSpPr>
          <p:spPr>
            <a:xfrm>
              <a:off x="5964120" y="2503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442" name="组合 16404"/>
            <p:cNvGrpSpPr/>
            <p:nvPr/>
          </p:nvGrpSpPr>
          <p:grpSpPr>
            <a:xfrm>
              <a:off x="6657840" y="2165400"/>
              <a:ext cx="642960" cy="642960"/>
              <a:chOff x="6657840" y="2165400"/>
              <a:chExt cx="642960" cy="642960"/>
            </a:xfrm>
          </p:grpSpPr>
          <p:sp>
            <p:nvSpPr>
              <p:cNvPr id="443" name="椭圆 16405"/>
              <p:cNvSpPr/>
              <p:nvPr/>
            </p:nvSpPr>
            <p:spPr>
              <a:xfrm>
                <a:off x="6657840" y="2165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44" name="椭圆 16406"/>
              <p:cNvSpPr/>
              <p:nvPr/>
            </p:nvSpPr>
            <p:spPr>
              <a:xfrm>
                <a:off x="6664320" y="2170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45" name="椭圆 16407"/>
              <p:cNvSpPr/>
              <p:nvPr/>
            </p:nvSpPr>
            <p:spPr>
              <a:xfrm>
                <a:off x="6672240" y="2174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46" name="椭圆 16408"/>
              <p:cNvSpPr/>
              <p:nvPr/>
            </p:nvSpPr>
            <p:spPr>
              <a:xfrm>
                <a:off x="6678720" y="2179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47" name="椭圆 16409"/>
              <p:cNvSpPr/>
              <p:nvPr/>
            </p:nvSpPr>
            <p:spPr>
              <a:xfrm>
                <a:off x="6712560" y="2195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448" name="文本框 16410"/>
            <p:cNvSpPr/>
            <p:nvPr/>
          </p:nvSpPr>
          <p:spPr>
            <a:xfrm>
              <a:off x="6797880" y="2257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49" name="文本框 16411"/>
            <p:cNvSpPr/>
            <p:nvPr/>
          </p:nvSpPr>
          <p:spPr>
            <a:xfrm>
              <a:off x="5989680" y="2927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450" name="组合 16412"/>
          <p:cNvGrpSpPr/>
          <p:nvPr/>
        </p:nvGrpSpPr>
        <p:grpSpPr>
          <a:xfrm>
            <a:off x="3544920" y="2168640"/>
            <a:ext cx="2163600" cy="3165480"/>
            <a:chOff x="3544920" y="2168640"/>
            <a:chExt cx="2163600" cy="3165480"/>
          </a:xfrm>
        </p:grpSpPr>
        <p:sp>
          <p:nvSpPr>
            <p:cNvPr id="451" name="圆角矩形 16413"/>
            <p:cNvSpPr/>
            <p:nvPr/>
          </p:nvSpPr>
          <p:spPr>
            <a:xfrm>
              <a:off x="354492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52" name="圆角矩形 16414"/>
            <p:cNvSpPr/>
            <p:nvPr/>
          </p:nvSpPr>
          <p:spPr>
            <a:xfrm>
              <a:off x="357840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53" name="圆角矩形 16415"/>
            <p:cNvSpPr/>
            <p:nvPr/>
          </p:nvSpPr>
          <p:spPr>
            <a:xfrm>
              <a:off x="359568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54" name="圆角矩形 16416"/>
            <p:cNvSpPr/>
            <p:nvPr/>
          </p:nvSpPr>
          <p:spPr>
            <a:xfrm>
              <a:off x="359568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55" name="椭圆 16417"/>
            <p:cNvSpPr/>
            <p:nvPr/>
          </p:nvSpPr>
          <p:spPr>
            <a:xfrm>
              <a:off x="4289400" y="2168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56" name="椭圆 16418"/>
            <p:cNvSpPr/>
            <p:nvPr/>
          </p:nvSpPr>
          <p:spPr>
            <a:xfrm>
              <a:off x="4295880" y="2173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57" name="椭圆 16419"/>
            <p:cNvSpPr/>
            <p:nvPr/>
          </p:nvSpPr>
          <p:spPr>
            <a:xfrm>
              <a:off x="4303800" y="21765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58" name="椭圆 16420"/>
            <p:cNvSpPr/>
            <p:nvPr/>
          </p:nvSpPr>
          <p:spPr>
            <a:xfrm>
              <a:off x="4309920" y="21830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59" name="椭圆 16421"/>
            <p:cNvSpPr/>
            <p:nvPr/>
          </p:nvSpPr>
          <p:spPr>
            <a:xfrm>
              <a:off x="4345200" y="21988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60" name="文本框 16422"/>
            <p:cNvSpPr/>
            <p:nvPr/>
          </p:nvSpPr>
          <p:spPr>
            <a:xfrm>
              <a:off x="442944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61" name="文本框 16423"/>
            <p:cNvSpPr/>
            <p:nvPr/>
          </p:nvSpPr>
          <p:spPr>
            <a:xfrm>
              <a:off x="362124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462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组合 17410"/>
          <p:cNvGrpSpPr/>
          <p:nvPr/>
        </p:nvGrpSpPr>
        <p:grpSpPr>
          <a:xfrm>
            <a:off x="228600" y="1828800"/>
            <a:ext cx="8686800" cy="4188960"/>
            <a:chOff x="228600" y="1828800"/>
            <a:chExt cx="8686800" cy="4188960"/>
          </a:xfrm>
        </p:grpSpPr>
        <p:grpSp>
          <p:nvGrpSpPr>
            <p:cNvPr id="465" name="组合 17411"/>
            <p:cNvGrpSpPr/>
            <p:nvPr/>
          </p:nvGrpSpPr>
          <p:grpSpPr>
            <a:xfrm>
              <a:off x="228600" y="3238560"/>
              <a:ext cx="8686800" cy="113760"/>
              <a:chOff x="228600" y="3238560"/>
              <a:chExt cx="8686800" cy="113760"/>
            </a:xfrm>
          </p:grpSpPr>
          <p:sp>
            <p:nvSpPr>
              <p:cNvPr id="466" name="矩形 17412"/>
              <p:cNvSpPr/>
              <p:nvPr/>
            </p:nvSpPr>
            <p:spPr>
              <a:xfrm>
                <a:off x="228600" y="3238560"/>
                <a:ext cx="8686800" cy="44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67" name="矩形 17413"/>
              <p:cNvSpPr/>
              <p:nvPr/>
            </p:nvSpPr>
            <p:spPr>
              <a:xfrm>
                <a:off x="228600" y="3282120"/>
                <a:ext cx="8686800" cy="7020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468" name="组合 17414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69" name="组合 17415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70" name="组合 17416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71" name="任意多边形 17417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任意多边形 17418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组合 17419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74" name="任意多边形 17420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任意多边形 17421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6" name="组合 17422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77" name="椭圆 17423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478" name="椭圆 17424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479" name="椭圆 17425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480" name="椭圆 17426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481" name="椭圆 17427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grpSp>
              <p:nvGrpSpPr>
                <p:cNvPr id="482" name="组合 17428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83" name="椭圆 17429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椭圆 17430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椭圆 17431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椭圆 17432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7" name="文本框 17433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88" name="文本框 17434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a4c41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489" name="组合 17435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90" name="组合 17436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91" name="组合 17437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92" name="任意多边形 17438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任意多边形 17439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组合 17440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95" name="任意多边形 17441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任意多边形 17442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7" name="组合 17443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98" name="椭圆 17444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499" name="椭圆 17445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00" name="椭圆 17446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01" name="椭圆 17447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02" name="椭圆 17448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grpSp>
              <p:nvGrpSpPr>
                <p:cNvPr id="503" name="组合 17449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504" name="椭圆 17450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椭圆 17451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椭圆 17452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椭圆 17453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8" name="文本框 17454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09" name="文本框 17455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a4c41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510" name="组合 17456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511" name="组合 17457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512" name="组合 17458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513" name="任意多边形 17459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任意多边形 17460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组合 17461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516" name="任意多边形 17462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任意多边形 17463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组合 17464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19" name="椭圆 1746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20" name="椭圆 17466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21" name="椭圆 17467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22" name="椭圆 17468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23" name="椭圆 17469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grpSp>
              <p:nvGrpSpPr>
                <p:cNvPr id="524" name="组合 17470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525" name="椭圆 17471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椭圆 17472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椭圆 17473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椭圆 17474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9" name="文本框 17475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30" name="文本框 17476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a4c41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531" name="组合 17477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532" name="组合 17478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533" name="组合 17479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534" name="任意多边形 17480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任意多边形 17481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组合 17482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537" name="任意多边形 17483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任意多边形 17484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9" name="椭圆 17485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40" name="椭圆 17486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41" name="椭圆 17487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42" name="椭圆 17488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43" name="椭圆 17489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grpSp>
            <p:nvGrpSpPr>
              <p:cNvPr id="544" name="组合 17490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45" name="椭圆 17491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46" name="椭圆 17492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47" name="椭圆 17493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48" name="椭圆 17494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文本框 17495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50" name="文本框 17496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a4c41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551" name="组合 17497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52" name="文本框 17498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2001</a:t>
                </a: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53" name="文本框 17499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54" name="文本框 17500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2003</a:t>
                </a: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55" name="文本框 17501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2004</a:t>
                </a:r>
                <a:endParaRPr b="0" lang="en-US" sz="20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cxnSp>
            <p:nvCxnSpPr>
              <p:cNvPr id="556" name="直接箭头连接符 17502"/>
              <p:cNvCxnSpPr>
                <a:stCxn id="552" idx="3"/>
                <a:endCxn id="553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557" name="直接箭头连接符 17503"/>
              <p:cNvCxnSpPr>
                <a:stCxn id="553" idx="3"/>
                <a:endCxn id="554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558" name="直接箭头连接符 17504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559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18434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62" name="圆角矩形 18435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563" name="组合 18436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64" name="圆角矩形 18437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2a693"/>
                  </a:gs>
                  <a:gs pos="100000">
                    <a:srgbClr val="2e7467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65" name="任意多边形 18438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8cec4"/>
                  </a:gs>
                  <a:gs pos="50000">
                    <a:srgbClr val="42a693">
                      <a:alpha val="0"/>
                    </a:srgbClr>
                  </a:gs>
                  <a:gs pos="100000">
                    <a:srgbClr val="98cec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66" name="文本框 18439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567" name="文本框 18440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568" name="组合 18441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69" name="圆角矩形 18442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570" name="组合 18443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71" name="圆角矩形 18444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fd98f"/>
                  </a:gs>
                  <a:gs pos="100000">
                    <a:srgbClr val="91cb65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72" name="任意多边形 18445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e9be"/>
                  </a:gs>
                  <a:gs pos="100000">
                    <a:srgbClr val="91cb65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73" name="文本框 18446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574" name="文本框 18447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2a4c41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575" name="组合 18448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76" name="圆角矩形 18449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577" name="组合 18450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78" name="圆角矩形 18451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5db9b"/>
                  </a:gs>
                  <a:gs pos="100000">
                    <a:srgbClr val="bdc76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79" name="任意多边形 18452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e4b2"/>
                  </a:gs>
                  <a:gs pos="100000">
                    <a:srgbClr val="bdc76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80" name="文本框 18453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581" name="文本框 18454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582" name="文本框 18455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1cb65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1cb65"/>
                </a:solidFill>
                <a:uFillTx/>
                <a:latin typeface="Arial"/>
                <a:ea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a4c41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83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圆角矩形 19458"/>
          <p:cNvSpPr/>
          <p:nvPr/>
        </p:nvSpPr>
        <p:spPr>
          <a:xfrm>
            <a:off x="6151680" y="29764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86" name="圆角矩形 19459"/>
          <p:cNvSpPr/>
          <p:nvPr/>
        </p:nvSpPr>
        <p:spPr>
          <a:xfrm>
            <a:off x="4456080" y="29764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87" name="圆角矩形 19460"/>
          <p:cNvSpPr/>
          <p:nvPr/>
        </p:nvSpPr>
        <p:spPr>
          <a:xfrm>
            <a:off x="2773440" y="29764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88" name="圆角矩形 19461"/>
          <p:cNvSpPr/>
          <p:nvPr/>
        </p:nvSpPr>
        <p:spPr>
          <a:xfrm>
            <a:off x="1066680" y="29764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589" name="组合 19462"/>
          <p:cNvGrpSpPr/>
          <p:nvPr/>
        </p:nvGrpSpPr>
        <p:grpSpPr>
          <a:xfrm>
            <a:off x="1127520" y="1406160"/>
            <a:ext cx="6215400" cy="1324800"/>
            <a:chOff x="1127520" y="1406160"/>
            <a:chExt cx="6215400" cy="1324800"/>
          </a:xfrm>
        </p:grpSpPr>
        <p:sp>
          <p:nvSpPr>
            <p:cNvPr id="590" name="矩形 19463"/>
            <p:cNvSpPr/>
            <p:nvPr/>
          </p:nvSpPr>
          <p:spPr>
            <a:xfrm rot="3418800">
              <a:off x="1335240" y="16142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1cb65"/>
                </a:gs>
                <a:gs pos="100000">
                  <a:srgbClr val="435e2f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591" name="组合 19464"/>
            <p:cNvGrpSpPr/>
            <p:nvPr/>
          </p:nvGrpSpPr>
          <p:grpSpPr>
            <a:xfrm>
              <a:off x="2258280" y="1787400"/>
              <a:ext cx="901080" cy="124200"/>
              <a:chOff x="2258280" y="1787400"/>
              <a:chExt cx="901080" cy="124200"/>
            </a:xfrm>
          </p:grpSpPr>
          <p:sp>
            <p:nvSpPr>
              <p:cNvPr id="592" name="椭圆 19465"/>
              <p:cNvSpPr/>
              <p:nvPr/>
            </p:nvSpPr>
            <p:spPr>
              <a:xfrm>
                <a:off x="2258280" y="17874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93" name="矩形 19466"/>
              <p:cNvSpPr/>
              <p:nvPr/>
            </p:nvSpPr>
            <p:spPr>
              <a:xfrm>
                <a:off x="2344680" y="17881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94" name="椭圆 19467"/>
              <p:cNvSpPr/>
              <p:nvPr/>
            </p:nvSpPr>
            <p:spPr>
              <a:xfrm>
                <a:off x="3022920" y="17892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95" name="椭圆 19468"/>
              <p:cNvSpPr/>
              <p:nvPr/>
            </p:nvSpPr>
            <p:spPr>
              <a:xfrm>
                <a:off x="3096000" y="18280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596" name="矩形 19469"/>
            <p:cNvSpPr/>
            <p:nvPr/>
          </p:nvSpPr>
          <p:spPr>
            <a:xfrm rot="3418800">
              <a:off x="2999880" y="1551960"/>
              <a:ext cx="874080" cy="970920"/>
            </a:xfrm>
            <a:prstGeom prst="rect">
              <a:avLst/>
            </a:prstGeom>
            <a:solidFill>
              <a:srgbClr val="42a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597" name="组合 19470"/>
            <p:cNvGrpSpPr/>
            <p:nvPr/>
          </p:nvGrpSpPr>
          <p:grpSpPr>
            <a:xfrm>
              <a:off x="3922920" y="1787400"/>
              <a:ext cx="901080" cy="124200"/>
              <a:chOff x="3922920" y="1787400"/>
              <a:chExt cx="901080" cy="124200"/>
            </a:xfrm>
          </p:grpSpPr>
          <p:sp>
            <p:nvSpPr>
              <p:cNvPr id="598" name="椭圆 19471"/>
              <p:cNvSpPr/>
              <p:nvPr/>
            </p:nvSpPr>
            <p:spPr>
              <a:xfrm>
                <a:off x="3922920" y="17874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99" name="矩形 19472"/>
              <p:cNvSpPr/>
              <p:nvPr/>
            </p:nvSpPr>
            <p:spPr>
              <a:xfrm>
                <a:off x="4009320" y="17881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00" name="椭圆 19473"/>
              <p:cNvSpPr/>
              <p:nvPr/>
            </p:nvSpPr>
            <p:spPr>
              <a:xfrm>
                <a:off x="4687560" y="17892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01" name="椭圆 19474"/>
              <p:cNvSpPr/>
              <p:nvPr/>
            </p:nvSpPr>
            <p:spPr>
              <a:xfrm>
                <a:off x="4760640" y="18280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602" name="矩形 19475"/>
            <p:cNvSpPr/>
            <p:nvPr/>
          </p:nvSpPr>
          <p:spPr>
            <a:xfrm rot="3418800">
              <a:off x="4595760" y="15516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91cb65"/>
                </a:gs>
                <a:gs pos="100000">
                  <a:srgbClr val="435e2f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603" name="组合 19476"/>
            <p:cNvGrpSpPr/>
            <p:nvPr/>
          </p:nvGrpSpPr>
          <p:grpSpPr>
            <a:xfrm>
              <a:off x="5587560" y="1787400"/>
              <a:ext cx="1178640" cy="124200"/>
              <a:chOff x="5587560" y="1787400"/>
              <a:chExt cx="1178640" cy="124200"/>
            </a:xfrm>
          </p:grpSpPr>
          <p:sp>
            <p:nvSpPr>
              <p:cNvPr id="604" name="椭圆 19477"/>
              <p:cNvSpPr/>
              <p:nvPr/>
            </p:nvSpPr>
            <p:spPr>
              <a:xfrm>
                <a:off x="5587560" y="17874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05" name="矩形 19478"/>
              <p:cNvSpPr/>
              <p:nvPr/>
            </p:nvSpPr>
            <p:spPr>
              <a:xfrm>
                <a:off x="5700600" y="17881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06" name="椭圆 19479"/>
              <p:cNvSpPr/>
              <p:nvPr/>
            </p:nvSpPr>
            <p:spPr>
              <a:xfrm>
                <a:off x="6587640" y="17892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07" name="椭圆 19480"/>
              <p:cNvSpPr/>
              <p:nvPr/>
            </p:nvSpPr>
            <p:spPr>
              <a:xfrm>
                <a:off x="6683040" y="18280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608" name="矩形 19481"/>
            <p:cNvSpPr/>
            <p:nvPr/>
          </p:nvSpPr>
          <p:spPr>
            <a:xfrm rot="3418800">
              <a:off x="6260400" y="1551600"/>
              <a:ext cx="874080" cy="971280"/>
            </a:xfrm>
            <a:prstGeom prst="rect">
              <a:avLst/>
            </a:prstGeom>
            <a:solidFill>
              <a:srgbClr val="42a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609" name="矩形 19482"/>
          <p:cNvSpPr/>
          <p:nvPr/>
        </p:nvSpPr>
        <p:spPr>
          <a:xfrm>
            <a:off x="14425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0" name="矩形 19483"/>
          <p:cNvSpPr/>
          <p:nvPr/>
        </p:nvSpPr>
        <p:spPr>
          <a:xfrm>
            <a:off x="31381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1" name="矩形 19484"/>
          <p:cNvSpPr/>
          <p:nvPr/>
        </p:nvSpPr>
        <p:spPr>
          <a:xfrm>
            <a:off x="46843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2" name="矩形 19485"/>
          <p:cNvSpPr/>
          <p:nvPr/>
        </p:nvSpPr>
        <p:spPr>
          <a:xfrm>
            <a:off x="637956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3" name="矩形 19486"/>
          <p:cNvSpPr/>
          <p:nvPr/>
        </p:nvSpPr>
        <p:spPr>
          <a:xfrm>
            <a:off x="144900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c41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4" name="矩形 19487"/>
          <p:cNvSpPr/>
          <p:nvPr/>
        </p:nvSpPr>
        <p:spPr>
          <a:xfrm>
            <a:off x="314280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c41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5" name="矩形 19488"/>
          <p:cNvSpPr/>
          <p:nvPr/>
        </p:nvSpPr>
        <p:spPr>
          <a:xfrm>
            <a:off x="483804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c41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6" name="矩形 19489"/>
          <p:cNvSpPr/>
          <p:nvPr/>
        </p:nvSpPr>
        <p:spPr>
          <a:xfrm>
            <a:off x="653364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c41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7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838080" y="1981080"/>
          <a:ext cx="7467480" cy="322272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a69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a69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a69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a69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a693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0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组合 21506"/>
          <p:cNvGrpSpPr/>
          <p:nvPr/>
        </p:nvGrpSpPr>
        <p:grpSpPr>
          <a:xfrm>
            <a:off x="1128600" y="1280880"/>
            <a:ext cx="6575400" cy="4665960"/>
            <a:chOff x="1128600" y="1280880"/>
            <a:chExt cx="6575400" cy="4665960"/>
          </a:xfrm>
        </p:grpSpPr>
        <p:sp>
          <p:nvSpPr>
            <p:cNvPr id="623" name="椭圆 21507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24" name="椭圆 21508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25" name="椭圆 21509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26" name="任意多边形 21510"/>
            <p:cNvSpPr/>
            <p:nvPr/>
          </p:nvSpPr>
          <p:spPr>
            <a:xfrm rot="20601600">
              <a:off x="4128840" y="190512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91cb65"/>
                </a:gs>
                <a:gs pos="100000">
                  <a:srgbClr val="b6dc9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27" name="任意多边形 21511"/>
            <p:cNvSpPr/>
            <p:nvPr/>
          </p:nvSpPr>
          <p:spPr>
            <a:xfrm flipH="1" rot="20602200">
              <a:off x="171648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42a693"/>
                </a:gs>
                <a:gs pos="100000">
                  <a:srgbClr val="28655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28" name="任意多边形 21512"/>
            <p:cNvSpPr/>
            <p:nvPr/>
          </p:nvSpPr>
          <p:spPr>
            <a:xfrm rot="20601600">
              <a:off x="265392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089" y="972"/>
                    <a:pt x="6645" y="0"/>
                    <a:pt x="10427" y="0"/>
                  </a:cubicBezTo>
                  <a:cubicBezTo>
                    <a:pt x="15489" y="0"/>
                    <a:pt x="20144" y="1741"/>
                    <a:pt x="23826" y="4657"/>
                  </a:cubicBezTo>
                </a:path>
                <a:path stroke="0" w="23826" h="21600">
                  <a:moveTo>
                    <a:pt x="23825" y="4658"/>
                  </a:moveTo>
                  <a:cubicBezTo>
                    <a:pt x="18822" y="1233"/>
                    <a:pt x="15427" y="-5464"/>
                    <a:pt x="15427" y="-13163"/>
                  </a:cubicBezTo>
                  <a:cubicBezTo>
                    <a:pt x="15427" y="-24351"/>
                    <a:pt x="22596" y="-33421"/>
                    <a:pt x="31440" y="-33421"/>
                  </a:cubicBezTo>
                  <a:cubicBezTo>
                    <a:pt x="40284" y="-33421"/>
                    <a:pt x="47453" y="-24351"/>
                    <a:pt x="47453" y="-13163"/>
                  </a:cubicBezTo>
                  <a:cubicBezTo>
                    <a:pt x="47453" y="-9003"/>
                    <a:pt x="46462" y="-5136"/>
                    <a:pt x="44763" y="-1920"/>
                  </a:cubicBez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29" name="任意多边形 21513"/>
            <p:cNvSpPr/>
            <p:nvPr/>
          </p:nvSpPr>
          <p:spPr>
            <a:xfrm flipH="1" rot="20602200">
              <a:off x="137088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8" y="0"/>
                  </a:moveTo>
                  <a:cubicBezTo>
                    <a:pt x="15854" y="3113"/>
                    <a:pt x="21600" y="10967"/>
                    <a:pt x="21600" y="20162"/>
                  </a:cubicBezTo>
                  <a:cubicBezTo>
                    <a:pt x="21600" y="23984"/>
                    <a:pt x="20607" y="27575"/>
                    <a:pt x="18866" y="30688"/>
                  </a:cubicBezTo>
                </a:path>
                <a:path stroke="0" w="21600" h="30685">
                  <a:moveTo>
                    <a:pt x="18863" y="30685"/>
                  </a:moveTo>
                  <a:cubicBezTo>
                    <a:pt x="20130" y="25770"/>
                    <a:pt x="22110" y="22608"/>
                    <a:pt x="24334" y="22608"/>
                  </a:cubicBezTo>
                  <a:cubicBezTo>
                    <a:pt x="28159" y="22608"/>
                    <a:pt x="31260" y="31957"/>
                    <a:pt x="31260" y="43489"/>
                  </a:cubicBezTo>
                  <a:cubicBezTo>
                    <a:pt x="31260" y="44923"/>
                    <a:pt x="31212" y="46322"/>
                    <a:pt x="31121" y="47669"/>
                  </a:cubicBezTo>
                  <a:lnTo>
                    <a:pt x="7748" y="0"/>
                  </a:lnTo>
                  <a:close/>
                </a:path>
              </a:pathLst>
            </a:custGeom>
            <a:gradFill rotWithShape="0">
              <a:gsLst>
                <a:gs pos="0">
                  <a:srgbClr val="bdc761"/>
                </a:gs>
                <a:gs pos="100000">
                  <a:srgbClr val="676c35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30" name="椭圆 21514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31" name="文本框 21515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32" name="文本框 21516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33" name="文本框 21517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634" name="组合 21518"/>
            <p:cNvGrpSpPr/>
            <p:nvPr/>
          </p:nvGrpSpPr>
          <p:grpSpPr>
            <a:xfrm>
              <a:off x="4293720" y="2466720"/>
              <a:ext cx="3164400" cy="2769120"/>
              <a:chOff x="4293720" y="2466720"/>
              <a:chExt cx="3164400" cy="2769120"/>
            </a:xfrm>
          </p:grpSpPr>
          <p:sp>
            <p:nvSpPr>
              <p:cNvPr id="635" name="任意多边形 21519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75e81"/>
                  </a:gs>
                  <a:gs pos="100000">
                    <a:srgbClr val="749bd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36" name="任意多边形 21520"/>
              <p:cNvSpPr/>
              <p:nvPr/>
            </p:nvSpPr>
            <p:spPr>
              <a:xfrm rot="20539200">
                <a:off x="4511520" y="283716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98" y="16775"/>
                      <a:pt x="9667" y="20255"/>
                      <a:pt x="3705" y="21284"/>
                    </a:cubicBezTo>
                  </a:path>
                  <a:path stroke="0" w="18016" h="21282">
                    <a:moveTo>
                      <a:pt x="3694" y="21281"/>
                    </a:moveTo>
                    <a:cubicBezTo>
                      <a:pt x="3701" y="21445"/>
                      <a:pt x="3704" y="21612"/>
                      <a:pt x="3704" y="21781"/>
                    </a:cubicBezTo>
                    <a:cubicBezTo>
                      <a:pt x="3704" y="22331"/>
                      <a:pt x="3670" y="22860"/>
                      <a:pt x="3608" y="23352"/>
                    </a:cubicBez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9bd4"/>
                  </a:gs>
                  <a:gs pos="100000">
                    <a:srgbClr val="364862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37" name="任意多边形 21521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9bd4"/>
                  </a:gs>
                  <a:gs pos="100000">
                    <a:srgbClr val="36486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38" name="文本框 21522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Text4</a:t>
                </a: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639" name="文本框 21523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40" name="任意多边形 21524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2a4c4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41" name="椭圆 21525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642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22530"/>
          <p:cNvGrpSpPr/>
          <p:nvPr/>
        </p:nvGrpSpPr>
        <p:grpSpPr>
          <a:xfrm>
            <a:off x="914400" y="1523880"/>
            <a:ext cx="7391520" cy="4156200"/>
            <a:chOff x="914400" y="1523880"/>
            <a:chExt cx="7391520" cy="4156200"/>
          </a:xfrm>
        </p:grpSpPr>
        <p:sp>
          <p:nvSpPr>
            <p:cNvPr id="645" name="上箭头 22531"/>
            <p:cNvSpPr/>
            <p:nvPr/>
          </p:nvSpPr>
          <p:spPr>
            <a:xfrm>
              <a:off x="1905120" y="2286000"/>
              <a:ext cx="5530680" cy="2743200"/>
            </a:xfrm>
            <a:prstGeom prst="upArrow">
              <a:avLst>
                <a:gd name="adj1" fmla="val 57824"/>
                <a:gd name="adj2" fmla="val 54394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46" name="圆角矩形 22532"/>
            <p:cNvSpPr/>
            <p:nvPr/>
          </p:nvSpPr>
          <p:spPr>
            <a:xfrm>
              <a:off x="2438280" y="152388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2a693"/>
                </a:gs>
                <a:gs pos="50000">
                  <a:srgbClr val="85c6ba"/>
                </a:gs>
                <a:gs pos="100000">
                  <a:srgbClr val="42a693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47" name="文本框 22533"/>
            <p:cNvSpPr/>
            <p:nvPr/>
          </p:nvSpPr>
          <p:spPr>
            <a:xfrm>
              <a:off x="3656160" y="28954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648" name="组合 22534"/>
            <p:cNvGrpSpPr/>
            <p:nvPr/>
          </p:nvGrpSpPr>
          <p:grpSpPr>
            <a:xfrm>
              <a:off x="914400" y="4159080"/>
              <a:ext cx="1486080" cy="1514520"/>
              <a:chOff x="914400" y="4159080"/>
              <a:chExt cx="1486080" cy="1514520"/>
            </a:xfrm>
          </p:grpSpPr>
          <p:grpSp>
            <p:nvGrpSpPr>
              <p:cNvPr id="649" name="组合 22535"/>
              <p:cNvGrpSpPr/>
              <p:nvPr/>
            </p:nvGrpSpPr>
            <p:grpSpPr>
              <a:xfrm>
                <a:off x="914400" y="4159080"/>
                <a:ext cx="1486080" cy="1514520"/>
                <a:chOff x="914400" y="4159080"/>
                <a:chExt cx="1486080" cy="1514520"/>
              </a:xfrm>
            </p:grpSpPr>
            <p:sp>
              <p:nvSpPr>
                <p:cNvPr id="650" name="椭圆 22536"/>
                <p:cNvSpPr/>
                <p:nvPr/>
              </p:nvSpPr>
              <p:spPr>
                <a:xfrm>
                  <a:off x="914400" y="41590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dc761"/>
                    </a:gs>
                    <a:gs pos="100000">
                      <a:srgbClr val="787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651" name="任意多边形 22537"/>
                <p:cNvSpPr/>
                <p:nvPr/>
              </p:nvSpPr>
              <p:spPr>
                <a:xfrm>
                  <a:off x="1084320" y="41839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dc7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文本框 22538"/>
              <p:cNvSpPr/>
              <p:nvPr/>
            </p:nvSpPr>
            <p:spPr>
              <a:xfrm>
                <a:off x="1072440" y="49302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653" name="组合 22539"/>
            <p:cNvGrpSpPr/>
            <p:nvPr/>
          </p:nvGrpSpPr>
          <p:grpSpPr>
            <a:xfrm>
              <a:off x="6781680" y="4114800"/>
              <a:ext cx="1524240" cy="1531800"/>
              <a:chOff x="6781680" y="4114800"/>
              <a:chExt cx="1524240" cy="1531800"/>
            </a:xfrm>
          </p:grpSpPr>
          <p:grpSp>
            <p:nvGrpSpPr>
              <p:cNvPr id="654" name="组合 22540"/>
              <p:cNvGrpSpPr/>
              <p:nvPr/>
            </p:nvGrpSpPr>
            <p:grpSpPr>
              <a:xfrm>
                <a:off x="6781680" y="4114800"/>
                <a:ext cx="1524240" cy="1531800"/>
                <a:chOff x="6781680" y="4114800"/>
                <a:chExt cx="1524240" cy="1531800"/>
              </a:xfrm>
            </p:grpSpPr>
            <p:sp>
              <p:nvSpPr>
                <p:cNvPr id="655" name="椭圆 22541"/>
                <p:cNvSpPr/>
                <p:nvPr/>
              </p:nvSpPr>
              <p:spPr>
                <a:xfrm>
                  <a:off x="6781680" y="411480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49bd4"/>
                    </a:gs>
                    <a:gs pos="100000">
                      <a:srgbClr val="1c26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656" name="任意多边形 22542"/>
                <p:cNvSpPr/>
                <p:nvPr/>
              </p:nvSpPr>
              <p:spPr>
                <a:xfrm>
                  <a:off x="6955920" y="414000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49bd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文本框 22543"/>
              <p:cNvSpPr/>
              <p:nvPr/>
            </p:nvSpPr>
            <p:spPr>
              <a:xfrm>
                <a:off x="6924600" y="48286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658" name="组合 22544"/>
            <p:cNvGrpSpPr/>
            <p:nvPr/>
          </p:nvGrpSpPr>
          <p:grpSpPr>
            <a:xfrm>
              <a:off x="2819520" y="4159080"/>
              <a:ext cx="1523880" cy="1521000"/>
              <a:chOff x="2819520" y="4159080"/>
              <a:chExt cx="1523880" cy="1521000"/>
            </a:xfrm>
          </p:grpSpPr>
          <p:grpSp>
            <p:nvGrpSpPr>
              <p:cNvPr id="659" name="组合 22545"/>
              <p:cNvGrpSpPr/>
              <p:nvPr/>
            </p:nvGrpSpPr>
            <p:grpSpPr>
              <a:xfrm>
                <a:off x="2819520" y="4159080"/>
                <a:ext cx="1523880" cy="1521000"/>
                <a:chOff x="2819520" y="4159080"/>
                <a:chExt cx="1523880" cy="1521000"/>
              </a:xfrm>
            </p:grpSpPr>
            <p:sp>
              <p:nvSpPr>
                <p:cNvPr id="660" name="椭圆 22546"/>
                <p:cNvSpPr/>
                <p:nvPr/>
              </p:nvSpPr>
              <p:spPr>
                <a:xfrm>
                  <a:off x="2819520" y="415908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cb65"/>
                    </a:gs>
                    <a:gs pos="100000">
                      <a:srgbClr val="4a68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661" name="任意多边形 22547"/>
                <p:cNvSpPr/>
                <p:nvPr/>
              </p:nvSpPr>
              <p:spPr>
                <a:xfrm>
                  <a:off x="2993760" y="41842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1cb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2" name="文本框 22548"/>
              <p:cNvSpPr/>
              <p:nvPr/>
            </p:nvSpPr>
            <p:spPr>
              <a:xfrm>
                <a:off x="2895840" y="48891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663" name="组合 22549"/>
            <p:cNvGrpSpPr/>
            <p:nvPr/>
          </p:nvGrpSpPr>
          <p:grpSpPr>
            <a:xfrm>
              <a:off x="4876920" y="4114800"/>
              <a:ext cx="1523880" cy="1520640"/>
              <a:chOff x="4876920" y="4114800"/>
              <a:chExt cx="1523880" cy="1520640"/>
            </a:xfrm>
          </p:grpSpPr>
          <p:grpSp>
            <p:nvGrpSpPr>
              <p:cNvPr id="664" name="组合 22550"/>
              <p:cNvGrpSpPr/>
              <p:nvPr/>
            </p:nvGrpSpPr>
            <p:grpSpPr>
              <a:xfrm>
                <a:off x="4876920" y="4114800"/>
                <a:ext cx="1523880" cy="1520640"/>
                <a:chOff x="4876920" y="4114800"/>
                <a:chExt cx="1523880" cy="1520640"/>
              </a:xfrm>
            </p:grpSpPr>
            <p:sp>
              <p:nvSpPr>
                <p:cNvPr id="665" name="椭圆 22551"/>
                <p:cNvSpPr/>
                <p:nvPr/>
              </p:nvSpPr>
              <p:spPr>
                <a:xfrm>
                  <a:off x="4876920" y="411480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a693"/>
                    </a:gs>
                    <a:gs pos="100000">
                      <a:srgbClr val="2255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666" name="任意多边形 22552"/>
                <p:cNvSpPr/>
                <p:nvPr/>
              </p:nvSpPr>
              <p:spPr>
                <a:xfrm>
                  <a:off x="5051160" y="414000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2a69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文本框 22553"/>
              <p:cNvSpPr/>
              <p:nvPr/>
            </p:nvSpPr>
            <p:spPr>
              <a:xfrm>
                <a:off x="4953240" y="48445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</p:grpSp>
      <p:sp>
        <p:nvSpPr>
          <p:cNvPr id="668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0560" y="237960"/>
            <a:ext cx="4425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512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137" name="组合 512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38" name="圆角矩形 512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c761"/>
                </a:gs>
                <a:gs pos="50000">
                  <a:srgbClr val="f1f3de"/>
                </a:gs>
                <a:gs pos="100000">
                  <a:srgbClr val="bdc761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39" name="菱形 512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bdc76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40" name="文本框 512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41" name="文本框 5127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142" name="组合 512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43" name="圆角矩形 512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2a693"/>
                </a:gs>
                <a:gs pos="50000">
                  <a:srgbClr val="d7ece8"/>
                </a:gs>
                <a:gs pos="100000">
                  <a:srgbClr val="42a693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44" name="菱形 513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2a69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45" name="文本框 513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46" name="文本框 5132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147" name="组合 513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48" name="圆角矩形 513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1cb65"/>
                </a:gs>
                <a:gs pos="50000">
                  <a:srgbClr val="e8f4de"/>
                </a:gs>
                <a:gs pos="100000">
                  <a:srgbClr val="91cb65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49" name="菱形 513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91cb6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50" name="文本框 513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51" name="文本框 5137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152" name="组合 513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53" name="圆角矩形 513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9bd4"/>
                </a:gs>
                <a:gs pos="50000">
                  <a:srgbClr val="e2eaf6"/>
                </a:gs>
                <a:gs pos="100000">
                  <a:srgbClr val="749bd4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54" name="菱形 514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749bd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55" name="文本框 514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56" name="文本框 5142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157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a4c41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9B68-4651-4623-BAE3-338E7269E375}" type="slidenum">
              <a:rPr b="0" lang="zh-CN" sz="1400" spc="-1" strike="noStrike">
                <a:solidFill>
                  <a:srgbClr val="2a4c41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矩形 23553"/>
          <p:cNvSpPr txBox="1"/>
          <p:nvPr/>
        </p:nvSpPr>
        <p:spPr>
          <a:xfrm>
            <a:off x="1828800" y="297180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2a4c41"/>
                    </a:gs>
                    <a:gs pos="100000">
                      <a:srgbClr val="91cb65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2a4c41"/>
                  </a:gs>
                  <a:gs pos="100000">
                    <a:srgbClr val="91cb65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4" name="图片 23554" descr="09_icon"/>
          <p:cNvPicPr/>
          <p:nvPr/>
        </p:nvPicPr>
        <p:blipFill>
          <a:blip r:embed="rId1"/>
          <a:stretch/>
        </p:blipFill>
        <p:spPr>
          <a:xfrm>
            <a:off x="5257800" y="373392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685440" y="3901320"/>
            <a:ext cx="4343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页脚占位符 1"/>
          <p:cNvSpPr/>
          <p:nvPr/>
        </p:nvSpPr>
        <p:spPr>
          <a:xfrm>
            <a:off x="5977080" y="6594480"/>
            <a:ext cx="2895480" cy="16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8880" y="1309680"/>
            <a:ext cx="754704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a4c4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c41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2a4c4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c4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42a693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42a693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42a693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42a693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7170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63" name="圆角矩形 7171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2a4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64" name="文本框 7172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165" name="任意多边形 7173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c761"/>
              </a:gs>
              <a:gs pos="100000">
                <a:srgbClr val="d5db9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66" name="矩形 7174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167" name="组合 7175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68" name="组合 7176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69" name="组合 7177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70" name="椭圆 7178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cb65"/>
                    </a:gs>
                    <a:gs pos="100000">
                      <a:srgbClr val="47633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171" name="椭圆 7179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ee8bb"/>
                    </a:gs>
                    <a:gs pos="100000">
                      <a:srgbClr val="91cb65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椭圆 7180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1f4d44"/>
                  </a:gs>
                  <a:gs pos="100000">
                    <a:srgbClr val="42a69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73" name="椭圆 7181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42a693">
                      <a:alpha val="0"/>
                    </a:srgbClr>
                  </a:gs>
                  <a:gs pos="100000">
                    <a:srgbClr val="bde0d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74" name="椭圆 7182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348374"/>
                  </a:gs>
                  <a:gs pos="100000">
                    <a:srgbClr val="42a693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75" name="椭圆 7183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a693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176" name="文本框 7184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177" name="组合 7185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78" name="圆角矩形 7186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79" name="文本框 7187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180" name="任意多边形 7188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1cb65"/>
              </a:gs>
              <a:gs pos="100000">
                <a:srgbClr val="dcee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81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8194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84" name="任意多边形 8195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85" name="椭圆 8196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1cb65"/>
                </a:gs>
                <a:gs pos="100000">
                  <a:srgbClr val="3246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86" name="椭圆 8197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2a693"/>
                </a:gs>
                <a:gs pos="100000">
                  <a:srgbClr val="1534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87" name="椭圆 8198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dc761"/>
                </a:gs>
                <a:gs pos="100000">
                  <a:srgbClr val="4347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88" name="椭圆 8199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89" name="椭圆 8200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749bd4"/>
                </a:gs>
                <a:gs pos="100000">
                  <a:srgbClr val="2835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90" name="文本框 8201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91" name="文本框 8202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92" name="文本框 8203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93" name="文本框 8204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94" name="文本框 8205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95" name="文本框 8206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a4c41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197" name="直接连接符 8207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2a4c41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cxnSp>
          <p:nvCxnSpPr>
            <p:cNvPr id="199" name="直接箭头连接符 8208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2a4c41"/>
              </a:solidFill>
              <a:round/>
            </a:ln>
          </p:spPr>
        </p:cxnSp>
        <p:sp>
          <p:nvSpPr>
            <p:cNvPr id="200" name="文本框 8209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a4c41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201" name="文本框 8210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1cb65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1cb65"/>
                </a:solidFill>
                <a:uFillTx/>
                <a:latin typeface="Arial"/>
                <a:ea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a4c41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02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9218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05" name="圆柱形 9219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4862"/>
                </a:gs>
                <a:gs pos="50000">
                  <a:srgbClr val="749bd4"/>
                </a:gs>
                <a:gs pos="100000">
                  <a:srgbClr val="3648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06" name="圆柱形 9220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4862"/>
                </a:gs>
                <a:gs pos="50000">
                  <a:srgbClr val="749bd4"/>
                </a:gs>
                <a:gs pos="100000">
                  <a:srgbClr val="3648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07" name="圆柱形 9221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4862"/>
                </a:gs>
                <a:gs pos="50000">
                  <a:srgbClr val="749bd4"/>
                </a:gs>
                <a:gs pos="100000">
                  <a:srgbClr val="3648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08" name="文本框 9222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09" name="文本框 9223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10" name="文本框 9224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11" name="左箭头 9225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6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12" name="圆角矩形 9226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2a4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13" name="文本框 9227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14" name="圆角矩形 9228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15" name="文本框 9229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16" name="右箭头 9230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2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17" name="圆柱形 9231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f4d44"/>
                </a:gs>
                <a:gs pos="50000">
                  <a:srgbClr val="42a693"/>
                </a:gs>
                <a:gs pos="100000">
                  <a:srgbClr val="1f4d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18" name="上箭头 9232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2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19" name="文本框 9233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20" name="圆柱形 9234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35e2f"/>
                </a:gs>
                <a:gs pos="50000">
                  <a:srgbClr val="91cb65"/>
                </a:gs>
                <a:gs pos="100000">
                  <a:srgbClr val="435e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21" name="文本框 9235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22" name="下箭头 9236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46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223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10242"/>
          <p:cNvGrpSpPr/>
          <p:nvPr/>
        </p:nvGrpSpPr>
        <p:grpSpPr>
          <a:xfrm>
            <a:off x="1143000" y="1905120"/>
            <a:ext cx="6705720" cy="3352320"/>
            <a:chOff x="1143000" y="1905120"/>
            <a:chExt cx="6705720" cy="3352320"/>
          </a:xfrm>
        </p:grpSpPr>
        <p:grpSp>
          <p:nvGrpSpPr>
            <p:cNvPr id="226" name="组合 10243"/>
            <p:cNvGrpSpPr/>
            <p:nvPr/>
          </p:nvGrpSpPr>
          <p:grpSpPr>
            <a:xfrm>
              <a:off x="3009240" y="1905120"/>
              <a:ext cx="2900160" cy="2705400"/>
              <a:chOff x="3009240" y="1905120"/>
              <a:chExt cx="2900160" cy="2705400"/>
            </a:xfrm>
          </p:grpSpPr>
          <p:sp>
            <p:nvSpPr>
              <p:cNvPr id="227" name="上箭头 10244"/>
              <p:cNvSpPr/>
              <p:nvPr/>
            </p:nvSpPr>
            <p:spPr>
              <a:xfrm flipH="1" rot="16200000">
                <a:off x="2927880" y="295164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28" name="上箭头 10245"/>
              <p:cNvSpPr/>
              <p:nvPr/>
            </p:nvSpPr>
            <p:spPr>
              <a:xfrm flipH="1" rot="5400000">
                <a:off x="5531400" y="290088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29" name="上箭头 10246"/>
              <p:cNvSpPr/>
              <p:nvPr/>
            </p:nvSpPr>
            <p:spPr>
              <a:xfrm flipH="1" rot="10800000">
                <a:off x="4238640" y="4304880"/>
                <a:ext cx="44424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30" name="椭圆 10247"/>
              <p:cNvSpPr/>
              <p:nvPr/>
            </p:nvSpPr>
            <p:spPr>
              <a:xfrm>
                <a:off x="3305880" y="190512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31" name="椭圆 10248"/>
              <p:cNvSpPr/>
              <p:nvPr/>
            </p:nvSpPr>
            <p:spPr>
              <a:xfrm>
                <a:off x="3438720" y="204012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32" name="椭圆 10249"/>
              <p:cNvSpPr/>
              <p:nvPr/>
            </p:nvSpPr>
            <p:spPr>
              <a:xfrm>
                <a:off x="3560040" y="2166480"/>
                <a:ext cx="18190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91cb65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33" name="椭圆 10250"/>
              <p:cNvSpPr/>
              <p:nvPr/>
            </p:nvSpPr>
            <p:spPr>
              <a:xfrm>
                <a:off x="3560040" y="2166480"/>
                <a:ext cx="18190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34" name="椭圆 10251"/>
              <p:cNvSpPr/>
              <p:nvPr/>
            </p:nvSpPr>
            <p:spPr>
              <a:xfrm>
                <a:off x="3679560" y="2289960"/>
                <a:ext cx="1580040" cy="1631520"/>
              </a:xfrm>
              <a:prstGeom prst="ellipse">
                <a:avLst/>
              </a:prstGeom>
              <a:gradFill rotWithShape="0">
                <a:gsLst>
                  <a:gs pos="0">
                    <a:srgbClr val="4e6e37"/>
                  </a:gs>
                  <a:gs pos="50000">
                    <a:srgbClr val="91cb65"/>
                  </a:gs>
                  <a:gs pos="100000">
                    <a:srgbClr val="4e6e3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35" name="椭圆 10252"/>
              <p:cNvSpPr/>
              <p:nvPr/>
            </p:nvSpPr>
            <p:spPr>
              <a:xfrm>
                <a:off x="3679560" y="2289960"/>
                <a:ext cx="15800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236" name="圆柱形 10253"/>
            <p:cNvSpPr/>
            <p:nvPr/>
          </p:nvSpPr>
          <p:spPr>
            <a:xfrm>
              <a:off x="1143000" y="340308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5c2d"/>
                </a:gs>
                <a:gs pos="50000">
                  <a:srgbClr val="bdc761"/>
                </a:gs>
                <a:gs pos="100000">
                  <a:srgbClr val="575c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37" name="圆柱形 10254"/>
            <p:cNvSpPr/>
            <p:nvPr/>
          </p:nvSpPr>
          <p:spPr>
            <a:xfrm>
              <a:off x="1143000" y="29034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5c2d"/>
                </a:gs>
                <a:gs pos="50000">
                  <a:srgbClr val="bdc761"/>
                </a:gs>
                <a:gs pos="100000">
                  <a:srgbClr val="575c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38" name="圆柱形 10255"/>
            <p:cNvSpPr/>
            <p:nvPr/>
          </p:nvSpPr>
          <p:spPr>
            <a:xfrm>
              <a:off x="1143000" y="240444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5c2d"/>
                </a:gs>
                <a:gs pos="50000">
                  <a:srgbClr val="bdc761"/>
                </a:gs>
                <a:gs pos="100000">
                  <a:srgbClr val="575c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39" name="圆柱形 10256"/>
            <p:cNvSpPr/>
            <p:nvPr/>
          </p:nvSpPr>
          <p:spPr>
            <a:xfrm>
              <a:off x="6120360" y="340308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d44"/>
                </a:gs>
                <a:gs pos="50000">
                  <a:srgbClr val="42a693"/>
                </a:gs>
                <a:gs pos="100000">
                  <a:srgbClr val="1f4d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0" name="圆柱形 10257"/>
            <p:cNvSpPr/>
            <p:nvPr/>
          </p:nvSpPr>
          <p:spPr>
            <a:xfrm>
              <a:off x="6120360" y="29034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d44"/>
                </a:gs>
                <a:gs pos="50000">
                  <a:srgbClr val="42a693"/>
                </a:gs>
                <a:gs pos="100000">
                  <a:srgbClr val="1f4d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1" name="圆柱形 10258"/>
            <p:cNvSpPr/>
            <p:nvPr/>
          </p:nvSpPr>
          <p:spPr>
            <a:xfrm>
              <a:off x="6120360" y="240444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d44"/>
                </a:gs>
                <a:gs pos="50000">
                  <a:srgbClr val="42a693"/>
                </a:gs>
                <a:gs pos="100000">
                  <a:srgbClr val="1f4d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2" name="文本框 10259"/>
            <p:cNvSpPr/>
            <p:nvPr/>
          </p:nvSpPr>
          <p:spPr>
            <a:xfrm>
              <a:off x="377532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3" name="圆角矩形 10260"/>
            <p:cNvSpPr/>
            <p:nvPr/>
          </p:nvSpPr>
          <p:spPr>
            <a:xfrm>
              <a:off x="2702520" y="475848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a4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4c41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4" name="文本框 10261"/>
            <p:cNvSpPr/>
            <p:nvPr/>
          </p:nvSpPr>
          <p:spPr>
            <a:xfrm>
              <a:off x="1588320" y="2551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5" name="文本框 10262"/>
            <p:cNvSpPr/>
            <p:nvPr/>
          </p:nvSpPr>
          <p:spPr>
            <a:xfrm>
              <a:off x="1588320" y="3050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6" name="文本框 10263"/>
            <p:cNvSpPr/>
            <p:nvPr/>
          </p:nvSpPr>
          <p:spPr>
            <a:xfrm>
              <a:off x="1588320" y="3550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7" name="文本框 10264"/>
            <p:cNvSpPr/>
            <p:nvPr/>
          </p:nvSpPr>
          <p:spPr>
            <a:xfrm>
              <a:off x="6685200" y="2551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8" name="文本框 10265"/>
            <p:cNvSpPr/>
            <p:nvPr/>
          </p:nvSpPr>
          <p:spPr>
            <a:xfrm>
              <a:off x="6685200" y="3050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9" name="文本框 10266"/>
            <p:cNvSpPr/>
            <p:nvPr/>
          </p:nvSpPr>
          <p:spPr>
            <a:xfrm>
              <a:off x="6685200" y="3550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250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11266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grpSp>
          <p:nvGrpSpPr>
            <p:cNvPr id="253" name=""/>
            <p:cNvGrpSpPr/>
            <p:nvPr/>
          </p:nvGrpSpPr>
          <p:grpSpPr>
            <a:xfrm>
              <a:off x="873000" y="5621400"/>
              <a:ext cx="1657440" cy="1800"/>
              <a:chOff x="873000" y="5621400"/>
              <a:chExt cx="1657440" cy="1800"/>
            </a:xfrm>
          </p:grpSpPr>
          <p:sp>
            <p:nvSpPr>
              <p:cNvPr id="254" name="直接连接符 11267"/>
              <p:cNvSpPr/>
              <p:nvPr/>
            </p:nvSpPr>
            <p:spPr>
              <a:xfrm flipH="1">
                <a:off x="873000" y="5621400"/>
                <a:ext cx="1657440" cy="1800"/>
              </a:xfrm>
              <a:prstGeom prst="line">
                <a:avLst/>
              </a:prstGeom>
              <a:ln w="9360">
                <a:solidFill>
                  <a:srgbClr val="2a4c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 txBox="1"/>
              <p:nvPr/>
            </p:nvSpPr>
            <p:spPr>
              <a:xfrm>
                <a:off x="873000" y="5621400"/>
                <a:ext cx="1657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872640" y="4783320"/>
              <a:ext cx="2438640" cy="360"/>
              <a:chOff x="872640" y="4783320"/>
              <a:chExt cx="2438640" cy="360"/>
            </a:xfrm>
          </p:grpSpPr>
          <p:sp>
            <p:nvSpPr>
              <p:cNvPr id="257" name="直接连接符 11268"/>
              <p:cNvSpPr/>
              <p:nvPr/>
            </p:nvSpPr>
            <p:spPr>
              <a:xfrm flipH="1">
                <a:off x="872640" y="4783320"/>
                <a:ext cx="2438280" cy="0"/>
              </a:xfrm>
              <a:prstGeom prst="line">
                <a:avLst/>
              </a:prstGeom>
              <a:ln w="9360">
                <a:solidFill>
                  <a:srgbClr val="2a4c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873000" y="478332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872640" y="3953160"/>
              <a:ext cx="3353040" cy="360"/>
              <a:chOff x="872640" y="3953160"/>
              <a:chExt cx="3353040" cy="360"/>
            </a:xfrm>
          </p:grpSpPr>
          <p:sp>
            <p:nvSpPr>
              <p:cNvPr id="260" name="直接连接符 11269"/>
              <p:cNvSpPr/>
              <p:nvPr/>
            </p:nvSpPr>
            <p:spPr>
              <a:xfrm flipH="1">
                <a:off x="872640" y="3953160"/>
                <a:ext cx="3352680" cy="0"/>
              </a:xfrm>
              <a:prstGeom prst="line">
                <a:avLst/>
              </a:prstGeom>
              <a:ln w="9360">
                <a:solidFill>
                  <a:srgbClr val="2a4c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873000" y="3953160"/>
                <a:ext cx="3352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872640" y="3124440"/>
              <a:ext cx="4165920" cy="360"/>
              <a:chOff x="872640" y="3124440"/>
              <a:chExt cx="4165920" cy="360"/>
            </a:xfrm>
          </p:grpSpPr>
          <p:sp>
            <p:nvSpPr>
              <p:cNvPr id="263" name="直接连接符 11270"/>
              <p:cNvSpPr/>
              <p:nvPr/>
            </p:nvSpPr>
            <p:spPr>
              <a:xfrm flipH="1">
                <a:off x="872640" y="3124440"/>
                <a:ext cx="4165560" cy="0"/>
              </a:xfrm>
              <a:prstGeom prst="line">
                <a:avLst/>
              </a:prstGeom>
              <a:ln w="9360">
                <a:solidFill>
                  <a:srgbClr val="2a4c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873000" y="312444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872640" y="2282760"/>
              <a:ext cx="5033880" cy="360"/>
              <a:chOff x="872640" y="2282760"/>
              <a:chExt cx="5033880" cy="360"/>
            </a:xfrm>
          </p:grpSpPr>
          <p:sp>
            <p:nvSpPr>
              <p:cNvPr id="266" name="直接连接符 11271"/>
              <p:cNvSpPr/>
              <p:nvPr/>
            </p:nvSpPr>
            <p:spPr>
              <a:xfrm flipH="1">
                <a:off x="872640" y="2283120"/>
                <a:ext cx="5033880" cy="0"/>
              </a:xfrm>
              <a:prstGeom prst="line">
                <a:avLst/>
              </a:prstGeom>
              <a:ln w="9360">
                <a:solidFill>
                  <a:srgbClr val="2a4c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 rot="10800000">
                <a:off x="872640" y="2282400"/>
                <a:ext cx="5033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025280" y="2276640"/>
              <a:ext cx="360" cy="871560"/>
              <a:chOff x="1025280" y="2276640"/>
              <a:chExt cx="360" cy="871560"/>
            </a:xfrm>
          </p:grpSpPr>
          <p:sp>
            <p:nvSpPr>
              <p:cNvPr id="269" name="直接连接符 11272"/>
              <p:cNvSpPr/>
              <p:nvPr/>
            </p:nvSpPr>
            <p:spPr>
              <a:xfrm>
                <a:off x="1025280" y="2276640"/>
                <a:ext cx="0" cy="871560"/>
              </a:xfrm>
              <a:prstGeom prst="line">
                <a:avLst/>
              </a:prstGeom>
              <a:ln w="9360">
                <a:solidFill>
                  <a:srgbClr val="2a4c41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1025280" y="2276640"/>
                <a:ext cx="360" cy="87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025280" y="3148200"/>
              <a:ext cx="360" cy="817560"/>
              <a:chOff x="1025280" y="3148200"/>
              <a:chExt cx="360" cy="817560"/>
            </a:xfrm>
          </p:grpSpPr>
          <p:sp>
            <p:nvSpPr>
              <p:cNvPr id="272" name="直接连接符 11273"/>
              <p:cNvSpPr/>
              <p:nvPr/>
            </p:nvSpPr>
            <p:spPr>
              <a:xfrm>
                <a:off x="1025280" y="3148200"/>
                <a:ext cx="0" cy="817560"/>
              </a:xfrm>
              <a:prstGeom prst="line">
                <a:avLst/>
              </a:prstGeom>
              <a:ln w="9360">
                <a:solidFill>
                  <a:srgbClr val="2a4c41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1025280" y="314820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025280" y="3965760"/>
              <a:ext cx="360" cy="816120"/>
              <a:chOff x="1025280" y="3965760"/>
              <a:chExt cx="360" cy="816120"/>
            </a:xfrm>
          </p:grpSpPr>
          <p:sp>
            <p:nvSpPr>
              <p:cNvPr id="275" name="直接连接符 11274"/>
              <p:cNvSpPr/>
              <p:nvPr/>
            </p:nvSpPr>
            <p:spPr>
              <a:xfrm>
                <a:off x="1025280" y="3965760"/>
                <a:ext cx="0" cy="816120"/>
              </a:xfrm>
              <a:prstGeom prst="line">
                <a:avLst/>
              </a:prstGeom>
              <a:ln w="9360">
                <a:solidFill>
                  <a:srgbClr val="2a4c41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1025280" y="39657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025280" y="4783320"/>
              <a:ext cx="360" cy="816120"/>
              <a:chOff x="1025280" y="4783320"/>
              <a:chExt cx="360" cy="816120"/>
            </a:xfrm>
          </p:grpSpPr>
          <p:sp>
            <p:nvSpPr>
              <p:cNvPr id="278" name="直接连接符 11275"/>
              <p:cNvSpPr/>
              <p:nvPr/>
            </p:nvSpPr>
            <p:spPr>
              <a:xfrm>
                <a:off x="1025280" y="4783320"/>
                <a:ext cx="0" cy="816120"/>
              </a:xfrm>
              <a:prstGeom prst="line">
                <a:avLst/>
              </a:prstGeom>
              <a:ln w="9360">
                <a:solidFill>
                  <a:srgbClr val="2a4c41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1025280" y="478332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280" name="文本框 11276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a4c41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81" name="文本框 11277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a4c41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82" name="文本框 11278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a4c41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83" name="文本框 11279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a4c41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284" name="组合 11280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85" name="任意多边形 11281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c2d"/>
                  </a:gs>
                  <a:gs pos="50000">
                    <a:srgbClr val="bdc761"/>
                  </a:gs>
                  <a:gs pos="100000">
                    <a:srgbClr val="575c2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86" name="任意多边形 11282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bdc7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87" name="任意多边形 11283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5e2f"/>
                  </a:gs>
                  <a:gs pos="50000">
                    <a:srgbClr val="91cb65"/>
                  </a:gs>
                  <a:gs pos="100000">
                    <a:srgbClr val="435e2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88" name="任意多边形 11284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91cb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89" name="任意多边形 11285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64862"/>
                  </a:gs>
                  <a:gs pos="50000">
                    <a:srgbClr val="749bd4"/>
                  </a:gs>
                  <a:gs pos="100000">
                    <a:srgbClr val="3648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90" name="任意多边形 11286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d44"/>
                  </a:gs>
                  <a:gs pos="50000">
                    <a:srgbClr val="42a693"/>
                  </a:gs>
                  <a:gs pos="100000">
                    <a:srgbClr val="1f4d4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91" name="任意多边形 11287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2a6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92" name="任意多边形 11288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93" name="矩形 11289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899046"/>
                  </a:gs>
                  <a:gs pos="50000">
                    <a:srgbClr val="bdc761"/>
                  </a:gs>
                  <a:gs pos="100000">
                    <a:srgbClr val="89904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94" name="矩形 11290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699349"/>
                  </a:gs>
                  <a:gs pos="50000">
                    <a:srgbClr val="91cb65"/>
                  </a:gs>
                  <a:gs pos="100000">
                    <a:srgbClr val="6993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95" name="任意多边形 11291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749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96" name="矩形 11292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54709a"/>
                  </a:gs>
                  <a:gs pos="50000">
                    <a:srgbClr val="749bd4"/>
                  </a:gs>
                  <a:gs pos="100000">
                    <a:srgbClr val="54709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97" name="矩形 11293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30786b"/>
                  </a:gs>
                  <a:gs pos="50000">
                    <a:srgbClr val="42a693"/>
                  </a:gs>
                  <a:gs pos="100000">
                    <a:srgbClr val="3078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12290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301" name="任意多边形 12291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bd073">
                    <a:alpha val="32156"/>
                  </a:srgbClr>
                </a:gs>
                <a:gs pos="100000">
                  <a:srgbClr val="91cb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2" name="圆角矩形 12292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bdc7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3" name="圆角矩形 12293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75c2d"/>
                </a:gs>
                <a:gs pos="50000">
                  <a:srgbClr val="bdc761"/>
                </a:gs>
                <a:gs pos="100000">
                  <a:srgbClr val="575c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4" name="八边形 12294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5" name="八边形 12295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6" name="圆角矩形 12296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1cb6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7" name="圆角矩形 12297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35e2f"/>
                </a:gs>
                <a:gs pos="50000">
                  <a:srgbClr val="91cb65"/>
                </a:gs>
                <a:gs pos="100000">
                  <a:srgbClr val="43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8" name="八边形 12298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9" name="八边形 12299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10" name="任意多边形 12300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fc5e6">
                    <a:alpha val="32156"/>
                  </a:srgbClr>
                </a:gs>
                <a:gs pos="100000">
                  <a:srgbClr val="749b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11" name="文本框 12301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12" name="文本框 12302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313" name="组合 12303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314" name="圆角矩形 12304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749b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15" name="圆角矩形 12305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d3c52"/>
                  </a:gs>
                  <a:gs pos="50000">
                    <a:srgbClr val="749bd4"/>
                  </a:gs>
                  <a:gs pos="100000">
                    <a:srgbClr val="2d3c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16" name="八边形 12306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17" name="八边形 12307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18" name="文本框 12308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dd Your Title</a:t>
                </a:r>
                <a:endParaRPr b="0" lang="en-US" sz="14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19" name="文本框 12309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320" name="文本框 12310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21" name="文本框 12311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322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02:51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57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