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BCA-CA0B-46BF-A417-1B202EBB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CA6-C4EE-4106-AD49-3360102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832-C68F-4F9D-9116-7189942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B4A-BEC2-41F8-B9A9-D63C23B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B76-2994-4D2D-91D3-F82C67E8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B76-7A17-4615-8EC5-8A52D70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114-F4BB-4335-9EE8-3CDF356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EEE-A5D3-4ECF-A025-5E746C0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054-AD93-4A2A-99E3-A999881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185-A409-439B-A681-D1771AD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90B-7BC4-4A86-AF04-792F889D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01C-73BF-4D02-859D-ED937E85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7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78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3079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图片 3080" descr="soft7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3081" descr="soft7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矩形 3082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083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084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086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090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1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3349080" y="1125360"/>
              <a:ext cx="360" cy="576360"/>
              <a:chOff x="3349080" y="1125360"/>
              <a:chExt cx="360" cy="576360"/>
            </a:xfrm>
          </p:grpSpPr>
          <p:sp>
            <p:nvSpPr>
              <p:cNvPr id="61" name="直接连接符 3094"/>
              <p:cNvSpPr/>
              <p:nvPr/>
            </p:nvSpPr>
            <p:spPr>
              <a:xfrm>
                <a:off x="3349080" y="1125360"/>
                <a:ext cx="0" cy="57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349080" y="112536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AEB-F34C-4D5B-A6E6-6FB1AE87603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76C-2939-49C3-8218-4194613DA6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5121"/>
          <p:cNvSpPr/>
          <p:nvPr/>
        </p:nvSpPr>
        <p:spPr>
          <a:xfrm>
            <a:off x="3994200" y="4653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122"/>
          <p:cNvSpPr/>
          <p:nvPr/>
        </p:nvSpPr>
        <p:spPr>
          <a:xfrm>
            <a:off x="5865840" y="5316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124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125"/>
          <p:cNvSpPr/>
          <p:nvPr/>
        </p:nvSpPr>
        <p:spPr>
          <a:xfrm>
            <a:off x="1998360" y="765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日历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47"/>
          <p:cNvSpPr/>
          <p:nvPr/>
        </p:nvSpPr>
        <p:spPr>
          <a:xfrm>
            <a:off x="46836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E25-4B32-46ED-BB95-BE110FCE97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7169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33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