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947CA-356A-4971-8F0F-F9D8B40D9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50CF8-29C4-41C4-8C72-697ED1A43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233AE-C40C-4DA9-9B11-CC7D4DCDA6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A386A-0DF5-4D86-A458-86C1D7EB79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20FC2E-32B1-42EA-B289-097F7A9CF6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C45ED-E57A-48B3-88B0-A41741A94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CDAA2-1355-4D6E-9E28-94FAE28C0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28100-4C5E-4878-B985-F17CBC1C1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DC4513-9FC4-4493-88AA-0667358A7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A05F4-1912-4F7E-95BA-3EE16F75C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6CAA4-9EC5-405E-B0F2-B20527ED2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116CE-FD5C-431F-8087-7A434957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CAC8C-CE0F-47A1-A924-6DAE4BE71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45DB9-D8A4-4BCF-A6F9-432DCD449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65DCB-14E1-4910-9FF9-D378056C7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F3183C-1DA7-4278-83D3-E4712A81B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561755-0F2B-459C-BC34-5C120450B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BFBB4-5C27-4293-B6B5-087098A22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2FC5E-E9AB-469E-8C0D-A3291EF9A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2828D-17D6-43B4-ADA7-F12DF8E95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893CF-072A-4AAA-8D8A-C042902E1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7F32-B361-4F1B-8FD3-446D94ED0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92FF7-3130-4F0B-BBC8-D3EE3E288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66B4-256C-4DEA-A96F-9AB48BE6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5C480-CB78-4E77-BFC4-8FBA3745F77E}" type="slidenum">
              <a:rPr b="0" lang="zh-CN" sz="1200" spc="-1" strike="noStrike">
                <a:solidFill>
                  <a:srgbClr val="898989"/>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7D11-7A83-46FE-A291-64186DBA67A2}"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1C8E-1876-4CAD-8720-431864B1C768}"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图片 3" descr=""/>
          <p:cNvPicPr/>
          <p:nvPr/>
        </p:nvPicPr>
        <p:blipFill>
          <a:blip r:embed="rId1"/>
          <a:srcRect l="1098" t="0" r="-75" b="21966"/>
          <a:stretch/>
        </p:blipFill>
        <p:spPr>
          <a:xfrm>
            <a:off x="0" y="0"/>
            <a:ext cx="9144000" cy="6858000"/>
          </a:xfrm>
          <a:prstGeom prst="rect">
            <a:avLst/>
          </a:prstGeom>
          <a:ln w="0">
            <a:noFill/>
          </a:ln>
        </p:spPr>
      </p:pic>
      <p:grpSp>
        <p:nvGrpSpPr>
          <p:cNvPr id="83" name="组合 6"/>
          <p:cNvGrpSpPr/>
          <p:nvPr/>
        </p:nvGrpSpPr>
        <p:grpSpPr>
          <a:xfrm>
            <a:off x="325440" y="2063880"/>
            <a:ext cx="8491680" cy="2162160"/>
            <a:chOff x="325440" y="2063880"/>
            <a:chExt cx="8491680" cy="2162160"/>
          </a:xfrm>
        </p:grpSpPr>
        <p:sp>
          <p:nvSpPr>
            <p:cNvPr id="84" name="文本框 5"/>
            <p:cNvSpPr/>
            <p:nvPr/>
          </p:nvSpPr>
          <p:spPr>
            <a:xfrm>
              <a:off x="1368360" y="2063880"/>
              <a:ext cx="6405480" cy="21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358"/>
                  </a:solidFill>
                  <a:latin typeface="Bodoni MT Black"/>
                  <a:ea typeface="幼圆"/>
                </a:rPr>
                <a:t>TEMPLATE</a:t>
              </a:r>
              <a:endParaRPr b="0" lang="en-US" sz="7200" spc="-1" strike="noStrike">
                <a:solidFill>
                  <a:srgbClr val="000000"/>
                </a:solidFill>
                <a:latin typeface="Arial"/>
              </a:endParaRPr>
            </a:p>
          </p:txBody>
        </p:sp>
        <p:sp>
          <p:nvSpPr>
            <p:cNvPr id="85" name="矩形 5"/>
            <p:cNvSpPr/>
            <p:nvPr/>
          </p:nvSpPr>
          <p:spPr>
            <a:xfrm>
              <a:off x="325440" y="3792240"/>
              <a:ext cx="849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4358"/>
                  </a:solidFill>
                  <a:latin typeface="Arial"/>
                  <a:ea typeface="宋体"/>
                </a:rPr>
                <a:t>The Monocle Guide to Good Business follows up on the success of The Monocle Guide to Better Living. </a:t>
              </a:r>
              <a:endParaRPr b="0" lang="en-US" sz="1200" spc="-1" strike="noStrike">
                <a:solidFill>
                  <a:srgbClr val="000000"/>
                </a:solidFill>
                <a:latin typeface="Arial"/>
              </a:endParaRPr>
            </a:p>
          </p:txBody>
        </p:sp>
      </p:grpSp>
      <p:sp>
        <p:nvSpPr>
          <p:cNvPr id="86" name="文本框 3077"/>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87" name="文本框 3078"/>
          <p:cNvSpPr/>
          <p:nvPr/>
        </p:nvSpPr>
        <p:spPr>
          <a:xfrm>
            <a:off x="2321640" y="91584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绿色商务简约风格幻灯片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图片 3" descr=""/>
          <p:cNvPicPr/>
          <p:nvPr/>
        </p:nvPicPr>
        <p:blipFill>
          <a:blip r:embed="rId1"/>
          <a:srcRect l="1098" t="0" r="-75" b="21966"/>
          <a:stretch/>
        </p:blipFill>
        <p:spPr>
          <a:xfrm>
            <a:off x="0" y="0"/>
            <a:ext cx="9144000" cy="6858000"/>
          </a:xfrm>
          <a:prstGeom prst="rect">
            <a:avLst/>
          </a:prstGeom>
          <a:ln w="0">
            <a:noFill/>
          </a:ln>
        </p:spPr>
      </p:pic>
      <p:sp>
        <p:nvSpPr>
          <p:cNvPr id="223"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grpSp>
        <p:nvGrpSpPr>
          <p:cNvPr id="225" name="组合 2"/>
          <p:cNvGrpSpPr/>
          <p:nvPr/>
        </p:nvGrpSpPr>
        <p:grpSpPr>
          <a:xfrm>
            <a:off x="1943280" y="1360440"/>
            <a:ext cx="4987800" cy="4842000"/>
            <a:chOff x="1943280" y="1360440"/>
            <a:chExt cx="4987800" cy="4842000"/>
          </a:xfrm>
        </p:grpSpPr>
        <p:sp>
          <p:nvSpPr>
            <p:cNvPr id="226" name="任意多边形 5"/>
            <p:cNvSpPr/>
            <p:nvPr/>
          </p:nvSpPr>
          <p:spPr>
            <a:xfrm>
              <a:off x="1943280" y="2658600"/>
              <a:ext cx="2979000" cy="2404440"/>
            </a:xfrm>
            <a:prstGeom prst="pie">
              <a:avLst/>
            </a:prstGeom>
            <a:solidFill>
              <a:srgbClr val="6e84a2"/>
            </a:solidFill>
            <a:ln w="76320">
              <a:solidFill>
                <a:srgbClr val="ffffff"/>
              </a:solidFill>
              <a:bevel/>
            </a:ln>
          </p:spPr>
          <p:style>
            <a:lnRef idx="0"/>
            <a:fillRef idx="0"/>
            <a:effectRef idx="0"/>
            <a:fontRef idx="minor"/>
          </p:style>
          <p:txBody>
            <a:bodyPr lIns="144000" rIns="648000" tIns="10800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doni MT Black"/>
                  <a:ea typeface="微软雅黑"/>
                </a:rPr>
                <a:t>   </a:t>
              </a:r>
              <a:r>
                <a:rPr b="1" lang="en-US" sz="3600" spc="-1" strike="noStrike">
                  <a:solidFill>
                    <a:srgbClr val="ffffff"/>
                  </a:solidFill>
                  <a:latin typeface="Bodoni MT Black"/>
                  <a:ea typeface="微软雅黑"/>
                </a:rPr>
                <a:t>02</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The Monocle Guide to Good Business follows up on the success of The Monocle Guide to Better Living.</a:t>
              </a:r>
              <a:endParaRPr b="0" lang="en-US" sz="1400" spc="-1" strike="noStrike">
                <a:solidFill>
                  <a:srgbClr val="000000"/>
                </a:solidFill>
                <a:latin typeface="Arial"/>
              </a:endParaRPr>
            </a:p>
          </p:txBody>
        </p:sp>
        <p:sp>
          <p:nvSpPr>
            <p:cNvPr id="227" name="椭圆 1"/>
            <p:cNvSpPr/>
            <p:nvPr/>
          </p:nvSpPr>
          <p:spPr>
            <a:xfrm>
              <a:off x="3779280" y="1360440"/>
              <a:ext cx="2894040" cy="2466720"/>
            </a:xfrm>
            <a:prstGeom prst="pie">
              <a:avLst/>
            </a:prstGeom>
            <a:solidFill>
              <a:srgbClr val="acb8ca"/>
            </a:solidFill>
            <a:ln w="76320">
              <a:solidFill>
                <a:srgbClr val="ffffff"/>
              </a:solidFill>
              <a:bevel/>
            </a:ln>
          </p:spPr>
          <p:style>
            <a:lnRef idx="0"/>
            <a:fillRef idx="0"/>
            <a:effectRef idx="0"/>
            <a:fontRef idx="minor"/>
          </p:style>
          <p:txBody>
            <a:bodyPr lIns="648000" rIns="144000" tIns="10800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doni MT Black"/>
                  <a:ea typeface="微软雅黑"/>
                </a:rPr>
                <a:t>01</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The Monocle Guide to Good Business follows up on the success of The Monocle Guide to Better Living.</a:t>
              </a:r>
              <a:endParaRPr b="0" lang="en-US" sz="1400" spc="-1" strike="noStrike">
                <a:solidFill>
                  <a:srgbClr val="000000"/>
                </a:solidFill>
                <a:latin typeface="Arial"/>
              </a:endParaRPr>
            </a:p>
          </p:txBody>
        </p:sp>
        <p:sp>
          <p:nvSpPr>
            <p:cNvPr id="228" name="任意多边形 7"/>
            <p:cNvSpPr/>
            <p:nvPr/>
          </p:nvSpPr>
          <p:spPr>
            <a:xfrm>
              <a:off x="3969360" y="3823920"/>
              <a:ext cx="2961720" cy="2378520"/>
            </a:xfrm>
            <a:prstGeom prst="pie">
              <a:avLst/>
            </a:prstGeom>
            <a:solidFill>
              <a:srgbClr val="323f4f"/>
            </a:solidFill>
            <a:ln w="76320">
              <a:solidFill>
                <a:srgbClr val="ffffff"/>
              </a:solidFill>
              <a:bevel/>
            </a:ln>
          </p:spPr>
          <p:style>
            <a:lnRef idx="0"/>
            <a:fillRef idx="0"/>
            <a:effectRef idx="0"/>
            <a:fontRef idx="minor"/>
          </p:style>
          <p:txBody>
            <a:bodyPr lIns="648000" rIns="144000" tIns="108000" bIns="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doni MT Black"/>
                  <a:ea typeface="微软雅黑"/>
                </a:rPr>
                <a:t>03</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宋体"/>
                </a:rPr>
                <a:t>The Monocle Guide to Good Business follows up on the success of The Monocle Guide to Better Living.</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图片 3" descr=""/>
          <p:cNvPicPr/>
          <p:nvPr/>
        </p:nvPicPr>
        <p:blipFill>
          <a:blip r:embed="rId1"/>
          <a:srcRect l="1098" t="0" r="-75" b="21966"/>
          <a:stretch/>
        </p:blipFill>
        <p:spPr>
          <a:xfrm>
            <a:off x="0" y="0"/>
            <a:ext cx="9144000" cy="6858000"/>
          </a:xfrm>
          <a:prstGeom prst="rect">
            <a:avLst/>
          </a:prstGeom>
          <a:ln w="0">
            <a:noFill/>
          </a:ln>
        </p:spPr>
      </p:pic>
      <p:sp>
        <p:nvSpPr>
          <p:cNvPr id="230"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sp>
        <p:nvSpPr>
          <p:cNvPr id="232" name="任意多边形 5"/>
          <p:cNvSpPr/>
          <p:nvPr/>
        </p:nvSpPr>
        <p:spPr>
          <a:xfrm>
            <a:off x="912960" y="3100320"/>
            <a:ext cx="1137960" cy="1549440"/>
          </a:xfrm>
          <a:prstGeom prst="pie">
            <a:avLst/>
          </a:prstGeom>
          <a:solidFill>
            <a:srgbClr val="acb8ca"/>
          </a:solidFill>
          <a:ln w="0">
            <a:noFill/>
          </a:ln>
        </p:spPr>
        <p:style>
          <a:lnRef idx="0"/>
          <a:fillRef idx="0"/>
          <a:effectRef idx="0"/>
          <a:fontRef idx="minor"/>
        </p:style>
        <p:txBody>
          <a:bodyPr lIns="0" rIns="0" tIns="0" bIns="50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宋体"/>
              </a:rPr>
              <a:t>TEXT</a:t>
            </a:r>
            <a:endParaRPr b="0" lang="en-US" sz="1600" spc="-1" strike="noStrike">
              <a:solidFill>
                <a:srgbClr val="000000"/>
              </a:solidFill>
              <a:latin typeface="Arial"/>
            </a:endParaRPr>
          </a:p>
        </p:txBody>
      </p:sp>
      <p:sp>
        <p:nvSpPr>
          <p:cNvPr id="233" name="Oval 65"/>
          <p:cNvSpPr/>
          <p:nvPr/>
        </p:nvSpPr>
        <p:spPr>
          <a:xfrm>
            <a:off x="7283520" y="4619520"/>
            <a:ext cx="701640" cy="139680"/>
          </a:xfrm>
          <a:prstGeom prst="ellipse">
            <a:avLst/>
          </a:prstGeom>
          <a:gradFill rotWithShape="0">
            <a:gsLst>
              <a:gs pos="0">
                <a:srgbClr val="595959"/>
              </a:gs>
              <a:gs pos="100000">
                <a:srgbClr val="f2f2f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5"/>
          <p:cNvSpPr/>
          <p:nvPr/>
        </p:nvSpPr>
        <p:spPr>
          <a:xfrm>
            <a:off x="5781600" y="5118120"/>
            <a:ext cx="1104840" cy="222120"/>
          </a:xfrm>
          <a:prstGeom prst="ellipse">
            <a:avLst/>
          </a:prstGeom>
          <a:gradFill rotWithShape="0">
            <a:gsLst>
              <a:gs pos="0">
                <a:srgbClr val="595959"/>
              </a:gs>
              <a:gs pos="100000">
                <a:srgbClr val="f2f2f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65"/>
          <p:cNvSpPr/>
          <p:nvPr/>
        </p:nvSpPr>
        <p:spPr>
          <a:xfrm>
            <a:off x="1098720" y="4619520"/>
            <a:ext cx="701640" cy="139680"/>
          </a:xfrm>
          <a:prstGeom prst="ellipse">
            <a:avLst/>
          </a:prstGeom>
          <a:gradFill rotWithShape="0">
            <a:gsLst>
              <a:gs pos="0">
                <a:srgbClr val="595959"/>
              </a:gs>
              <a:gs pos="100000">
                <a:srgbClr val="f2f2f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65"/>
          <p:cNvSpPr/>
          <p:nvPr/>
        </p:nvSpPr>
        <p:spPr>
          <a:xfrm>
            <a:off x="2184480" y="5118120"/>
            <a:ext cx="1106280" cy="222120"/>
          </a:xfrm>
          <a:prstGeom prst="ellipse">
            <a:avLst/>
          </a:prstGeom>
          <a:gradFill rotWithShape="0">
            <a:gsLst>
              <a:gs pos="0">
                <a:srgbClr val="595959"/>
              </a:gs>
              <a:gs pos="100000">
                <a:srgbClr val="f2f2f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65"/>
          <p:cNvSpPr/>
          <p:nvPr/>
        </p:nvSpPr>
        <p:spPr>
          <a:xfrm>
            <a:off x="3827520" y="5572080"/>
            <a:ext cx="1417680" cy="282600"/>
          </a:xfrm>
          <a:prstGeom prst="ellipse">
            <a:avLst/>
          </a:prstGeom>
          <a:gradFill rotWithShape="0">
            <a:gsLst>
              <a:gs pos="0">
                <a:srgbClr val="595959"/>
              </a:gs>
              <a:gs pos="100000">
                <a:srgbClr val="f2f2f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任意多边形 11"/>
          <p:cNvSpPr/>
          <p:nvPr/>
        </p:nvSpPr>
        <p:spPr>
          <a:xfrm>
            <a:off x="7093080" y="3100320"/>
            <a:ext cx="1137960" cy="1549440"/>
          </a:xfrm>
          <a:prstGeom prst="pie">
            <a:avLst/>
          </a:prstGeom>
          <a:solidFill>
            <a:srgbClr val="acb8ca"/>
          </a:solidFill>
          <a:ln w="0">
            <a:noFill/>
          </a:ln>
        </p:spPr>
        <p:style>
          <a:lnRef idx="0"/>
          <a:fillRef idx="0"/>
          <a:effectRef idx="0"/>
          <a:fontRef idx="minor"/>
        </p:style>
        <p:txBody>
          <a:bodyPr lIns="0" rIns="0" tIns="0" bIns="50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微软雅黑"/>
                <a:ea typeface="宋体"/>
              </a:rPr>
              <a:t>TEXT</a:t>
            </a:r>
            <a:endParaRPr b="0" lang="en-US" sz="1600" spc="-1" strike="noStrike">
              <a:solidFill>
                <a:srgbClr val="000000"/>
              </a:solidFill>
              <a:latin typeface="Arial"/>
            </a:endParaRPr>
          </a:p>
        </p:txBody>
      </p:sp>
      <p:sp>
        <p:nvSpPr>
          <p:cNvPr id="239" name="任意多边形 12"/>
          <p:cNvSpPr/>
          <p:nvPr/>
        </p:nvSpPr>
        <p:spPr>
          <a:xfrm>
            <a:off x="5543640" y="2963880"/>
            <a:ext cx="1635120" cy="2228760"/>
          </a:xfrm>
          <a:prstGeom prst="pie">
            <a:avLst/>
          </a:prstGeom>
          <a:solidFill>
            <a:srgbClr val="6e84a2"/>
          </a:solidFill>
          <a:ln w="0">
            <a:noFill/>
          </a:ln>
        </p:spPr>
        <p:style>
          <a:lnRef idx="0"/>
          <a:fillRef idx="0"/>
          <a:effectRef idx="0"/>
          <a:fontRef idx="minor"/>
        </p:style>
        <p:txBody>
          <a:bodyPr lIns="0" rIns="0" tIns="0" bIns="72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宋体"/>
              </a:rPr>
              <a:t>TEXT</a:t>
            </a:r>
            <a:endParaRPr b="0" lang="en-US" sz="2400" spc="-1" strike="noStrike">
              <a:solidFill>
                <a:srgbClr val="000000"/>
              </a:solidFill>
              <a:latin typeface="Arial"/>
            </a:endParaRPr>
          </a:p>
        </p:txBody>
      </p:sp>
      <p:sp>
        <p:nvSpPr>
          <p:cNvPr id="240" name="任意多边形 13"/>
          <p:cNvSpPr/>
          <p:nvPr/>
        </p:nvSpPr>
        <p:spPr>
          <a:xfrm>
            <a:off x="1965240" y="2963880"/>
            <a:ext cx="1635120" cy="2228760"/>
          </a:xfrm>
          <a:prstGeom prst="pie">
            <a:avLst/>
          </a:prstGeom>
          <a:solidFill>
            <a:srgbClr val="6e84a2"/>
          </a:solidFill>
          <a:ln w="0">
            <a:noFill/>
          </a:ln>
        </p:spPr>
        <p:style>
          <a:lnRef idx="0"/>
          <a:fillRef idx="0"/>
          <a:effectRef idx="0"/>
          <a:fontRef idx="minor"/>
        </p:style>
        <p:txBody>
          <a:bodyPr lIns="0" rIns="0" tIns="0" bIns="72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f7f7f"/>
                </a:solidFill>
                <a:latin typeface="微软雅黑"/>
                <a:ea typeface="宋体"/>
              </a:rPr>
              <a:t>TEXT</a:t>
            </a:r>
            <a:endParaRPr b="0" lang="en-US" sz="2400" spc="-1" strike="noStrike">
              <a:solidFill>
                <a:srgbClr val="000000"/>
              </a:solidFill>
              <a:latin typeface="Arial"/>
            </a:endParaRPr>
          </a:p>
        </p:txBody>
      </p:sp>
      <p:sp>
        <p:nvSpPr>
          <p:cNvPr id="241" name="任意多边形 14"/>
          <p:cNvSpPr/>
          <p:nvPr/>
        </p:nvSpPr>
        <p:spPr>
          <a:xfrm>
            <a:off x="3514680" y="2806560"/>
            <a:ext cx="2114640" cy="2880000"/>
          </a:xfrm>
          <a:prstGeom prst="pie">
            <a:avLst/>
          </a:prstGeom>
          <a:solidFill>
            <a:srgbClr val="222a35"/>
          </a:solidFill>
          <a:ln w="0">
            <a:noFill/>
          </a:ln>
        </p:spPr>
        <p:style>
          <a:lnRef idx="0"/>
          <a:fillRef idx="0"/>
          <a:effectRef idx="0"/>
          <a:fontRef idx="minor"/>
        </p:style>
        <p:txBody>
          <a:bodyPr lIns="0" rIns="0" tIns="0" bIns="972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微软雅黑"/>
                <a:ea typeface="宋体"/>
              </a:rPr>
              <a:t>TEXT</a:t>
            </a:r>
            <a:endParaRPr b="0" lang="en-US" sz="3200" spc="-1" strike="noStrike">
              <a:solidFill>
                <a:srgbClr val="000000"/>
              </a:solidFill>
              <a:latin typeface="Arial"/>
            </a:endParaRPr>
          </a:p>
        </p:txBody>
      </p:sp>
      <p:grpSp>
        <p:nvGrpSpPr>
          <p:cNvPr id="242" name="组合 15"/>
          <p:cNvGrpSpPr/>
          <p:nvPr/>
        </p:nvGrpSpPr>
        <p:grpSpPr>
          <a:xfrm>
            <a:off x="1449360" y="1368360"/>
            <a:ext cx="6265800" cy="926280"/>
            <a:chOff x="1449360" y="1368360"/>
            <a:chExt cx="6265800" cy="926280"/>
          </a:xfrm>
        </p:grpSpPr>
        <p:sp>
          <p:nvSpPr>
            <p:cNvPr id="243" name="矩形 16"/>
            <p:cNvSpPr/>
            <p:nvPr/>
          </p:nvSpPr>
          <p:spPr>
            <a:xfrm>
              <a:off x="1449360" y="1835640"/>
              <a:ext cx="6265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4546a"/>
                  </a:solidFill>
                  <a:latin typeface="Arial"/>
                  <a:ea typeface="宋体"/>
                </a:rPr>
                <a:t>The Monocle Guide to Good Business follows up on the success of The Monocle Guide to Better Living. </a:t>
              </a:r>
              <a:endParaRPr b="0" lang="en-US" sz="1200" spc="-1" strike="noStrike">
                <a:solidFill>
                  <a:srgbClr val="000000"/>
                </a:solidFill>
                <a:latin typeface="Arial"/>
              </a:endParaRPr>
            </a:p>
          </p:txBody>
        </p:sp>
        <p:sp>
          <p:nvSpPr>
            <p:cNvPr id="244" name="文本框 17"/>
            <p:cNvSpPr/>
            <p:nvPr/>
          </p:nvSpPr>
          <p:spPr>
            <a:xfrm>
              <a:off x="3751920" y="136836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546a"/>
                  </a:solidFill>
                  <a:latin typeface="Times New Roman"/>
                  <a:ea typeface="宋体"/>
                </a:rPr>
                <a:t>CONTENTS</a:t>
              </a:r>
              <a:endParaRPr b="0" lang="en-US" sz="2000" spc="-1" strike="noStrike">
                <a:solidFill>
                  <a:srgbClr val="000000"/>
                </a:solidFill>
                <a:latin typeface="Arial"/>
              </a:endParaRPr>
            </a:p>
          </p:txBody>
        </p:sp>
      </p:grpSp>
      <p:sp>
        <p:nvSpPr>
          <p:cNvPr id="245" name="文本框 1332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a:t>
            </a:r>
            <a:r>
              <a:rPr b="0" lang="zh-CN" sz="1600" spc="-1" strike="noStrike" u="sng">
                <a:solidFill>
                  <a:srgbClr val="0563c1"/>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249"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7532-F7BD-4FF1-A521-6F6840DF9C5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图片 3" descr=""/>
          <p:cNvPicPr/>
          <p:nvPr/>
        </p:nvPicPr>
        <p:blipFill>
          <a:blip r:embed="rId1"/>
          <a:srcRect l="1098" t="0" r="-75" b="21966"/>
          <a:stretch/>
        </p:blipFill>
        <p:spPr>
          <a:xfrm>
            <a:off x="0" y="0"/>
            <a:ext cx="9144000" cy="6858000"/>
          </a:xfrm>
          <a:prstGeom prst="rect">
            <a:avLst/>
          </a:prstGeom>
          <a:ln w="0">
            <a:noFill/>
          </a:ln>
        </p:spPr>
      </p:pic>
      <p:grpSp>
        <p:nvGrpSpPr>
          <p:cNvPr id="251" name="组合 1"/>
          <p:cNvGrpSpPr/>
          <p:nvPr/>
        </p:nvGrpSpPr>
        <p:grpSpPr>
          <a:xfrm>
            <a:off x="1761120" y="2289240"/>
            <a:ext cx="5576400" cy="2279520"/>
            <a:chOff x="1761120" y="2289240"/>
            <a:chExt cx="5576400" cy="2279520"/>
          </a:xfrm>
        </p:grpSpPr>
        <p:sp>
          <p:nvSpPr>
            <p:cNvPr id="252" name="任意多边形 2"/>
            <p:cNvSpPr/>
            <p:nvPr/>
          </p:nvSpPr>
          <p:spPr>
            <a:xfrm>
              <a:off x="1903680" y="2703960"/>
              <a:ext cx="5049720" cy="1864800"/>
            </a:xfrm>
            <a:custGeom>
              <a:avLst/>
              <a:gdLst/>
              <a:ahLst/>
              <a:rect l="l" t="t" r="r" b="b"/>
              <a:pathLst>
                <a:path w="6008914" h="2220686">
                  <a:moveTo>
                    <a:pt x="0" y="452846"/>
                  </a:moveTo>
                  <a:lnTo>
                    <a:pt x="252548" y="1793966"/>
                  </a:lnTo>
                  <a:lnTo>
                    <a:pt x="5320937" y="2220686"/>
                  </a:lnTo>
                  <a:lnTo>
                    <a:pt x="6008914" y="0"/>
                  </a:lnTo>
                  <a:lnTo>
                    <a:pt x="0" y="452846"/>
                  </a:lnTo>
                  <a:close/>
                </a:path>
              </a:pathLst>
            </a:custGeom>
            <a:solidFill>
              <a:srgbClr val="155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4"/>
            <p:cNvSpPr/>
            <p:nvPr/>
          </p:nvSpPr>
          <p:spPr>
            <a:xfrm>
              <a:off x="7001640" y="2747880"/>
              <a:ext cx="335880" cy="133200"/>
            </a:xfrm>
            <a:custGeom>
              <a:avLst/>
              <a:gdLst/>
              <a:ahLst/>
              <a:rect l="l" t="t" r="r" b="b"/>
              <a:pathLst>
                <a:path w="400050" h="158750">
                  <a:moveTo>
                    <a:pt x="0" y="152400"/>
                  </a:moveTo>
                  <a:lnTo>
                    <a:pt x="374650" y="0"/>
                  </a:lnTo>
                  <a:lnTo>
                    <a:pt x="400050" y="158750"/>
                  </a:lnTo>
                  <a:lnTo>
                    <a:pt x="0" y="152400"/>
                  </a:lnTo>
                  <a:close/>
                </a:path>
              </a:pathLst>
            </a:custGeom>
            <a:solidFill>
              <a:srgbClr val="155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
            <p:cNvSpPr/>
            <p:nvPr/>
          </p:nvSpPr>
          <p:spPr>
            <a:xfrm>
              <a:off x="6894720" y="2289240"/>
              <a:ext cx="309240" cy="288000"/>
            </a:xfrm>
            <a:custGeom>
              <a:avLst/>
              <a:gdLst/>
              <a:ahLst/>
              <a:rect l="l" t="t" r="r" b="b"/>
              <a:pathLst>
                <a:path w="368300" h="342900">
                  <a:moveTo>
                    <a:pt x="0" y="342900"/>
                  </a:moveTo>
                  <a:lnTo>
                    <a:pt x="254000" y="0"/>
                  </a:lnTo>
                  <a:lnTo>
                    <a:pt x="368300" y="139700"/>
                  </a:lnTo>
                  <a:lnTo>
                    <a:pt x="0" y="342900"/>
                  </a:lnTo>
                  <a:close/>
                </a:path>
              </a:pathLst>
            </a:custGeom>
            <a:solidFill>
              <a:srgbClr val="155c8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文本框 5"/>
            <p:cNvSpPr/>
            <p:nvPr/>
          </p:nvSpPr>
          <p:spPr>
            <a:xfrm rot="21345000">
              <a:off x="1806480" y="2844360"/>
              <a:ext cx="5146920" cy="141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Bodoni MT Black"/>
                  <a:ea typeface="幼圆"/>
                </a:rPr>
                <a:t>THANKS</a:t>
              </a:r>
              <a:endParaRPr b="0" lang="en-US" sz="7200" spc="-1" strike="noStrike">
                <a:solidFill>
                  <a:srgbClr val="000000"/>
                </a:solidFill>
                <a:latin typeface="Arial"/>
              </a:endParaRPr>
            </a:p>
          </p:txBody>
        </p:sp>
        <p:sp>
          <p:nvSpPr>
            <p:cNvPr id="256" name="文本框 6"/>
            <p:cNvSpPr/>
            <p:nvPr/>
          </p:nvSpPr>
          <p:spPr>
            <a:xfrm rot="298200">
              <a:off x="4538160" y="4088160"/>
              <a:ext cx="1823760" cy="329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图片 3" descr=""/>
          <p:cNvPicPr/>
          <p:nvPr/>
        </p:nvPicPr>
        <p:blipFill>
          <a:blip r:embed="rId1"/>
          <a:srcRect l="1098" t="0" r="-75" b="21966"/>
          <a:stretch/>
        </p:blipFill>
        <p:spPr>
          <a:xfrm>
            <a:off x="0" y="0"/>
            <a:ext cx="9144000" cy="6858000"/>
          </a:xfrm>
          <a:prstGeom prst="rect">
            <a:avLst/>
          </a:prstGeom>
          <a:ln w="0">
            <a:noFill/>
          </a:ln>
        </p:spPr>
      </p:pic>
      <p:sp>
        <p:nvSpPr>
          <p:cNvPr id="89"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2"/>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grpSp>
        <p:nvGrpSpPr>
          <p:cNvPr id="91" name="组合 13"/>
          <p:cNvGrpSpPr/>
          <p:nvPr/>
        </p:nvGrpSpPr>
        <p:grpSpPr>
          <a:xfrm>
            <a:off x="1657440" y="2577960"/>
            <a:ext cx="6188040" cy="2041560"/>
            <a:chOff x="1657440" y="2577960"/>
            <a:chExt cx="6188040" cy="2041560"/>
          </a:xfrm>
        </p:grpSpPr>
        <p:sp>
          <p:nvSpPr>
            <p:cNvPr id="92" name="Freeform 17"/>
            <p:cNvSpPr/>
            <p:nvPr/>
          </p:nvSpPr>
          <p:spPr>
            <a:xfrm>
              <a:off x="4352760" y="2788560"/>
              <a:ext cx="1647360" cy="1622160"/>
            </a:xfrm>
            <a:prstGeom prst="pie">
              <a:avLst/>
            </a:prstGeom>
            <a:solidFill>
              <a:srgbClr val="44546a"/>
            </a:solidFill>
            <a:ln w="0">
              <a:noFill/>
            </a:ln>
          </p:spPr>
          <p:style>
            <a:lnRef idx="0"/>
            <a:fillRef idx="0"/>
            <a:effectRef idx="0"/>
            <a:fontRef idx="minor"/>
          </p:style>
          <p:txBody>
            <a:bodyPr lIns="432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宋体"/>
                </a:rPr>
                <a:t>03</a:t>
              </a:r>
              <a:endParaRPr b="0" lang="en-US" sz="2800" spc="-1" strike="noStrike">
                <a:solidFill>
                  <a:srgbClr val="000000"/>
                </a:solidFill>
                <a:latin typeface="Arial"/>
              </a:endParaRPr>
            </a:p>
          </p:txBody>
        </p:sp>
        <p:sp>
          <p:nvSpPr>
            <p:cNvPr id="93" name="Freeform 18"/>
            <p:cNvSpPr/>
            <p:nvPr/>
          </p:nvSpPr>
          <p:spPr>
            <a:xfrm>
              <a:off x="2850120" y="2894760"/>
              <a:ext cx="1440000" cy="1407600"/>
            </a:xfrm>
            <a:prstGeom prst="pie">
              <a:avLst/>
            </a:prstGeom>
            <a:solidFill>
              <a:srgbClr val="8296b0"/>
            </a:solidFill>
            <a:ln w="0">
              <a:noFill/>
            </a:ln>
          </p:spPr>
          <p:style>
            <a:lnRef idx="0"/>
            <a:fillRef idx="0"/>
            <a:effectRef idx="0"/>
            <a:fontRef idx="minor"/>
          </p:style>
          <p:txBody>
            <a:bodyPr lIns="288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宋体"/>
                </a:rPr>
                <a:t>02</a:t>
              </a:r>
              <a:endParaRPr b="0" lang="en-US" sz="2800" spc="-1" strike="noStrike">
                <a:solidFill>
                  <a:srgbClr val="000000"/>
                </a:solidFill>
                <a:latin typeface="Arial"/>
              </a:endParaRPr>
            </a:p>
          </p:txBody>
        </p:sp>
        <p:sp>
          <p:nvSpPr>
            <p:cNvPr id="94" name="Freeform 19"/>
            <p:cNvSpPr/>
            <p:nvPr/>
          </p:nvSpPr>
          <p:spPr>
            <a:xfrm>
              <a:off x="1657440" y="3019680"/>
              <a:ext cx="1143360" cy="1158120"/>
            </a:xfrm>
            <a:prstGeom prst="pie">
              <a:avLst/>
            </a:prstGeom>
            <a:solidFill>
              <a:srgbClr val="acb8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宋体"/>
                </a:rPr>
                <a:t>01</a:t>
              </a:r>
              <a:endParaRPr b="0" lang="en-US" sz="2800" spc="-1" strike="noStrike">
                <a:solidFill>
                  <a:srgbClr val="000000"/>
                </a:solidFill>
                <a:latin typeface="Arial"/>
              </a:endParaRPr>
            </a:p>
          </p:txBody>
        </p:sp>
        <p:sp>
          <p:nvSpPr>
            <p:cNvPr id="95" name="Freeform 17"/>
            <p:cNvSpPr/>
            <p:nvPr/>
          </p:nvSpPr>
          <p:spPr>
            <a:xfrm>
              <a:off x="5771160" y="2577960"/>
              <a:ext cx="2074320" cy="2041560"/>
            </a:xfrm>
            <a:prstGeom prst="pie">
              <a:avLst/>
            </a:prstGeom>
            <a:solidFill>
              <a:srgbClr val="323f4f"/>
            </a:solidFill>
            <a:ln w="0">
              <a:noFill/>
            </a:ln>
          </p:spPr>
          <p:style>
            <a:lnRef idx="0"/>
            <a:fillRef idx="0"/>
            <a:effectRef idx="0"/>
            <a:fontRef idx="minor"/>
          </p:style>
          <p:txBody>
            <a:bodyPr lIns="54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ea typeface="宋体"/>
                </a:rPr>
                <a:t>04</a:t>
              </a:r>
              <a:endParaRPr b="0" lang="en-US" sz="2800" spc="-1" strike="noStrike">
                <a:solidFill>
                  <a:srgbClr val="000000"/>
                </a:solidFill>
                <a:latin typeface="Arial"/>
              </a:endParaRPr>
            </a:p>
          </p:txBody>
        </p:sp>
        <p:sp>
          <p:nvSpPr>
            <p:cNvPr id="96" name="椭圆 9"/>
            <p:cNvSpPr/>
            <p:nvPr/>
          </p:nvSpPr>
          <p:spPr>
            <a:xfrm>
              <a:off x="1939320" y="3114720"/>
              <a:ext cx="124560" cy="124560"/>
            </a:xfrm>
            <a:prstGeom prst="ellips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椭圆 10"/>
            <p:cNvSpPr/>
            <p:nvPr/>
          </p:nvSpPr>
          <p:spPr>
            <a:xfrm>
              <a:off x="2930760" y="4078800"/>
              <a:ext cx="124560" cy="124560"/>
            </a:xfrm>
            <a:prstGeom prst="ellips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椭圆 11"/>
            <p:cNvSpPr/>
            <p:nvPr/>
          </p:nvSpPr>
          <p:spPr>
            <a:xfrm>
              <a:off x="4746960" y="2898720"/>
              <a:ext cx="124560" cy="124560"/>
            </a:xfrm>
            <a:prstGeom prst="ellips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椭圆 12"/>
            <p:cNvSpPr/>
            <p:nvPr/>
          </p:nvSpPr>
          <p:spPr>
            <a:xfrm>
              <a:off x="5855400" y="4412520"/>
              <a:ext cx="124560" cy="124560"/>
            </a:xfrm>
            <a:prstGeom prst="ellipse">
              <a:avLst/>
            </a:prstGeom>
            <a:solidFill>
              <a:srgbClr val="ffff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组合 16"/>
          <p:cNvGrpSpPr/>
          <p:nvPr/>
        </p:nvGrpSpPr>
        <p:grpSpPr>
          <a:xfrm>
            <a:off x="841320" y="1436760"/>
            <a:ext cx="2322720" cy="1224360"/>
            <a:chOff x="841320" y="1436760"/>
            <a:chExt cx="2322720" cy="1224360"/>
          </a:xfrm>
        </p:grpSpPr>
        <p:sp>
          <p:nvSpPr>
            <p:cNvPr id="101" name="矩形 14"/>
            <p:cNvSpPr/>
            <p:nvPr/>
          </p:nvSpPr>
          <p:spPr>
            <a:xfrm>
              <a:off x="841320" y="1837080"/>
              <a:ext cx="2322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4546a"/>
                  </a:solidFill>
                  <a:latin typeface="Arial"/>
                  <a:ea typeface="宋体"/>
                </a:rPr>
                <a:t>The Monocle Guide to Good Business follows up on the success of The Monocle Guide to Better Living. </a:t>
              </a:r>
              <a:endParaRPr b="0" lang="en-US" sz="1200" spc="-1" strike="noStrike">
                <a:solidFill>
                  <a:srgbClr val="000000"/>
                </a:solidFill>
                <a:latin typeface="Arial"/>
              </a:endParaRPr>
            </a:p>
          </p:txBody>
        </p:sp>
        <p:sp>
          <p:nvSpPr>
            <p:cNvPr id="102" name="文本框 15"/>
            <p:cNvSpPr/>
            <p:nvPr/>
          </p:nvSpPr>
          <p:spPr>
            <a:xfrm>
              <a:off x="1218600" y="1436760"/>
              <a:ext cx="158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546a"/>
                  </a:solidFill>
                  <a:latin typeface="Times New Roman"/>
                  <a:ea typeface="宋体"/>
                </a:rPr>
                <a:t>CONTENTS</a:t>
              </a:r>
              <a:endParaRPr b="0" lang="en-US" sz="2000" spc="-1" strike="noStrike">
                <a:solidFill>
                  <a:srgbClr val="000000"/>
                </a:solidFill>
                <a:latin typeface="Arial"/>
              </a:endParaRPr>
            </a:p>
          </p:txBody>
        </p:sp>
      </p:grpSp>
      <p:grpSp>
        <p:nvGrpSpPr>
          <p:cNvPr id="103" name="组合 17"/>
          <p:cNvGrpSpPr/>
          <p:nvPr/>
        </p:nvGrpSpPr>
        <p:grpSpPr>
          <a:xfrm>
            <a:off x="2406600" y="4699080"/>
            <a:ext cx="2324160" cy="1224360"/>
            <a:chOff x="2406600" y="4699080"/>
            <a:chExt cx="2324160" cy="1224360"/>
          </a:xfrm>
        </p:grpSpPr>
        <p:sp>
          <p:nvSpPr>
            <p:cNvPr id="104" name="矩形 18"/>
            <p:cNvSpPr/>
            <p:nvPr/>
          </p:nvSpPr>
          <p:spPr>
            <a:xfrm>
              <a:off x="2406600" y="5099400"/>
              <a:ext cx="2324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4546a"/>
                  </a:solidFill>
                  <a:latin typeface="Arial"/>
                  <a:ea typeface="宋体"/>
                </a:rPr>
                <a:t>The Monocle Guide to Good Business follows up on the success of The Monocle Guide to Better Living. </a:t>
              </a:r>
              <a:endParaRPr b="0" lang="en-US" sz="1200" spc="-1" strike="noStrike">
                <a:solidFill>
                  <a:srgbClr val="000000"/>
                </a:solidFill>
                <a:latin typeface="Arial"/>
              </a:endParaRPr>
            </a:p>
          </p:txBody>
        </p:sp>
        <p:sp>
          <p:nvSpPr>
            <p:cNvPr id="105" name="文本框 19"/>
            <p:cNvSpPr/>
            <p:nvPr/>
          </p:nvSpPr>
          <p:spPr>
            <a:xfrm>
              <a:off x="2784240" y="4699080"/>
              <a:ext cx="158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546a"/>
                  </a:solidFill>
                  <a:latin typeface="Times New Roman"/>
                  <a:ea typeface="宋体"/>
                </a:rPr>
                <a:t>CONTENTS</a:t>
              </a:r>
              <a:endParaRPr b="0" lang="en-US" sz="2000" spc="-1" strike="noStrike">
                <a:solidFill>
                  <a:srgbClr val="000000"/>
                </a:solidFill>
                <a:latin typeface="Arial"/>
              </a:endParaRPr>
            </a:p>
          </p:txBody>
        </p:sp>
      </p:grpSp>
      <p:grpSp>
        <p:nvGrpSpPr>
          <p:cNvPr id="106" name="组合 20"/>
          <p:cNvGrpSpPr/>
          <p:nvPr/>
        </p:nvGrpSpPr>
        <p:grpSpPr>
          <a:xfrm>
            <a:off x="3894120" y="1441440"/>
            <a:ext cx="2322360" cy="1224360"/>
            <a:chOff x="3894120" y="1441440"/>
            <a:chExt cx="2322360" cy="1224360"/>
          </a:xfrm>
        </p:grpSpPr>
        <p:sp>
          <p:nvSpPr>
            <p:cNvPr id="107" name="矩形 21"/>
            <p:cNvSpPr/>
            <p:nvPr/>
          </p:nvSpPr>
          <p:spPr>
            <a:xfrm>
              <a:off x="3894120" y="1841760"/>
              <a:ext cx="2322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4546a"/>
                  </a:solidFill>
                  <a:latin typeface="Arial"/>
                  <a:ea typeface="宋体"/>
                </a:rPr>
                <a:t>The Monocle Guide to Good Business follows up on the success of The Monocle Guide to Better Living. </a:t>
              </a:r>
              <a:endParaRPr b="0" lang="en-US" sz="1200" spc="-1" strike="noStrike">
                <a:solidFill>
                  <a:srgbClr val="000000"/>
                </a:solidFill>
                <a:latin typeface="Arial"/>
              </a:endParaRPr>
            </a:p>
          </p:txBody>
        </p:sp>
        <p:sp>
          <p:nvSpPr>
            <p:cNvPr id="108" name="文本框 22"/>
            <p:cNvSpPr/>
            <p:nvPr/>
          </p:nvSpPr>
          <p:spPr>
            <a:xfrm>
              <a:off x="4271400" y="1441440"/>
              <a:ext cx="158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546a"/>
                  </a:solidFill>
                  <a:latin typeface="Times New Roman"/>
                  <a:ea typeface="宋体"/>
                </a:rPr>
                <a:t>CONTENTS</a:t>
              </a:r>
              <a:endParaRPr b="0" lang="en-US" sz="2000" spc="-1" strike="noStrike">
                <a:solidFill>
                  <a:srgbClr val="000000"/>
                </a:solidFill>
                <a:latin typeface="Arial"/>
              </a:endParaRPr>
            </a:p>
          </p:txBody>
        </p:sp>
      </p:grpSp>
      <p:grpSp>
        <p:nvGrpSpPr>
          <p:cNvPr id="109" name="组合 23"/>
          <p:cNvGrpSpPr/>
          <p:nvPr/>
        </p:nvGrpSpPr>
        <p:grpSpPr>
          <a:xfrm>
            <a:off x="5810400" y="4713120"/>
            <a:ext cx="2323800" cy="1224000"/>
            <a:chOff x="5810400" y="4713120"/>
            <a:chExt cx="2323800" cy="1224000"/>
          </a:xfrm>
        </p:grpSpPr>
        <p:sp>
          <p:nvSpPr>
            <p:cNvPr id="110" name="矩形 24"/>
            <p:cNvSpPr/>
            <p:nvPr/>
          </p:nvSpPr>
          <p:spPr>
            <a:xfrm>
              <a:off x="5810400" y="5113080"/>
              <a:ext cx="23238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44546a"/>
                  </a:solidFill>
                  <a:latin typeface="Arial"/>
                  <a:ea typeface="宋体"/>
                </a:rPr>
                <a:t>The Monocle Guide to Good Business follows up on the success of The Monocle Guide to Better Living. </a:t>
              </a:r>
              <a:endParaRPr b="0" lang="en-US" sz="1200" spc="-1" strike="noStrike">
                <a:solidFill>
                  <a:srgbClr val="000000"/>
                </a:solidFill>
                <a:latin typeface="Arial"/>
              </a:endParaRPr>
            </a:p>
          </p:txBody>
        </p:sp>
        <p:sp>
          <p:nvSpPr>
            <p:cNvPr id="111" name="文本框 25"/>
            <p:cNvSpPr/>
            <p:nvPr/>
          </p:nvSpPr>
          <p:spPr>
            <a:xfrm>
              <a:off x="6187680" y="4713120"/>
              <a:ext cx="158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546a"/>
                  </a:solidFill>
                  <a:latin typeface="Times New Roman"/>
                  <a:ea typeface="宋体"/>
                </a:rPr>
                <a:t>CONTENT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 descr=""/>
          <p:cNvPicPr/>
          <p:nvPr/>
        </p:nvPicPr>
        <p:blipFill>
          <a:blip r:embed="rId1"/>
          <a:srcRect l="1098" t="0" r="-75" b="21966"/>
          <a:stretch/>
        </p:blipFill>
        <p:spPr>
          <a:xfrm>
            <a:off x="0" y="0"/>
            <a:ext cx="9144000" cy="6858000"/>
          </a:xfrm>
          <a:prstGeom prst="rect">
            <a:avLst/>
          </a:prstGeom>
          <a:ln w="0">
            <a:noFill/>
          </a:ln>
        </p:spPr>
      </p:pic>
      <p:sp>
        <p:nvSpPr>
          <p:cNvPr id="113"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grpSp>
        <p:nvGrpSpPr>
          <p:cNvPr id="115" name="组合 2"/>
          <p:cNvGrpSpPr/>
          <p:nvPr/>
        </p:nvGrpSpPr>
        <p:grpSpPr>
          <a:xfrm>
            <a:off x="546120" y="1527480"/>
            <a:ext cx="3561840" cy="4326480"/>
            <a:chOff x="546120" y="1527480"/>
            <a:chExt cx="3561840" cy="4326480"/>
          </a:xfrm>
        </p:grpSpPr>
        <p:sp>
          <p:nvSpPr>
            <p:cNvPr id="116" name="任意多边形 5"/>
            <p:cNvSpPr/>
            <p:nvPr/>
          </p:nvSpPr>
          <p:spPr>
            <a:xfrm rot="859800">
              <a:off x="608400" y="1573560"/>
              <a:ext cx="442080" cy="553320"/>
            </a:xfrm>
            <a:custGeom>
              <a:avLst/>
              <a:gdLst/>
              <a:ahLst/>
              <a:rect l="l" t="t" r="r" b="b"/>
              <a:pathLst>
                <a:path w="370984" h="463976">
                  <a:moveTo>
                    <a:pt x="340084" y="0"/>
                  </a:moveTo>
                  <a:lnTo>
                    <a:pt x="0" y="463976"/>
                  </a:lnTo>
                  <a:lnTo>
                    <a:pt x="370984" y="413176"/>
                  </a:lnTo>
                  <a:lnTo>
                    <a:pt x="340084" y="0"/>
                  </a:lnTo>
                  <a:close/>
                </a:path>
              </a:pathLst>
            </a:custGeom>
            <a:solidFill>
              <a:srgbClr val="8296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6"/>
            <p:cNvSpPr/>
            <p:nvPr/>
          </p:nvSpPr>
          <p:spPr>
            <a:xfrm rot="859800">
              <a:off x="617760" y="2654640"/>
              <a:ext cx="413280" cy="632520"/>
            </a:xfrm>
            <a:custGeom>
              <a:avLst/>
              <a:gdLst/>
              <a:ahLst/>
              <a:rect l="l" t="t" r="r" b="b"/>
              <a:pathLst>
                <a:path w="345584" h="530061">
                  <a:moveTo>
                    <a:pt x="0" y="530061"/>
                  </a:moveTo>
                  <a:lnTo>
                    <a:pt x="190500" y="0"/>
                  </a:lnTo>
                  <a:lnTo>
                    <a:pt x="345584" y="441161"/>
                  </a:lnTo>
                  <a:lnTo>
                    <a:pt x="0" y="530061"/>
                  </a:lnTo>
                  <a:close/>
                </a:path>
              </a:pathLst>
            </a:custGeom>
            <a:solidFill>
              <a:srgbClr val="4454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7"/>
            <p:cNvSpPr/>
            <p:nvPr/>
          </p:nvSpPr>
          <p:spPr>
            <a:xfrm rot="859800">
              <a:off x="904320" y="3818880"/>
              <a:ext cx="386280" cy="659520"/>
            </a:xfrm>
            <a:custGeom>
              <a:avLst/>
              <a:gdLst/>
              <a:ahLst/>
              <a:rect l="l" t="t" r="r" b="b"/>
              <a:pathLst>
                <a:path w="323850" h="552450">
                  <a:moveTo>
                    <a:pt x="63500" y="0"/>
                  </a:moveTo>
                  <a:lnTo>
                    <a:pt x="0" y="552450"/>
                  </a:lnTo>
                  <a:lnTo>
                    <a:pt x="323850" y="374650"/>
                  </a:lnTo>
                  <a:lnTo>
                    <a:pt x="63500" y="0"/>
                  </a:lnTo>
                  <a:close/>
                </a:path>
              </a:pathLst>
            </a:custGeom>
            <a:solidFill>
              <a:srgbClr val="222a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8"/>
            <p:cNvSpPr/>
            <p:nvPr/>
          </p:nvSpPr>
          <p:spPr>
            <a:xfrm rot="665400">
              <a:off x="1409040" y="4986360"/>
              <a:ext cx="433080" cy="666720"/>
            </a:xfrm>
            <a:custGeom>
              <a:avLst/>
              <a:gdLst/>
              <a:ahLst/>
              <a:rect l="l" t="t" r="r" b="b"/>
              <a:pathLst>
                <a:path w="361950" h="558800">
                  <a:moveTo>
                    <a:pt x="0" y="0"/>
                  </a:moveTo>
                  <a:lnTo>
                    <a:pt x="114300" y="558800"/>
                  </a:lnTo>
                  <a:lnTo>
                    <a:pt x="361950" y="349250"/>
                  </a:lnTo>
                  <a:lnTo>
                    <a:pt x="0" y="0"/>
                  </a:lnTo>
                  <a:close/>
                </a:path>
              </a:pathLst>
            </a:custGeom>
            <a:solidFill>
              <a:srgbClr val="1716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9"/>
            <p:cNvSpPr/>
            <p:nvPr/>
          </p:nvSpPr>
          <p:spPr>
            <a:xfrm rot="574200">
              <a:off x="982440" y="1802880"/>
              <a:ext cx="2233080" cy="875160"/>
            </a:xfrm>
            <a:prstGeom prst="pie">
              <a:avLst/>
            </a:prstGeom>
            <a:solidFill>
              <a:srgbClr val="acb8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宋体"/>
                </a:rPr>
                <a:t>CONTENTS</a:t>
              </a:r>
              <a:endParaRPr b="0" lang="en-US" sz="2400" spc="-1" strike="noStrike">
                <a:solidFill>
                  <a:srgbClr val="000000"/>
                </a:solidFill>
                <a:latin typeface="Arial"/>
              </a:endParaRPr>
            </a:p>
          </p:txBody>
        </p:sp>
        <p:sp>
          <p:nvSpPr>
            <p:cNvPr id="121" name="任意多边形 10"/>
            <p:cNvSpPr/>
            <p:nvPr/>
          </p:nvSpPr>
          <p:spPr>
            <a:xfrm rot="21492000">
              <a:off x="934560" y="2633760"/>
              <a:ext cx="2323080" cy="903960"/>
            </a:xfrm>
            <a:prstGeom prst="pie">
              <a:avLst/>
            </a:prstGeom>
            <a:solidFill>
              <a:srgbClr val="8296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宋体"/>
                </a:rPr>
                <a:t>CONTENTS</a:t>
              </a:r>
              <a:endParaRPr b="0" lang="en-US" sz="2400" spc="-1" strike="noStrike">
                <a:solidFill>
                  <a:srgbClr val="000000"/>
                </a:solidFill>
                <a:latin typeface="Arial"/>
              </a:endParaRPr>
            </a:p>
          </p:txBody>
        </p:sp>
        <p:sp>
          <p:nvSpPr>
            <p:cNvPr id="122" name="任意多边形 11"/>
            <p:cNvSpPr/>
            <p:nvPr/>
          </p:nvSpPr>
          <p:spPr>
            <a:xfrm rot="20902800">
              <a:off x="1133640" y="3554280"/>
              <a:ext cx="2355480" cy="921960"/>
            </a:xfrm>
            <a:prstGeom prst="pie">
              <a:avLst/>
            </a:prstGeom>
            <a:solidFill>
              <a:srgbClr val="4454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宋体"/>
                </a:rPr>
                <a:t>CONTENTS</a:t>
              </a:r>
              <a:endParaRPr b="0" lang="en-US" sz="2400" spc="-1" strike="noStrike">
                <a:solidFill>
                  <a:srgbClr val="000000"/>
                </a:solidFill>
                <a:latin typeface="Arial"/>
              </a:endParaRPr>
            </a:p>
          </p:txBody>
        </p:sp>
        <p:sp>
          <p:nvSpPr>
            <p:cNvPr id="123" name="任意多边形 12"/>
            <p:cNvSpPr/>
            <p:nvPr/>
          </p:nvSpPr>
          <p:spPr>
            <a:xfrm rot="20077200">
              <a:off x="1574280" y="4378680"/>
              <a:ext cx="2436480" cy="1001160"/>
            </a:xfrm>
            <a:prstGeom prst="pie">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宋体"/>
                </a:rPr>
                <a:t>CONTENTS</a:t>
              </a:r>
              <a:endParaRPr b="0" lang="en-US" sz="2400" spc="-1" strike="noStrike">
                <a:solidFill>
                  <a:srgbClr val="000000"/>
                </a:solidFill>
                <a:latin typeface="Arial"/>
              </a:endParaRPr>
            </a:p>
          </p:txBody>
        </p:sp>
      </p:grpSp>
      <p:sp>
        <p:nvSpPr>
          <p:cNvPr id="124" name="矩形 13"/>
          <p:cNvSpPr/>
          <p:nvPr/>
        </p:nvSpPr>
        <p:spPr>
          <a:xfrm>
            <a:off x="4213080" y="2073240"/>
            <a:ext cx="437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
        <p:nvSpPr>
          <p:cNvPr id="125" name="矩形 14"/>
          <p:cNvSpPr/>
          <p:nvPr/>
        </p:nvSpPr>
        <p:spPr>
          <a:xfrm>
            <a:off x="4213080" y="2862360"/>
            <a:ext cx="437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
        <p:nvSpPr>
          <p:cNvPr id="126" name="矩形 15"/>
          <p:cNvSpPr/>
          <p:nvPr/>
        </p:nvSpPr>
        <p:spPr>
          <a:xfrm>
            <a:off x="4213080" y="3651120"/>
            <a:ext cx="437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
        <p:nvSpPr>
          <p:cNvPr id="127" name="矩形 16"/>
          <p:cNvSpPr/>
          <p:nvPr/>
        </p:nvSpPr>
        <p:spPr>
          <a:xfrm>
            <a:off x="4213080" y="4441680"/>
            <a:ext cx="4375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
        <p:nvSpPr>
          <p:cNvPr id="128" name="文本框 5137"/>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a:t>
            </a:r>
            <a:r>
              <a:rPr b="0" lang="zh-CN" sz="1600" spc="-1" strike="noStrike" u="sng">
                <a:solidFill>
                  <a:srgbClr val="0563c1"/>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图片 3" descr=""/>
          <p:cNvPicPr/>
          <p:nvPr/>
        </p:nvPicPr>
        <p:blipFill>
          <a:blip r:embed="rId1"/>
          <a:srcRect l="1098" t="0" r="-75" b="21966"/>
          <a:stretch/>
        </p:blipFill>
        <p:spPr>
          <a:xfrm>
            <a:off x="0" y="0"/>
            <a:ext cx="9144000" cy="6858000"/>
          </a:xfrm>
          <a:prstGeom prst="rect">
            <a:avLst/>
          </a:prstGeom>
          <a:ln w="0">
            <a:noFill/>
          </a:ln>
        </p:spPr>
      </p:pic>
      <p:sp>
        <p:nvSpPr>
          <p:cNvPr id="130"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grpSp>
        <p:nvGrpSpPr>
          <p:cNvPr id="132" name="组合 2"/>
          <p:cNvGrpSpPr/>
          <p:nvPr/>
        </p:nvGrpSpPr>
        <p:grpSpPr>
          <a:xfrm>
            <a:off x="1195200" y="1522440"/>
            <a:ext cx="6641280" cy="4476240"/>
            <a:chOff x="1195200" y="1522440"/>
            <a:chExt cx="6641280" cy="4476240"/>
          </a:xfrm>
        </p:grpSpPr>
        <p:sp>
          <p:nvSpPr>
            <p:cNvPr id="133" name="KSO_GN1"/>
            <p:cNvSpPr/>
            <p:nvPr/>
          </p:nvSpPr>
          <p:spPr>
            <a:xfrm flipH="1">
              <a:off x="4426560" y="1916280"/>
              <a:ext cx="622800" cy="4273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db9ca"/>
                  </a:solidFill>
                  <a:latin typeface="Arial Rounded MT Bold"/>
                  <a:ea typeface="微软雅黑"/>
                </a:rPr>
                <a:t>01</a:t>
              </a:r>
              <a:endParaRPr b="0" lang="en-US" sz="3200" spc="-1" strike="noStrike">
                <a:solidFill>
                  <a:srgbClr val="000000"/>
                </a:solidFill>
                <a:latin typeface="Arial"/>
              </a:endParaRPr>
            </a:p>
          </p:txBody>
        </p:sp>
        <p:sp>
          <p:nvSpPr>
            <p:cNvPr id="134" name="KSO_GN2"/>
            <p:cNvSpPr/>
            <p:nvPr/>
          </p:nvSpPr>
          <p:spPr>
            <a:xfrm flipH="1">
              <a:off x="3417120" y="3227760"/>
              <a:ext cx="622800" cy="4273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497b0"/>
                  </a:solidFill>
                  <a:latin typeface="Arial Rounded MT Bold"/>
                  <a:ea typeface="微软雅黑"/>
                </a:rPr>
                <a:t>02</a:t>
              </a:r>
              <a:endParaRPr b="0" lang="en-US" sz="3200" spc="-1" strike="noStrike">
                <a:solidFill>
                  <a:srgbClr val="000000"/>
                </a:solidFill>
                <a:latin typeface="Arial"/>
              </a:endParaRPr>
            </a:p>
          </p:txBody>
        </p:sp>
        <p:sp>
          <p:nvSpPr>
            <p:cNvPr id="135" name="KSO_GN3"/>
            <p:cNvSpPr/>
            <p:nvPr/>
          </p:nvSpPr>
          <p:spPr>
            <a:xfrm flipH="1">
              <a:off x="5119920" y="3869640"/>
              <a:ext cx="622800" cy="4273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4546a"/>
                  </a:solidFill>
                  <a:latin typeface="Arial Rounded MT Bold"/>
                  <a:ea typeface="微软雅黑"/>
                </a:rPr>
                <a:t>03</a:t>
              </a:r>
              <a:endParaRPr b="0" lang="en-US" sz="3200" spc="-1" strike="noStrike">
                <a:solidFill>
                  <a:srgbClr val="000000"/>
                </a:solidFill>
                <a:latin typeface="Arial"/>
              </a:endParaRPr>
            </a:p>
          </p:txBody>
        </p:sp>
        <p:sp>
          <p:nvSpPr>
            <p:cNvPr id="136" name="KSO_GN4"/>
            <p:cNvSpPr/>
            <p:nvPr/>
          </p:nvSpPr>
          <p:spPr>
            <a:xfrm flipH="1">
              <a:off x="3978360" y="5287680"/>
              <a:ext cx="622800" cy="42732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f50"/>
                  </a:solidFill>
                  <a:latin typeface="Arial Rounded MT Bold"/>
                  <a:ea typeface="微软雅黑"/>
                </a:rPr>
                <a:t>04</a:t>
              </a:r>
              <a:endParaRPr b="0" lang="en-US" sz="3200" spc="-1" strike="noStrike">
                <a:solidFill>
                  <a:srgbClr val="000000"/>
                </a:solidFill>
                <a:latin typeface="Arial"/>
              </a:endParaRPr>
            </a:p>
          </p:txBody>
        </p:sp>
        <p:sp>
          <p:nvSpPr>
            <p:cNvPr id="137" name="任意多边形 9"/>
            <p:cNvSpPr/>
            <p:nvPr/>
          </p:nvSpPr>
          <p:spPr>
            <a:xfrm rot="20329800">
              <a:off x="1274760" y="2097720"/>
              <a:ext cx="3386880" cy="1074600"/>
            </a:xfrm>
            <a:custGeom>
              <a:avLst/>
              <a:gdLst/>
              <a:ahLst/>
              <a:rect l="l" t="t" r="r" b="b"/>
              <a:pathLst>
                <a:path w="3131463" h="993350">
                  <a:moveTo>
                    <a:pt x="3131463" y="7340"/>
                  </a:moveTo>
                  <a:lnTo>
                    <a:pt x="2740455" y="992187"/>
                  </a:lnTo>
                  <a:lnTo>
                    <a:pt x="0" y="993350"/>
                  </a:lnTo>
                  <a:lnTo>
                    <a:pt x="375274" y="0"/>
                  </a:lnTo>
                  <a:lnTo>
                    <a:pt x="3131463" y="7340"/>
                  </a:lnTo>
                  <a:close/>
                </a:path>
              </a:pathLst>
            </a:custGeom>
            <a:solidFill>
              <a:srgbClr val="adb9ca"/>
            </a:solidFill>
            <a:ln w="0">
              <a:noFill/>
            </a:ln>
          </p:spPr>
          <p:style>
            <a:lnRef idx="0"/>
            <a:fillRef idx="0"/>
            <a:effectRef idx="0"/>
            <a:fontRef idx="minor"/>
          </p:style>
          <p:txBody>
            <a:bodyPr lIns="360000" rIns="3600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10"/>
            <p:cNvSpPr/>
            <p:nvPr/>
          </p:nvSpPr>
          <p:spPr>
            <a:xfrm rot="20329800">
              <a:off x="3746160" y="2293560"/>
              <a:ext cx="3386880" cy="1072800"/>
            </a:xfrm>
            <a:custGeom>
              <a:avLst/>
              <a:gdLst/>
              <a:ahLst/>
              <a:rect l="l" t="t" r="r" b="b"/>
              <a:pathLst>
                <a:path w="3131463" h="993350">
                  <a:moveTo>
                    <a:pt x="3131463" y="7340"/>
                  </a:moveTo>
                  <a:lnTo>
                    <a:pt x="2740455" y="992187"/>
                  </a:lnTo>
                  <a:lnTo>
                    <a:pt x="0" y="993350"/>
                  </a:lnTo>
                  <a:lnTo>
                    <a:pt x="375274" y="0"/>
                  </a:lnTo>
                  <a:lnTo>
                    <a:pt x="3131463" y="7340"/>
                  </a:lnTo>
                  <a:close/>
                </a:path>
              </a:pathLst>
            </a:custGeom>
            <a:solidFill>
              <a:srgbClr val="8497b0"/>
            </a:solidFill>
            <a:ln w="0">
              <a:noFill/>
            </a:ln>
          </p:spPr>
          <p:style>
            <a:lnRef idx="0"/>
            <a:fillRef idx="0"/>
            <a:effectRef idx="0"/>
            <a:fontRef idx="minor"/>
          </p:style>
          <p:txBody>
            <a:bodyPr lIns="360000" rIns="3600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任意多边形 11"/>
            <p:cNvSpPr/>
            <p:nvPr/>
          </p:nvSpPr>
          <p:spPr>
            <a:xfrm rot="20329800">
              <a:off x="1965960" y="4130280"/>
              <a:ext cx="3385080" cy="1074600"/>
            </a:xfrm>
            <a:custGeom>
              <a:avLst/>
              <a:gdLst/>
              <a:ahLst/>
              <a:rect l="l" t="t" r="r" b="b"/>
              <a:pathLst>
                <a:path w="3131463" h="993350">
                  <a:moveTo>
                    <a:pt x="3131463" y="7340"/>
                  </a:moveTo>
                  <a:lnTo>
                    <a:pt x="2740455" y="992187"/>
                  </a:lnTo>
                  <a:lnTo>
                    <a:pt x="0" y="993350"/>
                  </a:lnTo>
                  <a:lnTo>
                    <a:pt x="375274" y="0"/>
                  </a:lnTo>
                  <a:lnTo>
                    <a:pt x="3131463" y="7340"/>
                  </a:lnTo>
                  <a:close/>
                </a:path>
              </a:pathLst>
            </a:custGeom>
            <a:solidFill>
              <a:srgbClr val="44546a"/>
            </a:solidFill>
            <a:ln w="0">
              <a:noFill/>
            </a:ln>
          </p:spPr>
          <p:style>
            <a:lnRef idx="0"/>
            <a:fillRef idx="0"/>
            <a:effectRef idx="0"/>
            <a:fontRef idx="minor"/>
          </p:style>
          <p:txBody>
            <a:bodyPr lIns="360000" rIns="3600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任意多边形 12"/>
            <p:cNvSpPr/>
            <p:nvPr/>
          </p:nvSpPr>
          <p:spPr>
            <a:xfrm rot="20329800">
              <a:off x="4369680" y="4348440"/>
              <a:ext cx="3386880" cy="1074600"/>
            </a:xfrm>
            <a:custGeom>
              <a:avLst/>
              <a:gdLst/>
              <a:ahLst/>
              <a:rect l="l" t="t" r="r" b="b"/>
              <a:pathLst>
                <a:path w="3131463" h="993350">
                  <a:moveTo>
                    <a:pt x="3131463" y="7340"/>
                  </a:moveTo>
                  <a:lnTo>
                    <a:pt x="2740455" y="992187"/>
                  </a:lnTo>
                  <a:lnTo>
                    <a:pt x="0" y="993350"/>
                  </a:lnTo>
                  <a:lnTo>
                    <a:pt x="375274" y="0"/>
                  </a:lnTo>
                  <a:lnTo>
                    <a:pt x="3131463" y="7340"/>
                  </a:lnTo>
                  <a:close/>
                </a:path>
              </a:pathLst>
            </a:custGeom>
            <a:solidFill>
              <a:srgbClr val="333f50"/>
            </a:solidFill>
            <a:ln w="0">
              <a:noFill/>
            </a:ln>
          </p:spPr>
          <p:style>
            <a:lnRef idx="0"/>
            <a:fillRef idx="0"/>
            <a:effectRef idx="0"/>
            <a:fontRef idx="minor"/>
          </p:style>
          <p:txBody>
            <a:bodyPr lIns="360000" rIns="360000" tIns="0" bIns="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矩形 22"/>
          <p:cNvSpPr/>
          <p:nvPr/>
        </p:nvSpPr>
        <p:spPr>
          <a:xfrm rot="20364600">
            <a:off x="1770480" y="2244240"/>
            <a:ext cx="2608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The Monocle Guide to Good Business follows up on the success of The</a:t>
            </a:r>
            <a:endParaRPr b="0" lang="en-US" sz="1400" spc="-1" strike="noStrike">
              <a:solidFill>
                <a:srgbClr val="000000"/>
              </a:solidFill>
              <a:latin typeface="Arial"/>
            </a:endParaRPr>
          </a:p>
        </p:txBody>
      </p:sp>
      <p:sp>
        <p:nvSpPr>
          <p:cNvPr id="142" name="矩形 23"/>
          <p:cNvSpPr/>
          <p:nvPr/>
        </p:nvSpPr>
        <p:spPr>
          <a:xfrm rot="20364600">
            <a:off x="4271040" y="2409480"/>
            <a:ext cx="2608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The Monocle Guide to Good Business follows up on the success of The</a:t>
            </a:r>
            <a:endParaRPr b="0" lang="en-US" sz="1400" spc="-1" strike="noStrike">
              <a:solidFill>
                <a:srgbClr val="000000"/>
              </a:solidFill>
              <a:latin typeface="Arial"/>
            </a:endParaRPr>
          </a:p>
        </p:txBody>
      </p:sp>
      <p:sp>
        <p:nvSpPr>
          <p:cNvPr id="143" name="矩形 24"/>
          <p:cNvSpPr/>
          <p:nvPr/>
        </p:nvSpPr>
        <p:spPr>
          <a:xfrm rot="20364600">
            <a:off x="2462760" y="4284720"/>
            <a:ext cx="2609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The Monocle Guide to Good Business follows up on the success of The</a:t>
            </a:r>
            <a:endParaRPr b="0" lang="en-US" sz="1400" spc="-1" strike="noStrike">
              <a:solidFill>
                <a:srgbClr val="000000"/>
              </a:solidFill>
              <a:latin typeface="Arial"/>
            </a:endParaRPr>
          </a:p>
        </p:txBody>
      </p:sp>
      <p:sp>
        <p:nvSpPr>
          <p:cNvPr id="144" name="矩形 25"/>
          <p:cNvSpPr/>
          <p:nvPr/>
        </p:nvSpPr>
        <p:spPr>
          <a:xfrm rot="20364600">
            <a:off x="4874040" y="4481280"/>
            <a:ext cx="2608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宋体"/>
              </a:rPr>
              <a:t>The Monocle Guide to Good Business follows up on the success of Th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图片 3" descr=""/>
          <p:cNvPicPr/>
          <p:nvPr/>
        </p:nvPicPr>
        <p:blipFill>
          <a:blip r:embed="rId1"/>
          <a:srcRect l="1098" t="0" r="-75" b="21966"/>
          <a:stretch/>
        </p:blipFill>
        <p:spPr>
          <a:xfrm>
            <a:off x="0" y="0"/>
            <a:ext cx="9144000" cy="6858000"/>
          </a:xfrm>
          <a:prstGeom prst="rect">
            <a:avLst/>
          </a:prstGeom>
          <a:ln w="0">
            <a:noFill/>
          </a:ln>
        </p:spPr>
      </p:pic>
      <p:sp>
        <p:nvSpPr>
          <p:cNvPr id="146"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grpSp>
        <p:nvGrpSpPr>
          <p:cNvPr id="148" name="组合 2"/>
          <p:cNvGrpSpPr/>
          <p:nvPr/>
        </p:nvGrpSpPr>
        <p:grpSpPr>
          <a:xfrm>
            <a:off x="90360" y="2184480"/>
            <a:ext cx="8977320" cy="3260520"/>
            <a:chOff x="90360" y="2184480"/>
            <a:chExt cx="8977320" cy="3260520"/>
          </a:xfrm>
        </p:grpSpPr>
        <p:sp>
          <p:nvSpPr>
            <p:cNvPr id="149" name="流程图: 数据 5"/>
            <p:cNvSpPr/>
            <p:nvPr/>
          </p:nvSpPr>
          <p:spPr>
            <a:xfrm>
              <a:off x="887760" y="2465280"/>
              <a:ext cx="2030400" cy="1096560"/>
            </a:xfrm>
            <a:custGeom>
              <a:avLst/>
              <a:gdLst/>
              <a:ahLst/>
              <a:rect l="l" t="t" r="r" b="b"/>
              <a:pathLst>
                <a:path w="16366" h="13132">
                  <a:moveTo>
                    <a:pt x="0" y="7246"/>
                  </a:moveTo>
                  <a:lnTo>
                    <a:pt x="10250" y="0"/>
                  </a:lnTo>
                  <a:lnTo>
                    <a:pt x="16366" y="3836"/>
                  </a:lnTo>
                  <a:lnTo>
                    <a:pt x="3412" y="13132"/>
                  </a:lnTo>
                  <a:lnTo>
                    <a:pt x="0" y="7246"/>
                  </a:lnTo>
                  <a:close/>
                </a:path>
              </a:pathLst>
            </a:custGeom>
            <a:solidFill>
              <a:srgbClr val="ddeaf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流程图: 数据 5"/>
            <p:cNvSpPr/>
            <p:nvPr/>
          </p:nvSpPr>
          <p:spPr>
            <a:xfrm>
              <a:off x="1692720" y="3351600"/>
              <a:ext cx="2030400" cy="1096560"/>
            </a:xfrm>
            <a:custGeom>
              <a:avLst/>
              <a:gdLst/>
              <a:ahLst/>
              <a:rect l="l" t="t" r="r" b="b"/>
              <a:pathLst>
                <a:path w="16366" h="13132">
                  <a:moveTo>
                    <a:pt x="0" y="7246"/>
                  </a:moveTo>
                  <a:lnTo>
                    <a:pt x="10250" y="0"/>
                  </a:lnTo>
                  <a:lnTo>
                    <a:pt x="16366" y="3836"/>
                  </a:lnTo>
                  <a:lnTo>
                    <a:pt x="3412" y="13132"/>
                  </a:lnTo>
                  <a:lnTo>
                    <a:pt x="0" y="7246"/>
                  </a:lnTo>
                  <a:close/>
                </a:path>
              </a:pathLst>
            </a:custGeom>
            <a:solidFill>
              <a:srgbClr val="9cc2e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流程图: 数据 5"/>
            <p:cNvSpPr/>
            <p:nvPr/>
          </p:nvSpPr>
          <p:spPr>
            <a:xfrm>
              <a:off x="2490480" y="4236120"/>
              <a:ext cx="2030400" cy="1098360"/>
            </a:xfrm>
            <a:custGeom>
              <a:avLst/>
              <a:gdLst/>
              <a:ahLst/>
              <a:rect l="l" t="t" r="r" b="b"/>
              <a:pathLst>
                <a:path w="16366" h="13132">
                  <a:moveTo>
                    <a:pt x="0" y="7246"/>
                  </a:moveTo>
                  <a:lnTo>
                    <a:pt x="10250" y="0"/>
                  </a:lnTo>
                  <a:lnTo>
                    <a:pt x="16366" y="3836"/>
                  </a:lnTo>
                  <a:lnTo>
                    <a:pt x="3412" y="13132"/>
                  </a:lnTo>
                  <a:lnTo>
                    <a:pt x="0" y="7246"/>
                  </a:lnTo>
                  <a:close/>
                </a:path>
              </a:pathLst>
            </a:custGeom>
            <a:solidFill>
              <a:srgbClr val="1e4e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8"/>
            <p:cNvSpPr/>
            <p:nvPr/>
          </p:nvSpPr>
          <p:spPr>
            <a:xfrm flipH="1">
              <a:off x="2490480" y="4841640"/>
              <a:ext cx="2828160" cy="603360"/>
            </a:xfrm>
            <a:prstGeom prst="rect">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宋体"/>
                </a:rPr>
                <a:t>CONTENTS</a:t>
              </a:r>
              <a:endParaRPr b="0" lang="en-US" sz="1800" spc="-1" strike="noStrike">
                <a:solidFill>
                  <a:srgbClr val="000000"/>
                </a:solidFill>
                <a:latin typeface="Arial"/>
              </a:endParaRPr>
            </a:p>
          </p:txBody>
        </p:sp>
        <p:sp>
          <p:nvSpPr>
            <p:cNvPr id="153" name="矩形 9"/>
            <p:cNvSpPr/>
            <p:nvPr/>
          </p:nvSpPr>
          <p:spPr>
            <a:xfrm flipH="1">
              <a:off x="1692720" y="3957120"/>
              <a:ext cx="2828160" cy="601560"/>
            </a:xfrm>
            <a:prstGeom prst="rect">
              <a:avLst/>
            </a:prstGeom>
            <a:solidFill>
              <a:srgbClr val="4454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宋体"/>
                </a:rPr>
                <a:t>CONTENTS</a:t>
              </a:r>
              <a:endParaRPr b="0" lang="en-US" sz="1800" spc="-1" strike="noStrike">
                <a:solidFill>
                  <a:srgbClr val="000000"/>
                </a:solidFill>
                <a:latin typeface="Arial"/>
              </a:endParaRPr>
            </a:p>
          </p:txBody>
        </p:sp>
        <p:sp>
          <p:nvSpPr>
            <p:cNvPr id="154" name="矩形 10"/>
            <p:cNvSpPr/>
            <p:nvPr/>
          </p:nvSpPr>
          <p:spPr>
            <a:xfrm flipH="1">
              <a:off x="894960" y="3070800"/>
              <a:ext cx="2828160" cy="603360"/>
            </a:xfrm>
            <a:prstGeom prst="rect">
              <a:avLst/>
            </a:prstGeom>
            <a:solidFill>
              <a:srgbClr val="8296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宋体"/>
                </a:rPr>
                <a:t>CONTENTS</a:t>
              </a:r>
              <a:endParaRPr b="0" lang="en-US" sz="1800" spc="-1" strike="noStrike">
                <a:solidFill>
                  <a:srgbClr val="000000"/>
                </a:solidFill>
                <a:latin typeface="Arial"/>
              </a:endParaRPr>
            </a:p>
          </p:txBody>
        </p:sp>
        <p:sp>
          <p:nvSpPr>
            <p:cNvPr id="155" name="矩形 11"/>
            <p:cNvSpPr/>
            <p:nvPr/>
          </p:nvSpPr>
          <p:spPr>
            <a:xfrm flipH="1">
              <a:off x="90360" y="2184480"/>
              <a:ext cx="2828160" cy="603360"/>
            </a:xfrm>
            <a:prstGeom prst="rect">
              <a:avLst/>
            </a:prstGeom>
            <a:solidFill>
              <a:srgbClr val="acb8c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宋体"/>
                </a:rPr>
                <a:t>CONTENTS</a:t>
              </a:r>
              <a:endParaRPr b="0" lang="en-US" sz="1800" spc="-1" strike="noStrike">
                <a:solidFill>
                  <a:srgbClr val="000000"/>
                </a:solidFill>
                <a:latin typeface="Arial"/>
              </a:endParaRPr>
            </a:p>
          </p:txBody>
        </p:sp>
        <p:sp>
          <p:nvSpPr>
            <p:cNvPr id="156" name="文本框 12"/>
            <p:cNvSpPr/>
            <p:nvPr/>
          </p:nvSpPr>
          <p:spPr>
            <a:xfrm>
              <a:off x="2932920" y="2285640"/>
              <a:ext cx="3741840" cy="33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13"/>
            <p:cNvSpPr/>
            <p:nvPr/>
          </p:nvSpPr>
          <p:spPr>
            <a:xfrm>
              <a:off x="3715920" y="3175920"/>
              <a:ext cx="3741840" cy="33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文本框 14"/>
            <p:cNvSpPr/>
            <p:nvPr/>
          </p:nvSpPr>
          <p:spPr>
            <a:xfrm>
              <a:off x="4542840" y="4065840"/>
              <a:ext cx="3741840" cy="33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文本框 15"/>
            <p:cNvSpPr/>
            <p:nvPr/>
          </p:nvSpPr>
          <p:spPr>
            <a:xfrm>
              <a:off x="5325840" y="4941360"/>
              <a:ext cx="3741840" cy="33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 name="矩形 16"/>
          <p:cNvSpPr/>
          <p:nvPr/>
        </p:nvSpPr>
        <p:spPr>
          <a:xfrm>
            <a:off x="3397320" y="2233440"/>
            <a:ext cx="3587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
        <p:nvSpPr>
          <p:cNvPr id="161" name="矩形 17"/>
          <p:cNvSpPr/>
          <p:nvPr/>
        </p:nvSpPr>
        <p:spPr>
          <a:xfrm>
            <a:off x="3970440" y="3137040"/>
            <a:ext cx="3485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
        <p:nvSpPr>
          <p:cNvPr id="162" name="矩形 18"/>
          <p:cNvSpPr/>
          <p:nvPr/>
        </p:nvSpPr>
        <p:spPr>
          <a:xfrm>
            <a:off x="4905360" y="3989520"/>
            <a:ext cx="3699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
        <p:nvSpPr>
          <p:cNvPr id="163" name="矩形 19"/>
          <p:cNvSpPr/>
          <p:nvPr/>
        </p:nvSpPr>
        <p:spPr>
          <a:xfrm>
            <a:off x="5630760" y="4917960"/>
            <a:ext cx="3662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图片 3" descr=""/>
          <p:cNvPicPr/>
          <p:nvPr/>
        </p:nvPicPr>
        <p:blipFill>
          <a:blip r:embed="rId1"/>
          <a:srcRect l="1098" t="0" r="-75" b="21966"/>
          <a:stretch/>
        </p:blipFill>
        <p:spPr>
          <a:xfrm>
            <a:off x="0" y="0"/>
            <a:ext cx="9144000" cy="6858000"/>
          </a:xfrm>
          <a:prstGeom prst="rect">
            <a:avLst/>
          </a:prstGeom>
          <a:ln w="0">
            <a:noFill/>
          </a:ln>
        </p:spPr>
      </p:pic>
      <p:sp>
        <p:nvSpPr>
          <p:cNvPr id="165"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grpSp>
        <p:nvGrpSpPr>
          <p:cNvPr id="167" name="组合 23"/>
          <p:cNvGrpSpPr/>
          <p:nvPr/>
        </p:nvGrpSpPr>
        <p:grpSpPr>
          <a:xfrm>
            <a:off x="2278080" y="3521160"/>
            <a:ext cx="6342120" cy="3209760"/>
            <a:chOff x="2278080" y="3521160"/>
            <a:chExt cx="6342120" cy="3209760"/>
          </a:xfrm>
        </p:grpSpPr>
        <p:grpSp>
          <p:nvGrpSpPr>
            <p:cNvPr id="168" name="组合 2"/>
            <p:cNvGrpSpPr/>
            <p:nvPr/>
          </p:nvGrpSpPr>
          <p:grpSpPr>
            <a:xfrm>
              <a:off x="2278080" y="3521160"/>
              <a:ext cx="6342120" cy="3209760"/>
              <a:chOff x="2278080" y="3521160"/>
              <a:chExt cx="6342120" cy="3209760"/>
            </a:xfrm>
          </p:grpSpPr>
          <p:sp>
            <p:nvSpPr>
              <p:cNvPr id="169" name="Freeform 4"/>
              <p:cNvSpPr/>
              <p:nvPr/>
            </p:nvSpPr>
            <p:spPr>
              <a:xfrm>
                <a:off x="5286240" y="4077360"/>
                <a:ext cx="2413080" cy="2412000"/>
              </a:xfrm>
              <a:custGeom>
                <a:avLst/>
                <a:gdLst/>
                <a:ahLst/>
                <a:rect l="l" t="t" r="r" b="b"/>
                <a:pathLst>
                  <a:path w="2628619" h="2628031">
                    <a:moveTo>
                      <a:pt x="1316980" y="400615"/>
                    </a:moveTo>
                    <a:cubicBezTo>
                      <a:pt x="813885" y="400615"/>
                      <a:pt x="406046" y="809559"/>
                      <a:pt x="406046" y="1314016"/>
                    </a:cubicBezTo>
                    <a:cubicBezTo>
                      <a:pt x="406046" y="1818473"/>
                      <a:pt x="813885" y="2227417"/>
                      <a:pt x="1316980" y="2227417"/>
                    </a:cubicBezTo>
                    <a:cubicBezTo>
                      <a:pt x="1820075" y="2227417"/>
                      <a:pt x="2227914" y="1818473"/>
                      <a:pt x="2227914" y="1314016"/>
                    </a:cubicBezTo>
                    <a:cubicBezTo>
                      <a:pt x="2227914" y="809559"/>
                      <a:pt x="1820075" y="400615"/>
                      <a:pt x="1316980" y="400615"/>
                    </a:cubicBezTo>
                    <a:close/>
                    <a:moveTo>
                      <a:pt x="1151586" y="0"/>
                    </a:moveTo>
                    <a:lnTo>
                      <a:pt x="1254227" y="145306"/>
                    </a:lnTo>
                    <a:lnTo>
                      <a:pt x="1316813" y="142801"/>
                    </a:lnTo>
                    <a:lnTo>
                      <a:pt x="1379399" y="145306"/>
                    </a:lnTo>
                    <a:lnTo>
                      <a:pt x="1482041" y="0"/>
                    </a:lnTo>
                    <a:lnTo>
                      <a:pt x="1522096" y="5011"/>
                    </a:lnTo>
                    <a:lnTo>
                      <a:pt x="1564654" y="12526"/>
                    </a:lnTo>
                    <a:lnTo>
                      <a:pt x="1617227" y="182885"/>
                    </a:lnTo>
                    <a:lnTo>
                      <a:pt x="1679813" y="200422"/>
                    </a:lnTo>
                    <a:lnTo>
                      <a:pt x="1707351" y="210443"/>
                    </a:lnTo>
                    <a:lnTo>
                      <a:pt x="1737392" y="220464"/>
                    </a:lnTo>
                    <a:lnTo>
                      <a:pt x="1880089" y="115243"/>
                    </a:lnTo>
                    <a:lnTo>
                      <a:pt x="1917640" y="132780"/>
                    </a:lnTo>
                    <a:lnTo>
                      <a:pt x="1955192" y="152822"/>
                    </a:lnTo>
                    <a:lnTo>
                      <a:pt x="1952689" y="333201"/>
                    </a:lnTo>
                    <a:lnTo>
                      <a:pt x="2002758" y="368275"/>
                    </a:lnTo>
                    <a:lnTo>
                      <a:pt x="2027792" y="388317"/>
                    </a:lnTo>
                    <a:lnTo>
                      <a:pt x="2052827" y="405854"/>
                    </a:lnTo>
                    <a:lnTo>
                      <a:pt x="2223061" y="348233"/>
                    </a:lnTo>
                    <a:lnTo>
                      <a:pt x="2253102" y="378296"/>
                    </a:lnTo>
                    <a:lnTo>
                      <a:pt x="2283144" y="408360"/>
                    </a:lnTo>
                    <a:lnTo>
                      <a:pt x="2225564" y="578718"/>
                    </a:lnTo>
                    <a:lnTo>
                      <a:pt x="2263116" y="626318"/>
                    </a:lnTo>
                    <a:lnTo>
                      <a:pt x="2298164" y="678929"/>
                    </a:lnTo>
                    <a:lnTo>
                      <a:pt x="2475909" y="676424"/>
                    </a:lnTo>
                    <a:lnTo>
                      <a:pt x="2495937" y="711498"/>
                    </a:lnTo>
                    <a:lnTo>
                      <a:pt x="2515964" y="749077"/>
                    </a:lnTo>
                    <a:lnTo>
                      <a:pt x="2408316" y="891877"/>
                    </a:lnTo>
                    <a:lnTo>
                      <a:pt x="2428343" y="952004"/>
                    </a:lnTo>
                    <a:lnTo>
                      <a:pt x="2438357" y="984572"/>
                    </a:lnTo>
                    <a:lnTo>
                      <a:pt x="2445868" y="1014636"/>
                    </a:lnTo>
                    <a:lnTo>
                      <a:pt x="2616102" y="1067246"/>
                    </a:lnTo>
                    <a:lnTo>
                      <a:pt x="2628619" y="1149920"/>
                    </a:lnTo>
                    <a:lnTo>
                      <a:pt x="2483419" y="1252637"/>
                    </a:lnTo>
                    <a:lnTo>
                      <a:pt x="2485923" y="1312763"/>
                    </a:lnTo>
                    <a:lnTo>
                      <a:pt x="2483419" y="1375395"/>
                    </a:lnTo>
                    <a:lnTo>
                      <a:pt x="2628619" y="1478111"/>
                    </a:lnTo>
                    <a:lnTo>
                      <a:pt x="2623612" y="1520701"/>
                    </a:lnTo>
                    <a:lnTo>
                      <a:pt x="2616102" y="1560785"/>
                    </a:lnTo>
                    <a:lnTo>
                      <a:pt x="2445868" y="1615901"/>
                    </a:lnTo>
                    <a:lnTo>
                      <a:pt x="2428343" y="1676028"/>
                    </a:lnTo>
                    <a:lnTo>
                      <a:pt x="2418330" y="1706091"/>
                    </a:lnTo>
                    <a:lnTo>
                      <a:pt x="2408316" y="1736154"/>
                    </a:lnTo>
                    <a:lnTo>
                      <a:pt x="2515964" y="1878955"/>
                    </a:lnTo>
                    <a:lnTo>
                      <a:pt x="2495937" y="1916534"/>
                    </a:lnTo>
                    <a:lnTo>
                      <a:pt x="2475909" y="1951608"/>
                    </a:lnTo>
                    <a:lnTo>
                      <a:pt x="2298164" y="1949102"/>
                    </a:lnTo>
                    <a:lnTo>
                      <a:pt x="2263116" y="2001713"/>
                    </a:lnTo>
                    <a:lnTo>
                      <a:pt x="2245592" y="2026766"/>
                    </a:lnTo>
                    <a:lnTo>
                      <a:pt x="2225564" y="2049313"/>
                    </a:lnTo>
                    <a:lnTo>
                      <a:pt x="2283144" y="2219672"/>
                    </a:lnTo>
                    <a:lnTo>
                      <a:pt x="2253102" y="2252240"/>
                    </a:lnTo>
                    <a:lnTo>
                      <a:pt x="2223061" y="2282304"/>
                    </a:lnTo>
                    <a:lnTo>
                      <a:pt x="2052827" y="2224682"/>
                    </a:lnTo>
                    <a:lnTo>
                      <a:pt x="2002758" y="2262261"/>
                    </a:lnTo>
                    <a:lnTo>
                      <a:pt x="1952689" y="2297335"/>
                    </a:lnTo>
                    <a:lnTo>
                      <a:pt x="1955192" y="2475210"/>
                    </a:lnTo>
                    <a:lnTo>
                      <a:pt x="1917640" y="2495252"/>
                    </a:lnTo>
                    <a:lnTo>
                      <a:pt x="1880089" y="2512789"/>
                    </a:lnTo>
                    <a:lnTo>
                      <a:pt x="1737392" y="2407567"/>
                    </a:lnTo>
                    <a:lnTo>
                      <a:pt x="1679813" y="2427609"/>
                    </a:lnTo>
                    <a:lnTo>
                      <a:pt x="1647268" y="2435125"/>
                    </a:lnTo>
                    <a:lnTo>
                      <a:pt x="1617227" y="2445146"/>
                    </a:lnTo>
                    <a:lnTo>
                      <a:pt x="1564654" y="2615505"/>
                    </a:lnTo>
                    <a:lnTo>
                      <a:pt x="1482041" y="2628031"/>
                    </a:lnTo>
                    <a:lnTo>
                      <a:pt x="1379399" y="2482725"/>
                    </a:lnTo>
                    <a:lnTo>
                      <a:pt x="1316813" y="2482725"/>
                    </a:lnTo>
                    <a:lnTo>
                      <a:pt x="1254227" y="2482725"/>
                    </a:lnTo>
                    <a:lnTo>
                      <a:pt x="1151586" y="2628031"/>
                    </a:lnTo>
                    <a:lnTo>
                      <a:pt x="1109027" y="2623021"/>
                    </a:lnTo>
                    <a:lnTo>
                      <a:pt x="1066469" y="2615505"/>
                    </a:lnTo>
                    <a:lnTo>
                      <a:pt x="1013896" y="2445146"/>
                    </a:lnTo>
                    <a:lnTo>
                      <a:pt x="953813" y="2427609"/>
                    </a:lnTo>
                    <a:lnTo>
                      <a:pt x="923772" y="2417588"/>
                    </a:lnTo>
                    <a:lnTo>
                      <a:pt x="896234" y="2407567"/>
                    </a:lnTo>
                    <a:lnTo>
                      <a:pt x="753538" y="2512789"/>
                    </a:lnTo>
                    <a:lnTo>
                      <a:pt x="715986" y="2495252"/>
                    </a:lnTo>
                    <a:lnTo>
                      <a:pt x="678434" y="2475210"/>
                    </a:lnTo>
                    <a:lnTo>
                      <a:pt x="680938" y="2297335"/>
                    </a:lnTo>
                    <a:lnTo>
                      <a:pt x="630869" y="2262261"/>
                    </a:lnTo>
                    <a:lnTo>
                      <a:pt x="605834" y="2242219"/>
                    </a:lnTo>
                    <a:lnTo>
                      <a:pt x="580800" y="2224682"/>
                    </a:lnTo>
                    <a:lnTo>
                      <a:pt x="410566" y="2282304"/>
                    </a:lnTo>
                    <a:lnTo>
                      <a:pt x="380524" y="2252240"/>
                    </a:lnTo>
                    <a:lnTo>
                      <a:pt x="350483" y="2219672"/>
                    </a:lnTo>
                    <a:lnTo>
                      <a:pt x="408062" y="2049313"/>
                    </a:lnTo>
                    <a:lnTo>
                      <a:pt x="370510" y="2001713"/>
                    </a:lnTo>
                    <a:lnTo>
                      <a:pt x="335462" y="1949102"/>
                    </a:lnTo>
                    <a:lnTo>
                      <a:pt x="157717" y="1951608"/>
                    </a:lnTo>
                    <a:lnTo>
                      <a:pt x="137690" y="1916534"/>
                    </a:lnTo>
                    <a:lnTo>
                      <a:pt x="117662" y="1878955"/>
                    </a:lnTo>
                    <a:lnTo>
                      <a:pt x="225310" y="1736154"/>
                    </a:lnTo>
                    <a:lnTo>
                      <a:pt x="205283" y="1676028"/>
                    </a:lnTo>
                    <a:lnTo>
                      <a:pt x="195269" y="1645964"/>
                    </a:lnTo>
                    <a:lnTo>
                      <a:pt x="187759" y="1615901"/>
                    </a:lnTo>
                    <a:lnTo>
                      <a:pt x="15021" y="1560785"/>
                    </a:lnTo>
                    <a:lnTo>
                      <a:pt x="0" y="1478111"/>
                    </a:lnTo>
                    <a:lnTo>
                      <a:pt x="150207" y="1375395"/>
                    </a:lnTo>
                    <a:lnTo>
                      <a:pt x="147703" y="1312763"/>
                    </a:lnTo>
                    <a:lnTo>
                      <a:pt x="150207" y="1252637"/>
                    </a:lnTo>
                    <a:lnTo>
                      <a:pt x="0" y="1149920"/>
                    </a:lnTo>
                    <a:lnTo>
                      <a:pt x="7510" y="1107331"/>
                    </a:lnTo>
                    <a:lnTo>
                      <a:pt x="15021" y="1067246"/>
                    </a:lnTo>
                    <a:lnTo>
                      <a:pt x="187759" y="1014636"/>
                    </a:lnTo>
                    <a:lnTo>
                      <a:pt x="205283" y="952004"/>
                    </a:lnTo>
                    <a:lnTo>
                      <a:pt x="215297" y="921941"/>
                    </a:lnTo>
                    <a:lnTo>
                      <a:pt x="225310" y="891877"/>
                    </a:lnTo>
                    <a:lnTo>
                      <a:pt x="117662" y="749077"/>
                    </a:lnTo>
                    <a:lnTo>
                      <a:pt x="137690" y="711498"/>
                    </a:lnTo>
                    <a:lnTo>
                      <a:pt x="157717" y="676424"/>
                    </a:lnTo>
                    <a:lnTo>
                      <a:pt x="335462" y="678929"/>
                    </a:lnTo>
                    <a:lnTo>
                      <a:pt x="370510" y="626318"/>
                    </a:lnTo>
                    <a:lnTo>
                      <a:pt x="388034" y="601266"/>
                    </a:lnTo>
                    <a:lnTo>
                      <a:pt x="408062" y="578718"/>
                    </a:lnTo>
                    <a:lnTo>
                      <a:pt x="350483" y="408360"/>
                    </a:lnTo>
                    <a:lnTo>
                      <a:pt x="380524" y="378296"/>
                    </a:lnTo>
                    <a:lnTo>
                      <a:pt x="410566" y="348233"/>
                    </a:lnTo>
                    <a:lnTo>
                      <a:pt x="580800" y="405854"/>
                    </a:lnTo>
                    <a:lnTo>
                      <a:pt x="630869" y="368275"/>
                    </a:lnTo>
                    <a:lnTo>
                      <a:pt x="680938" y="333201"/>
                    </a:lnTo>
                    <a:lnTo>
                      <a:pt x="678434" y="152822"/>
                    </a:lnTo>
                    <a:lnTo>
                      <a:pt x="715986" y="132780"/>
                    </a:lnTo>
                    <a:lnTo>
                      <a:pt x="753538" y="115243"/>
                    </a:lnTo>
                    <a:lnTo>
                      <a:pt x="896234" y="220464"/>
                    </a:lnTo>
                    <a:lnTo>
                      <a:pt x="953813" y="200422"/>
                    </a:lnTo>
                    <a:lnTo>
                      <a:pt x="983855" y="190401"/>
                    </a:lnTo>
                    <a:lnTo>
                      <a:pt x="1013896" y="182885"/>
                    </a:lnTo>
                    <a:lnTo>
                      <a:pt x="1066469" y="12526"/>
                    </a:lnTo>
                    <a:close/>
                  </a:path>
                </a:pathLst>
              </a:custGeom>
              <a:solidFill>
                <a:srgbClr val="44546a"/>
              </a:solidFill>
              <a:ln w="0">
                <a:noFill/>
              </a:ln>
            </p:spPr>
            <p:style>
              <a:lnRef idx="0"/>
              <a:fillRef idx="0"/>
              <a:effectRef idx="0"/>
              <a:fontRef idx="minor"/>
            </p:style>
            <p:txBody>
              <a:bodyPr lIns="0" rIns="0" tIns="46800" bIns="46800" anchor="ctr">
                <a:noAutofit/>
              </a:bodyPr>
              <a:p>
                <a:pPr algn="ct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6"/>
              <p:cNvSpPr/>
              <p:nvPr/>
            </p:nvSpPr>
            <p:spPr>
              <a:xfrm>
                <a:off x="7254360" y="3521160"/>
                <a:ext cx="1365840" cy="1365120"/>
              </a:xfrm>
              <a:custGeom>
                <a:avLst/>
                <a:gdLst/>
                <a:ahLst/>
                <a:rect l="l" t="t" r="r" b="b"/>
                <a:pathLst>
                  <a:path w="1487948" h="1487615">
                    <a:moveTo>
                      <a:pt x="743975" y="297790"/>
                    </a:moveTo>
                    <a:cubicBezTo>
                      <a:pt x="496116" y="297790"/>
                      <a:pt x="295186" y="497479"/>
                      <a:pt x="295186" y="743808"/>
                    </a:cubicBezTo>
                    <a:cubicBezTo>
                      <a:pt x="295186" y="990137"/>
                      <a:pt x="496116" y="1189826"/>
                      <a:pt x="743975" y="1189826"/>
                    </a:cubicBezTo>
                    <a:cubicBezTo>
                      <a:pt x="991834" y="1189826"/>
                      <a:pt x="1192764" y="990137"/>
                      <a:pt x="1192764" y="743808"/>
                    </a:cubicBezTo>
                    <a:cubicBezTo>
                      <a:pt x="1192764" y="497479"/>
                      <a:pt x="991834" y="297790"/>
                      <a:pt x="743975" y="297790"/>
                    </a:cubicBezTo>
                    <a:close/>
                    <a:moveTo>
                      <a:pt x="693753" y="0"/>
                    </a:moveTo>
                    <a:lnTo>
                      <a:pt x="770837" y="149228"/>
                    </a:lnTo>
                    <a:lnTo>
                      <a:pt x="801203" y="151560"/>
                    </a:lnTo>
                    <a:lnTo>
                      <a:pt x="829233" y="153891"/>
                    </a:lnTo>
                    <a:lnTo>
                      <a:pt x="857264" y="158555"/>
                    </a:lnTo>
                    <a:lnTo>
                      <a:pt x="885294" y="163218"/>
                    </a:lnTo>
                    <a:lnTo>
                      <a:pt x="997416" y="41970"/>
                    </a:lnTo>
                    <a:lnTo>
                      <a:pt x="1018439" y="48966"/>
                    </a:lnTo>
                    <a:lnTo>
                      <a:pt x="1037126" y="58292"/>
                    </a:lnTo>
                    <a:lnTo>
                      <a:pt x="1076835" y="74614"/>
                    </a:lnTo>
                    <a:lnTo>
                      <a:pt x="1069828" y="240164"/>
                    </a:lnTo>
                    <a:lnTo>
                      <a:pt x="1093186" y="256485"/>
                    </a:lnTo>
                    <a:lnTo>
                      <a:pt x="1116545" y="272807"/>
                    </a:lnTo>
                    <a:lnTo>
                      <a:pt x="1139904" y="291461"/>
                    </a:lnTo>
                    <a:lnTo>
                      <a:pt x="1160927" y="312446"/>
                    </a:lnTo>
                    <a:lnTo>
                      <a:pt x="1312758" y="261149"/>
                    </a:lnTo>
                    <a:lnTo>
                      <a:pt x="1340789" y="298456"/>
                    </a:lnTo>
                    <a:lnTo>
                      <a:pt x="1352468" y="317109"/>
                    </a:lnTo>
                    <a:lnTo>
                      <a:pt x="1368819" y="335763"/>
                    </a:lnTo>
                    <a:lnTo>
                      <a:pt x="1280056" y="468669"/>
                    </a:lnTo>
                    <a:lnTo>
                      <a:pt x="1287064" y="480327"/>
                    </a:lnTo>
                    <a:lnTo>
                      <a:pt x="1294071" y="496649"/>
                    </a:lnTo>
                    <a:lnTo>
                      <a:pt x="1305750" y="522298"/>
                    </a:lnTo>
                    <a:lnTo>
                      <a:pt x="1315094" y="547946"/>
                    </a:lnTo>
                    <a:lnTo>
                      <a:pt x="1324437" y="575926"/>
                    </a:lnTo>
                    <a:lnTo>
                      <a:pt x="1476269" y="608570"/>
                    </a:lnTo>
                    <a:lnTo>
                      <a:pt x="1483276" y="652872"/>
                    </a:lnTo>
                    <a:lnTo>
                      <a:pt x="1487948" y="701837"/>
                    </a:lnTo>
                    <a:lnTo>
                      <a:pt x="1350132" y="774120"/>
                    </a:lnTo>
                    <a:lnTo>
                      <a:pt x="1347796" y="802100"/>
                    </a:lnTo>
                    <a:lnTo>
                      <a:pt x="1345460" y="830080"/>
                    </a:lnTo>
                    <a:lnTo>
                      <a:pt x="1340789" y="855729"/>
                    </a:lnTo>
                    <a:lnTo>
                      <a:pt x="1333781" y="886040"/>
                    </a:lnTo>
                    <a:lnTo>
                      <a:pt x="1448238" y="988635"/>
                    </a:lnTo>
                    <a:lnTo>
                      <a:pt x="1431887" y="1032937"/>
                    </a:lnTo>
                    <a:lnTo>
                      <a:pt x="1410865" y="1077239"/>
                    </a:lnTo>
                    <a:lnTo>
                      <a:pt x="1259033" y="1067912"/>
                    </a:lnTo>
                    <a:lnTo>
                      <a:pt x="1242682" y="1093560"/>
                    </a:lnTo>
                    <a:lnTo>
                      <a:pt x="1226331" y="1116877"/>
                    </a:lnTo>
                    <a:lnTo>
                      <a:pt x="1209980" y="1137862"/>
                    </a:lnTo>
                    <a:lnTo>
                      <a:pt x="1191293" y="1158848"/>
                    </a:lnTo>
                    <a:lnTo>
                      <a:pt x="1235674" y="1303412"/>
                    </a:lnTo>
                    <a:lnTo>
                      <a:pt x="1198301" y="1336056"/>
                    </a:lnTo>
                    <a:lnTo>
                      <a:pt x="1179614" y="1350046"/>
                    </a:lnTo>
                    <a:lnTo>
                      <a:pt x="1158591" y="1364036"/>
                    </a:lnTo>
                    <a:lnTo>
                      <a:pt x="1030118" y="1282427"/>
                    </a:lnTo>
                    <a:lnTo>
                      <a:pt x="1006759" y="1294085"/>
                    </a:lnTo>
                    <a:lnTo>
                      <a:pt x="981065" y="1305744"/>
                    </a:lnTo>
                    <a:lnTo>
                      <a:pt x="955370" y="1315071"/>
                    </a:lnTo>
                    <a:lnTo>
                      <a:pt x="927340" y="1324397"/>
                    </a:lnTo>
                    <a:lnTo>
                      <a:pt x="892302" y="1475957"/>
                    </a:lnTo>
                    <a:lnTo>
                      <a:pt x="845584" y="1482952"/>
                    </a:lnTo>
                    <a:lnTo>
                      <a:pt x="798867" y="1487615"/>
                    </a:lnTo>
                    <a:lnTo>
                      <a:pt x="728791" y="1350046"/>
                    </a:lnTo>
                    <a:lnTo>
                      <a:pt x="700761" y="1350046"/>
                    </a:lnTo>
                    <a:lnTo>
                      <a:pt x="672730" y="1345382"/>
                    </a:lnTo>
                    <a:lnTo>
                      <a:pt x="642364" y="1343051"/>
                    </a:lnTo>
                    <a:lnTo>
                      <a:pt x="616669" y="1336056"/>
                    </a:lnTo>
                    <a:lnTo>
                      <a:pt x="511555" y="1450308"/>
                    </a:lnTo>
                    <a:lnTo>
                      <a:pt x="488197" y="1443313"/>
                    </a:lnTo>
                    <a:lnTo>
                      <a:pt x="467174" y="1436318"/>
                    </a:lnTo>
                    <a:lnTo>
                      <a:pt x="422792" y="1417665"/>
                    </a:lnTo>
                    <a:lnTo>
                      <a:pt x="429800" y="1259110"/>
                    </a:lnTo>
                    <a:lnTo>
                      <a:pt x="406441" y="1242788"/>
                    </a:lnTo>
                    <a:lnTo>
                      <a:pt x="383083" y="1226467"/>
                    </a:lnTo>
                    <a:lnTo>
                      <a:pt x="362060" y="1210145"/>
                    </a:lnTo>
                    <a:lnTo>
                      <a:pt x="341037" y="1191491"/>
                    </a:lnTo>
                    <a:lnTo>
                      <a:pt x="184534" y="1238125"/>
                    </a:lnTo>
                    <a:lnTo>
                      <a:pt x="156503" y="1205481"/>
                    </a:lnTo>
                    <a:lnTo>
                      <a:pt x="130809" y="1170506"/>
                    </a:lnTo>
                    <a:lnTo>
                      <a:pt x="219572" y="1032937"/>
                    </a:lnTo>
                    <a:lnTo>
                      <a:pt x="207893" y="1007288"/>
                    </a:lnTo>
                    <a:lnTo>
                      <a:pt x="193877" y="981640"/>
                    </a:lnTo>
                    <a:lnTo>
                      <a:pt x="182198" y="955991"/>
                    </a:lnTo>
                    <a:lnTo>
                      <a:pt x="172854" y="928011"/>
                    </a:lnTo>
                    <a:lnTo>
                      <a:pt x="14015" y="893036"/>
                    </a:lnTo>
                    <a:lnTo>
                      <a:pt x="7008" y="848734"/>
                    </a:lnTo>
                    <a:lnTo>
                      <a:pt x="0" y="806763"/>
                    </a:lnTo>
                    <a:lnTo>
                      <a:pt x="147160" y="732149"/>
                    </a:lnTo>
                    <a:lnTo>
                      <a:pt x="149496" y="701837"/>
                    </a:lnTo>
                    <a:lnTo>
                      <a:pt x="151832" y="671525"/>
                    </a:lnTo>
                    <a:lnTo>
                      <a:pt x="156503" y="643545"/>
                    </a:lnTo>
                    <a:lnTo>
                      <a:pt x="161175" y="615565"/>
                    </a:lnTo>
                    <a:lnTo>
                      <a:pt x="39710" y="501312"/>
                    </a:lnTo>
                    <a:lnTo>
                      <a:pt x="53725" y="461674"/>
                    </a:lnTo>
                    <a:lnTo>
                      <a:pt x="70076" y="424367"/>
                    </a:lnTo>
                    <a:lnTo>
                      <a:pt x="238259" y="431362"/>
                    </a:lnTo>
                    <a:lnTo>
                      <a:pt x="254610" y="408045"/>
                    </a:lnTo>
                    <a:lnTo>
                      <a:pt x="273297" y="384728"/>
                    </a:lnTo>
                    <a:lnTo>
                      <a:pt x="289648" y="361411"/>
                    </a:lnTo>
                    <a:lnTo>
                      <a:pt x="310671" y="340426"/>
                    </a:lnTo>
                    <a:lnTo>
                      <a:pt x="259282" y="177208"/>
                    </a:lnTo>
                    <a:lnTo>
                      <a:pt x="289648" y="151560"/>
                    </a:lnTo>
                    <a:lnTo>
                      <a:pt x="322350" y="128243"/>
                    </a:lnTo>
                    <a:lnTo>
                      <a:pt x="467174" y="219179"/>
                    </a:lnTo>
                    <a:lnTo>
                      <a:pt x="492868" y="205188"/>
                    </a:lnTo>
                    <a:lnTo>
                      <a:pt x="518563" y="193530"/>
                    </a:lnTo>
                    <a:lnTo>
                      <a:pt x="546593" y="184203"/>
                    </a:lnTo>
                    <a:lnTo>
                      <a:pt x="574624" y="174877"/>
                    </a:lnTo>
                    <a:lnTo>
                      <a:pt x="609662" y="9327"/>
                    </a:lnTo>
                    <a:lnTo>
                      <a:pt x="630685" y="6995"/>
                    </a:lnTo>
                    <a:lnTo>
                      <a:pt x="651707" y="2332"/>
                    </a:lnTo>
                    <a:close/>
                  </a:path>
                </a:pathLst>
              </a:custGeom>
              <a:solidFill>
                <a:srgbClr val="323f4f"/>
              </a:solidFill>
              <a:ln w="0">
                <a:noFill/>
              </a:ln>
            </p:spPr>
            <p:style>
              <a:lnRef idx="0"/>
              <a:fillRef idx="0"/>
              <a:effectRef idx="0"/>
              <a:fontRef idx="minor"/>
            </p:style>
            <p:txBody>
              <a:bodyPr lIns="0" rIns="0" tIns="46800" bIns="46800" anchor="ctr">
                <a:noAutofit/>
              </a:bodyPr>
              <a:p>
                <a:pPr algn="ct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8"/>
              <p:cNvSpPr/>
              <p:nvPr/>
            </p:nvSpPr>
            <p:spPr>
              <a:xfrm>
                <a:off x="3623400" y="3543120"/>
                <a:ext cx="1905480" cy="1909440"/>
              </a:xfrm>
              <a:custGeom>
                <a:avLst/>
                <a:gdLst/>
                <a:ahLst/>
                <a:rect l="l" t="t" r="r" b="b"/>
                <a:pathLst>
                  <a:path w="2075647" h="2080525">
                    <a:moveTo>
                      <a:pt x="1036488" y="349870"/>
                    </a:moveTo>
                    <a:cubicBezTo>
                      <a:pt x="655847" y="349870"/>
                      <a:pt x="347277" y="658371"/>
                      <a:pt x="347277" y="1038927"/>
                    </a:cubicBezTo>
                    <a:cubicBezTo>
                      <a:pt x="347277" y="1419483"/>
                      <a:pt x="655847" y="1727984"/>
                      <a:pt x="1036488" y="1727984"/>
                    </a:cubicBezTo>
                    <a:cubicBezTo>
                      <a:pt x="1417129" y="1727984"/>
                      <a:pt x="1725699" y="1419483"/>
                      <a:pt x="1725699" y="1038927"/>
                    </a:cubicBezTo>
                    <a:cubicBezTo>
                      <a:pt x="1725699" y="658371"/>
                      <a:pt x="1417129" y="349870"/>
                      <a:pt x="1036488" y="349870"/>
                    </a:cubicBezTo>
                    <a:close/>
                    <a:moveTo>
                      <a:pt x="1096908" y="0"/>
                    </a:moveTo>
                    <a:lnTo>
                      <a:pt x="1138010" y="2569"/>
                    </a:lnTo>
                    <a:lnTo>
                      <a:pt x="1179112" y="7706"/>
                    </a:lnTo>
                    <a:lnTo>
                      <a:pt x="1230489" y="174661"/>
                    </a:lnTo>
                    <a:lnTo>
                      <a:pt x="1261315" y="182367"/>
                    </a:lnTo>
                    <a:lnTo>
                      <a:pt x="1292142" y="192641"/>
                    </a:lnTo>
                    <a:lnTo>
                      <a:pt x="1322968" y="200347"/>
                    </a:lnTo>
                    <a:lnTo>
                      <a:pt x="1353795" y="213190"/>
                    </a:lnTo>
                    <a:lnTo>
                      <a:pt x="1487376" y="100174"/>
                    </a:lnTo>
                    <a:lnTo>
                      <a:pt x="1523340" y="118153"/>
                    </a:lnTo>
                    <a:lnTo>
                      <a:pt x="1559304" y="138702"/>
                    </a:lnTo>
                    <a:lnTo>
                      <a:pt x="1538753" y="313363"/>
                    </a:lnTo>
                    <a:lnTo>
                      <a:pt x="1569580" y="333912"/>
                    </a:lnTo>
                    <a:lnTo>
                      <a:pt x="1595269" y="354460"/>
                    </a:lnTo>
                    <a:lnTo>
                      <a:pt x="1618388" y="375008"/>
                    </a:lnTo>
                    <a:lnTo>
                      <a:pt x="1644077" y="398125"/>
                    </a:lnTo>
                    <a:lnTo>
                      <a:pt x="1811054" y="344186"/>
                    </a:lnTo>
                    <a:lnTo>
                      <a:pt x="1836742" y="375008"/>
                    </a:lnTo>
                    <a:lnTo>
                      <a:pt x="1862431" y="405831"/>
                    </a:lnTo>
                    <a:lnTo>
                      <a:pt x="1777658" y="562512"/>
                    </a:lnTo>
                    <a:lnTo>
                      <a:pt x="1811054" y="619021"/>
                    </a:lnTo>
                    <a:lnTo>
                      <a:pt x="1823898" y="647275"/>
                    </a:lnTo>
                    <a:lnTo>
                      <a:pt x="1839311" y="678097"/>
                    </a:lnTo>
                    <a:lnTo>
                      <a:pt x="2019132" y="693508"/>
                    </a:lnTo>
                    <a:lnTo>
                      <a:pt x="2031976" y="732037"/>
                    </a:lnTo>
                    <a:lnTo>
                      <a:pt x="2042252" y="770565"/>
                    </a:lnTo>
                    <a:lnTo>
                      <a:pt x="1900964" y="881013"/>
                    </a:lnTo>
                    <a:lnTo>
                      <a:pt x="1906102" y="914404"/>
                    </a:lnTo>
                    <a:lnTo>
                      <a:pt x="1911240" y="945226"/>
                    </a:lnTo>
                    <a:lnTo>
                      <a:pt x="1913808" y="981186"/>
                    </a:lnTo>
                    <a:lnTo>
                      <a:pt x="1913808" y="1014577"/>
                    </a:lnTo>
                    <a:lnTo>
                      <a:pt x="2075647" y="1096771"/>
                    </a:lnTo>
                    <a:lnTo>
                      <a:pt x="2073078" y="1135299"/>
                    </a:lnTo>
                    <a:lnTo>
                      <a:pt x="2067941" y="1173827"/>
                    </a:lnTo>
                    <a:lnTo>
                      <a:pt x="1893257" y="1225198"/>
                    </a:lnTo>
                    <a:lnTo>
                      <a:pt x="1885551" y="1258589"/>
                    </a:lnTo>
                    <a:lnTo>
                      <a:pt x="1875275" y="1289412"/>
                    </a:lnTo>
                    <a:lnTo>
                      <a:pt x="1865000" y="1320235"/>
                    </a:lnTo>
                    <a:lnTo>
                      <a:pt x="1854724" y="1351057"/>
                    </a:lnTo>
                    <a:lnTo>
                      <a:pt x="1975461" y="1494896"/>
                    </a:lnTo>
                    <a:lnTo>
                      <a:pt x="1957479" y="1528287"/>
                    </a:lnTo>
                    <a:lnTo>
                      <a:pt x="1942066" y="1559110"/>
                    </a:lnTo>
                    <a:lnTo>
                      <a:pt x="1754538" y="1538561"/>
                    </a:lnTo>
                    <a:lnTo>
                      <a:pt x="1736556" y="1564247"/>
                    </a:lnTo>
                    <a:lnTo>
                      <a:pt x="1716005" y="1592501"/>
                    </a:lnTo>
                    <a:lnTo>
                      <a:pt x="1692886" y="1615618"/>
                    </a:lnTo>
                    <a:lnTo>
                      <a:pt x="1672335" y="1641303"/>
                    </a:lnTo>
                    <a:lnTo>
                      <a:pt x="1728850" y="1821102"/>
                    </a:lnTo>
                    <a:lnTo>
                      <a:pt x="1700592" y="1844219"/>
                    </a:lnTo>
                    <a:lnTo>
                      <a:pt x="1672335" y="1864767"/>
                    </a:lnTo>
                    <a:lnTo>
                      <a:pt x="1507927" y="1774868"/>
                    </a:lnTo>
                    <a:lnTo>
                      <a:pt x="1451412" y="1808259"/>
                    </a:lnTo>
                    <a:lnTo>
                      <a:pt x="1420585" y="1823670"/>
                    </a:lnTo>
                    <a:lnTo>
                      <a:pt x="1392328" y="1839081"/>
                    </a:lnTo>
                    <a:lnTo>
                      <a:pt x="1374346" y="2026586"/>
                    </a:lnTo>
                    <a:lnTo>
                      <a:pt x="1340950" y="2039428"/>
                    </a:lnTo>
                    <a:lnTo>
                      <a:pt x="1307555" y="2047134"/>
                    </a:lnTo>
                    <a:lnTo>
                      <a:pt x="1186818" y="1898158"/>
                    </a:lnTo>
                    <a:lnTo>
                      <a:pt x="1155992" y="1903295"/>
                    </a:lnTo>
                    <a:lnTo>
                      <a:pt x="1122596" y="1908432"/>
                    </a:lnTo>
                    <a:lnTo>
                      <a:pt x="1091770" y="1911001"/>
                    </a:lnTo>
                    <a:lnTo>
                      <a:pt x="1058375" y="1911001"/>
                    </a:lnTo>
                    <a:lnTo>
                      <a:pt x="971033" y="2080525"/>
                    </a:lnTo>
                    <a:lnTo>
                      <a:pt x="935069" y="2077957"/>
                    </a:lnTo>
                    <a:lnTo>
                      <a:pt x="901674" y="2072819"/>
                    </a:lnTo>
                    <a:lnTo>
                      <a:pt x="845158" y="1890452"/>
                    </a:lnTo>
                    <a:lnTo>
                      <a:pt x="814332" y="1882747"/>
                    </a:lnTo>
                    <a:lnTo>
                      <a:pt x="780937" y="1875041"/>
                    </a:lnTo>
                    <a:lnTo>
                      <a:pt x="750110" y="1864767"/>
                    </a:lnTo>
                    <a:lnTo>
                      <a:pt x="719284" y="1851924"/>
                    </a:lnTo>
                    <a:lnTo>
                      <a:pt x="577996" y="1975215"/>
                    </a:lnTo>
                    <a:lnTo>
                      <a:pt x="544601" y="1959803"/>
                    </a:lnTo>
                    <a:lnTo>
                      <a:pt x="511205" y="1939255"/>
                    </a:lnTo>
                    <a:lnTo>
                      <a:pt x="531756" y="1754319"/>
                    </a:lnTo>
                    <a:lnTo>
                      <a:pt x="506068" y="1733771"/>
                    </a:lnTo>
                    <a:lnTo>
                      <a:pt x="480379" y="1713223"/>
                    </a:lnTo>
                    <a:lnTo>
                      <a:pt x="454690" y="1690106"/>
                    </a:lnTo>
                    <a:lnTo>
                      <a:pt x="431570" y="1669557"/>
                    </a:lnTo>
                    <a:lnTo>
                      <a:pt x="254318" y="1726065"/>
                    </a:lnTo>
                    <a:lnTo>
                      <a:pt x="231198" y="1697811"/>
                    </a:lnTo>
                    <a:lnTo>
                      <a:pt x="208079" y="1666989"/>
                    </a:lnTo>
                    <a:lnTo>
                      <a:pt x="297989" y="1505170"/>
                    </a:lnTo>
                    <a:lnTo>
                      <a:pt x="264594" y="1446093"/>
                    </a:lnTo>
                    <a:lnTo>
                      <a:pt x="249181" y="1417839"/>
                    </a:lnTo>
                    <a:lnTo>
                      <a:pt x="236336" y="1387017"/>
                    </a:lnTo>
                    <a:lnTo>
                      <a:pt x="51378" y="1371606"/>
                    </a:lnTo>
                    <a:lnTo>
                      <a:pt x="41102" y="1338214"/>
                    </a:lnTo>
                    <a:lnTo>
                      <a:pt x="30827" y="1302255"/>
                    </a:lnTo>
                    <a:lnTo>
                      <a:pt x="172114" y="1184101"/>
                    </a:lnTo>
                    <a:lnTo>
                      <a:pt x="166977" y="1153279"/>
                    </a:lnTo>
                    <a:lnTo>
                      <a:pt x="164408" y="1119888"/>
                    </a:lnTo>
                    <a:lnTo>
                      <a:pt x="161839" y="1086497"/>
                    </a:lnTo>
                    <a:lnTo>
                      <a:pt x="159270" y="1053105"/>
                    </a:lnTo>
                    <a:lnTo>
                      <a:pt x="0" y="970912"/>
                    </a:lnTo>
                    <a:lnTo>
                      <a:pt x="2569" y="929815"/>
                    </a:lnTo>
                    <a:lnTo>
                      <a:pt x="7707" y="893855"/>
                    </a:lnTo>
                    <a:lnTo>
                      <a:pt x="179821" y="842484"/>
                    </a:lnTo>
                    <a:lnTo>
                      <a:pt x="187528" y="811662"/>
                    </a:lnTo>
                    <a:lnTo>
                      <a:pt x="200372" y="778271"/>
                    </a:lnTo>
                    <a:lnTo>
                      <a:pt x="210647" y="747448"/>
                    </a:lnTo>
                    <a:lnTo>
                      <a:pt x="220923" y="714057"/>
                    </a:lnTo>
                    <a:lnTo>
                      <a:pt x="105324" y="577924"/>
                    </a:lnTo>
                    <a:lnTo>
                      <a:pt x="123306" y="544533"/>
                    </a:lnTo>
                    <a:lnTo>
                      <a:pt x="141288" y="511141"/>
                    </a:lnTo>
                    <a:lnTo>
                      <a:pt x="321109" y="529121"/>
                    </a:lnTo>
                    <a:lnTo>
                      <a:pt x="339091" y="503436"/>
                    </a:lnTo>
                    <a:lnTo>
                      <a:pt x="359642" y="477750"/>
                    </a:lnTo>
                    <a:lnTo>
                      <a:pt x="380193" y="449496"/>
                    </a:lnTo>
                    <a:lnTo>
                      <a:pt x="403313" y="426379"/>
                    </a:lnTo>
                    <a:lnTo>
                      <a:pt x="349366" y="259424"/>
                    </a:lnTo>
                    <a:lnTo>
                      <a:pt x="380193" y="233738"/>
                    </a:lnTo>
                    <a:lnTo>
                      <a:pt x="411019" y="205484"/>
                    </a:lnTo>
                    <a:lnTo>
                      <a:pt x="567720" y="292815"/>
                    </a:lnTo>
                    <a:lnTo>
                      <a:pt x="624236" y="259424"/>
                    </a:lnTo>
                    <a:lnTo>
                      <a:pt x="655062" y="244012"/>
                    </a:lnTo>
                    <a:lnTo>
                      <a:pt x="683320" y="231170"/>
                    </a:lnTo>
                    <a:lnTo>
                      <a:pt x="698733" y="53940"/>
                    </a:lnTo>
                    <a:lnTo>
                      <a:pt x="737266" y="41097"/>
                    </a:lnTo>
                    <a:lnTo>
                      <a:pt x="775799" y="30823"/>
                    </a:lnTo>
                    <a:lnTo>
                      <a:pt x="886260" y="166956"/>
                    </a:lnTo>
                    <a:lnTo>
                      <a:pt x="919656" y="161819"/>
                    </a:lnTo>
                    <a:lnTo>
                      <a:pt x="953051" y="159250"/>
                    </a:lnTo>
                    <a:lnTo>
                      <a:pt x="983877" y="156682"/>
                    </a:lnTo>
                    <a:lnTo>
                      <a:pt x="1017273" y="154113"/>
                    </a:lnTo>
                    <a:close/>
                  </a:path>
                </a:pathLst>
              </a:custGeom>
              <a:solidFill>
                <a:srgbClr val="8296b0"/>
              </a:solidFill>
              <a:ln w="0">
                <a:noFill/>
              </a:ln>
            </p:spPr>
            <p:style>
              <a:lnRef idx="0"/>
              <a:fillRef idx="0"/>
              <a:effectRef idx="0"/>
              <a:fontRef idx="minor"/>
            </p:style>
            <p:txBody>
              <a:bodyPr lIns="0" rIns="0" tIns="46800" bIns="46800" anchor="ctr">
                <a:noAutofit/>
              </a:bodyPr>
              <a:p>
                <a:pPr algn="ct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6"/>
              <p:cNvSpPr/>
              <p:nvPr/>
            </p:nvSpPr>
            <p:spPr>
              <a:xfrm>
                <a:off x="2340000" y="3605040"/>
                <a:ext cx="1365840" cy="1365120"/>
              </a:xfrm>
              <a:custGeom>
                <a:avLst/>
                <a:gdLst/>
                <a:ahLst/>
                <a:rect l="l" t="t" r="r" b="b"/>
                <a:pathLst>
                  <a:path w="1487948" h="1487615">
                    <a:moveTo>
                      <a:pt x="743975" y="297790"/>
                    </a:moveTo>
                    <a:cubicBezTo>
                      <a:pt x="496116" y="297790"/>
                      <a:pt x="295186" y="497479"/>
                      <a:pt x="295186" y="743808"/>
                    </a:cubicBezTo>
                    <a:cubicBezTo>
                      <a:pt x="295186" y="990137"/>
                      <a:pt x="496116" y="1189826"/>
                      <a:pt x="743975" y="1189826"/>
                    </a:cubicBezTo>
                    <a:cubicBezTo>
                      <a:pt x="991834" y="1189826"/>
                      <a:pt x="1192764" y="990137"/>
                      <a:pt x="1192764" y="743808"/>
                    </a:cubicBezTo>
                    <a:cubicBezTo>
                      <a:pt x="1192764" y="497479"/>
                      <a:pt x="991834" y="297790"/>
                      <a:pt x="743975" y="297790"/>
                    </a:cubicBezTo>
                    <a:close/>
                    <a:moveTo>
                      <a:pt x="693753" y="0"/>
                    </a:moveTo>
                    <a:lnTo>
                      <a:pt x="770837" y="149228"/>
                    </a:lnTo>
                    <a:lnTo>
                      <a:pt x="801203" y="151560"/>
                    </a:lnTo>
                    <a:lnTo>
                      <a:pt x="829233" y="153891"/>
                    </a:lnTo>
                    <a:lnTo>
                      <a:pt x="857264" y="158555"/>
                    </a:lnTo>
                    <a:lnTo>
                      <a:pt x="885294" y="163218"/>
                    </a:lnTo>
                    <a:lnTo>
                      <a:pt x="997416" y="41970"/>
                    </a:lnTo>
                    <a:lnTo>
                      <a:pt x="1018439" y="48966"/>
                    </a:lnTo>
                    <a:lnTo>
                      <a:pt x="1037126" y="58292"/>
                    </a:lnTo>
                    <a:lnTo>
                      <a:pt x="1076835" y="74614"/>
                    </a:lnTo>
                    <a:lnTo>
                      <a:pt x="1069828" y="240164"/>
                    </a:lnTo>
                    <a:lnTo>
                      <a:pt x="1093186" y="256485"/>
                    </a:lnTo>
                    <a:lnTo>
                      <a:pt x="1116545" y="272807"/>
                    </a:lnTo>
                    <a:lnTo>
                      <a:pt x="1139904" y="291461"/>
                    </a:lnTo>
                    <a:lnTo>
                      <a:pt x="1160927" y="312446"/>
                    </a:lnTo>
                    <a:lnTo>
                      <a:pt x="1312758" y="261149"/>
                    </a:lnTo>
                    <a:lnTo>
                      <a:pt x="1340789" y="298456"/>
                    </a:lnTo>
                    <a:lnTo>
                      <a:pt x="1352468" y="317109"/>
                    </a:lnTo>
                    <a:lnTo>
                      <a:pt x="1368819" y="335763"/>
                    </a:lnTo>
                    <a:lnTo>
                      <a:pt x="1280056" y="468669"/>
                    </a:lnTo>
                    <a:lnTo>
                      <a:pt x="1287064" y="480327"/>
                    </a:lnTo>
                    <a:lnTo>
                      <a:pt x="1294071" y="496649"/>
                    </a:lnTo>
                    <a:lnTo>
                      <a:pt x="1305750" y="522298"/>
                    </a:lnTo>
                    <a:lnTo>
                      <a:pt x="1315094" y="547946"/>
                    </a:lnTo>
                    <a:lnTo>
                      <a:pt x="1324437" y="575926"/>
                    </a:lnTo>
                    <a:lnTo>
                      <a:pt x="1476269" y="608570"/>
                    </a:lnTo>
                    <a:lnTo>
                      <a:pt x="1483276" y="652872"/>
                    </a:lnTo>
                    <a:lnTo>
                      <a:pt x="1487948" y="701837"/>
                    </a:lnTo>
                    <a:lnTo>
                      <a:pt x="1350132" y="774120"/>
                    </a:lnTo>
                    <a:lnTo>
                      <a:pt x="1347796" y="802100"/>
                    </a:lnTo>
                    <a:lnTo>
                      <a:pt x="1345460" y="830080"/>
                    </a:lnTo>
                    <a:lnTo>
                      <a:pt x="1340789" y="855729"/>
                    </a:lnTo>
                    <a:lnTo>
                      <a:pt x="1333781" y="886040"/>
                    </a:lnTo>
                    <a:lnTo>
                      <a:pt x="1448238" y="988635"/>
                    </a:lnTo>
                    <a:lnTo>
                      <a:pt x="1431887" y="1032937"/>
                    </a:lnTo>
                    <a:lnTo>
                      <a:pt x="1410865" y="1077239"/>
                    </a:lnTo>
                    <a:lnTo>
                      <a:pt x="1259033" y="1067912"/>
                    </a:lnTo>
                    <a:lnTo>
                      <a:pt x="1242682" y="1093560"/>
                    </a:lnTo>
                    <a:lnTo>
                      <a:pt x="1226331" y="1116877"/>
                    </a:lnTo>
                    <a:lnTo>
                      <a:pt x="1209980" y="1137862"/>
                    </a:lnTo>
                    <a:lnTo>
                      <a:pt x="1191293" y="1158848"/>
                    </a:lnTo>
                    <a:lnTo>
                      <a:pt x="1235674" y="1303412"/>
                    </a:lnTo>
                    <a:lnTo>
                      <a:pt x="1198301" y="1336056"/>
                    </a:lnTo>
                    <a:lnTo>
                      <a:pt x="1179614" y="1350046"/>
                    </a:lnTo>
                    <a:lnTo>
                      <a:pt x="1158591" y="1364036"/>
                    </a:lnTo>
                    <a:lnTo>
                      <a:pt x="1030118" y="1282427"/>
                    </a:lnTo>
                    <a:lnTo>
                      <a:pt x="1006759" y="1294085"/>
                    </a:lnTo>
                    <a:lnTo>
                      <a:pt x="981065" y="1305744"/>
                    </a:lnTo>
                    <a:lnTo>
                      <a:pt x="955370" y="1315071"/>
                    </a:lnTo>
                    <a:lnTo>
                      <a:pt x="927340" y="1324397"/>
                    </a:lnTo>
                    <a:lnTo>
                      <a:pt x="892302" y="1475957"/>
                    </a:lnTo>
                    <a:lnTo>
                      <a:pt x="845584" y="1482952"/>
                    </a:lnTo>
                    <a:lnTo>
                      <a:pt x="798867" y="1487615"/>
                    </a:lnTo>
                    <a:lnTo>
                      <a:pt x="728791" y="1350046"/>
                    </a:lnTo>
                    <a:lnTo>
                      <a:pt x="700761" y="1350046"/>
                    </a:lnTo>
                    <a:lnTo>
                      <a:pt x="672730" y="1345382"/>
                    </a:lnTo>
                    <a:lnTo>
                      <a:pt x="642364" y="1343051"/>
                    </a:lnTo>
                    <a:lnTo>
                      <a:pt x="616669" y="1336056"/>
                    </a:lnTo>
                    <a:lnTo>
                      <a:pt x="511555" y="1450308"/>
                    </a:lnTo>
                    <a:lnTo>
                      <a:pt x="488197" y="1443313"/>
                    </a:lnTo>
                    <a:lnTo>
                      <a:pt x="467174" y="1436318"/>
                    </a:lnTo>
                    <a:lnTo>
                      <a:pt x="422792" y="1417665"/>
                    </a:lnTo>
                    <a:lnTo>
                      <a:pt x="429800" y="1259110"/>
                    </a:lnTo>
                    <a:lnTo>
                      <a:pt x="406441" y="1242788"/>
                    </a:lnTo>
                    <a:lnTo>
                      <a:pt x="383083" y="1226467"/>
                    </a:lnTo>
                    <a:lnTo>
                      <a:pt x="362060" y="1210145"/>
                    </a:lnTo>
                    <a:lnTo>
                      <a:pt x="341037" y="1191491"/>
                    </a:lnTo>
                    <a:lnTo>
                      <a:pt x="184534" y="1238125"/>
                    </a:lnTo>
                    <a:lnTo>
                      <a:pt x="156503" y="1205481"/>
                    </a:lnTo>
                    <a:lnTo>
                      <a:pt x="130809" y="1170506"/>
                    </a:lnTo>
                    <a:lnTo>
                      <a:pt x="219572" y="1032937"/>
                    </a:lnTo>
                    <a:lnTo>
                      <a:pt x="207893" y="1007288"/>
                    </a:lnTo>
                    <a:lnTo>
                      <a:pt x="193877" y="981640"/>
                    </a:lnTo>
                    <a:lnTo>
                      <a:pt x="182198" y="955991"/>
                    </a:lnTo>
                    <a:lnTo>
                      <a:pt x="172854" y="928011"/>
                    </a:lnTo>
                    <a:lnTo>
                      <a:pt x="14015" y="893036"/>
                    </a:lnTo>
                    <a:lnTo>
                      <a:pt x="7008" y="848734"/>
                    </a:lnTo>
                    <a:lnTo>
                      <a:pt x="0" y="806763"/>
                    </a:lnTo>
                    <a:lnTo>
                      <a:pt x="147160" y="732149"/>
                    </a:lnTo>
                    <a:lnTo>
                      <a:pt x="149496" y="701837"/>
                    </a:lnTo>
                    <a:lnTo>
                      <a:pt x="151832" y="671525"/>
                    </a:lnTo>
                    <a:lnTo>
                      <a:pt x="156503" y="643545"/>
                    </a:lnTo>
                    <a:lnTo>
                      <a:pt x="161175" y="615565"/>
                    </a:lnTo>
                    <a:lnTo>
                      <a:pt x="39710" y="501312"/>
                    </a:lnTo>
                    <a:lnTo>
                      <a:pt x="53725" y="461674"/>
                    </a:lnTo>
                    <a:lnTo>
                      <a:pt x="70076" y="424367"/>
                    </a:lnTo>
                    <a:lnTo>
                      <a:pt x="238259" y="431362"/>
                    </a:lnTo>
                    <a:lnTo>
                      <a:pt x="254610" y="408045"/>
                    </a:lnTo>
                    <a:lnTo>
                      <a:pt x="273297" y="384728"/>
                    </a:lnTo>
                    <a:lnTo>
                      <a:pt x="289648" y="361411"/>
                    </a:lnTo>
                    <a:lnTo>
                      <a:pt x="310671" y="340426"/>
                    </a:lnTo>
                    <a:lnTo>
                      <a:pt x="259282" y="177208"/>
                    </a:lnTo>
                    <a:lnTo>
                      <a:pt x="289648" y="151560"/>
                    </a:lnTo>
                    <a:lnTo>
                      <a:pt x="322350" y="128243"/>
                    </a:lnTo>
                    <a:lnTo>
                      <a:pt x="467174" y="219179"/>
                    </a:lnTo>
                    <a:lnTo>
                      <a:pt x="492868" y="205188"/>
                    </a:lnTo>
                    <a:lnTo>
                      <a:pt x="518563" y="193530"/>
                    </a:lnTo>
                    <a:lnTo>
                      <a:pt x="546593" y="184203"/>
                    </a:lnTo>
                    <a:lnTo>
                      <a:pt x="574624" y="174877"/>
                    </a:lnTo>
                    <a:lnTo>
                      <a:pt x="609662" y="9327"/>
                    </a:lnTo>
                    <a:lnTo>
                      <a:pt x="630685" y="6995"/>
                    </a:lnTo>
                    <a:lnTo>
                      <a:pt x="651707" y="2332"/>
                    </a:lnTo>
                    <a:close/>
                  </a:path>
                </a:pathLst>
              </a:custGeom>
              <a:solidFill>
                <a:srgbClr val="acb8ca"/>
              </a:solidFill>
              <a:ln w="0">
                <a:noFill/>
              </a:ln>
            </p:spPr>
            <p:style>
              <a:lnRef idx="0"/>
              <a:fillRef idx="0"/>
              <a:effectRef idx="0"/>
              <a:fontRef idx="minor"/>
            </p:style>
            <p:txBody>
              <a:bodyPr lIns="0" rIns="0" tIns="46800" bIns="46800" anchor="ctr">
                <a:noAutofit/>
              </a:bodyPr>
              <a:p>
                <a:pPr algn="ct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任意多边形 18"/>
              <p:cNvSpPr/>
              <p:nvPr/>
            </p:nvSpPr>
            <p:spPr>
              <a:xfrm>
                <a:off x="2278080" y="6419880"/>
                <a:ext cx="5218920" cy="311040"/>
              </a:xfrm>
              <a:custGeom>
                <a:avLst/>
                <a:gdLst/>
                <a:ahLst/>
                <a:rect l="l" t="t" r="r" b="b"/>
                <a:pathLst>
                  <a:path w="4780662" h="285222">
                    <a:moveTo>
                      <a:pt x="207787" y="0"/>
                    </a:moveTo>
                    <a:lnTo>
                      <a:pt x="313365" y="0"/>
                    </a:lnTo>
                    <a:lnTo>
                      <a:pt x="377386" y="95449"/>
                    </a:lnTo>
                    <a:lnTo>
                      <a:pt x="472856" y="95449"/>
                    </a:lnTo>
                    <a:lnTo>
                      <a:pt x="535753" y="0"/>
                    </a:lnTo>
                    <a:lnTo>
                      <a:pt x="641332" y="0"/>
                    </a:lnTo>
                    <a:lnTo>
                      <a:pt x="706476" y="95449"/>
                    </a:lnTo>
                    <a:lnTo>
                      <a:pt x="785538" y="95449"/>
                    </a:lnTo>
                    <a:lnTo>
                      <a:pt x="848436" y="0"/>
                    </a:lnTo>
                    <a:lnTo>
                      <a:pt x="858104" y="0"/>
                    </a:lnTo>
                    <a:lnTo>
                      <a:pt x="954014" y="0"/>
                    </a:lnTo>
                    <a:lnTo>
                      <a:pt x="968175" y="0"/>
                    </a:lnTo>
                    <a:lnTo>
                      <a:pt x="1028826" y="95449"/>
                    </a:lnTo>
                    <a:lnTo>
                      <a:pt x="1113505" y="95449"/>
                    </a:lnTo>
                    <a:lnTo>
                      <a:pt x="1176402" y="0"/>
                    </a:lnTo>
                    <a:lnTo>
                      <a:pt x="1188316" y="0"/>
                    </a:lnTo>
                    <a:lnTo>
                      <a:pt x="1281981" y="0"/>
                    </a:lnTo>
                    <a:lnTo>
                      <a:pt x="1296141" y="0"/>
                    </a:lnTo>
                    <a:lnTo>
                      <a:pt x="1356792" y="95449"/>
                    </a:lnTo>
                    <a:lnTo>
                      <a:pt x="1436978" y="95449"/>
                    </a:lnTo>
                    <a:lnTo>
                      <a:pt x="1498753" y="0"/>
                    </a:lnTo>
                    <a:lnTo>
                      <a:pt x="1519652" y="0"/>
                    </a:lnTo>
                    <a:lnTo>
                      <a:pt x="1608824" y="0"/>
                    </a:lnTo>
                    <a:lnTo>
                      <a:pt x="1627477" y="0"/>
                    </a:lnTo>
                    <a:lnTo>
                      <a:pt x="1692621" y="95449"/>
                    </a:lnTo>
                    <a:lnTo>
                      <a:pt x="1764945" y="95449"/>
                    </a:lnTo>
                    <a:lnTo>
                      <a:pt x="1828965" y="0"/>
                    </a:lnTo>
                    <a:lnTo>
                      <a:pt x="1847619" y="0"/>
                    </a:lnTo>
                    <a:lnTo>
                      <a:pt x="1936790" y="0"/>
                    </a:lnTo>
                    <a:lnTo>
                      <a:pt x="1957689" y="0"/>
                    </a:lnTo>
                    <a:lnTo>
                      <a:pt x="2020587" y="95449"/>
                    </a:lnTo>
                    <a:lnTo>
                      <a:pt x="2099650" y="95449"/>
                    </a:lnTo>
                    <a:lnTo>
                      <a:pt x="2160301" y="0"/>
                    </a:lnTo>
                    <a:lnTo>
                      <a:pt x="2185693" y="0"/>
                    </a:lnTo>
                    <a:lnTo>
                      <a:pt x="2268126" y="0"/>
                    </a:lnTo>
                    <a:lnTo>
                      <a:pt x="2295764" y="0"/>
                    </a:lnTo>
                    <a:lnTo>
                      <a:pt x="2357539" y="95449"/>
                    </a:lnTo>
                    <a:lnTo>
                      <a:pt x="2427616" y="95449"/>
                    </a:lnTo>
                    <a:lnTo>
                      <a:pt x="2488268" y="0"/>
                    </a:lnTo>
                    <a:lnTo>
                      <a:pt x="2515906" y="0"/>
                    </a:lnTo>
                    <a:lnTo>
                      <a:pt x="2598338" y="0"/>
                    </a:lnTo>
                    <a:lnTo>
                      <a:pt x="2623731" y="0"/>
                    </a:lnTo>
                    <a:lnTo>
                      <a:pt x="2685505" y="95449"/>
                    </a:lnTo>
                    <a:lnTo>
                      <a:pt x="2763445" y="95449"/>
                    </a:lnTo>
                    <a:lnTo>
                      <a:pt x="2826342" y="0"/>
                    </a:lnTo>
                    <a:lnTo>
                      <a:pt x="2840503" y="0"/>
                    </a:lnTo>
                    <a:lnTo>
                      <a:pt x="2936413" y="0"/>
                    </a:lnTo>
                    <a:lnTo>
                      <a:pt x="2946081" y="0"/>
                    </a:lnTo>
                    <a:lnTo>
                      <a:pt x="3011225" y="95449"/>
                    </a:lnTo>
                    <a:lnTo>
                      <a:pt x="3093657" y="95449"/>
                    </a:lnTo>
                    <a:lnTo>
                      <a:pt x="3156555" y="0"/>
                    </a:lnTo>
                    <a:lnTo>
                      <a:pt x="3168469" y="0"/>
                    </a:lnTo>
                    <a:lnTo>
                      <a:pt x="3264380" y="0"/>
                    </a:lnTo>
                    <a:lnTo>
                      <a:pt x="3276294" y="0"/>
                    </a:lnTo>
                    <a:lnTo>
                      <a:pt x="3339191" y="95449"/>
                    </a:lnTo>
                    <a:lnTo>
                      <a:pt x="3417131" y="95449"/>
                    </a:lnTo>
                    <a:lnTo>
                      <a:pt x="3481152" y="0"/>
                    </a:lnTo>
                    <a:lnTo>
                      <a:pt x="3502051" y="0"/>
                    </a:lnTo>
                    <a:lnTo>
                      <a:pt x="3586730" y="0"/>
                    </a:lnTo>
                    <a:lnTo>
                      <a:pt x="3609876" y="0"/>
                    </a:lnTo>
                    <a:lnTo>
                      <a:pt x="3671650" y="95449"/>
                    </a:lnTo>
                    <a:lnTo>
                      <a:pt x="3746220" y="95449"/>
                    </a:lnTo>
                    <a:lnTo>
                      <a:pt x="3809118" y="0"/>
                    </a:lnTo>
                    <a:lnTo>
                      <a:pt x="3830018" y="0"/>
                    </a:lnTo>
                    <a:lnTo>
                      <a:pt x="3916943" y="0"/>
                    </a:lnTo>
                    <a:lnTo>
                      <a:pt x="3937842" y="0"/>
                    </a:lnTo>
                    <a:lnTo>
                      <a:pt x="3999617" y="95449"/>
                    </a:lnTo>
                    <a:lnTo>
                      <a:pt x="4079803" y="95449"/>
                    </a:lnTo>
                    <a:lnTo>
                      <a:pt x="4142700" y="0"/>
                    </a:lnTo>
                    <a:lnTo>
                      <a:pt x="4250525" y="0"/>
                    </a:lnTo>
                    <a:lnTo>
                      <a:pt x="4312299" y="95449"/>
                    </a:lnTo>
                    <a:lnTo>
                      <a:pt x="4410015" y="95449"/>
                    </a:lnTo>
                    <a:lnTo>
                      <a:pt x="4470667" y="0"/>
                    </a:lnTo>
                    <a:lnTo>
                      <a:pt x="4578491" y="0"/>
                    </a:lnTo>
                    <a:lnTo>
                      <a:pt x="4640266" y="95449"/>
                    </a:lnTo>
                    <a:lnTo>
                      <a:pt x="4780662" y="95449"/>
                    </a:lnTo>
                    <a:lnTo>
                      <a:pt x="4780662" y="285222"/>
                    </a:lnTo>
                    <a:lnTo>
                      <a:pt x="4140013" y="285222"/>
                    </a:lnTo>
                    <a:lnTo>
                      <a:pt x="640649" y="285222"/>
                    </a:lnTo>
                    <a:lnTo>
                      <a:pt x="0" y="285222"/>
                    </a:lnTo>
                    <a:lnTo>
                      <a:pt x="0" y="95449"/>
                    </a:lnTo>
                    <a:lnTo>
                      <a:pt x="144889" y="95449"/>
                    </a:lnTo>
                    <a:close/>
                  </a:path>
                </a:pathLst>
              </a:custGeom>
              <a:gradFill rotWithShape="0">
                <a:gsLst>
                  <a:gs pos="0">
                    <a:srgbClr val="adb9ca"/>
                  </a:gs>
                  <a:gs pos="100000">
                    <a:srgbClr val="333f50"/>
                  </a:gs>
                </a:gsLst>
                <a:lin ang="0"/>
              </a:gra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KSO_Shape"/>
            <p:cNvSpPr/>
            <p:nvPr/>
          </p:nvSpPr>
          <p:spPr>
            <a:xfrm>
              <a:off x="2783520" y="4045680"/>
              <a:ext cx="478440" cy="483840"/>
            </a:xfrm>
            <a:custGeom>
              <a:avLst/>
              <a:gdLst/>
              <a:ahLst/>
              <a:rect l="l" t="t" r="r" b="b"/>
              <a:pathLst>
                <a:path w="87" h="88">
                  <a:moveTo>
                    <a:pt x="44" y="0"/>
                  </a:moveTo>
                  <a:cubicBezTo>
                    <a:pt x="68" y="0"/>
                    <a:pt x="87" y="20"/>
                    <a:pt x="87" y="44"/>
                  </a:cubicBezTo>
                  <a:cubicBezTo>
                    <a:pt x="87" y="68"/>
                    <a:pt x="68" y="88"/>
                    <a:pt x="44" y="88"/>
                  </a:cubicBezTo>
                  <a:cubicBezTo>
                    <a:pt x="19" y="88"/>
                    <a:pt x="0" y="68"/>
                    <a:pt x="0" y="44"/>
                  </a:cubicBezTo>
                  <a:cubicBezTo>
                    <a:pt x="0" y="20"/>
                    <a:pt x="19" y="0"/>
                    <a:pt x="44" y="0"/>
                  </a:cubicBezTo>
                  <a:close/>
                  <a:moveTo>
                    <a:pt x="58" y="21"/>
                  </a:moveTo>
                  <a:cubicBezTo>
                    <a:pt x="55" y="27"/>
                    <a:pt x="55" y="27"/>
                    <a:pt x="55" y="27"/>
                  </a:cubicBezTo>
                  <a:cubicBezTo>
                    <a:pt x="56" y="28"/>
                    <a:pt x="57" y="29"/>
                    <a:pt x="58" y="30"/>
                  </a:cubicBezTo>
                  <a:cubicBezTo>
                    <a:pt x="62" y="34"/>
                    <a:pt x="64" y="39"/>
                    <a:pt x="64" y="44"/>
                  </a:cubicBezTo>
                  <a:cubicBezTo>
                    <a:pt x="64" y="50"/>
                    <a:pt x="62" y="55"/>
                    <a:pt x="58" y="58"/>
                  </a:cubicBezTo>
                  <a:cubicBezTo>
                    <a:pt x="54" y="62"/>
                    <a:pt x="49" y="64"/>
                    <a:pt x="44" y="64"/>
                  </a:cubicBezTo>
                  <a:cubicBezTo>
                    <a:pt x="38" y="64"/>
                    <a:pt x="33" y="62"/>
                    <a:pt x="29" y="58"/>
                  </a:cubicBezTo>
                  <a:cubicBezTo>
                    <a:pt x="26" y="55"/>
                    <a:pt x="24" y="50"/>
                    <a:pt x="24" y="44"/>
                  </a:cubicBezTo>
                  <a:cubicBezTo>
                    <a:pt x="24" y="39"/>
                    <a:pt x="26" y="34"/>
                    <a:pt x="29" y="30"/>
                  </a:cubicBezTo>
                  <a:cubicBezTo>
                    <a:pt x="30" y="29"/>
                    <a:pt x="31" y="28"/>
                    <a:pt x="32" y="28"/>
                  </a:cubicBezTo>
                  <a:cubicBezTo>
                    <a:pt x="29" y="22"/>
                    <a:pt x="29" y="22"/>
                    <a:pt x="29" y="22"/>
                  </a:cubicBezTo>
                  <a:cubicBezTo>
                    <a:pt x="27" y="23"/>
                    <a:pt x="26" y="24"/>
                    <a:pt x="25" y="25"/>
                  </a:cubicBezTo>
                  <a:cubicBezTo>
                    <a:pt x="20" y="30"/>
                    <a:pt x="17" y="37"/>
                    <a:pt x="17" y="44"/>
                  </a:cubicBezTo>
                  <a:cubicBezTo>
                    <a:pt x="17" y="52"/>
                    <a:pt x="20" y="58"/>
                    <a:pt x="25" y="63"/>
                  </a:cubicBezTo>
                  <a:cubicBezTo>
                    <a:pt x="29" y="68"/>
                    <a:pt x="36" y="71"/>
                    <a:pt x="44" y="71"/>
                  </a:cubicBezTo>
                  <a:cubicBezTo>
                    <a:pt x="51" y="71"/>
                    <a:pt x="58" y="68"/>
                    <a:pt x="63" y="63"/>
                  </a:cubicBezTo>
                  <a:cubicBezTo>
                    <a:pt x="68" y="58"/>
                    <a:pt x="71" y="52"/>
                    <a:pt x="71" y="44"/>
                  </a:cubicBezTo>
                  <a:cubicBezTo>
                    <a:pt x="71" y="37"/>
                    <a:pt x="68" y="30"/>
                    <a:pt x="63" y="25"/>
                  </a:cubicBezTo>
                  <a:cubicBezTo>
                    <a:pt x="61" y="24"/>
                    <a:pt x="60" y="22"/>
                    <a:pt x="58" y="21"/>
                  </a:cubicBezTo>
                  <a:close/>
                  <a:moveTo>
                    <a:pt x="40" y="7"/>
                  </a:moveTo>
                  <a:cubicBezTo>
                    <a:pt x="40" y="40"/>
                    <a:pt x="40" y="40"/>
                    <a:pt x="40" y="40"/>
                  </a:cubicBezTo>
                  <a:cubicBezTo>
                    <a:pt x="47" y="40"/>
                    <a:pt x="47" y="40"/>
                    <a:pt x="47" y="40"/>
                  </a:cubicBezTo>
                  <a:cubicBezTo>
                    <a:pt x="47" y="7"/>
                    <a:pt x="47" y="7"/>
                    <a:pt x="47" y="7"/>
                  </a:cubicBezTo>
                  <a:lnTo>
                    <a:pt x="40" y="7"/>
                  </a:lnTo>
                  <a:close/>
                </a:path>
              </a:pathLst>
            </a:custGeom>
            <a:solidFill>
              <a:srgbClr val="adb9c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KSO_Shape"/>
            <p:cNvSpPr/>
            <p:nvPr/>
          </p:nvSpPr>
          <p:spPr>
            <a:xfrm>
              <a:off x="6156360" y="4803840"/>
              <a:ext cx="672840" cy="965520"/>
            </a:xfrm>
            <a:custGeom>
              <a:avLst/>
              <a:gdLst/>
              <a:ahLst/>
              <a:rect l="l" t="t" r="r" b="b"/>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44546a"/>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KSO_Shape"/>
            <p:cNvSpPr/>
            <p:nvPr/>
          </p:nvSpPr>
          <p:spPr>
            <a:xfrm>
              <a:off x="4240080" y="4185000"/>
              <a:ext cx="672480" cy="546840"/>
            </a:xfrm>
            <a:custGeom>
              <a:avLst/>
              <a:gdLst/>
              <a:ahLst/>
              <a:rect l="l" t="t" r="r" b="b"/>
              <a:pathLst>
                <a:path w="684048" h="556307">
                  <a:moveTo>
                    <a:pt x="222901" y="383453"/>
                  </a:moveTo>
                  <a:cubicBezTo>
                    <a:pt x="218315" y="383977"/>
                    <a:pt x="213613" y="385281"/>
                    <a:pt x="209039" y="387420"/>
                  </a:cubicBezTo>
                  <a:cubicBezTo>
                    <a:pt x="190739" y="395979"/>
                    <a:pt x="181407" y="414680"/>
                    <a:pt x="188193" y="429191"/>
                  </a:cubicBezTo>
                  <a:cubicBezTo>
                    <a:pt x="194980" y="443702"/>
                    <a:pt x="215317" y="448527"/>
                    <a:pt x="233616" y="439969"/>
                  </a:cubicBezTo>
                  <a:cubicBezTo>
                    <a:pt x="251915" y="431410"/>
                    <a:pt x="261248" y="412709"/>
                    <a:pt x="254461" y="398198"/>
                  </a:cubicBezTo>
                  <a:cubicBezTo>
                    <a:pt x="249371" y="387315"/>
                    <a:pt x="236659" y="381879"/>
                    <a:pt x="222901" y="383453"/>
                  </a:cubicBezTo>
                  <a:close/>
                  <a:moveTo>
                    <a:pt x="284035" y="369073"/>
                  </a:moveTo>
                  <a:cubicBezTo>
                    <a:pt x="281538" y="368297"/>
                    <a:pt x="278657" y="368441"/>
                    <a:pt x="275985" y="369691"/>
                  </a:cubicBezTo>
                  <a:cubicBezTo>
                    <a:pt x="270641" y="372190"/>
                    <a:pt x="268154" y="378164"/>
                    <a:pt x="270432" y="383034"/>
                  </a:cubicBezTo>
                  <a:cubicBezTo>
                    <a:pt x="272710" y="387904"/>
                    <a:pt x="278888" y="389825"/>
                    <a:pt x="284233" y="387325"/>
                  </a:cubicBezTo>
                  <a:cubicBezTo>
                    <a:pt x="289577" y="384826"/>
                    <a:pt x="292063" y="378852"/>
                    <a:pt x="289785" y="373982"/>
                  </a:cubicBezTo>
                  <a:cubicBezTo>
                    <a:pt x="288647" y="371547"/>
                    <a:pt x="286533" y="369850"/>
                    <a:pt x="284035" y="369073"/>
                  </a:cubicBezTo>
                  <a:close/>
                  <a:moveTo>
                    <a:pt x="266604" y="297070"/>
                  </a:moveTo>
                  <a:cubicBezTo>
                    <a:pt x="319078" y="300338"/>
                    <a:pt x="362309" y="335548"/>
                    <a:pt x="367763" y="383070"/>
                  </a:cubicBezTo>
                  <a:cubicBezTo>
                    <a:pt x="373996" y="437381"/>
                    <a:pt x="328527" y="487207"/>
                    <a:pt x="266205" y="494360"/>
                  </a:cubicBezTo>
                  <a:cubicBezTo>
                    <a:pt x="203883" y="501513"/>
                    <a:pt x="148308" y="463284"/>
                    <a:pt x="142074" y="408972"/>
                  </a:cubicBezTo>
                  <a:cubicBezTo>
                    <a:pt x="135841" y="354661"/>
                    <a:pt x="181310" y="304835"/>
                    <a:pt x="243632" y="297682"/>
                  </a:cubicBezTo>
                  <a:cubicBezTo>
                    <a:pt x="251423" y="296788"/>
                    <a:pt x="259108" y="296603"/>
                    <a:pt x="266604" y="297070"/>
                  </a:cubicBezTo>
                  <a:close/>
                  <a:moveTo>
                    <a:pt x="297042" y="252387"/>
                  </a:moveTo>
                  <a:cubicBezTo>
                    <a:pt x="283618" y="252176"/>
                    <a:pt x="269820" y="252839"/>
                    <a:pt x="255793" y="254449"/>
                  </a:cubicBezTo>
                  <a:cubicBezTo>
                    <a:pt x="143583" y="267328"/>
                    <a:pt x="59288" y="335880"/>
                    <a:pt x="67516" y="407566"/>
                  </a:cubicBezTo>
                  <a:cubicBezTo>
                    <a:pt x="75743" y="479252"/>
                    <a:pt x="173377" y="526925"/>
                    <a:pt x="285587" y="514046"/>
                  </a:cubicBezTo>
                  <a:cubicBezTo>
                    <a:pt x="397797" y="501168"/>
                    <a:pt x="482091" y="432615"/>
                    <a:pt x="473864" y="360929"/>
                  </a:cubicBezTo>
                  <a:cubicBezTo>
                    <a:pt x="466665" y="298204"/>
                    <a:pt x="391015" y="253864"/>
                    <a:pt x="297042" y="252387"/>
                  </a:cubicBezTo>
                  <a:close/>
                  <a:moveTo>
                    <a:pt x="509416" y="97868"/>
                  </a:moveTo>
                  <a:cubicBezTo>
                    <a:pt x="544841" y="99182"/>
                    <a:pt x="588107" y="127580"/>
                    <a:pt x="590257" y="183051"/>
                  </a:cubicBezTo>
                  <a:cubicBezTo>
                    <a:pt x="592352" y="199448"/>
                    <a:pt x="588214" y="215684"/>
                    <a:pt x="579852" y="229407"/>
                  </a:cubicBezTo>
                  <a:lnTo>
                    <a:pt x="580228" y="229581"/>
                  </a:lnTo>
                  <a:cubicBezTo>
                    <a:pt x="580244" y="229743"/>
                    <a:pt x="580186" y="229872"/>
                    <a:pt x="580126" y="230000"/>
                  </a:cubicBezTo>
                  <a:lnTo>
                    <a:pt x="578707" y="232024"/>
                  </a:lnTo>
                  <a:cubicBezTo>
                    <a:pt x="578590" y="232839"/>
                    <a:pt x="578192" y="233485"/>
                    <a:pt x="577787" y="234126"/>
                  </a:cubicBezTo>
                  <a:lnTo>
                    <a:pt x="577385" y="233908"/>
                  </a:lnTo>
                  <a:cubicBezTo>
                    <a:pt x="572286" y="241165"/>
                    <a:pt x="563167" y="244302"/>
                    <a:pt x="554750" y="241632"/>
                  </a:cubicBezTo>
                  <a:lnTo>
                    <a:pt x="548315" y="238643"/>
                  </a:lnTo>
                  <a:cubicBezTo>
                    <a:pt x="539522" y="233101"/>
                    <a:pt x="536249" y="221620"/>
                    <a:pt x="540834" y="211750"/>
                  </a:cubicBezTo>
                  <a:lnTo>
                    <a:pt x="541088" y="211402"/>
                  </a:lnTo>
                  <a:lnTo>
                    <a:pt x="541243" y="211474"/>
                  </a:lnTo>
                  <a:cubicBezTo>
                    <a:pt x="549302" y="193084"/>
                    <a:pt x="546794" y="175359"/>
                    <a:pt x="541863" y="165391"/>
                  </a:cubicBezTo>
                  <a:cubicBezTo>
                    <a:pt x="534763" y="151042"/>
                    <a:pt x="514479" y="135118"/>
                    <a:pt x="480142" y="145181"/>
                  </a:cubicBezTo>
                  <a:lnTo>
                    <a:pt x="480025" y="144483"/>
                  </a:lnTo>
                  <a:cubicBezTo>
                    <a:pt x="471706" y="144624"/>
                    <a:pt x="464282" y="140887"/>
                    <a:pt x="461009" y="134412"/>
                  </a:cubicBezTo>
                  <a:lnTo>
                    <a:pt x="458966" y="128175"/>
                  </a:lnTo>
                  <a:cubicBezTo>
                    <a:pt x="457496" y="119354"/>
                    <a:pt x="463572" y="110158"/>
                    <a:pt x="473636" y="106144"/>
                  </a:cubicBezTo>
                  <a:lnTo>
                    <a:pt x="473571" y="105761"/>
                  </a:lnTo>
                  <a:cubicBezTo>
                    <a:pt x="485121" y="99922"/>
                    <a:pt x="497817" y="97438"/>
                    <a:pt x="509416" y="97868"/>
                  </a:cubicBezTo>
                  <a:close/>
                  <a:moveTo>
                    <a:pt x="286518" y="82088"/>
                  </a:moveTo>
                  <a:cubicBezTo>
                    <a:pt x="376738" y="91976"/>
                    <a:pt x="317665" y="163994"/>
                    <a:pt x="337363" y="184000"/>
                  </a:cubicBezTo>
                  <a:cubicBezTo>
                    <a:pt x="387081" y="179119"/>
                    <a:pt x="437510" y="146098"/>
                    <a:pt x="486517" y="169358"/>
                  </a:cubicBezTo>
                  <a:cubicBezTo>
                    <a:pt x="533076" y="203014"/>
                    <a:pt x="494312" y="233925"/>
                    <a:pt x="501054" y="264835"/>
                  </a:cubicBezTo>
                  <a:cubicBezTo>
                    <a:pt x="649340" y="323962"/>
                    <a:pt x="585744" y="409170"/>
                    <a:pt x="562675" y="436725"/>
                  </a:cubicBezTo>
                  <a:cubicBezTo>
                    <a:pt x="354965" y="648778"/>
                    <a:pt x="45454" y="533772"/>
                    <a:pt x="10807" y="435328"/>
                  </a:cubicBezTo>
                  <a:cubicBezTo>
                    <a:pt x="-41075" y="330306"/>
                    <a:pt x="100878" y="89491"/>
                    <a:pt x="286518" y="82088"/>
                  </a:cubicBezTo>
                  <a:close/>
                  <a:moveTo>
                    <a:pt x="489068" y="0"/>
                  </a:moveTo>
                  <a:cubicBezTo>
                    <a:pt x="596753" y="0"/>
                    <a:pt x="684048" y="87296"/>
                    <a:pt x="684048" y="194980"/>
                  </a:cubicBezTo>
                  <a:cubicBezTo>
                    <a:pt x="684048" y="216847"/>
                    <a:pt x="680448" y="237874"/>
                    <a:pt x="672966" y="257215"/>
                  </a:cubicBezTo>
                  <a:lnTo>
                    <a:pt x="672379" y="257003"/>
                  </a:lnTo>
                  <a:cubicBezTo>
                    <a:pt x="668967" y="265617"/>
                    <a:pt x="657523" y="269364"/>
                    <a:pt x="645725" y="265916"/>
                  </a:cubicBezTo>
                  <a:lnTo>
                    <a:pt x="637884" y="262819"/>
                  </a:lnTo>
                  <a:cubicBezTo>
                    <a:pt x="627530" y="257587"/>
                    <a:pt x="621785" y="247890"/>
                    <a:pt x="624308" y="239644"/>
                  </a:cubicBezTo>
                  <a:lnTo>
                    <a:pt x="623975" y="239524"/>
                  </a:lnTo>
                  <a:cubicBezTo>
                    <a:pt x="629260" y="225659"/>
                    <a:pt x="631774" y="210613"/>
                    <a:pt x="631774" y="194980"/>
                  </a:cubicBezTo>
                  <a:cubicBezTo>
                    <a:pt x="631774" y="116165"/>
                    <a:pt x="567883" y="52274"/>
                    <a:pt x="489068" y="52274"/>
                  </a:cubicBezTo>
                  <a:lnTo>
                    <a:pt x="469942" y="54202"/>
                  </a:lnTo>
                  <a:lnTo>
                    <a:pt x="469951" y="54239"/>
                  </a:lnTo>
                  <a:cubicBezTo>
                    <a:pt x="469861" y="54366"/>
                    <a:pt x="469744" y="54397"/>
                    <a:pt x="469627" y="54427"/>
                  </a:cubicBezTo>
                  <a:cubicBezTo>
                    <a:pt x="460634" y="56697"/>
                    <a:pt x="450861" y="49439"/>
                    <a:pt x="446718" y="37636"/>
                  </a:cubicBezTo>
                  <a:lnTo>
                    <a:pt x="444619" y="29323"/>
                  </a:lnTo>
                  <a:cubicBezTo>
                    <a:pt x="442667" y="16995"/>
                    <a:pt x="447797" y="5987"/>
                    <a:pt x="456757" y="3699"/>
                  </a:cubicBezTo>
                  <a:lnTo>
                    <a:pt x="456661" y="3267"/>
                  </a:lnTo>
                  <a:cubicBezTo>
                    <a:pt x="467135" y="923"/>
                    <a:pt x="477994" y="0"/>
                    <a:pt x="489068" y="0"/>
                  </a:cubicBezTo>
                  <a:close/>
                </a:path>
              </a:pathLst>
            </a:custGeom>
            <a:solidFill>
              <a:srgbClr val="8497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KSO_Shape"/>
            <p:cNvSpPr/>
            <p:nvPr/>
          </p:nvSpPr>
          <p:spPr>
            <a:xfrm flipH="1">
              <a:off x="7698600" y="3958200"/>
              <a:ext cx="488520" cy="490680"/>
            </a:xfrm>
            <a:custGeom>
              <a:avLst/>
              <a:gdLst/>
              <a:ahLst/>
              <a:rect l="l" t="t" r="r" b="b"/>
              <a:pathLst>
                <a:path w="1011944" h="1017468">
                  <a:moveTo>
                    <a:pt x="302571" y="800429"/>
                  </a:moveTo>
                  <a:cubicBezTo>
                    <a:pt x="313716" y="810444"/>
                    <a:pt x="325855" y="819562"/>
                    <a:pt x="338737" y="827969"/>
                  </a:cubicBezTo>
                  <a:cubicBezTo>
                    <a:pt x="470225" y="913775"/>
                    <a:pt x="638330" y="898869"/>
                    <a:pt x="751224" y="801057"/>
                  </a:cubicBezTo>
                  <a:lnTo>
                    <a:pt x="829505" y="852141"/>
                  </a:lnTo>
                  <a:lnTo>
                    <a:pt x="867479" y="876922"/>
                  </a:lnTo>
                  <a:cubicBezTo>
                    <a:pt x="710485" y="1034336"/>
                    <a:pt x="459572" y="1065741"/>
                    <a:pt x="266005" y="939424"/>
                  </a:cubicBezTo>
                  <a:lnTo>
                    <a:pt x="229286" y="912728"/>
                  </a:lnTo>
                  <a:close/>
                  <a:moveTo>
                    <a:pt x="936681" y="640575"/>
                  </a:moveTo>
                  <a:lnTo>
                    <a:pt x="922352" y="912731"/>
                  </a:lnTo>
                  <a:lnTo>
                    <a:pt x="867479" y="876922"/>
                  </a:lnTo>
                  <a:lnTo>
                    <a:pt x="867479" y="876922"/>
                  </a:lnTo>
                  <a:lnTo>
                    <a:pt x="829505" y="852141"/>
                  </a:lnTo>
                  <a:lnTo>
                    <a:pt x="693334" y="763279"/>
                  </a:lnTo>
                  <a:close/>
                  <a:moveTo>
                    <a:pt x="241423" y="569919"/>
                  </a:moveTo>
                  <a:lnTo>
                    <a:pt x="231447" y="842269"/>
                  </a:lnTo>
                  <a:lnTo>
                    <a:pt x="0" y="698372"/>
                  </a:lnTo>
                  <a:close/>
                  <a:moveTo>
                    <a:pt x="334488" y="91365"/>
                  </a:moveTo>
                  <a:lnTo>
                    <a:pt x="397475" y="209747"/>
                  </a:lnTo>
                  <a:cubicBezTo>
                    <a:pt x="383325" y="214674"/>
                    <a:pt x="369480" y="220906"/>
                    <a:pt x="355899" y="228131"/>
                  </a:cubicBezTo>
                  <a:cubicBezTo>
                    <a:pt x="217290" y="301881"/>
                    <a:pt x="149214" y="456306"/>
                    <a:pt x="180397" y="602388"/>
                  </a:cubicBezTo>
                  <a:lnTo>
                    <a:pt x="57845" y="667594"/>
                  </a:lnTo>
                  <a:cubicBezTo>
                    <a:pt x="-4255" y="454123"/>
                    <a:pt x="89335" y="219209"/>
                    <a:pt x="293386" y="110640"/>
                  </a:cubicBezTo>
                  <a:close/>
                  <a:moveTo>
                    <a:pt x="656877" y="65422"/>
                  </a:moveTo>
                  <a:cubicBezTo>
                    <a:pt x="871633" y="122920"/>
                    <a:pt x="1024059" y="324688"/>
                    <a:pt x="1011187" y="555465"/>
                  </a:cubicBezTo>
                  <a:lnTo>
                    <a:pt x="1006376" y="600607"/>
                  </a:lnTo>
                  <a:lnTo>
                    <a:pt x="872488" y="593139"/>
                  </a:lnTo>
                  <a:cubicBezTo>
                    <a:pt x="875606" y="578483"/>
                    <a:pt x="877450" y="563413"/>
                    <a:pt x="878307" y="548054"/>
                  </a:cubicBezTo>
                  <a:cubicBezTo>
                    <a:pt x="887050" y="391290"/>
                    <a:pt x="790245" y="253049"/>
                    <a:pt x="649146" y="204027"/>
                  </a:cubicBezTo>
                  <a:close/>
                  <a:moveTo>
                    <a:pt x="660526" y="0"/>
                  </a:moveTo>
                  <a:lnTo>
                    <a:pt x="645296" y="273045"/>
                  </a:lnTo>
                  <a:lnTo>
                    <a:pt x="417527" y="123394"/>
                  </a:lnTo>
                  <a:close/>
                </a:path>
              </a:pathLst>
            </a:custGeom>
            <a:solidFill>
              <a:srgbClr val="333f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矩形 24"/>
          <p:cNvSpPr/>
          <p:nvPr/>
        </p:nvSpPr>
        <p:spPr>
          <a:xfrm>
            <a:off x="225360" y="1571760"/>
            <a:ext cx="251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宋体"/>
              </a:rPr>
              <a:t>CONTENTS</a:t>
            </a:r>
            <a:endParaRPr b="0" lang="en-US" sz="1800" spc="-1" strike="noStrike">
              <a:solidFill>
                <a:srgbClr val="000000"/>
              </a:solidFill>
              <a:latin typeface="Arial"/>
            </a:endParaRPr>
          </a:p>
        </p:txBody>
      </p:sp>
      <p:sp>
        <p:nvSpPr>
          <p:cNvPr id="179" name="矩形 25"/>
          <p:cNvSpPr/>
          <p:nvPr/>
        </p:nvSpPr>
        <p:spPr>
          <a:xfrm>
            <a:off x="923760" y="2001960"/>
            <a:ext cx="66456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The Monocle Guide to Good Business follows up on the success of The Monocle Guide to Better Liv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图片 3" descr=""/>
          <p:cNvPicPr/>
          <p:nvPr/>
        </p:nvPicPr>
        <p:blipFill>
          <a:blip r:embed="rId1"/>
          <a:srcRect l="1098" t="0" r="-75" b="21966"/>
          <a:stretch/>
        </p:blipFill>
        <p:spPr>
          <a:xfrm>
            <a:off x="0" y="0"/>
            <a:ext cx="9144000" cy="6858000"/>
          </a:xfrm>
          <a:prstGeom prst="rect">
            <a:avLst/>
          </a:prstGeom>
          <a:ln w="0">
            <a:noFill/>
          </a:ln>
        </p:spPr>
      </p:pic>
      <p:sp>
        <p:nvSpPr>
          <p:cNvPr id="181"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sp>
        <p:nvSpPr>
          <p:cNvPr id="183" name="五边形 1"/>
          <p:cNvSpPr/>
          <p:nvPr/>
        </p:nvSpPr>
        <p:spPr>
          <a:xfrm rot="19233600">
            <a:off x="-774360" y="4185720"/>
            <a:ext cx="4783320" cy="720720"/>
          </a:xfrm>
          <a:prstGeom prst="pie">
            <a:avLst/>
          </a:prstGeom>
          <a:solidFill>
            <a:srgbClr val="d5dbe5"/>
          </a:solidFill>
          <a:ln w="0">
            <a:noFill/>
          </a:ln>
        </p:spPr>
        <p:style>
          <a:lnRef idx="0"/>
          <a:fillRef idx="0"/>
          <a:effectRef idx="0"/>
          <a:fontRef idx="minor"/>
        </p:style>
        <p:txBody>
          <a:bodyPr lIns="72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Black"/>
                <a:ea typeface="Calibri"/>
              </a:rPr>
              <a:t>02</a:t>
            </a:r>
            <a:endParaRPr b="0" lang="en-US" sz="3200" spc="-1" strike="noStrike">
              <a:solidFill>
                <a:srgbClr val="000000"/>
              </a:solidFill>
              <a:latin typeface="Arial"/>
            </a:endParaRPr>
          </a:p>
        </p:txBody>
      </p:sp>
      <p:sp>
        <p:nvSpPr>
          <p:cNvPr id="184" name="圆角矩形 6"/>
          <p:cNvSpPr/>
          <p:nvPr/>
        </p:nvSpPr>
        <p:spPr>
          <a:xfrm rot="19244400">
            <a:off x="910800" y="3839760"/>
            <a:ext cx="2498760" cy="522360"/>
          </a:xfrm>
          <a:prstGeom prst="roundRect">
            <a:avLst>
              <a:gd name="adj" fmla="val 16667"/>
            </a:avLst>
          </a:prstGeom>
          <a:solidFill>
            <a:srgbClr val="4454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contents</a:t>
            </a:r>
            <a:endParaRPr b="0" lang="en-US" sz="2400" spc="-1" strike="noStrike">
              <a:solidFill>
                <a:srgbClr val="000000"/>
              </a:solidFill>
              <a:latin typeface="Arial"/>
            </a:endParaRPr>
          </a:p>
        </p:txBody>
      </p:sp>
      <p:sp>
        <p:nvSpPr>
          <p:cNvPr id="185" name="五边形 4"/>
          <p:cNvSpPr/>
          <p:nvPr/>
        </p:nvSpPr>
        <p:spPr>
          <a:xfrm rot="19233600">
            <a:off x="-585720" y="3594240"/>
            <a:ext cx="3117960" cy="720720"/>
          </a:xfrm>
          <a:prstGeom prst="pie">
            <a:avLst/>
          </a:prstGeom>
          <a:solidFill>
            <a:srgbClr val="d5dbe5"/>
          </a:solidFill>
          <a:ln w="0">
            <a:noFill/>
          </a:ln>
        </p:spPr>
        <p:style>
          <a:lnRef idx="0"/>
          <a:fillRef idx="0"/>
          <a:effectRef idx="0"/>
          <a:fontRef idx="minor"/>
        </p:style>
        <p:txBody>
          <a:bodyPr lIns="90000" rIns="288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Black"/>
                <a:ea typeface="Calibri"/>
              </a:rPr>
              <a:t>01</a:t>
            </a:r>
            <a:endParaRPr b="0" lang="en-US" sz="3200" spc="-1" strike="noStrike">
              <a:solidFill>
                <a:srgbClr val="000000"/>
              </a:solidFill>
              <a:latin typeface="Arial"/>
            </a:endParaRPr>
          </a:p>
        </p:txBody>
      </p:sp>
      <p:sp>
        <p:nvSpPr>
          <p:cNvPr id="186" name="圆角矩形 5"/>
          <p:cNvSpPr/>
          <p:nvPr/>
        </p:nvSpPr>
        <p:spPr>
          <a:xfrm rot="19244400">
            <a:off x="-393480" y="3995280"/>
            <a:ext cx="2016360" cy="522360"/>
          </a:xfrm>
          <a:prstGeom prst="pie">
            <a:avLst/>
          </a:prstGeom>
          <a:solidFill>
            <a:srgbClr val="8296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content</a:t>
            </a:r>
            <a:endParaRPr b="0" lang="en-US" sz="2400" spc="-1" strike="noStrike">
              <a:solidFill>
                <a:srgbClr val="000000"/>
              </a:solidFill>
              <a:latin typeface="Arial"/>
            </a:endParaRPr>
          </a:p>
        </p:txBody>
      </p:sp>
      <p:sp>
        <p:nvSpPr>
          <p:cNvPr id="187" name="五边形 6"/>
          <p:cNvSpPr/>
          <p:nvPr/>
        </p:nvSpPr>
        <p:spPr>
          <a:xfrm rot="19233600">
            <a:off x="-514440" y="5049720"/>
            <a:ext cx="4686480" cy="720720"/>
          </a:xfrm>
          <a:prstGeom prst="pie">
            <a:avLst/>
          </a:prstGeom>
          <a:solidFill>
            <a:srgbClr val="d5dbe5"/>
          </a:solidFill>
          <a:ln w="0">
            <a:noFill/>
          </a:ln>
        </p:spPr>
        <p:style>
          <a:lnRef idx="0"/>
          <a:fillRef idx="0"/>
          <a:effectRef idx="0"/>
          <a:fontRef idx="minor"/>
        </p:style>
        <p:txBody>
          <a:bodyPr lIns="90000" rIns="324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Black"/>
                <a:ea typeface="Calibri"/>
              </a:rPr>
              <a:t>03</a:t>
            </a:r>
            <a:endParaRPr b="0" lang="en-US" sz="3200" spc="-1" strike="noStrike">
              <a:solidFill>
                <a:srgbClr val="000000"/>
              </a:solidFill>
              <a:latin typeface="Arial"/>
            </a:endParaRPr>
          </a:p>
        </p:txBody>
      </p:sp>
      <p:sp>
        <p:nvSpPr>
          <p:cNvPr id="188" name="圆角矩形 10"/>
          <p:cNvSpPr/>
          <p:nvPr/>
        </p:nvSpPr>
        <p:spPr>
          <a:xfrm rot="19244400">
            <a:off x="198000" y="5473440"/>
            <a:ext cx="2498760" cy="522360"/>
          </a:xfrm>
          <a:prstGeom prst="roundRect">
            <a:avLst>
              <a:gd name="adj" fmla="val 16667"/>
            </a:avLst>
          </a:prstGeom>
          <a:solidFill>
            <a:srgbClr val="32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contents</a:t>
            </a:r>
            <a:endParaRPr b="0" lang="en-US" sz="2400" spc="-1" strike="noStrike">
              <a:solidFill>
                <a:srgbClr val="000000"/>
              </a:solidFill>
              <a:latin typeface="Arial"/>
            </a:endParaRPr>
          </a:p>
        </p:txBody>
      </p:sp>
      <p:sp>
        <p:nvSpPr>
          <p:cNvPr id="189" name="五边形 8"/>
          <p:cNvSpPr/>
          <p:nvPr/>
        </p:nvSpPr>
        <p:spPr>
          <a:xfrm rot="19233600">
            <a:off x="579240" y="5598720"/>
            <a:ext cx="3755880" cy="719280"/>
          </a:xfrm>
          <a:prstGeom prst="pie">
            <a:avLst/>
          </a:prstGeom>
          <a:solidFill>
            <a:srgbClr val="d5dbe5"/>
          </a:solidFill>
          <a:ln w="0">
            <a:noFill/>
          </a:ln>
        </p:spPr>
        <p:style>
          <a:lnRef idx="0"/>
          <a:fillRef idx="0"/>
          <a:effectRef idx="0"/>
          <a:fontRef idx="minor"/>
        </p:style>
        <p:txBody>
          <a:bodyPr lIns="1008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Black"/>
                <a:ea typeface="Calibri"/>
              </a:rPr>
              <a:t>04</a:t>
            </a:r>
            <a:endParaRPr b="0" lang="en-US" sz="3200" spc="-1" strike="noStrike">
              <a:solidFill>
                <a:srgbClr val="000000"/>
              </a:solidFill>
              <a:latin typeface="Arial"/>
            </a:endParaRPr>
          </a:p>
        </p:txBody>
      </p:sp>
      <p:sp>
        <p:nvSpPr>
          <p:cNvPr id="190" name="圆角矩形 12"/>
          <p:cNvSpPr/>
          <p:nvPr/>
        </p:nvSpPr>
        <p:spPr>
          <a:xfrm rot="19244400">
            <a:off x="2228760" y="5276520"/>
            <a:ext cx="1513080" cy="523800"/>
          </a:xfrm>
          <a:prstGeom prst="roundRect">
            <a:avLst>
              <a:gd name="adj" fmla="val 16667"/>
            </a:avLst>
          </a:prstGeom>
          <a:solidFill>
            <a:srgbClr val="4454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content</a:t>
            </a:r>
            <a:endParaRPr b="0" lang="en-US" sz="2400" spc="-1" strike="noStrike">
              <a:solidFill>
                <a:srgbClr val="000000"/>
              </a:solidFill>
              <a:latin typeface="Arial"/>
            </a:endParaRPr>
          </a:p>
        </p:txBody>
      </p:sp>
      <p:sp>
        <p:nvSpPr>
          <p:cNvPr id="191" name="五边形 10"/>
          <p:cNvSpPr/>
          <p:nvPr/>
        </p:nvSpPr>
        <p:spPr>
          <a:xfrm rot="19233600">
            <a:off x="2004480" y="5536800"/>
            <a:ext cx="3949920" cy="720720"/>
          </a:xfrm>
          <a:prstGeom prst="pie">
            <a:avLst/>
          </a:prstGeom>
          <a:solidFill>
            <a:srgbClr val="d5dbe5"/>
          </a:solidFill>
          <a:ln w="0">
            <a:noFill/>
          </a:ln>
        </p:spPr>
        <p:style>
          <a:lnRef idx="0"/>
          <a:fillRef idx="0"/>
          <a:effectRef idx="0"/>
          <a:fontRef idx="minor"/>
        </p:style>
        <p:txBody>
          <a:bodyPr lIns="90000" rIns="324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Arial Black"/>
                <a:ea typeface="Calibri"/>
              </a:rPr>
              <a:t>05</a:t>
            </a:r>
            <a:endParaRPr b="0" lang="en-US" sz="3200" spc="-1" strike="noStrike">
              <a:solidFill>
                <a:srgbClr val="000000"/>
              </a:solidFill>
              <a:latin typeface="Arial"/>
            </a:endParaRPr>
          </a:p>
        </p:txBody>
      </p:sp>
      <p:sp>
        <p:nvSpPr>
          <p:cNvPr id="192" name="圆角矩形 11"/>
          <p:cNvSpPr/>
          <p:nvPr/>
        </p:nvSpPr>
        <p:spPr>
          <a:xfrm rot="19244400">
            <a:off x="2257560" y="6029280"/>
            <a:ext cx="2481120" cy="523800"/>
          </a:xfrm>
          <a:prstGeom prst="pie">
            <a:avLst/>
          </a:prstGeom>
          <a:solidFill>
            <a:srgbClr val="8497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contents</a:t>
            </a:r>
            <a:endParaRPr b="0" lang="en-US" sz="2400" spc="-1" strike="noStrike">
              <a:solidFill>
                <a:srgbClr val="000000"/>
              </a:solidFill>
              <a:latin typeface="Arial"/>
            </a:endParaRPr>
          </a:p>
        </p:txBody>
      </p:sp>
      <p:sp>
        <p:nvSpPr>
          <p:cNvPr id="193" name="矩形 16"/>
          <p:cNvSpPr/>
          <p:nvPr/>
        </p:nvSpPr>
        <p:spPr>
          <a:xfrm>
            <a:off x="3700440" y="1725480"/>
            <a:ext cx="251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宋体"/>
              </a:rPr>
              <a:t>CONTENTS</a:t>
            </a:r>
            <a:endParaRPr b="0" lang="en-US" sz="1800" spc="-1" strike="noStrike">
              <a:solidFill>
                <a:srgbClr val="000000"/>
              </a:solidFill>
              <a:latin typeface="Arial"/>
            </a:endParaRPr>
          </a:p>
        </p:txBody>
      </p:sp>
      <p:sp>
        <p:nvSpPr>
          <p:cNvPr id="194" name="矩形 17"/>
          <p:cNvSpPr/>
          <p:nvPr/>
        </p:nvSpPr>
        <p:spPr>
          <a:xfrm>
            <a:off x="4400640" y="2154240"/>
            <a:ext cx="41148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	</a:t>
            </a:r>
            <a:r>
              <a:rPr b="1" i="1" lang="en-US" sz="1400" spc="-1" strike="noStrike">
                <a:solidFill>
                  <a:srgbClr val="44546a"/>
                </a:solidFill>
                <a:latin typeface="Arial"/>
                <a:ea typeface="宋体"/>
              </a:rPr>
              <a:t>The Monocle Guide to Good Business follows up on the success of The Monocle Guide to Better Living. The Monocle Guide to Good Business follows up on the success of The Monocle Guide to Better Living. The Monocle Guide to Good Business follows up on the success of The Monocle Guide to Better Living. The Monocle Guide to Good Business follows up on the success of The Monocle Guide to Better Liv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文本框 9232"/>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hlinkClick r:id="rId2"/>
              </a:rPr>
              <a:t>ppt</a:t>
            </a:r>
            <a:r>
              <a:rPr b="0" lang="zh-CN" sz="1600" spc="-1" strike="noStrike" u="sng">
                <a:solidFill>
                  <a:srgbClr val="0563c1"/>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图片 3" descr=""/>
          <p:cNvPicPr/>
          <p:nvPr/>
        </p:nvPicPr>
        <p:blipFill>
          <a:blip r:embed="rId1"/>
          <a:srcRect l="1098" t="0" r="-75" b="21966"/>
          <a:stretch/>
        </p:blipFill>
        <p:spPr>
          <a:xfrm>
            <a:off x="0" y="0"/>
            <a:ext cx="9144000" cy="6858000"/>
          </a:xfrm>
          <a:prstGeom prst="rect">
            <a:avLst/>
          </a:prstGeom>
          <a:ln w="0">
            <a:noFill/>
          </a:ln>
        </p:spPr>
      </p:pic>
      <p:sp>
        <p:nvSpPr>
          <p:cNvPr id="197"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grpSp>
        <p:nvGrpSpPr>
          <p:cNvPr id="199" name="组合 2"/>
          <p:cNvGrpSpPr/>
          <p:nvPr/>
        </p:nvGrpSpPr>
        <p:grpSpPr>
          <a:xfrm>
            <a:off x="3127320" y="2354400"/>
            <a:ext cx="2889360" cy="2921040"/>
            <a:chOff x="3127320" y="2354400"/>
            <a:chExt cx="2889360" cy="2921040"/>
          </a:xfrm>
        </p:grpSpPr>
        <p:sp>
          <p:nvSpPr>
            <p:cNvPr id="200" name="任意多边形 5"/>
            <p:cNvSpPr/>
            <p:nvPr/>
          </p:nvSpPr>
          <p:spPr>
            <a:xfrm>
              <a:off x="3127320" y="2419200"/>
              <a:ext cx="1907280" cy="2856240"/>
            </a:xfrm>
            <a:prstGeom prst="pie">
              <a:avLst/>
            </a:prstGeom>
            <a:solidFill>
              <a:srgbClr val="44546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宋体"/>
                </a:rPr>
                <a:t>  </a:t>
              </a:r>
              <a:r>
                <a:rPr b="0" lang="en-US" sz="2400" spc="-1" strike="noStrike">
                  <a:solidFill>
                    <a:srgbClr val="ffffff"/>
                  </a:solidFill>
                  <a:latin typeface="微软雅黑"/>
                  <a:ea typeface="宋体"/>
                </a:rPr>
                <a:t>TEXT</a:t>
              </a:r>
              <a:endParaRPr b="0" lang="en-US" sz="2400" spc="-1" strike="noStrike">
                <a:solidFill>
                  <a:srgbClr val="000000"/>
                </a:solidFill>
                <a:latin typeface="Arial"/>
              </a:endParaRPr>
            </a:p>
          </p:txBody>
        </p:sp>
        <p:sp>
          <p:nvSpPr>
            <p:cNvPr id="201" name="任意多边形 6"/>
            <p:cNvSpPr/>
            <p:nvPr/>
          </p:nvSpPr>
          <p:spPr>
            <a:xfrm>
              <a:off x="4110840" y="2354400"/>
              <a:ext cx="1905840" cy="2856240"/>
            </a:xfrm>
            <a:custGeom>
              <a:avLst/>
              <a:gdLst/>
              <a:ahLst/>
              <a:rect l="l" t="t" r="r" b="b"/>
              <a:pathLst>
                <a:path w="1906929" h="2855727">
                  <a:moveTo>
                    <a:pt x="641609" y="1906640"/>
                  </a:moveTo>
                  <a:cubicBezTo>
                    <a:pt x="499028" y="1906640"/>
                    <a:pt x="383444" y="2022224"/>
                    <a:pt x="383444" y="2164805"/>
                  </a:cubicBezTo>
                  <a:cubicBezTo>
                    <a:pt x="383444" y="2307386"/>
                    <a:pt x="499028" y="2422970"/>
                    <a:pt x="641609" y="2422970"/>
                  </a:cubicBezTo>
                  <a:cubicBezTo>
                    <a:pt x="784190" y="2422970"/>
                    <a:pt x="899774" y="2307386"/>
                    <a:pt x="899774" y="2164805"/>
                  </a:cubicBezTo>
                  <a:cubicBezTo>
                    <a:pt x="899774" y="2022224"/>
                    <a:pt x="784190" y="1906640"/>
                    <a:pt x="641609" y="1906640"/>
                  </a:cubicBezTo>
                  <a:close/>
                  <a:moveTo>
                    <a:pt x="416411" y="562"/>
                  </a:moveTo>
                  <a:cubicBezTo>
                    <a:pt x="528157" y="-3031"/>
                    <a:pt x="651931" y="10931"/>
                    <a:pt x="757200" y="32285"/>
                  </a:cubicBezTo>
                  <a:cubicBezTo>
                    <a:pt x="1134416" y="111129"/>
                    <a:pt x="1494086" y="362992"/>
                    <a:pt x="1693660" y="700269"/>
                  </a:cubicBezTo>
                  <a:lnTo>
                    <a:pt x="1750680" y="801015"/>
                  </a:lnTo>
                  <a:cubicBezTo>
                    <a:pt x="1950254" y="1175524"/>
                    <a:pt x="1959026" y="1690201"/>
                    <a:pt x="1774805" y="2064710"/>
                  </a:cubicBezTo>
                  <a:cubicBezTo>
                    <a:pt x="1654184" y="2349425"/>
                    <a:pt x="1399782" y="2620999"/>
                    <a:pt x="1119064" y="2754596"/>
                  </a:cubicBezTo>
                  <a:cubicBezTo>
                    <a:pt x="913642" y="2883813"/>
                    <a:pt x="669475" y="2859722"/>
                    <a:pt x="542275" y="2840011"/>
                  </a:cubicBezTo>
                  <a:cubicBezTo>
                    <a:pt x="415075" y="2820300"/>
                    <a:pt x="298840" y="2752406"/>
                    <a:pt x="202343" y="2660421"/>
                  </a:cubicBezTo>
                  <a:cubicBezTo>
                    <a:pt x="26894" y="2480832"/>
                    <a:pt x="-43286" y="2211448"/>
                    <a:pt x="26894" y="1977106"/>
                  </a:cubicBezTo>
                  <a:cubicBezTo>
                    <a:pt x="61984" y="1861030"/>
                    <a:pt x="132163" y="1749334"/>
                    <a:pt x="224274" y="1666110"/>
                  </a:cubicBezTo>
                  <a:cubicBezTo>
                    <a:pt x="338316" y="1587265"/>
                    <a:pt x="452358" y="1512802"/>
                    <a:pt x="562013" y="1420817"/>
                  </a:cubicBezTo>
                  <a:cubicBezTo>
                    <a:pt x="693600" y="1326642"/>
                    <a:pt x="840539" y="1225897"/>
                    <a:pt x="904139" y="1074779"/>
                  </a:cubicBezTo>
                  <a:cubicBezTo>
                    <a:pt x="954580" y="998125"/>
                    <a:pt x="963353" y="906140"/>
                    <a:pt x="980898" y="814155"/>
                  </a:cubicBezTo>
                  <a:cubicBezTo>
                    <a:pt x="1009408" y="544771"/>
                    <a:pt x="875628" y="266627"/>
                    <a:pt x="630000" y="124269"/>
                  </a:cubicBezTo>
                  <a:cubicBezTo>
                    <a:pt x="581751" y="91418"/>
                    <a:pt x="524730" y="76087"/>
                    <a:pt x="474289" y="49805"/>
                  </a:cubicBezTo>
                  <a:cubicBezTo>
                    <a:pt x="417268" y="38855"/>
                    <a:pt x="366826" y="14764"/>
                    <a:pt x="311999" y="14764"/>
                  </a:cubicBezTo>
                  <a:cubicBezTo>
                    <a:pt x="307612" y="12574"/>
                    <a:pt x="314192" y="12574"/>
                    <a:pt x="309805" y="10383"/>
                  </a:cubicBezTo>
                  <a:cubicBezTo>
                    <a:pt x="343250" y="4908"/>
                    <a:pt x="379163" y="1759"/>
                    <a:pt x="416411" y="562"/>
                  </a:cubicBezTo>
                  <a:close/>
                </a:path>
              </a:pathLst>
            </a:custGeom>
            <a:solidFill>
              <a:srgbClr val="8296b0"/>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2" name="文本框 7"/>
          <p:cNvSpPr/>
          <p:nvPr/>
        </p:nvSpPr>
        <p:spPr>
          <a:xfrm>
            <a:off x="5035680" y="3584520"/>
            <a:ext cx="95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宋体"/>
              </a:rPr>
              <a:t>TEXT</a:t>
            </a:r>
            <a:endParaRPr b="0" lang="en-US" sz="2400" spc="-1" strike="noStrike">
              <a:solidFill>
                <a:srgbClr val="000000"/>
              </a:solidFill>
              <a:latin typeface="Arial"/>
            </a:endParaRPr>
          </a:p>
        </p:txBody>
      </p:sp>
      <p:sp>
        <p:nvSpPr>
          <p:cNvPr id="203" name="矩形 8"/>
          <p:cNvSpPr/>
          <p:nvPr/>
        </p:nvSpPr>
        <p:spPr>
          <a:xfrm>
            <a:off x="-272880" y="1278000"/>
            <a:ext cx="2516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宋体"/>
              </a:rPr>
              <a:t>CONTENTS</a:t>
            </a:r>
            <a:endParaRPr b="0" lang="en-US" sz="1800" spc="-1" strike="noStrike">
              <a:solidFill>
                <a:srgbClr val="000000"/>
              </a:solidFill>
              <a:latin typeface="Arial"/>
            </a:endParaRPr>
          </a:p>
        </p:txBody>
      </p:sp>
      <p:sp>
        <p:nvSpPr>
          <p:cNvPr id="204" name="矩形 9"/>
          <p:cNvSpPr/>
          <p:nvPr/>
        </p:nvSpPr>
        <p:spPr>
          <a:xfrm>
            <a:off x="425520" y="1706400"/>
            <a:ext cx="287316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	</a:t>
            </a:r>
            <a:r>
              <a:rPr b="1" i="1" lang="en-US" sz="1400" spc="-1" strike="noStrike">
                <a:solidFill>
                  <a:srgbClr val="44546a"/>
                </a:solidFill>
                <a:latin typeface="Arial"/>
                <a:ea typeface="宋体"/>
              </a:rPr>
              <a:t>The Monocle Guide to Good Business follows up on the success of The Monocle Guide to Better Living. The Monocle Guide to Good Business follows up on the success of The Monocle Guide to Better Living. </a:t>
            </a:r>
            <a:endParaRPr b="0" lang="en-US" sz="1400" spc="-1" strike="noStrike">
              <a:solidFill>
                <a:srgbClr val="000000"/>
              </a:solidFill>
              <a:latin typeface="Arial"/>
            </a:endParaRPr>
          </a:p>
        </p:txBody>
      </p:sp>
      <p:sp>
        <p:nvSpPr>
          <p:cNvPr id="205" name="矩形 10"/>
          <p:cNvSpPr/>
          <p:nvPr/>
        </p:nvSpPr>
        <p:spPr>
          <a:xfrm>
            <a:off x="6626160" y="4203720"/>
            <a:ext cx="251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宋体"/>
              </a:rPr>
              <a:t>CONTENTS</a:t>
            </a:r>
            <a:endParaRPr b="0" lang="en-US" sz="1800" spc="-1" strike="noStrike">
              <a:solidFill>
                <a:srgbClr val="000000"/>
              </a:solidFill>
              <a:latin typeface="Arial"/>
            </a:endParaRPr>
          </a:p>
        </p:txBody>
      </p:sp>
      <p:sp>
        <p:nvSpPr>
          <p:cNvPr id="206" name="矩形 11"/>
          <p:cNvSpPr/>
          <p:nvPr/>
        </p:nvSpPr>
        <p:spPr>
          <a:xfrm>
            <a:off x="5987880" y="4637160"/>
            <a:ext cx="28735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4546a"/>
                </a:solidFill>
                <a:latin typeface="Arial"/>
                <a:ea typeface="宋体"/>
              </a:rPr>
              <a:t>The Monocle Guide to Good Business follows up on the success of The Monocle Guide to Better Living. The Monocle Guide to Good Business follows up on the success of The Monocle Guide to Better Livin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图片 3" descr=""/>
          <p:cNvPicPr/>
          <p:nvPr/>
        </p:nvPicPr>
        <p:blipFill>
          <a:blip r:embed="rId1"/>
          <a:srcRect l="1098" t="0" r="-75" b="21966"/>
          <a:stretch/>
        </p:blipFill>
        <p:spPr>
          <a:xfrm>
            <a:off x="0" y="0"/>
            <a:ext cx="9144000" cy="6858000"/>
          </a:xfrm>
          <a:prstGeom prst="rect">
            <a:avLst/>
          </a:prstGeom>
          <a:ln w="0">
            <a:noFill/>
          </a:ln>
        </p:spPr>
      </p:pic>
      <p:sp>
        <p:nvSpPr>
          <p:cNvPr id="208" name="矩形 1"/>
          <p:cNvSpPr/>
          <p:nvPr/>
        </p:nvSpPr>
        <p:spPr>
          <a:xfrm>
            <a:off x="0" y="898560"/>
            <a:ext cx="9144000" cy="58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文本框 4"/>
          <p:cNvSpPr/>
          <p:nvPr/>
        </p:nvSpPr>
        <p:spPr>
          <a:xfrm>
            <a:off x="239760" y="210960"/>
            <a:ext cx="433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
              </a:rPr>
              <a:t>MORE THAN TEMPLATE</a:t>
            </a:r>
            <a:endParaRPr b="0" lang="en-US" sz="2400" spc="-1" strike="noStrike">
              <a:solidFill>
                <a:srgbClr val="000000"/>
              </a:solidFill>
              <a:latin typeface="Arial"/>
            </a:endParaRPr>
          </a:p>
        </p:txBody>
      </p:sp>
      <p:sp>
        <p:nvSpPr>
          <p:cNvPr id="210" name="矩形 5"/>
          <p:cNvSpPr/>
          <p:nvPr/>
        </p:nvSpPr>
        <p:spPr>
          <a:xfrm>
            <a:off x="939960" y="2300400"/>
            <a:ext cx="1630080" cy="2259000"/>
          </a:xfrm>
          <a:prstGeom prst="rect">
            <a:avLst/>
          </a:prstGeom>
          <a:solidFill>
            <a:srgbClr val="acb8ca"/>
          </a:solidFill>
          <a:ln w="25560">
            <a:solidFill>
              <a:srgbClr val="ffffff"/>
            </a:solidFill>
            <a:bevel/>
          </a:ln>
        </p:spPr>
        <p:style>
          <a:lnRef idx="0"/>
          <a:fillRef idx="0"/>
          <a:effectRef idx="0"/>
          <a:fontRef idx="minor"/>
        </p:style>
        <p:txBody>
          <a:bodyPr lIns="90000" rIns="90000" tIns="4680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ea typeface="微软雅黑"/>
              </a:rPr>
              <a:t>01</a:t>
            </a:r>
            <a:endParaRPr b="0" lang="en-US" sz="4400" spc="-1" strike="noStrike">
              <a:solidFill>
                <a:srgbClr val="000000"/>
              </a:solidFill>
              <a:latin typeface="Arial"/>
            </a:endParaRPr>
          </a:p>
        </p:txBody>
      </p:sp>
      <p:sp>
        <p:nvSpPr>
          <p:cNvPr id="211" name="矩形 1"/>
          <p:cNvSpPr/>
          <p:nvPr/>
        </p:nvSpPr>
        <p:spPr>
          <a:xfrm>
            <a:off x="939960" y="1908000"/>
            <a:ext cx="1693800" cy="4113360"/>
          </a:xfrm>
          <a:prstGeom prst="pie">
            <a:avLst/>
          </a:prstGeom>
          <a:solidFill>
            <a:srgbClr val="e7e6e6"/>
          </a:solidFill>
          <a:ln w="25560">
            <a:solidFill>
              <a:srgbClr val="ffffff"/>
            </a:solidFill>
            <a:bevel/>
          </a:ln>
        </p:spPr>
        <p:style>
          <a:lnRef idx="0"/>
          <a:fillRef idx="0"/>
          <a:effectRef idx="0"/>
          <a:fontRef idx="minor"/>
        </p:style>
        <p:txBody>
          <a:bodyPr lIns="90000" rIns="90000" tIns="201600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Arial"/>
                <a:ea typeface="宋体"/>
              </a:rPr>
              <a:t>The Monocle Guide to Good Business follows up on the success of The Monocle Guide to Better Living.</a:t>
            </a:r>
            <a:endParaRPr b="0" lang="en-US" sz="1100" spc="-1" strike="noStrike">
              <a:solidFill>
                <a:srgbClr val="000000"/>
              </a:solidFill>
              <a:latin typeface="Arial"/>
            </a:endParaRPr>
          </a:p>
        </p:txBody>
      </p:sp>
      <p:sp>
        <p:nvSpPr>
          <p:cNvPr id="212" name="KSO_GT1"/>
          <p:cNvSpPr/>
          <p:nvPr/>
        </p:nvSpPr>
        <p:spPr>
          <a:xfrm flipH="1">
            <a:off x="983520" y="2295360"/>
            <a:ext cx="158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4546a"/>
                </a:solidFill>
                <a:latin typeface="Arial Rounded MT Bold"/>
                <a:ea typeface="微软雅黑"/>
              </a:rPr>
              <a:t>CONTENT</a:t>
            </a:r>
            <a:endParaRPr b="0" lang="en-US" sz="2000" spc="-1" strike="noStrike">
              <a:solidFill>
                <a:srgbClr val="000000"/>
              </a:solidFill>
              <a:latin typeface="Arial"/>
            </a:endParaRPr>
          </a:p>
        </p:txBody>
      </p:sp>
      <p:sp>
        <p:nvSpPr>
          <p:cNvPr id="213" name="矩形 8"/>
          <p:cNvSpPr/>
          <p:nvPr/>
        </p:nvSpPr>
        <p:spPr>
          <a:xfrm>
            <a:off x="2803680" y="2300400"/>
            <a:ext cx="1630080" cy="2259000"/>
          </a:xfrm>
          <a:prstGeom prst="rect">
            <a:avLst/>
          </a:prstGeom>
          <a:solidFill>
            <a:srgbClr val="8296b0"/>
          </a:solidFill>
          <a:ln w="25560">
            <a:solidFill>
              <a:srgbClr val="ffffff"/>
            </a:solidFill>
            <a:bevel/>
          </a:ln>
        </p:spPr>
        <p:style>
          <a:lnRef idx="0"/>
          <a:fillRef idx="0"/>
          <a:effectRef idx="0"/>
          <a:fontRef idx="minor"/>
        </p:style>
        <p:txBody>
          <a:bodyPr lIns="90000" rIns="90000" tIns="4680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ea typeface="微软雅黑"/>
              </a:rPr>
              <a:t>02</a:t>
            </a:r>
            <a:endParaRPr b="0" lang="en-US" sz="4400" spc="-1" strike="noStrike">
              <a:solidFill>
                <a:srgbClr val="000000"/>
              </a:solidFill>
              <a:latin typeface="Arial"/>
            </a:endParaRPr>
          </a:p>
        </p:txBody>
      </p:sp>
      <p:sp>
        <p:nvSpPr>
          <p:cNvPr id="214" name="矩形 1"/>
          <p:cNvSpPr/>
          <p:nvPr/>
        </p:nvSpPr>
        <p:spPr>
          <a:xfrm>
            <a:off x="2803680" y="1908000"/>
            <a:ext cx="1693800" cy="4113360"/>
          </a:xfrm>
          <a:prstGeom prst="pie">
            <a:avLst/>
          </a:prstGeom>
          <a:solidFill>
            <a:srgbClr val="e7e6e6"/>
          </a:solidFill>
          <a:ln w="25560">
            <a:solidFill>
              <a:srgbClr val="ffffff"/>
            </a:solidFill>
            <a:bevel/>
          </a:ln>
        </p:spPr>
        <p:style>
          <a:lnRef idx="0"/>
          <a:fillRef idx="0"/>
          <a:effectRef idx="0"/>
          <a:fontRef idx="minor"/>
        </p:style>
        <p:txBody>
          <a:bodyPr lIns="90000" rIns="90000" tIns="201600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Arial"/>
                <a:ea typeface="宋体"/>
              </a:rPr>
              <a:t>The Monocle Guide to Good Business follows up on the success of The Monocle Guide to Better Living.</a:t>
            </a:r>
            <a:endParaRPr b="0" lang="en-US" sz="1100" spc="-1" strike="noStrike">
              <a:solidFill>
                <a:srgbClr val="000000"/>
              </a:solidFill>
              <a:latin typeface="Arial"/>
            </a:endParaRPr>
          </a:p>
        </p:txBody>
      </p:sp>
      <p:sp>
        <p:nvSpPr>
          <p:cNvPr id="215" name="KSO_GT2"/>
          <p:cNvSpPr/>
          <p:nvPr/>
        </p:nvSpPr>
        <p:spPr>
          <a:xfrm flipH="1">
            <a:off x="2847240" y="2295360"/>
            <a:ext cx="158436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4546a"/>
                </a:solidFill>
                <a:latin typeface="Arial Rounded MT Bold"/>
                <a:ea typeface="微软雅黑"/>
              </a:rPr>
              <a:t>CONTENT</a:t>
            </a:r>
            <a:endParaRPr b="0" lang="en-US" sz="2000" spc="-1" strike="noStrike">
              <a:solidFill>
                <a:srgbClr val="000000"/>
              </a:solidFill>
              <a:latin typeface="Arial"/>
            </a:endParaRPr>
          </a:p>
        </p:txBody>
      </p:sp>
      <p:sp>
        <p:nvSpPr>
          <p:cNvPr id="216" name="矩形 11"/>
          <p:cNvSpPr/>
          <p:nvPr/>
        </p:nvSpPr>
        <p:spPr>
          <a:xfrm>
            <a:off x="4665600" y="2300400"/>
            <a:ext cx="1631880" cy="2259000"/>
          </a:xfrm>
          <a:prstGeom prst="rect">
            <a:avLst/>
          </a:prstGeom>
          <a:solidFill>
            <a:srgbClr val="44546a"/>
          </a:solidFill>
          <a:ln w="25560">
            <a:solidFill>
              <a:srgbClr val="ffffff"/>
            </a:solidFill>
            <a:bevel/>
          </a:ln>
        </p:spPr>
        <p:style>
          <a:lnRef idx="0"/>
          <a:fillRef idx="0"/>
          <a:effectRef idx="0"/>
          <a:fontRef idx="minor"/>
        </p:style>
        <p:txBody>
          <a:bodyPr lIns="90000" rIns="90000" tIns="4680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ea typeface="微软雅黑"/>
              </a:rPr>
              <a:t>03</a:t>
            </a:r>
            <a:endParaRPr b="0" lang="en-US" sz="4400" spc="-1" strike="noStrike">
              <a:solidFill>
                <a:srgbClr val="000000"/>
              </a:solidFill>
              <a:latin typeface="Arial"/>
            </a:endParaRPr>
          </a:p>
        </p:txBody>
      </p:sp>
      <p:sp>
        <p:nvSpPr>
          <p:cNvPr id="217" name="矩形 1"/>
          <p:cNvSpPr/>
          <p:nvPr/>
        </p:nvSpPr>
        <p:spPr>
          <a:xfrm>
            <a:off x="4665600" y="1908000"/>
            <a:ext cx="1693800" cy="4113360"/>
          </a:xfrm>
          <a:prstGeom prst="pie">
            <a:avLst/>
          </a:prstGeom>
          <a:solidFill>
            <a:srgbClr val="e7e6e6"/>
          </a:solidFill>
          <a:ln w="25560">
            <a:solidFill>
              <a:srgbClr val="ffffff"/>
            </a:solidFill>
            <a:bevel/>
          </a:ln>
        </p:spPr>
        <p:style>
          <a:lnRef idx="0"/>
          <a:fillRef idx="0"/>
          <a:effectRef idx="0"/>
          <a:fontRef idx="minor"/>
        </p:style>
        <p:txBody>
          <a:bodyPr lIns="90000" rIns="90000" tIns="201600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Arial"/>
                <a:ea typeface="宋体"/>
              </a:rPr>
              <a:t>The Monocle Guide to Good Business follows up on the success of The Monocle Guide to Better Living.</a:t>
            </a:r>
            <a:endParaRPr b="0" lang="en-US" sz="1100" spc="-1" strike="noStrike">
              <a:solidFill>
                <a:srgbClr val="000000"/>
              </a:solidFill>
              <a:latin typeface="Arial"/>
            </a:endParaRPr>
          </a:p>
        </p:txBody>
      </p:sp>
      <p:sp>
        <p:nvSpPr>
          <p:cNvPr id="218" name="KSO_GT3"/>
          <p:cNvSpPr/>
          <p:nvPr/>
        </p:nvSpPr>
        <p:spPr>
          <a:xfrm flipH="1">
            <a:off x="4709520" y="2295360"/>
            <a:ext cx="158436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4546a"/>
                </a:solidFill>
                <a:latin typeface="Arial Rounded MT Bold"/>
                <a:ea typeface="微软雅黑"/>
              </a:rPr>
              <a:t>CONTENT</a:t>
            </a:r>
            <a:endParaRPr b="0" lang="en-US" sz="2000" spc="-1" strike="noStrike">
              <a:solidFill>
                <a:srgbClr val="000000"/>
              </a:solidFill>
              <a:latin typeface="Arial"/>
            </a:endParaRPr>
          </a:p>
        </p:txBody>
      </p:sp>
      <p:sp>
        <p:nvSpPr>
          <p:cNvPr id="219" name="矩形 14"/>
          <p:cNvSpPr/>
          <p:nvPr/>
        </p:nvSpPr>
        <p:spPr>
          <a:xfrm>
            <a:off x="6529320" y="2300400"/>
            <a:ext cx="1630440" cy="2259000"/>
          </a:xfrm>
          <a:prstGeom prst="rect">
            <a:avLst/>
          </a:prstGeom>
          <a:solidFill>
            <a:srgbClr val="323f4f"/>
          </a:solidFill>
          <a:ln w="25560">
            <a:solidFill>
              <a:srgbClr val="ffffff"/>
            </a:solidFill>
            <a:bevel/>
          </a:ln>
        </p:spPr>
        <p:style>
          <a:lnRef idx="0"/>
          <a:fillRef idx="0"/>
          <a:effectRef idx="0"/>
          <a:fontRef idx="minor"/>
        </p:style>
        <p:txBody>
          <a:bodyPr lIns="90000" rIns="90000" tIns="4680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Rounded MT Bold"/>
                <a:ea typeface="微软雅黑"/>
              </a:rPr>
              <a:t>04</a:t>
            </a:r>
            <a:endParaRPr b="0" lang="en-US" sz="4400" spc="-1" strike="noStrike">
              <a:solidFill>
                <a:srgbClr val="000000"/>
              </a:solidFill>
              <a:latin typeface="Arial"/>
            </a:endParaRPr>
          </a:p>
        </p:txBody>
      </p:sp>
      <p:sp>
        <p:nvSpPr>
          <p:cNvPr id="220" name="矩形 1"/>
          <p:cNvSpPr/>
          <p:nvPr/>
        </p:nvSpPr>
        <p:spPr>
          <a:xfrm>
            <a:off x="6529320" y="1908000"/>
            <a:ext cx="1693800" cy="4113360"/>
          </a:xfrm>
          <a:prstGeom prst="pie">
            <a:avLst/>
          </a:prstGeom>
          <a:solidFill>
            <a:srgbClr val="e7e6e6"/>
          </a:solidFill>
          <a:ln w="25560">
            <a:solidFill>
              <a:srgbClr val="ffffff"/>
            </a:solidFill>
            <a:bevel/>
          </a:ln>
        </p:spPr>
        <p:style>
          <a:lnRef idx="0"/>
          <a:fillRef idx="0"/>
          <a:effectRef idx="0"/>
          <a:fontRef idx="minor"/>
        </p:style>
        <p:txBody>
          <a:bodyPr lIns="90000" rIns="90000" tIns="201600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Arial"/>
                <a:ea typeface="宋体"/>
              </a:rPr>
              <a:t>The Monocle Guide to Good Business follows up on the success of The Monocle Guide to Better Living.</a:t>
            </a:r>
            <a:endParaRPr b="0" lang="en-US" sz="1100" spc="-1" strike="noStrike">
              <a:solidFill>
                <a:srgbClr val="000000"/>
              </a:solidFill>
              <a:latin typeface="Arial"/>
            </a:endParaRPr>
          </a:p>
        </p:txBody>
      </p:sp>
      <p:sp>
        <p:nvSpPr>
          <p:cNvPr id="221" name="KSO_GT4"/>
          <p:cNvSpPr/>
          <p:nvPr/>
        </p:nvSpPr>
        <p:spPr>
          <a:xfrm flipH="1">
            <a:off x="6573240" y="2295360"/>
            <a:ext cx="158436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4546a"/>
                </a:solidFill>
                <a:latin typeface="Arial Rounded MT Bold"/>
                <a:ea typeface="微软雅黑"/>
              </a:rPr>
              <a:t>CON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8T06:19:00Z</dcterms:created>
  <dc:creator>幻灯片之家：www.eeppt.com</dc:creator>
  <dc:description>幻灯片之家：www.eeppt.com</dc:description>
  <cp:keywords>幻灯片之家：www.eeppt.com</cp:keywords>
  <dc:language>en-US</dc:language>
  <cp:lastModifiedBy>pc</cp:lastModifiedBy>
  <dcterms:modified xsi:type="dcterms:W3CDTF">2015-11-13T04:37:52Z</dcterms:modified>
  <cp:revision>1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