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CCE2-1163-4DB1-8188-DFF3BBB23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667D-28A3-4C67-9477-CA39A3061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9B41-8324-4CB2-B164-0FF7B8470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D25E-B859-47C5-9495-6B3F536F6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A442A-D01D-4D1A-825C-0F099D26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ECF1-7616-4CBE-97C3-93E18DF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64FB0-756D-47E7-9F8E-6C4D4D3E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7E72A-4C9E-459F-A821-5D38865E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1FF29-51E6-45ED-B667-22387CE5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0960" y="219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DF7E6-89D6-4E7B-B911-A702974B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46873-31D6-4B23-BB91-770C3F8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7411-B350-4429-AE8C-84BF3011B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4049B-882E-48A1-8987-C942E91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351CD-8A6F-4596-BA33-4E26ABCC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27D1B-63B6-4A61-AA69-C257D31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FFD61-79C6-4832-B2E2-9FCC16DD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29D97-2013-4644-99DF-CB993C7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5B3E6-4E72-4023-B5D6-8225C4EE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7B3CB-DC98-4301-92F2-39AAF3E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F4D20-388E-4F56-90D5-2B626BDB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1A3F4-6D24-437B-A56A-9BFA36D6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6F692-FDD4-41E4-A5AF-2DAC33C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1162-F42F-49B5-A2DD-EAE1CE3974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0960" y="219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3DBD8-901F-48E0-84D4-F52D3B45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60016-201D-45E0-8238-14D98A5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AD87F-7C7E-4B1E-938C-EBB7B755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E88A5-03E6-470F-93FF-95317CB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D1707-3637-44DF-97E1-AD1FA9C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9A37E-21E9-4139-92EC-5F773B8A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68968-2E33-450D-94D7-7EB043F8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E7CF-C52E-4DBA-8D5C-FC1342270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D7A6-D2D3-4343-901A-E6A3A4813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0960" y="219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EA33-F8B8-4491-AE2B-260926238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53D9-BDC8-4145-9DE1-09F7CEF78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8657-F159-4654-B884-FD294547D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5D21-78CD-484B-83A4-31D9D8B68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0"/>
          <p:cNvSpPr/>
          <p:nvPr/>
        </p:nvSpPr>
        <p:spPr>
          <a:xfrm>
            <a:off x="0" y="0"/>
            <a:ext cx="9144000" cy="74772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50000">
                <a:srgbClr val="f2ef62"/>
              </a:gs>
              <a:gs pos="100000">
                <a:srgbClr val="ba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圆角矩形 12441"/>
          <p:cNvSpPr/>
          <p:nvPr/>
        </p:nvSpPr>
        <p:spPr>
          <a:xfrm>
            <a:off x="123840" y="809640"/>
            <a:ext cx="8928000" cy="6019920"/>
          </a:xfrm>
          <a:prstGeom prst="roundRect">
            <a:avLst>
              <a:gd name="adj" fmla="val 3352"/>
            </a:avLst>
          </a:prstGeom>
          <a:solidFill>
            <a:srgbClr val="ffffff"/>
          </a:solidFill>
          <a:ln w="0">
            <a:noFill/>
          </a:ln>
          <a:effectLst>
            <a:outerShdw dist="25560" dir="16200000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2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409-6250-4B8F-95A3-4E708C11FB10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圆角矩形 12442"/>
          <p:cNvSpPr/>
          <p:nvPr/>
        </p:nvSpPr>
        <p:spPr>
          <a:xfrm>
            <a:off x="127080" y="797040"/>
            <a:ext cx="8928000" cy="6027480"/>
          </a:xfrm>
          <a:prstGeom prst="roundRect">
            <a:avLst>
              <a:gd name="adj" fmla="val 2940"/>
            </a:avLst>
          </a:prstGeom>
          <a:noFill/>
          <a:ln w="9360">
            <a:solidFill>
              <a:srgbClr val="5078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" name="图片 12443" descr="laonr"/>
          <p:cNvPicPr/>
          <p:nvPr/>
        </p:nvPicPr>
        <p:blipFill>
          <a:blip r:embed="rId2"/>
          <a:stretch/>
        </p:blipFill>
        <p:spPr>
          <a:xfrm>
            <a:off x="7701120" y="0"/>
            <a:ext cx="1442880" cy="14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946-E076-4BDC-B850-0BD2BA87A7B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562F-76B9-41E6-9BE3-BBDC95A52D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3343"/>
          <p:cNvSpPr/>
          <p:nvPr/>
        </p:nvSpPr>
        <p:spPr>
          <a:xfrm>
            <a:off x="0" y="2017800"/>
            <a:ext cx="9144000" cy="3316320"/>
          </a:xfrm>
          <a:prstGeom prst="rect">
            <a:avLst/>
          </a:prstGeom>
          <a:gradFill rotWithShape="0">
            <a:gsLst>
              <a:gs pos="0">
                <a:srgbClr val="507800">
                  <a:alpha val="80392"/>
                </a:srgbClr>
              </a:gs>
              <a:gs pos="100000">
                <a:srgbClr val="f2ef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" name="组合 13344"/>
          <p:cNvGrpSpPr/>
          <p:nvPr/>
        </p:nvGrpSpPr>
        <p:grpSpPr>
          <a:xfrm>
            <a:off x="-18000" y="1541160"/>
            <a:ext cx="2844720" cy="2781360"/>
            <a:chOff x="-18000" y="1541160"/>
            <a:chExt cx="2844720" cy="2781360"/>
          </a:xfrm>
        </p:grpSpPr>
        <p:sp>
          <p:nvSpPr>
            <p:cNvPr id="87" name="任意多边形 13345"/>
            <p:cNvSpPr/>
            <p:nvPr/>
          </p:nvSpPr>
          <p:spPr>
            <a:xfrm flipH="1" rot="5407800">
              <a:off x="381960" y="2877120"/>
              <a:ext cx="1036440" cy="1805760"/>
            </a:xfrm>
            <a:custGeom>
              <a:avLst/>
              <a:gdLst/>
              <a:ahLst/>
              <a:rect l="l" t="t" r="r" b="b"/>
              <a:pathLst>
                <a:path fill="none" w="43199" h="28436">
                  <a:moveTo>
                    <a:pt x="0" y="0"/>
                  </a:moveTo>
                  <a:cubicBezTo>
                    <a:pt x="11928" y="0"/>
                    <a:pt x="21598" y="9668"/>
                    <a:pt x="21600" y="21596"/>
                  </a:cubicBezTo>
                </a:path>
                <a:path stroke="0" w="43199" h="28436">
                  <a:moveTo>
                    <a:pt x="21599" y="21596"/>
                  </a:moveTo>
                  <a:cubicBezTo>
                    <a:pt x="21599" y="21599"/>
                    <a:pt x="21599" y="21597"/>
                    <a:pt x="21599" y="21596"/>
                  </a:cubicBezTo>
                  <a:cubicBezTo>
                    <a:pt x="21599" y="9667"/>
                    <a:pt x="26434" y="-4"/>
                    <a:pt x="32399" y="-4"/>
                  </a:cubicBezTo>
                  <a:cubicBezTo>
                    <a:pt x="38364" y="-4"/>
                    <a:pt x="43199" y="9667"/>
                    <a:pt x="43199" y="21596"/>
                  </a:cubicBezTo>
                  <a:cubicBezTo>
                    <a:pt x="43199" y="23987"/>
                    <a:pt x="43005" y="26286"/>
                    <a:pt x="42647" y="284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任意多边形 13346"/>
            <p:cNvSpPr/>
            <p:nvPr/>
          </p:nvSpPr>
          <p:spPr>
            <a:xfrm flipH="1" rot="1756800">
              <a:off x="329760" y="1940040"/>
              <a:ext cx="2149200" cy="1983600"/>
            </a:xfrm>
            <a:custGeom>
              <a:avLst/>
              <a:gdLst/>
              <a:ahLst/>
              <a:rect l="l" t="t" r="r" b="b"/>
              <a:pathLst>
                <a:path fill="none" w="43199" h="28436">
                  <a:moveTo>
                    <a:pt x="0" y="0"/>
                  </a:moveTo>
                  <a:cubicBezTo>
                    <a:pt x="11928" y="0"/>
                    <a:pt x="21598" y="9668"/>
                    <a:pt x="21600" y="21596"/>
                  </a:cubicBezTo>
                </a:path>
                <a:path stroke="0" w="43199" h="28436">
                  <a:moveTo>
                    <a:pt x="21599" y="21596"/>
                  </a:moveTo>
                  <a:cubicBezTo>
                    <a:pt x="21599" y="21599"/>
                    <a:pt x="21599" y="21597"/>
                    <a:pt x="21599" y="21596"/>
                  </a:cubicBezTo>
                  <a:cubicBezTo>
                    <a:pt x="21599" y="9667"/>
                    <a:pt x="26434" y="-4"/>
                    <a:pt x="32399" y="-4"/>
                  </a:cubicBezTo>
                  <a:cubicBezTo>
                    <a:pt x="38364" y="-4"/>
                    <a:pt x="43199" y="9667"/>
                    <a:pt x="43199" y="21596"/>
                  </a:cubicBezTo>
                  <a:cubicBezTo>
                    <a:pt x="43199" y="23987"/>
                    <a:pt x="43005" y="26286"/>
                    <a:pt x="42647" y="284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9" name="椭圆 13347"/>
          <p:cNvSpPr/>
          <p:nvPr/>
        </p:nvSpPr>
        <p:spPr>
          <a:xfrm>
            <a:off x="0" y="2033640"/>
            <a:ext cx="4800600" cy="480060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bad16f"/>
              </a:gs>
            </a:gsLst>
            <a:lin ang="2700000"/>
          </a:gradFill>
          <a:ln w="0">
            <a:noFill/>
          </a:ln>
          <a:effectLst>
            <a:outerShdw dist="92520" dir="20637765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矩形 13348"/>
          <p:cNvSpPr/>
          <p:nvPr/>
        </p:nvSpPr>
        <p:spPr>
          <a:xfrm>
            <a:off x="0" y="4602240"/>
            <a:ext cx="9144000" cy="225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8496" dir="17774481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文本框 13340"/>
          <p:cNvSpPr/>
          <p:nvPr/>
        </p:nvSpPr>
        <p:spPr>
          <a:xfrm>
            <a:off x="7957440" y="6186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굴림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椭圆 13350"/>
          <p:cNvSpPr/>
          <p:nvPr/>
        </p:nvSpPr>
        <p:spPr>
          <a:xfrm>
            <a:off x="179280" y="2451240"/>
            <a:ext cx="3745080" cy="3636720"/>
          </a:xfrm>
          <a:prstGeom prst="ellipse">
            <a:avLst/>
          </a:prstGeom>
          <a:solidFill>
            <a:srgbClr val="f4f8e8"/>
          </a:solidFill>
          <a:ln w="0">
            <a:noFill/>
          </a:ln>
          <a:effectLst>
            <a:outerShdw dist="71785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3" name="椭圆 13351" descr=""/>
          <p:cNvPicPr/>
          <p:nvPr/>
        </p:nvPicPr>
        <p:blipFill>
          <a:blip r:embed="rId2"/>
          <a:stretch/>
        </p:blipFill>
        <p:spPr>
          <a:xfrm>
            <a:off x="225360" y="2500200"/>
            <a:ext cx="3570480" cy="3465720"/>
          </a:xfrm>
          <a:prstGeom prst="rect">
            <a:avLst/>
          </a:prstGeom>
          <a:ln w="0">
            <a:noFill/>
          </a:ln>
        </p:spPr>
      </p:pic>
      <p:sp>
        <p:nvSpPr>
          <p:cNvPr id="94" name="矩形 13352"/>
          <p:cNvSpPr/>
          <p:nvPr/>
        </p:nvSpPr>
        <p:spPr>
          <a:xfrm>
            <a:off x="0" y="1989000"/>
            <a:ext cx="9144000" cy="395280"/>
          </a:xfrm>
          <a:prstGeom prst="rect">
            <a:avLst/>
          </a:prstGeom>
          <a:gradFill rotWithShape="0">
            <a:gsLst>
              <a:gs pos="0">
                <a:srgbClr val="507800">
                  <a:alpha val="80392"/>
                </a:srgbClr>
              </a:gs>
              <a:gs pos="100000">
                <a:srgbClr val="dbe8b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图片 13491" descr="021123"/>
          <p:cNvPicPr/>
          <p:nvPr/>
        </p:nvPicPr>
        <p:blipFill>
          <a:blip r:embed="rId3"/>
          <a:stretch/>
        </p:blipFill>
        <p:spPr>
          <a:xfrm>
            <a:off x="2886120" y="4021200"/>
            <a:ext cx="2141640" cy="150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" y="2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Times New Roman"/>
                <a:ea typeface="굴림"/>
              </a:rPr>
              <a:t>www.wondershar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0CA9-6046-408C-B906-E9F13DA34544}" type="slidenum">
              <a:rPr b="0" lang="ko-KR" sz="1400" spc="-1" strike="noStrike">
                <a:solidFill>
                  <a:srgbClr val="4d4d4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sameshow.com/quiz-creator.html" TargetMode="External"/><Relationship Id="rId7" Type="http://schemas.openxmlformats.org/officeDocument/2006/relationships/image" Target="../media/image9.png"/><Relationship Id="rId8" Type="http://schemas.openxmlformats.org/officeDocument/2006/relationships/hyperlink" Target="http://www.sameshow.com/powerpoint-to-flash-pro.html" TargetMode="External"/><Relationship Id="rId9" Type="http://schemas.openxmlformats.org/officeDocument/2006/relationships/image" Target="../media/image10.png"/><Relationship Id="rId10" Type="http://schemas.openxmlformats.org/officeDocument/2006/relationships/hyperlink" Target="http://www.sameshow.com/download/powerpoint-to-flash-download.php" TargetMode="External"/><Relationship Id="rId11" Type="http://schemas.openxmlformats.org/officeDocument/2006/relationships/image" Target="../media/image11.png"/><Relationship Id="rId12" Type="http://schemas.openxmlformats.org/officeDocument/2006/relationships/hyperlink" Target="http://www.ppt-to-dvd.com/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http://www.ppt-to-dvd.com/download/powerpoint-dvd-download.php" TargetMode="External"/><Relationship Id="rId15" Type="http://schemas.openxmlformats.org/officeDocument/2006/relationships/image" Target="../media/image11.png"/><Relationship Id="rId16" Type="http://schemas.openxmlformats.org/officeDocument/2006/relationships/hyperlink" Target="http://www.sameshow.com/download/ppt2flash-download.php" TargetMode="External"/><Relationship Id="rId17" Type="http://schemas.openxmlformats.org/officeDocument/2006/relationships/image" Target="../media/image12.png"/><Relationship Id="rId18" Type="http://schemas.openxmlformats.org/officeDocument/2006/relationships/hyperlink" Target="http://www.sameshow.com/powerpoint-to-flash.html" TargetMode="External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http://www.sameshow.com/powerpoint-to-flash-pro.php?sid=5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hyperlink" Target="http://www.ppt-to-dvd.com/index.php?sid=6" TargetMode="External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hyperlink" Target="http://www.sameshow.com/demo-creator.php?sid=6" TargetMode="External"/><Relationship Id="rId12" Type="http://schemas.openxmlformats.org/officeDocument/2006/relationships/image" Target="../media/image23.png"/><Relationship Id="rId13" Type="http://schemas.openxmlformats.org/officeDocument/2006/relationships/hyperlink" Target="http://www.sameshow.com/quiz-creator.php?sid=6" TargetMode="External"/><Relationship Id="rId14" Type="http://schemas.openxmlformats.org/officeDocument/2006/relationships/image" Target="../media/image24.png"/><Relationship Id="rId15" Type="http://schemas.openxmlformats.org/officeDocument/2006/relationships/hyperlink" Target="http://www.sameshow.com/powerpoint-to-flash.php?sid=4" TargetMode="External"/><Relationship Id="rId16" Type="http://schemas.openxmlformats.org/officeDocument/2006/relationships/hyperlink" Target="http://www.sameshow.com/demo-creator.php?sid=6" TargetMode="External"/><Relationship Id="rId17" Type="http://schemas.openxmlformats.org/officeDocument/2006/relationships/hyperlink" Target="http://www.ppt-to-dvd.com/index.html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5979"/>
          <p:cNvSpPr/>
          <p:nvPr/>
        </p:nvSpPr>
        <p:spPr>
          <a:xfrm>
            <a:off x="3448080" y="3133800"/>
            <a:ext cx="566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7800"/>
                </a:solidFill>
                <a:latin typeface="Verdana"/>
                <a:ea typeface="Arial"/>
              </a:rPr>
              <a:t>Click to edit Master subtitle sty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596520"/>
            <a:ext cx="8213760" cy="13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Arial"/>
                <a:ea typeface="굴림"/>
              </a:rPr>
              <a:t>绿色系国外精美圣诞</a:t>
            </a:r>
            <a:r>
              <a:rPr b="1" lang="en-US" sz="4000" spc="-1" strike="noStrike">
                <a:solidFill>
                  <a:srgbClr val="507800"/>
                </a:solidFill>
                <a:latin typeface="Arial"/>
                <a:ea typeface="굴림"/>
              </a:rPr>
              <a:t>PPT</a:t>
            </a:r>
            <a:r>
              <a:rPr b="1" lang="en-US" sz="4000" spc="-1" strike="noStrike">
                <a:solidFill>
                  <a:srgbClr val="507800"/>
                </a:solidFill>
                <a:latin typeface="Arial"/>
                <a:ea typeface="굴림"/>
              </a:rPr>
              <a:t>模板</a:t>
            </a:r>
            <a:r>
              <a:rPr b="1" lang="zh-CN" sz="4000" spc="-1" strike="noStrike">
                <a:solidFill>
                  <a:srgbClr val="507800"/>
                </a:solidFill>
                <a:latin typeface="Arial"/>
                <a:ea typeface="굴림"/>
              </a:rPr>
              <a:t>下载</a:t>
            </a:r>
            <a:r>
              <a:rPr b="1" lang="en-US" sz="4400" spc="-1" strike="noStrike">
                <a:solidFill>
                  <a:srgbClr val="507800"/>
                </a:solidFill>
                <a:latin typeface="Arial"/>
                <a:ea typeface="굴림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39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92160" y="60688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Arial"/>
                <a:ea typeface="굴림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Arial"/>
                <a:ea typeface="굴림"/>
              </a:rPr>
              <a:t>Strengths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Arial"/>
            </a:endParaRPr>
          </a:p>
        </p:txBody>
      </p:sp>
      <p:sp>
        <p:nvSpPr>
          <p:cNvPr id="143" name="页脚占位符 1"/>
          <p:cNvSpPr/>
          <p:nvPr/>
        </p:nvSpPr>
        <p:spPr>
          <a:xfrm>
            <a:off x="2430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文本框 8197"/>
          <p:cNvSpPr/>
          <p:nvPr/>
        </p:nvSpPr>
        <p:spPr>
          <a:xfrm>
            <a:off x="1023840" y="9684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4915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6" name="图片 49154" descr="ppt广告页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图片 49155" descr="盒子1"/>
            <p:cNvPicPr/>
            <p:nvPr/>
          </p:nvPicPr>
          <p:blipFill>
            <a:blip r:embed="rId2"/>
            <a:stretch/>
          </p:blipFill>
          <p:spPr>
            <a:xfrm>
              <a:off x="900000" y="96840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49156" descr="盒子2"/>
            <p:cNvPicPr/>
            <p:nvPr/>
          </p:nvPicPr>
          <p:blipFill>
            <a:blip r:embed="rId3"/>
            <a:stretch/>
          </p:blipFill>
          <p:spPr>
            <a:xfrm>
              <a:off x="900000" y="2705040"/>
              <a:ext cx="7923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49157" descr="盒子3"/>
            <p:cNvPicPr/>
            <p:nvPr/>
          </p:nvPicPr>
          <p:blipFill>
            <a:blip r:embed="rId4"/>
            <a:stretch/>
          </p:blipFill>
          <p:spPr>
            <a:xfrm>
              <a:off x="900000" y="4365720"/>
              <a:ext cx="7923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49158" descr="logo"/>
            <p:cNvPicPr/>
            <p:nvPr/>
          </p:nvPicPr>
          <p:blipFill>
            <a:blip r:embed="rId5"/>
            <a:stretch/>
          </p:blipFill>
          <p:spPr>
            <a:xfrm>
              <a:off x="3564000" y="6021360"/>
              <a:ext cx="54720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49159" descr="盒子_4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93840" y="5877000"/>
              <a:ext cx="26654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49160"/>
            <p:cNvSpPr/>
            <p:nvPr/>
          </p:nvSpPr>
          <p:spPr>
            <a:xfrm>
              <a:off x="1762200" y="1042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Flash Professional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more a comprehensive flash presentation tool with e-learning capability rather than a simple PowerPoint to Flash conversion tool. 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53" name="图片 49161" descr="按钮_Learn-More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364000" y="18446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49162" descr="按钮_Free-Trial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88000" y="18446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49163"/>
            <p:cNvSpPr/>
            <p:nvPr/>
          </p:nvSpPr>
          <p:spPr>
            <a:xfrm>
              <a:off x="1762200" y="2840040"/>
              <a:ext cx="669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PPT2Flash Standard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your most trustied conversion tool to transform PowerPoint slideshow to Flash movie clip with all originals retained.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文本框 49164"/>
            <p:cNvSpPr/>
            <p:nvPr/>
          </p:nvSpPr>
          <p:spPr>
            <a:xfrm>
              <a:off x="1762200" y="4498920"/>
              <a:ext cx="66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ff"/>
                  </a:solidFill>
                  <a:latin typeface="Arial"/>
                  <a:ea typeface="宋体"/>
                </a:rPr>
                <a:t>PPT2DVD</a:t>
              </a: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offers a direct conversion from PowerPoint presentations to videos which are ready for burning to DVD or viewing on PC without MS PowerPoint.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57" name="图片 49165" descr="按钮_Learn-More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364000" y="5340240"/>
              <a:ext cx="1000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图片 49166" descr="按钮_Free-Trial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588000" y="534024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图片 49167" descr="按钮2_Free-Trial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588000" y="3573360"/>
              <a:ext cx="10000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49168" descr="按钮2_Learn-More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364000" y="3573360"/>
              <a:ext cx="100044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08F-83DC-4A48-92CD-238A27EE91C7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9096480" cy="7128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3"/>
          <p:cNvGrpSpPr/>
          <p:nvPr/>
        </p:nvGrpSpPr>
        <p:grpSpPr>
          <a:xfrm>
            <a:off x="228600" y="2666880"/>
            <a:ext cx="1905120" cy="1524240"/>
            <a:chOff x="228600" y="2666880"/>
            <a:chExt cx="1905120" cy="1524240"/>
          </a:xfrm>
        </p:grpSpPr>
        <p:sp>
          <p:nvSpPr>
            <p:cNvPr id="168" name="Rounded Rectangle 4"/>
            <p:cNvSpPr/>
            <p:nvPr/>
          </p:nvSpPr>
          <p:spPr>
            <a:xfrm>
              <a:off x="228600" y="2666880"/>
              <a:ext cx="1905120" cy="1280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2000"/>
              </a:blip>
              <a:srcRect/>
              <a:stretch/>
            </a:blipFill>
            <a:ln w="25560">
              <a:solidFill>
                <a:srgbClr val="687e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69" name="TextBox 8" descr=""/>
            <p:cNvPicPr/>
            <p:nvPr/>
          </p:nvPicPr>
          <p:blipFill>
            <a:blip r:embed="rId3"/>
            <a:stretch/>
          </p:blipFill>
          <p:spPr>
            <a:xfrm>
              <a:off x="304560" y="2922840"/>
              <a:ext cx="1752840" cy="12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ight Arrow 9"/>
          <p:cNvSpPr/>
          <p:nvPr/>
        </p:nvSpPr>
        <p:spPr>
          <a:xfrm>
            <a:off x="2286000" y="12193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08e12"/>
              </a:gs>
              <a:gs pos="100000">
                <a:srgbClr val="96be18"/>
              </a:gs>
            </a:gsLst>
            <a:lin ang="16200000"/>
          </a:gradFill>
          <a:ln w="9360">
            <a:solidFill>
              <a:srgbClr val="8dac2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1" name="Group 25"/>
          <p:cNvGrpSpPr/>
          <p:nvPr/>
        </p:nvGrpSpPr>
        <p:grpSpPr>
          <a:xfrm>
            <a:off x="2743200" y="914400"/>
            <a:ext cx="5867280" cy="1447920"/>
            <a:chOff x="2743200" y="914400"/>
            <a:chExt cx="5867280" cy="1447920"/>
          </a:xfrm>
        </p:grpSpPr>
        <p:pic>
          <p:nvPicPr>
            <p:cNvPr id="172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2743200" y="914400"/>
              <a:ext cx="586728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24"/>
            <p:cNvGrpSpPr/>
            <p:nvPr/>
          </p:nvGrpSpPr>
          <p:grpSpPr>
            <a:xfrm>
              <a:off x="2957760" y="1017360"/>
              <a:ext cx="4909320" cy="1144800"/>
              <a:chOff x="2957760" y="1017360"/>
              <a:chExt cx="4909320" cy="1144800"/>
            </a:xfrm>
          </p:grpSpPr>
          <p:sp>
            <p:nvSpPr>
              <p:cNvPr id="174" name="TextBox 12"/>
              <p:cNvSpPr/>
              <p:nvPr/>
            </p:nvSpPr>
            <p:spPr>
              <a:xfrm>
                <a:off x="3899160" y="1017360"/>
                <a:ext cx="396792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Convert PowerPoint to flash for web sharing. Post your slide show on Myspace and blog. </a:t>
                </a:r>
                <a:endParaRPr b="0" lang="en-US" sz="23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175" name="Picture 14" descr="ppt2flash-pro.pn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2957760" y="1063800"/>
                <a:ext cx="804600" cy="108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6" name="Right Arrow 10"/>
          <p:cNvSpPr/>
          <p:nvPr/>
        </p:nvSpPr>
        <p:spPr>
          <a:xfrm>
            <a:off x="2286000" y="48769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39f6f"/>
              </a:gs>
              <a:gs pos="100000">
                <a:srgbClr val="c3d392"/>
              </a:gs>
            </a:gsLst>
            <a:lin ang="16200000"/>
          </a:gradFill>
          <a:ln w="9360">
            <a:solidFill>
              <a:srgbClr val="c0cd9a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7" name="Group 27"/>
          <p:cNvGrpSpPr/>
          <p:nvPr/>
        </p:nvGrpSpPr>
        <p:grpSpPr>
          <a:xfrm>
            <a:off x="2743200" y="4572000"/>
            <a:ext cx="5867280" cy="1447920"/>
            <a:chOff x="2743200" y="4572000"/>
            <a:chExt cx="5867280" cy="1447920"/>
          </a:xfrm>
        </p:grpSpPr>
        <p:pic>
          <p:nvPicPr>
            <p:cNvPr id="178" name="Rounded Rectangle 6" descr=""/>
            <p:cNvPicPr/>
            <p:nvPr/>
          </p:nvPicPr>
          <p:blipFill>
            <a:blip r:embed="rId7"/>
            <a:stretch/>
          </p:blipFill>
          <p:spPr>
            <a:xfrm>
              <a:off x="2743200" y="4572000"/>
              <a:ext cx="58672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3"/>
            <p:cNvSpPr/>
            <p:nvPr/>
          </p:nvSpPr>
          <p:spPr>
            <a:xfrm>
              <a:off x="3818880" y="4710960"/>
              <a:ext cx="4253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onvert PowerPoint to video or burn to DVD. Present your slide show on TV to share with family.</a:t>
              </a:r>
              <a:endParaRPr b="0" lang="en-US" sz="2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0" name="Picture 15" descr="ppt2dvd.pn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2960280" y="4670640"/>
              <a:ext cx="799560" cy="10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ight Arrow 11"/>
          <p:cNvSpPr/>
          <p:nvPr/>
        </p:nvSpPr>
        <p:spPr>
          <a:xfrm>
            <a:off x="2286000" y="3048120"/>
            <a:ext cx="380880" cy="761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2" name="Group 26"/>
          <p:cNvGrpSpPr/>
          <p:nvPr/>
        </p:nvGrpSpPr>
        <p:grpSpPr>
          <a:xfrm>
            <a:off x="2743200" y="2743200"/>
            <a:ext cx="5867280" cy="1447920"/>
            <a:chOff x="2743200" y="2743200"/>
            <a:chExt cx="5867280" cy="1447920"/>
          </a:xfrm>
        </p:grpSpPr>
        <p:pic>
          <p:nvPicPr>
            <p:cNvPr id="183" name="Rounded Rectangle 5" descr=""/>
            <p:cNvPicPr/>
            <p:nvPr/>
          </p:nvPicPr>
          <p:blipFill>
            <a:blip r:embed="rId10"/>
            <a:stretch/>
          </p:blipFill>
          <p:spPr>
            <a:xfrm>
              <a:off x="2743200" y="2743200"/>
              <a:ext cx="5867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6" descr="democreator.png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2966760" y="2885760"/>
              <a:ext cx="6850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" descr="quizcreator.png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659400" y="3084120"/>
              <a:ext cx="68508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18"/>
            <p:cNvSpPr/>
            <p:nvPr/>
          </p:nvSpPr>
          <p:spPr>
            <a:xfrm>
              <a:off x="4449960" y="2859120"/>
              <a:ext cx="3632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flash-based quizzes and demo to slide show to interact with your audience.</a:t>
              </a:r>
              <a:endParaRPr b="0" lang="en-US" sz="23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7" name="Rounded Rectangle 28">
            <a:hlinkClick r:id="rId15"/>
          </p:cNvPr>
          <p:cNvSpPr/>
          <p:nvPr/>
        </p:nvSpPr>
        <p:spPr>
          <a:xfrm>
            <a:off x="7238880" y="1828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8fad2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Rounded Rectangle 29">
            <a:hlinkClick r:id="rId16"/>
          </p:cNvPr>
          <p:cNvSpPr/>
          <p:nvPr/>
        </p:nvSpPr>
        <p:spPr>
          <a:xfrm>
            <a:off x="7238880" y="36576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Rounded Rectangle 30">
            <a:hlinkClick r:id="rId17"/>
          </p:cNvPr>
          <p:cNvSpPr/>
          <p:nvPr/>
        </p:nvSpPr>
        <p:spPr>
          <a:xfrm>
            <a:off x="7238880" y="55087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earn Mor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页脚占位符 1"/>
          <p:cNvSpPr/>
          <p:nvPr/>
        </p:nvSpPr>
        <p:spPr>
          <a:xfrm>
            <a:off x="2430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8:15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0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