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5A0F-7666-41C8-ADEC-57546B6A0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77D0-40F3-4309-A2A9-9E62D4B53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CAC2-5559-40AF-BF95-01355D32C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B09D-E2E3-43C5-B4C3-F7B4A043E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3B66-D8CF-4659-931B-097193E1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4B3CE-FA51-4D90-B668-9980689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65C0B-5E31-458C-BC9C-0420F57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27A74-3E96-4FE7-BEFA-157E9245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083A-BFFF-440B-ABA6-F221A8D4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E7CEB-170D-402E-85A3-57E389F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91D2-E15E-4987-AD2D-B932429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CEE9-F1A7-4CBC-B3CB-06A76DA36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3F075-2B5D-4E7D-B87C-636605A9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6460-F7DD-4FEC-ADF4-B0F290E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EAFE0-96EA-4272-938F-528931B3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7E297-2419-4D00-8826-FEF0C0ED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DE60-8CD8-414C-A11F-F7DF0A9D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E6E05-3DFC-4828-9D83-19B1C4F7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ABE87-622D-4CF9-8252-BD7A597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3956C-E695-4E8C-A74E-5C1218F8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39358-2CB9-433B-8E22-42BF2B7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B6A7A-93A2-4885-B2F1-DB04E35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1A70-8BE3-43AB-980F-417EBF1F84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50C6-3800-4E0E-826F-80FB053C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B71C9-F3F7-4973-99EB-563285A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F6EF0-59BC-428A-B9B6-73FE77A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47F7E-BD7B-4A73-B947-6FE32CC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1FF85-2506-43B7-BB68-EDB05D9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F6F92-30AB-4C29-BE4A-E40BF20F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936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35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632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936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35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57A62-2EC2-410D-8BA7-ADAA365C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72A4-3186-4EBB-8C27-DB16E1382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0CDE-4542-49CE-85F2-6DB0B5529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63280" y="304920"/>
            <a:ext cx="705636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69FE-1612-462D-8812-C7CDB055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AFD5-63EE-47AF-BE71-8E2EC2D1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912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429D-A718-43DB-B5A5-52295B242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912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6328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105A-E8B1-46F6-A7A8-A81ACF8F1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948360" y="6477120"/>
            <a:ext cx="18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03280" y="6477120"/>
            <a:ext cx="1125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640-A53C-475B-B76F-D8DED1FD0F6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AD15-0600-481D-9DC9-DB0BB7E9A9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525-82B1-4500-846A-2A95B0CC55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054"/>
          <p:cNvSpPr/>
          <p:nvPr/>
        </p:nvSpPr>
        <p:spPr>
          <a:xfrm>
            <a:off x="0" y="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ogo</a:t>
            </a:r>
            <a:endParaRPr b="0" lang="en-US" sz="20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bbe5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2F06-7822-4F20-B671-52489077FC8C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63664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蓝色医疗吊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be5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bbe5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47920" y="40478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6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5ff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bbe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5ff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29" name="文本框 5123"/>
          <p:cNvSpPr/>
          <p:nvPr/>
        </p:nvSpPr>
        <p:spPr>
          <a:xfrm>
            <a:off x="2700360" y="105264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8bdb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8bdb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bbe5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30" name="页脚占位符 1"/>
          <p:cNvSpPr/>
          <p:nvPr/>
        </p:nvSpPr>
        <p:spPr>
          <a:xfrm>
            <a:off x="6948360" y="6477120"/>
            <a:ext cx="18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5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be5ff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C617-5772-482A-969F-919FC1097B5B}" type="slidenum">
              <a:rPr b="0" lang="zh-CN" sz="1400" spc="-1" strike="noStrike">
                <a:solidFill>
                  <a:srgbClr val="bbe5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30492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内容占位符 6146" descr=""/>
          <p:cNvPicPr/>
          <p:nvPr/>
        </p:nvPicPr>
        <p:blipFill>
          <a:blip r:embed="rId1"/>
          <a:stretch/>
        </p:blipFill>
        <p:spPr>
          <a:xfrm>
            <a:off x="1763640" y="184140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1"/>
          <p:cNvSpPr/>
          <p:nvPr/>
        </p:nvSpPr>
        <p:spPr>
          <a:xfrm>
            <a:off x="6948360" y="6477120"/>
            <a:ext cx="18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bb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7:58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2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