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C32-4FC7-4095-AA29-12B01DC9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1EC-1B7A-48BB-900F-0486F142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A10-7C62-4569-9F00-9B4D9034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402-6D6E-4DA3-A4FE-9A64640F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9EC-3BB1-4557-ABC8-E4E66AB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348000" y="4392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03F-AEBB-443C-AFCA-F8820C1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932-C354-4718-9DA7-D90FCA0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F73-7C76-498D-B364-EEE2B11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FC9-F274-483B-A699-B2F49908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FCC-DA4C-4BA5-BA04-68429784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137-5FFD-4A3D-91F6-A2545141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A7A-2CFC-40DC-8772-73712BA2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48000" y="4392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48000" y="4392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D18-64FA-4505-81BE-EF05485DEA5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7FA-CB7A-4AB6-A352-2481C7ACA9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606400"/>
            <a:ext cx="81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         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文本框 4098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099"/>
          <p:cNvSpPr/>
          <p:nvPr/>
        </p:nvSpPr>
        <p:spPr>
          <a:xfrm>
            <a:off x="1696680" y="9079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梅花典雅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5121" descr="2008518225319305"/>
          <p:cNvPicPr/>
          <p:nvPr/>
        </p:nvPicPr>
        <p:blipFill>
          <a:blip r:embed="rId1"/>
          <a:stretch/>
        </p:blipFill>
        <p:spPr>
          <a:xfrm>
            <a:off x="2050920" y="1266840"/>
            <a:ext cx="12258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362320" y="4627440"/>
            <a:ext cx="4800600" cy="360"/>
            <a:chOff x="2362320" y="4627440"/>
            <a:chExt cx="4800600" cy="360"/>
          </a:xfrm>
        </p:grpSpPr>
        <p:sp>
          <p:nvSpPr>
            <p:cNvPr id="122" name="直接连接符 5122"/>
            <p:cNvSpPr/>
            <p:nvPr/>
          </p:nvSpPr>
          <p:spPr>
            <a:xfrm>
              <a:off x="2362320" y="462744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362320" y="46274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362320" y="2112840"/>
            <a:ext cx="4800600" cy="360"/>
            <a:chOff x="2362320" y="2112840"/>
            <a:chExt cx="4800600" cy="360"/>
          </a:xfrm>
        </p:grpSpPr>
        <p:sp>
          <p:nvSpPr>
            <p:cNvPr id="125" name="直接连接符 5123"/>
            <p:cNvSpPr/>
            <p:nvPr/>
          </p:nvSpPr>
          <p:spPr>
            <a:xfrm>
              <a:off x="2362320" y="211284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362320" y="21128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124"/>
          <p:cNvSpPr/>
          <p:nvPr/>
        </p:nvSpPr>
        <p:spPr>
          <a:xfrm>
            <a:off x="3430440" y="1623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62320" y="2951280"/>
            <a:ext cx="4800600" cy="360"/>
            <a:chOff x="2362320" y="2951280"/>
            <a:chExt cx="4800600" cy="360"/>
          </a:xfrm>
        </p:grpSpPr>
        <p:sp>
          <p:nvSpPr>
            <p:cNvPr id="129" name="直接连接符 5125"/>
            <p:cNvSpPr/>
            <p:nvPr/>
          </p:nvSpPr>
          <p:spPr>
            <a:xfrm>
              <a:off x="2362320" y="295128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362320" y="295128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63760" y="3787920"/>
            <a:ext cx="4799160" cy="1440"/>
            <a:chOff x="2363760" y="3787920"/>
            <a:chExt cx="4799160" cy="1440"/>
          </a:xfrm>
        </p:grpSpPr>
        <p:sp>
          <p:nvSpPr>
            <p:cNvPr id="132" name="直接连接符 5126"/>
            <p:cNvSpPr/>
            <p:nvPr/>
          </p:nvSpPr>
          <p:spPr>
            <a:xfrm>
              <a:off x="2363760" y="3787920"/>
              <a:ext cx="4799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363760" y="3787920"/>
              <a:ext cx="4799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362320" y="5487840"/>
            <a:ext cx="4800600" cy="360"/>
            <a:chOff x="2362320" y="5487840"/>
            <a:chExt cx="4800600" cy="360"/>
          </a:xfrm>
        </p:grpSpPr>
        <p:sp>
          <p:nvSpPr>
            <p:cNvPr id="135" name="直接连接符 5127"/>
            <p:cNvSpPr/>
            <p:nvPr/>
          </p:nvSpPr>
          <p:spPr>
            <a:xfrm>
              <a:off x="2362320" y="548784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62320" y="54878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5128"/>
          <p:cNvSpPr/>
          <p:nvPr/>
        </p:nvSpPr>
        <p:spPr>
          <a:xfrm>
            <a:off x="3430440" y="2486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5129"/>
          <p:cNvSpPr/>
          <p:nvPr/>
        </p:nvSpPr>
        <p:spPr>
          <a:xfrm>
            <a:off x="3430440" y="3325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130"/>
          <p:cNvSpPr/>
          <p:nvPr/>
        </p:nvSpPr>
        <p:spPr>
          <a:xfrm>
            <a:off x="3430440" y="41673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5131"/>
          <p:cNvSpPr/>
          <p:nvPr/>
        </p:nvSpPr>
        <p:spPr>
          <a:xfrm>
            <a:off x="3430440" y="50180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内容占位符 5132" descr="2008518225319305"/>
          <p:cNvPicPr/>
          <p:nvPr/>
        </p:nvPicPr>
        <p:blipFill>
          <a:blip r:embed="rId2"/>
          <a:stretch/>
        </p:blipFill>
        <p:spPr>
          <a:xfrm>
            <a:off x="2050920" y="20606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5133" descr="2008518225319305"/>
          <p:cNvPicPr/>
          <p:nvPr/>
        </p:nvPicPr>
        <p:blipFill>
          <a:blip r:embed="rId3"/>
          <a:stretch/>
        </p:blipFill>
        <p:spPr>
          <a:xfrm>
            <a:off x="2050920" y="29210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134" descr="2008518225319305"/>
          <p:cNvPicPr/>
          <p:nvPr/>
        </p:nvPicPr>
        <p:blipFill>
          <a:blip r:embed="rId4"/>
          <a:stretch/>
        </p:blipFill>
        <p:spPr>
          <a:xfrm>
            <a:off x="2050920" y="378792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135" descr="2008518225319305"/>
          <p:cNvPicPr/>
          <p:nvPr/>
        </p:nvPicPr>
        <p:blipFill>
          <a:blip r:embed="rId5"/>
          <a:stretch/>
        </p:blipFill>
        <p:spPr>
          <a:xfrm>
            <a:off x="2050920" y="4651200"/>
            <a:ext cx="1225800" cy="12258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5136"/>
          <p:cNvSpPr/>
          <p:nvPr/>
        </p:nvSpPr>
        <p:spPr>
          <a:xfrm>
            <a:off x="255600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内容占位符 6145" descr="2008518225323523"/>
          <p:cNvPicPr/>
          <p:nvPr/>
        </p:nvPicPr>
        <p:blipFill>
          <a:blip r:embed="rId1"/>
          <a:stretch/>
        </p:blipFill>
        <p:spPr>
          <a:xfrm>
            <a:off x="324000" y="283536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147" name="未知"/>
          <p:cNvSpPr/>
          <p:nvPr/>
        </p:nvSpPr>
        <p:spPr>
          <a:xfrm>
            <a:off x="1604880" y="4067280"/>
            <a:ext cx="5875560" cy="122544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1614600" y="1779480"/>
            <a:ext cx="5875200" cy="1225800"/>
          </a:xfrm>
          <a:custGeom>
            <a:avLst/>
            <a:gdLst/>
            <a:ahLst/>
            <a:rect l="l" t="t" r="r" b="b"/>
            <a:pathLst>
              <a:path w="3701" h="772">
                <a:moveTo>
                  <a:pt x="3315" y="0"/>
                </a:moveTo>
                <a:lnTo>
                  <a:pt x="3315" y="0"/>
                </a:lnTo>
                <a:lnTo>
                  <a:pt x="3298" y="0"/>
                </a:lnTo>
                <a:lnTo>
                  <a:pt x="3281" y="1"/>
                </a:lnTo>
                <a:lnTo>
                  <a:pt x="3264" y="4"/>
                </a:lnTo>
                <a:lnTo>
                  <a:pt x="3247" y="6"/>
                </a:lnTo>
                <a:lnTo>
                  <a:pt x="3230" y="9"/>
                </a:lnTo>
                <a:lnTo>
                  <a:pt x="3214" y="13"/>
                </a:lnTo>
                <a:lnTo>
                  <a:pt x="3199" y="17"/>
                </a:lnTo>
                <a:lnTo>
                  <a:pt x="3183" y="23"/>
                </a:lnTo>
                <a:lnTo>
                  <a:pt x="3080" y="23"/>
                </a:lnTo>
                <a:lnTo>
                  <a:pt x="3080" y="23"/>
                </a:lnTo>
                <a:lnTo>
                  <a:pt x="3064" y="17"/>
                </a:lnTo>
                <a:lnTo>
                  <a:pt x="3048" y="13"/>
                </a:lnTo>
                <a:lnTo>
                  <a:pt x="3032" y="9"/>
                </a:lnTo>
                <a:lnTo>
                  <a:pt x="3016" y="6"/>
                </a:lnTo>
                <a:lnTo>
                  <a:pt x="2999" y="4"/>
                </a:lnTo>
                <a:lnTo>
                  <a:pt x="2983" y="1"/>
                </a:lnTo>
                <a:lnTo>
                  <a:pt x="2966" y="0"/>
                </a:lnTo>
                <a:lnTo>
                  <a:pt x="2949" y="0"/>
                </a:lnTo>
                <a:lnTo>
                  <a:pt x="2949" y="0"/>
                </a:lnTo>
                <a:lnTo>
                  <a:pt x="2931" y="0"/>
                </a:lnTo>
                <a:lnTo>
                  <a:pt x="2914" y="1"/>
                </a:lnTo>
                <a:lnTo>
                  <a:pt x="2897" y="4"/>
                </a:lnTo>
                <a:lnTo>
                  <a:pt x="2881" y="6"/>
                </a:lnTo>
                <a:lnTo>
                  <a:pt x="2865" y="9"/>
                </a:lnTo>
                <a:lnTo>
                  <a:pt x="2849" y="13"/>
                </a:lnTo>
                <a:lnTo>
                  <a:pt x="2833" y="17"/>
                </a:lnTo>
                <a:lnTo>
                  <a:pt x="2817" y="23"/>
                </a:lnTo>
                <a:lnTo>
                  <a:pt x="2714" y="23"/>
                </a:lnTo>
                <a:lnTo>
                  <a:pt x="2714" y="23"/>
                </a:lnTo>
                <a:lnTo>
                  <a:pt x="2698" y="17"/>
                </a:lnTo>
                <a:lnTo>
                  <a:pt x="2683" y="13"/>
                </a:lnTo>
                <a:lnTo>
                  <a:pt x="2666" y="9"/>
                </a:lnTo>
                <a:lnTo>
                  <a:pt x="2650" y="6"/>
                </a:lnTo>
                <a:lnTo>
                  <a:pt x="2634" y="4"/>
                </a:lnTo>
                <a:lnTo>
                  <a:pt x="2617" y="1"/>
                </a:lnTo>
                <a:lnTo>
                  <a:pt x="2599" y="0"/>
                </a:lnTo>
                <a:lnTo>
                  <a:pt x="2582" y="0"/>
                </a:lnTo>
                <a:lnTo>
                  <a:pt x="2582" y="0"/>
                </a:lnTo>
                <a:lnTo>
                  <a:pt x="2565" y="0"/>
                </a:lnTo>
                <a:lnTo>
                  <a:pt x="2548" y="1"/>
                </a:lnTo>
                <a:lnTo>
                  <a:pt x="2532" y="4"/>
                </a:lnTo>
                <a:lnTo>
                  <a:pt x="2515" y="6"/>
                </a:lnTo>
                <a:lnTo>
                  <a:pt x="2499" y="9"/>
                </a:lnTo>
                <a:lnTo>
                  <a:pt x="2483" y="13"/>
                </a:lnTo>
                <a:lnTo>
                  <a:pt x="2467" y="17"/>
                </a:lnTo>
                <a:lnTo>
                  <a:pt x="2452" y="23"/>
                </a:lnTo>
                <a:lnTo>
                  <a:pt x="2347" y="23"/>
                </a:lnTo>
                <a:lnTo>
                  <a:pt x="2347" y="23"/>
                </a:lnTo>
                <a:lnTo>
                  <a:pt x="2333" y="17"/>
                </a:lnTo>
                <a:lnTo>
                  <a:pt x="2317" y="13"/>
                </a:lnTo>
                <a:lnTo>
                  <a:pt x="2301" y="9"/>
                </a:lnTo>
                <a:lnTo>
                  <a:pt x="2284" y="6"/>
                </a:lnTo>
                <a:lnTo>
                  <a:pt x="2267" y="4"/>
                </a:lnTo>
                <a:lnTo>
                  <a:pt x="2250" y="1"/>
                </a:lnTo>
                <a:lnTo>
                  <a:pt x="2234" y="0"/>
                </a:lnTo>
                <a:lnTo>
                  <a:pt x="2217" y="0"/>
                </a:lnTo>
                <a:lnTo>
                  <a:pt x="2217" y="0"/>
                </a:lnTo>
                <a:lnTo>
                  <a:pt x="2200" y="0"/>
                </a:lnTo>
                <a:lnTo>
                  <a:pt x="2183" y="1"/>
                </a:lnTo>
                <a:lnTo>
                  <a:pt x="2165" y="4"/>
                </a:lnTo>
                <a:lnTo>
                  <a:pt x="2149" y="6"/>
                </a:lnTo>
                <a:lnTo>
                  <a:pt x="2132" y="9"/>
                </a:lnTo>
                <a:lnTo>
                  <a:pt x="2116" y="13"/>
                </a:lnTo>
                <a:lnTo>
                  <a:pt x="2101" y="17"/>
                </a:lnTo>
                <a:lnTo>
                  <a:pt x="2085" y="23"/>
                </a:lnTo>
                <a:lnTo>
                  <a:pt x="1982" y="23"/>
                </a:lnTo>
                <a:lnTo>
                  <a:pt x="1982" y="23"/>
                </a:lnTo>
                <a:lnTo>
                  <a:pt x="1966" y="17"/>
                </a:lnTo>
                <a:lnTo>
                  <a:pt x="1950" y="13"/>
                </a:lnTo>
                <a:lnTo>
                  <a:pt x="1934" y="9"/>
                </a:lnTo>
                <a:lnTo>
                  <a:pt x="1918" y="6"/>
                </a:lnTo>
                <a:lnTo>
                  <a:pt x="1901" y="4"/>
                </a:lnTo>
                <a:lnTo>
                  <a:pt x="1885" y="1"/>
                </a:lnTo>
                <a:lnTo>
                  <a:pt x="1868" y="0"/>
                </a:lnTo>
                <a:lnTo>
                  <a:pt x="1851" y="0"/>
                </a:lnTo>
                <a:lnTo>
                  <a:pt x="1851" y="0"/>
                </a:lnTo>
                <a:lnTo>
                  <a:pt x="1833" y="0"/>
                </a:lnTo>
                <a:lnTo>
                  <a:pt x="1816" y="1"/>
                </a:lnTo>
                <a:lnTo>
                  <a:pt x="1799" y="4"/>
                </a:lnTo>
                <a:lnTo>
                  <a:pt x="1783" y="6"/>
                </a:lnTo>
                <a:lnTo>
                  <a:pt x="1767" y="9"/>
                </a:lnTo>
                <a:lnTo>
                  <a:pt x="1751" y="13"/>
                </a:lnTo>
                <a:lnTo>
                  <a:pt x="1735" y="17"/>
                </a:lnTo>
                <a:lnTo>
                  <a:pt x="1719" y="23"/>
                </a:lnTo>
                <a:lnTo>
                  <a:pt x="1616" y="23"/>
                </a:lnTo>
                <a:lnTo>
                  <a:pt x="1616" y="23"/>
                </a:lnTo>
                <a:lnTo>
                  <a:pt x="1600" y="17"/>
                </a:lnTo>
                <a:lnTo>
                  <a:pt x="1584" y="13"/>
                </a:lnTo>
                <a:lnTo>
                  <a:pt x="1568" y="9"/>
                </a:lnTo>
                <a:lnTo>
                  <a:pt x="1552" y="6"/>
                </a:lnTo>
                <a:lnTo>
                  <a:pt x="1536" y="4"/>
                </a:lnTo>
                <a:lnTo>
                  <a:pt x="1518" y="1"/>
                </a:lnTo>
                <a:lnTo>
                  <a:pt x="1501" y="0"/>
                </a:lnTo>
                <a:lnTo>
                  <a:pt x="1484" y="0"/>
                </a:lnTo>
                <a:lnTo>
                  <a:pt x="1484" y="0"/>
                </a:lnTo>
                <a:lnTo>
                  <a:pt x="1467" y="0"/>
                </a:lnTo>
                <a:lnTo>
                  <a:pt x="1450" y="1"/>
                </a:lnTo>
                <a:lnTo>
                  <a:pt x="1434" y="4"/>
                </a:lnTo>
                <a:lnTo>
                  <a:pt x="1417" y="6"/>
                </a:lnTo>
                <a:lnTo>
                  <a:pt x="1400" y="9"/>
                </a:lnTo>
                <a:lnTo>
                  <a:pt x="1384" y="13"/>
                </a:lnTo>
                <a:lnTo>
                  <a:pt x="1368" y="17"/>
                </a:lnTo>
                <a:lnTo>
                  <a:pt x="1354" y="23"/>
                </a:lnTo>
                <a:lnTo>
                  <a:pt x="1249" y="23"/>
                </a:lnTo>
                <a:lnTo>
                  <a:pt x="1249" y="23"/>
                </a:lnTo>
                <a:lnTo>
                  <a:pt x="1234" y="17"/>
                </a:lnTo>
                <a:lnTo>
                  <a:pt x="1218" y="13"/>
                </a:lnTo>
                <a:lnTo>
                  <a:pt x="1202" y="9"/>
                </a:lnTo>
                <a:lnTo>
                  <a:pt x="1186" y="6"/>
                </a:lnTo>
                <a:lnTo>
                  <a:pt x="1169" y="4"/>
                </a:lnTo>
                <a:lnTo>
                  <a:pt x="1152" y="1"/>
                </a:lnTo>
                <a:lnTo>
                  <a:pt x="1136" y="0"/>
                </a:lnTo>
                <a:lnTo>
                  <a:pt x="1119" y="0"/>
                </a:lnTo>
                <a:lnTo>
                  <a:pt x="1119" y="0"/>
                </a:lnTo>
                <a:lnTo>
                  <a:pt x="1102" y="0"/>
                </a:lnTo>
                <a:lnTo>
                  <a:pt x="1084" y="1"/>
                </a:lnTo>
                <a:lnTo>
                  <a:pt x="1067" y="4"/>
                </a:lnTo>
                <a:lnTo>
                  <a:pt x="1051" y="6"/>
                </a:lnTo>
                <a:lnTo>
                  <a:pt x="1034" y="9"/>
                </a:lnTo>
                <a:lnTo>
                  <a:pt x="1018" y="13"/>
                </a:lnTo>
                <a:lnTo>
                  <a:pt x="1003" y="17"/>
                </a:lnTo>
                <a:lnTo>
                  <a:pt x="987" y="23"/>
                </a:lnTo>
                <a:lnTo>
                  <a:pt x="883" y="23"/>
                </a:lnTo>
                <a:lnTo>
                  <a:pt x="883" y="23"/>
                </a:lnTo>
                <a:lnTo>
                  <a:pt x="868" y="17"/>
                </a:lnTo>
                <a:lnTo>
                  <a:pt x="852" y="13"/>
                </a:lnTo>
                <a:lnTo>
                  <a:pt x="836" y="9"/>
                </a:lnTo>
                <a:lnTo>
                  <a:pt x="820" y="6"/>
                </a:lnTo>
                <a:lnTo>
                  <a:pt x="803" y="4"/>
                </a:lnTo>
                <a:lnTo>
                  <a:pt x="787" y="1"/>
                </a:lnTo>
                <a:lnTo>
                  <a:pt x="770" y="0"/>
                </a:lnTo>
                <a:lnTo>
                  <a:pt x="752" y="0"/>
                </a:lnTo>
                <a:lnTo>
                  <a:pt x="752" y="0"/>
                </a:lnTo>
                <a:lnTo>
                  <a:pt x="735" y="0"/>
                </a:lnTo>
                <a:lnTo>
                  <a:pt x="718" y="1"/>
                </a:lnTo>
                <a:lnTo>
                  <a:pt x="701" y="4"/>
                </a:lnTo>
                <a:lnTo>
                  <a:pt x="685" y="6"/>
                </a:lnTo>
                <a:lnTo>
                  <a:pt x="669" y="9"/>
                </a:lnTo>
                <a:lnTo>
                  <a:pt x="653" y="13"/>
                </a:lnTo>
                <a:lnTo>
                  <a:pt x="637" y="17"/>
                </a:lnTo>
                <a:lnTo>
                  <a:pt x="621" y="23"/>
                </a:lnTo>
                <a:lnTo>
                  <a:pt x="518" y="23"/>
                </a:lnTo>
                <a:lnTo>
                  <a:pt x="518" y="23"/>
                </a:lnTo>
                <a:lnTo>
                  <a:pt x="502" y="17"/>
                </a:lnTo>
                <a:lnTo>
                  <a:pt x="486" y="13"/>
                </a:lnTo>
                <a:lnTo>
                  <a:pt x="470" y="9"/>
                </a:lnTo>
                <a:lnTo>
                  <a:pt x="454" y="6"/>
                </a:lnTo>
                <a:lnTo>
                  <a:pt x="437" y="4"/>
                </a:lnTo>
                <a:lnTo>
                  <a:pt x="420" y="1"/>
                </a:lnTo>
                <a:lnTo>
                  <a:pt x="403" y="0"/>
                </a:lnTo>
                <a:lnTo>
                  <a:pt x="386" y="0"/>
                </a:lnTo>
                <a:lnTo>
                  <a:pt x="386" y="0"/>
                </a:lnTo>
                <a:lnTo>
                  <a:pt x="366" y="0"/>
                </a:lnTo>
                <a:lnTo>
                  <a:pt x="347" y="2"/>
                </a:lnTo>
                <a:lnTo>
                  <a:pt x="328" y="5"/>
                </a:lnTo>
                <a:lnTo>
                  <a:pt x="308" y="8"/>
                </a:lnTo>
                <a:lnTo>
                  <a:pt x="290" y="12"/>
                </a:lnTo>
                <a:lnTo>
                  <a:pt x="271" y="17"/>
                </a:lnTo>
                <a:lnTo>
                  <a:pt x="253" y="23"/>
                </a:lnTo>
                <a:lnTo>
                  <a:pt x="236" y="30"/>
                </a:lnTo>
                <a:lnTo>
                  <a:pt x="219" y="38"/>
                </a:lnTo>
                <a:lnTo>
                  <a:pt x="202" y="47"/>
                </a:lnTo>
                <a:lnTo>
                  <a:pt x="186" y="56"/>
                </a:lnTo>
                <a:lnTo>
                  <a:pt x="171" y="65"/>
                </a:lnTo>
                <a:lnTo>
                  <a:pt x="155" y="77"/>
                </a:lnTo>
                <a:lnTo>
                  <a:pt x="141" y="88"/>
                </a:lnTo>
                <a:lnTo>
                  <a:pt x="126" y="100"/>
                </a:lnTo>
                <a:lnTo>
                  <a:pt x="113" y="113"/>
                </a:lnTo>
                <a:lnTo>
                  <a:pt x="100" y="126"/>
                </a:lnTo>
                <a:lnTo>
                  <a:pt x="88" y="141"/>
                </a:lnTo>
                <a:lnTo>
                  <a:pt x="77" y="155"/>
                </a:lnTo>
                <a:lnTo>
                  <a:pt x="65" y="171"/>
                </a:lnTo>
                <a:lnTo>
                  <a:pt x="56" y="186"/>
                </a:lnTo>
                <a:lnTo>
                  <a:pt x="47" y="202"/>
                </a:lnTo>
                <a:lnTo>
                  <a:pt x="38" y="219"/>
                </a:lnTo>
                <a:lnTo>
                  <a:pt x="30" y="236"/>
                </a:lnTo>
                <a:lnTo>
                  <a:pt x="23" y="253"/>
                </a:lnTo>
                <a:lnTo>
                  <a:pt x="17" y="271"/>
                </a:lnTo>
                <a:lnTo>
                  <a:pt x="12" y="290"/>
                </a:lnTo>
                <a:lnTo>
                  <a:pt x="8" y="308"/>
                </a:lnTo>
                <a:lnTo>
                  <a:pt x="5" y="328"/>
                </a:lnTo>
                <a:lnTo>
                  <a:pt x="2" y="347"/>
                </a:lnTo>
                <a:lnTo>
                  <a:pt x="0" y="367"/>
                </a:lnTo>
                <a:lnTo>
                  <a:pt x="0" y="386"/>
                </a:lnTo>
                <a:lnTo>
                  <a:pt x="0" y="386"/>
                </a:lnTo>
                <a:lnTo>
                  <a:pt x="0" y="407"/>
                </a:lnTo>
                <a:lnTo>
                  <a:pt x="2" y="426"/>
                </a:lnTo>
                <a:lnTo>
                  <a:pt x="5" y="446"/>
                </a:lnTo>
                <a:lnTo>
                  <a:pt x="8" y="464"/>
                </a:lnTo>
                <a:lnTo>
                  <a:pt x="12" y="482"/>
                </a:lnTo>
                <a:lnTo>
                  <a:pt x="17" y="501"/>
                </a:lnTo>
                <a:lnTo>
                  <a:pt x="23" y="519"/>
                </a:lnTo>
                <a:lnTo>
                  <a:pt x="30" y="536"/>
                </a:lnTo>
                <a:lnTo>
                  <a:pt x="38" y="553"/>
                </a:lnTo>
                <a:lnTo>
                  <a:pt x="47" y="570"/>
                </a:lnTo>
                <a:lnTo>
                  <a:pt x="56" y="586"/>
                </a:lnTo>
                <a:lnTo>
                  <a:pt x="65" y="602"/>
                </a:lnTo>
                <a:lnTo>
                  <a:pt x="77" y="617"/>
                </a:lnTo>
                <a:lnTo>
                  <a:pt x="88" y="632"/>
                </a:lnTo>
                <a:lnTo>
                  <a:pt x="100" y="646"/>
                </a:lnTo>
                <a:lnTo>
                  <a:pt x="113" y="660"/>
                </a:lnTo>
                <a:lnTo>
                  <a:pt x="126" y="672"/>
                </a:lnTo>
                <a:lnTo>
                  <a:pt x="141" y="684"/>
                </a:lnTo>
                <a:lnTo>
                  <a:pt x="155" y="695"/>
                </a:lnTo>
                <a:lnTo>
                  <a:pt x="171" y="707"/>
                </a:lnTo>
                <a:lnTo>
                  <a:pt x="186" y="717"/>
                </a:lnTo>
                <a:lnTo>
                  <a:pt x="202" y="726"/>
                </a:lnTo>
                <a:lnTo>
                  <a:pt x="219" y="734"/>
                </a:lnTo>
                <a:lnTo>
                  <a:pt x="236" y="742"/>
                </a:lnTo>
                <a:lnTo>
                  <a:pt x="253" y="749"/>
                </a:lnTo>
                <a:lnTo>
                  <a:pt x="271" y="755"/>
                </a:lnTo>
                <a:lnTo>
                  <a:pt x="290" y="760"/>
                </a:lnTo>
                <a:lnTo>
                  <a:pt x="308" y="765"/>
                </a:lnTo>
                <a:lnTo>
                  <a:pt x="328" y="768"/>
                </a:lnTo>
                <a:lnTo>
                  <a:pt x="347" y="771"/>
                </a:lnTo>
                <a:lnTo>
                  <a:pt x="366" y="772"/>
                </a:lnTo>
                <a:lnTo>
                  <a:pt x="386" y="772"/>
                </a:lnTo>
                <a:lnTo>
                  <a:pt x="386" y="772"/>
                </a:lnTo>
                <a:lnTo>
                  <a:pt x="416" y="771"/>
                </a:lnTo>
                <a:lnTo>
                  <a:pt x="444" y="768"/>
                </a:lnTo>
                <a:lnTo>
                  <a:pt x="473" y="763"/>
                </a:lnTo>
                <a:lnTo>
                  <a:pt x="500" y="755"/>
                </a:lnTo>
                <a:lnTo>
                  <a:pt x="638" y="755"/>
                </a:lnTo>
                <a:lnTo>
                  <a:pt x="638" y="755"/>
                </a:lnTo>
                <a:lnTo>
                  <a:pt x="665" y="763"/>
                </a:lnTo>
                <a:lnTo>
                  <a:pt x="694" y="768"/>
                </a:lnTo>
                <a:lnTo>
                  <a:pt x="723" y="771"/>
                </a:lnTo>
                <a:lnTo>
                  <a:pt x="752" y="772"/>
                </a:lnTo>
                <a:lnTo>
                  <a:pt x="752" y="772"/>
                </a:lnTo>
                <a:lnTo>
                  <a:pt x="782" y="771"/>
                </a:lnTo>
                <a:lnTo>
                  <a:pt x="811" y="768"/>
                </a:lnTo>
                <a:lnTo>
                  <a:pt x="839" y="763"/>
                </a:lnTo>
                <a:lnTo>
                  <a:pt x="867" y="755"/>
                </a:lnTo>
                <a:lnTo>
                  <a:pt x="1003" y="755"/>
                </a:lnTo>
                <a:lnTo>
                  <a:pt x="1003" y="755"/>
                </a:lnTo>
                <a:lnTo>
                  <a:pt x="1032" y="763"/>
                </a:lnTo>
                <a:lnTo>
                  <a:pt x="1059" y="768"/>
                </a:lnTo>
                <a:lnTo>
                  <a:pt x="1089" y="771"/>
                </a:lnTo>
                <a:lnTo>
                  <a:pt x="1119" y="772"/>
                </a:lnTo>
                <a:lnTo>
                  <a:pt x="1119" y="772"/>
                </a:lnTo>
                <a:lnTo>
                  <a:pt x="1147" y="771"/>
                </a:lnTo>
                <a:lnTo>
                  <a:pt x="1177" y="768"/>
                </a:lnTo>
                <a:lnTo>
                  <a:pt x="1206" y="763"/>
                </a:lnTo>
                <a:lnTo>
                  <a:pt x="1233" y="755"/>
                </a:lnTo>
                <a:lnTo>
                  <a:pt x="1370" y="755"/>
                </a:lnTo>
                <a:lnTo>
                  <a:pt x="1370" y="755"/>
                </a:lnTo>
                <a:lnTo>
                  <a:pt x="1397" y="763"/>
                </a:lnTo>
                <a:lnTo>
                  <a:pt x="1426" y="768"/>
                </a:lnTo>
                <a:lnTo>
                  <a:pt x="1454" y="771"/>
                </a:lnTo>
                <a:lnTo>
                  <a:pt x="1484" y="772"/>
                </a:lnTo>
                <a:lnTo>
                  <a:pt x="1484" y="772"/>
                </a:lnTo>
                <a:lnTo>
                  <a:pt x="1514" y="771"/>
                </a:lnTo>
                <a:lnTo>
                  <a:pt x="1544" y="768"/>
                </a:lnTo>
                <a:lnTo>
                  <a:pt x="1571" y="763"/>
                </a:lnTo>
                <a:lnTo>
                  <a:pt x="1599" y="755"/>
                </a:lnTo>
                <a:lnTo>
                  <a:pt x="1736" y="755"/>
                </a:lnTo>
                <a:lnTo>
                  <a:pt x="1736" y="755"/>
                </a:lnTo>
                <a:lnTo>
                  <a:pt x="1763" y="763"/>
                </a:lnTo>
                <a:lnTo>
                  <a:pt x="1792" y="768"/>
                </a:lnTo>
                <a:lnTo>
                  <a:pt x="1821" y="771"/>
                </a:lnTo>
                <a:lnTo>
                  <a:pt x="1851" y="772"/>
                </a:lnTo>
                <a:lnTo>
                  <a:pt x="1851" y="772"/>
                </a:lnTo>
                <a:lnTo>
                  <a:pt x="1880" y="771"/>
                </a:lnTo>
                <a:lnTo>
                  <a:pt x="1909" y="768"/>
                </a:lnTo>
                <a:lnTo>
                  <a:pt x="1938" y="763"/>
                </a:lnTo>
                <a:lnTo>
                  <a:pt x="1965" y="755"/>
                </a:lnTo>
                <a:lnTo>
                  <a:pt x="2101" y="755"/>
                </a:lnTo>
                <a:lnTo>
                  <a:pt x="2101" y="755"/>
                </a:lnTo>
                <a:lnTo>
                  <a:pt x="2130" y="763"/>
                </a:lnTo>
                <a:lnTo>
                  <a:pt x="2157" y="768"/>
                </a:lnTo>
                <a:lnTo>
                  <a:pt x="2187" y="771"/>
                </a:lnTo>
                <a:lnTo>
                  <a:pt x="2217" y="772"/>
                </a:lnTo>
                <a:lnTo>
                  <a:pt x="2217" y="772"/>
                </a:lnTo>
                <a:lnTo>
                  <a:pt x="2247" y="771"/>
                </a:lnTo>
                <a:lnTo>
                  <a:pt x="2275" y="768"/>
                </a:lnTo>
                <a:lnTo>
                  <a:pt x="2304" y="763"/>
                </a:lnTo>
                <a:lnTo>
                  <a:pt x="2331" y="755"/>
                </a:lnTo>
                <a:lnTo>
                  <a:pt x="2468" y="755"/>
                </a:lnTo>
                <a:lnTo>
                  <a:pt x="2468" y="755"/>
                </a:lnTo>
                <a:lnTo>
                  <a:pt x="2495" y="763"/>
                </a:lnTo>
                <a:lnTo>
                  <a:pt x="2524" y="768"/>
                </a:lnTo>
                <a:lnTo>
                  <a:pt x="2552" y="771"/>
                </a:lnTo>
                <a:lnTo>
                  <a:pt x="2582" y="772"/>
                </a:lnTo>
                <a:lnTo>
                  <a:pt x="2582" y="772"/>
                </a:lnTo>
                <a:lnTo>
                  <a:pt x="2612" y="771"/>
                </a:lnTo>
                <a:lnTo>
                  <a:pt x="2642" y="768"/>
                </a:lnTo>
                <a:lnTo>
                  <a:pt x="2669" y="763"/>
                </a:lnTo>
                <a:lnTo>
                  <a:pt x="2697" y="755"/>
                </a:lnTo>
                <a:lnTo>
                  <a:pt x="2834" y="755"/>
                </a:lnTo>
                <a:lnTo>
                  <a:pt x="2834" y="755"/>
                </a:lnTo>
                <a:lnTo>
                  <a:pt x="2862" y="763"/>
                </a:lnTo>
                <a:lnTo>
                  <a:pt x="2890" y="768"/>
                </a:lnTo>
                <a:lnTo>
                  <a:pt x="2919" y="771"/>
                </a:lnTo>
                <a:lnTo>
                  <a:pt x="2949" y="772"/>
                </a:lnTo>
                <a:lnTo>
                  <a:pt x="2949" y="772"/>
                </a:lnTo>
                <a:lnTo>
                  <a:pt x="2978" y="771"/>
                </a:lnTo>
                <a:lnTo>
                  <a:pt x="3007" y="768"/>
                </a:lnTo>
                <a:lnTo>
                  <a:pt x="3036" y="763"/>
                </a:lnTo>
                <a:lnTo>
                  <a:pt x="3063" y="755"/>
                </a:lnTo>
                <a:lnTo>
                  <a:pt x="3201" y="755"/>
                </a:lnTo>
                <a:lnTo>
                  <a:pt x="3201" y="755"/>
                </a:lnTo>
                <a:lnTo>
                  <a:pt x="3228" y="763"/>
                </a:lnTo>
                <a:lnTo>
                  <a:pt x="3256" y="768"/>
                </a:lnTo>
                <a:lnTo>
                  <a:pt x="3285" y="771"/>
                </a:lnTo>
                <a:lnTo>
                  <a:pt x="3315" y="772"/>
                </a:lnTo>
                <a:lnTo>
                  <a:pt x="3315" y="772"/>
                </a:lnTo>
                <a:lnTo>
                  <a:pt x="3335" y="772"/>
                </a:lnTo>
                <a:lnTo>
                  <a:pt x="3354" y="771"/>
                </a:lnTo>
                <a:lnTo>
                  <a:pt x="3373" y="768"/>
                </a:lnTo>
                <a:lnTo>
                  <a:pt x="3393" y="765"/>
                </a:lnTo>
                <a:lnTo>
                  <a:pt x="3411" y="760"/>
                </a:lnTo>
                <a:lnTo>
                  <a:pt x="3430" y="755"/>
                </a:lnTo>
                <a:lnTo>
                  <a:pt x="3448" y="749"/>
                </a:lnTo>
                <a:lnTo>
                  <a:pt x="3465" y="742"/>
                </a:lnTo>
                <a:lnTo>
                  <a:pt x="3482" y="734"/>
                </a:lnTo>
                <a:lnTo>
                  <a:pt x="3498" y="726"/>
                </a:lnTo>
                <a:lnTo>
                  <a:pt x="3515" y="717"/>
                </a:lnTo>
                <a:lnTo>
                  <a:pt x="3530" y="707"/>
                </a:lnTo>
                <a:lnTo>
                  <a:pt x="3545" y="695"/>
                </a:lnTo>
                <a:lnTo>
                  <a:pt x="3560" y="684"/>
                </a:lnTo>
                <a:lnTo>
                  <a:pt x="3574" y="672"/>
                </a:lnTo>
                <a:lnTo>
                  <a:pt x="3588" y="660"/>
                </a:lnTo>
                <a:lnTo>
                  <a:pt x="3600" y="646"/>
                </a:lnTo>
                <a:lnTo>
                  <a:pt x="3613" y="632"/>
                </a:lnTo>
                <a:lnTo>
                  <a:pt x="3624" y="617"/>
                </a:lnTo>
                <a:lnTo>
                  <a:pt x="3635" y="602"/>
                </a:lnTo>
                <a:lnTo>
                  <a:pt x="3645" y="586"/>
                </a:lnTo>
                <a:lnTo>
                  <a:pt x="3654" y="570"/>
                </a:lnTo>
                <a:lnTo>
                  <a:pt x="3663" y="553"/>
                </a:lnTo>
                <a:lnTo>
                  <a:pt x="3670" y="536"/>
                </a:lnTo>
                <a:lnTo>
                  <a:pt x="3677" y="519"/>
                </a:lnTo>
                <a:lnTo>
                  <a:pt x="3684" y="501"/>
                </a:lnTo>
                <a:lnTo>
                  <a:pt x="3688" y="482"/>
                </a:lnTo>
                <a:lnTo>
                  <a:pt x="3693" y="464"/>
                </a:lnTo>
                <a:lnTo>
                  <a:pt x="3696" y="446"/>
                </a:lnTo>
                <a:lnTo>
                  <a:pt x="3699" y="426"/>
                </a:lnTo>
                <a:lnTo>
                  <a:pt x="3701" y="407"/>
                </a:lnTo>
                <a:lnTo>
                  <a:pt x="3701" y="386"/>
                </a:lnTo>
                <a:lnTo>
                  <a:pt x="3701" y="386"/>
                </a:lnTo>
                <a:lnTo>
                  <a:pt x="3701" y="367"/>
                </a:lnTo>
                <a:lnTo>
                  <a:pt x="3699" y="347"/>
                </a:lnTo>
                <a:lnTo>
                  <a:pt x="3696" y="328"/>
                </a:lnTo>
                <a:lnTo>
                  <a:pt x="3693" y="308"/>
                </a:lnTo>
                <a:lnTo>
                  <a:pt x="3688" y="290"/>
                </a:lnTo>
                <a:lnTo>
                  <a:pt x="3684" y="271"/>
                </a:lnTo>
                <a:lnTo>
                  <a:pt x="3677" y="253"/>
                </a:lnTo>
                <a:lnTo>
                  <a:pt x="3670" y="236"/>
                </a:lnTo>
                <a:lnTo>
                  <a:pt x="3663" y="219"/>
                </a:lnTo>
                <a:lnTo>
                  <a:pt x="3654" y="202"/>
                </a:lnTo>
                <a:lnTo>
                  <a:pt x="3645" y="186"/>
                </a:lnTo>
                <a:lnTo>
                  <a:pt x="3635" y="171"/>
                </a:lnTo>
                <a:lnTo>
                  <a:pt x="3624" y="155"/>
                </a:lnTo>
                <a:lnTo>
                  <a:pt x="3613" y="141"/>
                </a:lnTo>
                <a:lnTo>
                  <a:pt x="3600" y="126"/>
                </a:lnTo>
                <a:lnTo>
                  <a:pt x="3588" y="113"/>
                </a:lnTo>
                <a:lnTo>
                  <a:pt x="3574" y="100"/>
                </a:lnTo>
                <a:lnTo>
                  <a:pt x="3560" y="88"/>
                </a:lnTo>
                <a:lnTo>
                  <a:pt x="3545" y="77"/>
                </a:lnTo>
                <a:lnTo>
                  <a:pt x="3530" y="65"/>
                </a:lnTo>
                <a:lnTo>
                  <a:pt x="3515" y="56"/>
                </a:lnTo>
                <a:lnTo>
                  <a:pt x="3498" y="47"/>
                </a:lnTo>
                <a:lnTo>
                  <a:pt x="3482" y="38"/>
                </a:lnTo>
                <a:lnTo>
                  <a:pt x="3465" y="30"/>
                </a:lnTo>
                <a:lnTo>
                  <a:pt x="3448" y="23"/>
                </a:lnTo>
                <a:lnTo>
                  <a:pt x="3430" y="17"/>
                </a:lnTo>
                <a:lnTo>
                  <a:pt x="3411" y="12"/>
                </a:lnTo>
                <a:lnTo>
                  <a:pt x="3393" y="8"/>
                </a:lnTo>
                <a:lnTo>
                  <a:pt x="3373" y="5"/>
                </a:lnTo>
                <a:lnTo>
                  <a:pt x="3354" y="2"/>
                </a:lnTo>
                <a:lnTo>
                  <a:pt x="3335" y="0"/>
                </a:lnTo>
                <a:lnTo>
                  <a:pt x="3315" y="0"/>
                </a:lnTo>
                <a:lnTo>
                  <a:pt x="3315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6148"/>
          <p:cNvGrpSpPr/>
          <p:nvPr/>
        </p:nvGrpSpPr>
        <p:grpSpPr>
          <a:xfrm>
            <a:off x="1511280" y="2781360"/>
            <a:ext cx="396720" cy="396720"/>
            <a:chOff x="1511280" y="2781360"/>
            <a:chExt cx="396720" cy="396720"/>
          </a:xfrm>
        </p:grpSpPr>
        <p:sp>
          <p:nvSpPr>
            <p:cNvPr id="150" name="椭圆 6149"/>
            <p:cNvSpPr/>
            <p:nvPr/>
          </p:nvSpPr>
          <p:spPr>
            <a:xfrm>
              <a:off x="1511280" y="2781360"/>
              <a:ext cx="396720" cy="39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6150"/>
            <p:cNvSpPr/>
            <p:nvPr/>
          </p:nvSpPr>
          <p:spPr>
            <a:xfrm>
              <a:off x="1619280" y="2889360"/>
              <a:ext cx="181080" cy="1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未知"/>
          <p:cNvSpPr/>
          <p:nvPr/>
        </p:nvSpPr>
        <p:spPr>
          <a:xfrm rot="13500000">
            <a:off x="6086160" y="2191680"/>
            <a:ext cx="2413080" cy="1247760"/>
          </a:xfrm>
          <a:custGeom>
            <a:avLst/>
            <a:gdLst/>
            <a:ahLst/>
            <a:rect l="l" t="t" r="r" b="b"/>
            <a:pathLst>
              <a:path w="1928" h="997">
                <a:moveTo>
                  <a:pt x="1441" y="12"/>
                </a:moveTo>
                <a:lnTo>
                  <a:pt x="1441" y="12"/>
                </a:lnTo>
                <a:lnTo>
                  <a:pt x="1400" y="12"/>
                </a:lnTo>
                <a:lnTo>
                  <a:pt x="1362" y="16"/>
                </a:lnTo>
                <a:lnTo>
                  <a:pt x="1324" y="23"/>
                </a:lnTo>
                <a:lnTo>
                  <a:pt x="1288" y="34"/>
                </a:lnTo>
                <a:lnTo>
                  <a:pt x="1126" y="32"/>
                </a:lnTo>
                <a:lnTo>
                  <a:pt x="1126" y="32"/>
                </a:lnTo>
                <a:lnTo>
                  <a:pt x="1089" y="20"/>
                </a:lnTo>
                <a:lnTo>
                  <a:pt x="1051" y="13"/>
                </a:lnTo>
                <a:lnTo>
                  <a:pt x="1012" y="7"/>
                </a:lnTo>
                <a:lnTo>
                  <a:pt x="972" y="6"/>
                </a:lnTo>
                <a:lnTo>
                  <a:pt x="972" y="6"/>
                </a:lnTo>
                <a:lnTo>
                  <a:pt x="933" y="7"/>
                </a:lnTo>
                <a:lnTo>
                  <a:pt x="893" y="12"/>
                </a:lnTo>
                <a:lnTo>
                  <a:pt x="857" y="19"/>
                </a:lnTo>
                <a:lnTo>
                  <a:pt x="819" y="28"/>
                </a:lnTo>
                <a:lnTo>
                  <a:pt x="652" y="26"/>
                </a:lnTo>
                <a:lnTo>
                  <a:pt x="652" y="26"/>
                </a:lnTo>
                <a:lnTo>
                  <a:pt x="615" y="16"/>
                </a:lnTo>
                <a:lnTo>
                  <a:pt x="577" y="7"/>
                </a:lnTo>
                <a:lnTo>
                  <a:pt x="538" y="3"/>
                </a:lnTo>
                <a:lnTo>
                  <a:pt x="498" y="0"/>
                </a:lnTo>
                <a:lnTo>
                  <a:pt x="498" y="0"/>
                </a:lnTo>
                <a:lnTo>
                  <a:pt x="474" y="0"/>
                </a:lnTo>
                <a:lnTo>
                  <a:pt x="449" y="3"/>
                </a:lnTo>
                <a:lnTo>
                  <a:pt x="424" y="6"/>
                </a:lnTo>
                <a:lnTo>
                  <a:pt x="399" y="9"/>
                </a:lnTo>
                <a:lnTo>
                  <a:pt x="376" y="15"/>
                </a:lnTo>
                <a:lnTo>
                  <a:pt x="352" y="20"/>
                </a:lnTo>
                <a:lnTo>
                  <a:pt x="329" y="28"/>
                </a:lnTo>
                <a:lnTo>
                  <a:pt x="307" y="36"/>
                </a:lnTo>
                <a:lnTo>
                  <a:pt x="285" y="47"/>
                </a:lnTo>
                <a:lnTo>
                  <a:pt x="263" y="57"/>
                </a:lnTo>
                <a:lnTo>
                  <a:pt x="243" y="69"/>
                </a:lnTo>
                <a:lnTo>
                  <a:pt x="222" y="82"/>
                </a:lnTo>
                <a:lnTo>
                  <a:pt x="203" y="95"/>
                </a:lnTo>
                <a:lnTo>
                  <a:pt x="184" y="110"/>
                </a:lnTo>
                <a:lnTo>
                  <a:pt x="165" y="124"/>
                </a:lnTo>
                <a:lnTo>
                  <a:pt x="149" y="140"/>
                </a:lnTo>
                <a:lnTo>
                  <a:pt x="131" y="158"/>
                </a:lnTo>
                <a:lnTo>
                  <a:pt x="115" y="175"/>
                </a:lnTo>
                <a:lnTo>
                  <a:pt x="101" y="194"/>
                </a:lnTo>
                <a:lnTo>
                  <a:pt x="88" y="213"/>
                </a:lnTo>
                <a:lnTo>
                  <a:pt x="74" y="232"/>
                </a:lnTo>
                <a:lnTo>
                  <a:pt x="63" y="253"/>
                </a:lnTo>
                <a:lnTo>
                  <a:pt x="51" y="275"/>
                </a:lnTo>
                <a:lnTo>
                  <a:pt x="41" y="297"/>
                </a:lnTo>
                <a:lnTo>
                  <a:pt x="32" y="319"/>
                </a:lnTo>
                <a:lnTo>
                  <a:pt x="23" y="342"/>
                </a:lnTo>
                <a:lnTo>
                  <a:pt x="17" y="364"/>
                </a:lnTo>
                <a:lnTo>
                  <a:pt x="12" y="389"/>
                </a:lnTo>
                <a:lnTo>
                  <a:pt x="6" y="412"/>
                </a:lnTo>
                <a:lnTo>
                  <a:pt x="3" y="437"/>
                </a:lnTo>
                <a:lnTo>
                  <a:pt x="1" y="462"/>
                </a:lnTo>
                <a:lnTo>
                  <a:pt x="0" y="488"/>
                </a:lnTo>
                <a:lnTo>
                  <a:pt x="0" y="488"/>
                </a:lnTo>
                <a:lnTo>
                  <a:pt x="0" y="513"/>
                </a:lnTo>
                <a:lnTo>
                  <a:pt x="1" y="538"/>
                </a:lnTo>
                <a:lnTo>
                  <a:pt x="4" y="563"/>
                </a:lnTo>
                <a:lnTo>
                  <a:pt x="9" y="588"/>
                </a:lnTo>
                <a:lnTo>
                  <a:pt x="15" y="611"/>
                </a:lnTo>
                <a:lnTo>
                  <a:pt x="20" y="634"/>
                </a:lnTo>
                <a:lnTo>
                  <a:pt x="28" y="658"/>
                </a:lnTo>
                <a:lnTo>
                  <a:pt x="36" y="680"/>
                </a:lnTo>
                <a:lnTo>
                  <a:pt x="47" y="702"/>
                </a:lnTo>
                <a:lnTo>
                  <a:pt x="57" y="724"/>
                </a:lnTo>
                <a:lnTo>
                  <a:pt x="69" y="744"/>
                </a:lnTo>
                <a:lnTo>
                  <a:pt x="80" y="765"/>
                </a:lnTo>
                <a:lnTo>
                  <a:pt x="95" y="784"/>
                </a:lnTo>
                <a:lnTo>
                  <a:pt x="110" y="803"/>
                </a:lnTo>
                <a:lnTo>
                  <a:pt x="124" y="820"/>
                </a:lnTo>
                <a:lnTo>
                  <a:pt x="140" y="838"/>
                </a:lnTo>
                <a:lnTo>
                  <a:pt x="158" y="855"/>
                </a:lnTo>
                <a:lnTo>
                  <a:pt x="175" y="870"/>
                </a:lnTo>
                <a:lnTo>
                  <a:pt x="193" y="886"/>
                </a:lnTo>
                <a:lnTo>
                  <a:pt x="212" y="899"/>
                </a:lnTo>
                <a:lnTo>
                  <a:pt x="232" y="912"/>
                </a:lnTo>
                <a:lnTo>
                  <a:pt x="253" y="924"/>
                </a:lnTo>
                <a:lnTo>
                  <a:pt x="275" y="936"/>
                </a:lnTo>
                <a:lnTo>
                  <a:pt x="295" y="946"/>
                </a:lnTo>
                <a:lnTo>
                  <a:pt x="319" y="955"/>
                </a:lnTo>
                <a:lnTo>
                  <a:pt x="341" y="963"/>
                </a:lnTo>
                <a:lnTo>
                  <a:pt x="364" y="969"/>
                </a:lnTo>
                <a:lnTo>
                  <a:pt x="387" y="975"/>
                </a:lnTo>
                <a:lnTo>
                  <a:pt x="412" y="980"/>
                </a:lnTo>
                <a:lnTo>
                  <a:pt x="437" y="984"/>
                </a:lnTo>
                <a:lnTo>
                  <a:pt x="462" y="985"/>
                </a:lnTo>
                <a:lnTo>
                  <a:pt x="487" y="987"/>
                </a:lnTo>
                <a:lnTo>
                  <a:pt x="487" y="987"/>
                </a:lnTo>
                <a:lnTo>
                  <a:pt x="509" y="987"/>
                </a:lnTo>
                <a:lnTo>
                  <a:pt x="531" y="985"/>
                </a:lnTo>
                <a:lnTo>
                  <a:pt x="551" y="984"/>
                </a:lnTo>
                <a:lnTo>
                  <a:pt x="572" y="981"/>
                </a:lnTo>
                <a:lnTo>
                  <a:pt x="592" y="977"/>
                </a:lnTo>
                <a:lnTo>
                  <a:pt x="612" y="972"/>
                </a:lnTo>
                <a:lnTo>
                  <a:pt x="652" y="961"/>
                </a:lnTo>
                <a:lnTo>
                  <a:pt x="797" y="962"/>
                </a:lnTo>
                <a:lnTo>
                  <a:pt x="797" y="962"/>
                </a:lnTo>
                <a:lnTo>
                  <a:pt x="836" y="975"/>
                </a:lnTo>
                <a:lnTo>
                  <a:pt x="857" y="980"/>
                </a:lnTo>
                <a:lnTo>
                  <a:pt x="877" y="984"/>
                </a:lnTo>
                <a:lnTo>
                  <a:pt x="897" y="987"/>
                </a:lnTo>
                <a:lnTo>
                  <a:pt x="918" y="990"/>
                </a:lnTo>
                <a:lnTo>
                  <a:pt x="940" y="991"/>
                </a:lnTo>
                <a:lnTo>
                  <a:pt x="960" y="993"/>
                </a:lnTo>
                <a:lnTo>
                  <a:pt x="960" y="993"/>
                </a:lnTo>
                <a:lnTo>
                  <a:pt x="982" y="991"/>
                </a:lnTo>
                <a:lnTo>
                  <a:pt x="1004" y="991"/>
                </a:lnTo>
                <a:lnTo>
                  <a:pt x="1025" y="988"/>
                </a:lnTo>
                <a:lnTo>
                  <a:pt x="1045" y="985"/>
                </a:lnTo>
                <a:lnTo>
                  <a:pt x="1066" y="982"/>
                </a:lnTo>
                <a:lnTo>
                  <a:pt x="1086" y="978"/>
                </a:lnTo>
                <a:lnTo>
                  <a:pt x="1126" y="966"/>
                </a:lnTo>
                <a:lnTo>
                  <a:pt x="1266" y="968"/>
                </a:lnTo>
                <a:lnTo>
                  <a:pt x="1266" y="968"/>
                </a:lnTo>
                <a:lnTo>
                  <a:pt x="1304" y="980"/>
                </a:lnTo>
                <a:lnTo>
                  <a:pt x="1324" y="985"/>
                </a:lnTo>
                <a:lnTo>
                  <a:pt x="1345" y="990"/>
                </a:lnTo>
                <a:lnTo>
                  <a:pt x="1365" y="993"/>
                </a:lnTo>
                <a:lnTo>
                  <a:pt x="1387" y="996"/>
                </a:lnTo>
                <a:lnTo>
                  <a:pt x="1408" y="997"/>
                </a:lnTo>
                <a:lnTo>
                  <a:pt x="1430" y="997"/>
                </a:lnTo>
                <a:lnTo>
                  <a:pt x="1430" y="997"/>
                </a:lnTo>
                <a:lnTo>
                  <a:pt x="1454" y="997"/>
                </a:lnTo>
                <a:lnTo>
                  <a:pt x="1479" y="996"/>
                </a:lnTo>
                <a:lnTo>
                  <a:pt x="1504" y="993"/>
                </a:lnTo>
                <a:lnTo>
                  <a:pt x="1529" y="988"/>
                </a:lnTo>
                <a:lnTo>
                  <a:pt x="1552" y="984"/>
                </a:lnTo>
                <a:lnTo>
                  <a:pt x="1576" y="977"/>
                </a:lnTo>
                <a:lnTo>
                  <a:pt x="1599" y="969"/>
                </a:lnTo>
                <a:lnTo>
                  <a:pt x="1621" y="961"/>
                </a:lnTo>
                <a:lnTo>
                  <a:pt x="1643" y="952"/>
                </a:lnTo>
                <a:lnTo>
                  <a:pt x="1665" y="940"/>
                </a:lnTo>
                <a:lnTo>
                  <a:pt x="1685" y="928"/>
                </a:lnTo>
                <a:lnTo>
                  <a:pt x="1706" y="917"/>
                </a:lnTo>
                <a:lnTo>
                  <a:pt x="1725" y="903"/>
                </a:lnTo>
                <a:lnTo>
                  <a:pt x="1744" y="889"/>
                </a:lnTo>
                <a:lnTo>
                  <a:pt x="1763" y="873"/>
                </a:lnTo>
                <a:lnTo>
                  <a:pt x="1779" y="857"/>
                </a:lnTo>
                <a:lnTo>
                  <a:pt x="1797" y="841"/>
                </a:lnTo>
                <a:lnTo>
                  <a:pt x="1811" y="823"/>
                </a:lnTo>
                <a:lnTo>
                  <a:pt x="1827" y="804"/>
                </a:lnTo>
                <a:lnTo>
                  <a:pt x="1840" y="785"/>
                </a:lnTo>
                <a:lnTo>
                  <a:pt x="1854" y="765"/>
                </a:lnTo>
                <a:lnTo>
                  <a:pt x="1865" y="744"/>
                </a:lnTo>
                <a:lnTo>
                  <a:pt x="1877" y="724"/>
                </a:lnTo>
                <a:lnTo>
                  <a:pt x="1887" y="702"/>
                </a:lnTo>
                <a:lnTo>
                  <a:pt x="1896" y="680"/>
                </a:lnTo>
                <a:lnTo>
                  <a:pt x="1905" y="656"/>
                </a:lnTo>
                <a:lnTo>
                  <a:pt x="1911" y="633"/>
                </a:lnTo>
                <a:lnTo>
                  <a:pt x="1916" y="610"/>
                </a:lnTo>
                <a:lnTo>
                  <a:pt x="1921" y="585"/>
                </a:lnTo>
                <a:lnTo>
                  <a:pt x="1925" y="560"/>
                </a:lnTo>
                <a:lnTo>
                  <a:pt x="1927" y="535"/>
                </a:lnTo>
                <a:lnTo>
                  <a:pt x="1928" y="510"/>
                </a:lnTo>
                <a:lnTo>
                  <a:pt x="1928" y="510"/>
                </a:lnTo>
                <a:lnTo>
                  <a:pt x="1928" y="485"/>
                </a:lnTo>
                <a:lnTo>
                  <a:pt x="1927" y="459"/>
                </a:lnTo>
                <a:lnTo>
                  <a:pt x="1924" y="434"/>
                </a:lnTo>
                <a:lnTo>
                  <a:pt x="1919" y="411"/>
                </a:lnTo>
                <a:lnTo>
                  <a:pt x="1913" y="386"/>
                </a:lnTo>
                <a:lnTo>
                  <a:pt x="1908" y="363"/>
                </a:lnTo>
                <a:lnTo>
                  <a:pt x="1900" y="341"/>
                </a:lnTo>
                <a:lnTo>
                  <a:pt x="1892" y="317"/>
                </a:lnTo>
                <a:lnTo>
                  <a:pt x="1881" y="295"/>
                </a:lnTo>
                <a:lnTo>
                  <a:pt x="1871" y="275"/>
                </a:lnTo>
                <a:lnTo>
                  <a:pt x="1859" y="253"/>
                </a:lnTo>
                <a:lnTo>
                  <a:pt x="1848" y="234"/>
                </a:lnTo>
                <a:lnTo>
                  <a:pt x="1833" y="213"/>
                </a:lnTo>
                <a:lnTo>
                  <a:pt x="1818" y="194"/>
                </a:lnTo>
                <a:lnTo>
                  <a:pt x="1804" y="177"/>
                </a:lnTo>
                <a:lnTo>
                  <a:pt x="1788" y="159"/>
                </a:lnTo>
                <a:lnTo>
                  <a:pt x="1770" y="143"/>
                </a:lnTo>
                <a:lnTo>
                  <a:pt x="1753" y="127"/>
                </a:lnTo>
                <a:lnTo>
                  <a:pt x="1735" y="113"/>
                </a:lnTo>
                <a:lnTo>
                  <a:pt x="1715" y="98"/>
                </a:lnTo>
                <a:lnTo>
                  <a:pt x="1696" y="86"/>
                </a:lnTo>
                <a:lnTo>
                  <a:pt x="1675" y="73"/>
                </a:lnTo>
                <a:lnTo>
                  <a:pt x="1653" y="63"/>
                </a:lnTo>
                <a:lnTo>
                  <a:pt x="1633" y="53"/>
                </a:lnTo>
                <a:lnTo>
                  <a:pt x="1609" y="42"/>
                </a:lnTo>
                <a:lnTo>
                  <a:pt x="1587" y="35"/>
                </a:lnTo>
                <a:lnTo>
                  <a:pt x="1564" y="28"/>
                </a:lnTo>
                <a:lnTo>
                  <a:pt x="1539" y="22"/>
                </a:lnTo>
                <a:lnTo>
                  <a:pt x="1516" y="17"/>
                </a:lnTo>
                <a:lnTo>
                  <a:pt x="1491" y="15"/>
                </a:lnTo>
                <a:lnTo>
                  <a:pt x="1466" y="12"/>
                </a:lnTo>
                <a:lnTo>
                  <a:pt x="1441" y="12"/>
                </a:lnTo>
                <a:lnTo>
                  <a:pt x="1441" y="12"/>
                </a:lnTo>
                <a:close/>
              </a:path>
            </a:pathLst>
          </a:custGeom>
          <a:solidFill>
            <a:srgbClr val="fdb602">
              <a:alpha val="50000"/>
            </a:srgbClr>
          </a:solidFill>
          <a:ln w="101520">
            <a:solidFill>
              <a:srgbClr val="f7b6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6152"/>
          <p:cNvGrpSpPr/>
          <p:nvPr/>
        </p:nvGrpSpPr>
        <p:grpSpPr>
          <a:xfrm>
            <a:off x="1486080" y="3868560"/>
            <a:ext cx="396720" cy="396720"/>
            <a:chOff x="1486080" y="3868560"/>
            <a:chExt cx="396720" cy="396720"/>
          </a:xfrm>
        </p:grpSpPr>
        <p:sp>
          <p:nvSpPr>
            <p:cNvPr id="154" name="椭圆 6153"/>
            <p:cNvSpPr/>
            <p:nvPr/>
          </p:nvSpPr>
          <p:spPr>
            <a:xfrm>
              <a:off x="1486080" y="3868560"/>
              <a:ext cx="396720" cy="39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6154"/>
            <p:cNvSpPr/>
            <p:nvPr/>
          </p:nvSpPr>
          <p:spPr>
            <a:xfrm>
              <a:off x="1594080" y="3976560"/>
              <a:ext cx="181080" cy="1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未知"/>
          <p:cNvSpPr/>
          <p:nvPr/>
        </p:nvSpPr>
        <p:spPr>
          <a:xfrm rot="13500000">
            <a:off x="6070320" y="4477680"/>
            <a:ext cx="2413080" cy="1247760"/>
          </a:xfrm>
          <a:custGeom>
            <a:avLst/>
            <a:gdLst/>
            <a:ahLst/>
            <a:rect l="l" t="t" r="r" b="b"/>
            <a:pathLst>
              <a:path w="1928" h="997">
                <a:moveTo>
                  <a:pt x="1441" y="12"/>
                </a:moveTo>
                <a:lnTo>
                  <a:pt x="1441" y="12"/>
                </a:lnTo>
                <a:lnTo>
                  <a:pt x="1400" y="12"/>
                </a:lnTo>
                <a:lnTo>
                  <a:pt x="1362" y="16"/>
                </a:lnTo>
                <a:lnTo>
                  <a:pt x="1324" y="23"/>
                </a:lnTo>
                <a:lnTo>
                  <a:pt x="1288" y="34"/>
                </a:lnTo>
                <a:lnTo>
                  <a:pt x="1126" y="32"/>
                </a:lnTo>
                <a:lnTo>
                  <a:pt x="1126" y="32"/>
                </a:lnTo>
                <a:lnTo>
                  <a:pt x="1089" y="20"/>
                </a:lnTo>
                <a:lnTo>
                  <a:pt x="1051" y="13"/>
                </a:lnTo>
                <a:lnTo>
                  <a:pt x="1012" y="7"/>
                </a:lnTo>
                <a:lnTo>
                  <a:pt x="972" y="6"/>
                </a:lnTo>
                <a:lnTo>
                  <a:pt x="972" y="6"/>
                </a:lnTo>
                <a:lnTo>
                  <a:pt x="933" y="7"/>
                </a:lnTo>
                <a:lnTo>
                  <a:pt x="893" y="12"/>
                </a:lnTo>
                <a:lnTo>
                  <a:pt x="857" y="19"/>
                </a:lnTo>
                <a:lnTo>
                  <a:pt x="819" y="28"/>
                </a:lnTo>
                <a:lnTo>
                  <a:pt x="652" y="26"/>
                </a:lnTo>
                <a:lnTo>
                  <a:pt x="652" y="26"/>
                </a:lnTo>
                <a:lnTo>
                  <a:pt x="615" y="16"/>
                </a:lnTo>
                <a:lnTo>
                  <a:pt x="577" y="7"/>
                </a:lnTo>
                <a:lnTo>
                  <a:pt x="538" y="3"/>
                </a:lnTo>
                <a:lnTo>
                  <a:pt x="498" y="0"/>
                </a:lnTo>
                <a:lnTo>
                  <a:pt x="498" y="0"/>
                </a:lnTo>
                <a:lnTo>
                  <a:pt x="474" y="0"/>
                </a:lnTo>
                <a:lnTo>
                  <a:pt x="449" y="3"/>
                </a:lnTo>
                <a:lnTo>
                  <a:pt x="424" y="6"/>
                </a:lnTo>
                <a:lnTo>
                  <a:pt x="399" y="9"/>
                </a:lnTo>
                <a:lnTo>
                  <a:pt x="376" y="15"/>
                </a:lnTo>
                <a:lnTo>
                  <a:pt x="352" y="20"/>
                </a:lnTo>
                <a:lnTo>
                  <a:pt x="329" y="28"/>
                </a:lnTo>
                <a:lnTo>
                  <a:pt x="307" y="36"/>
                </a:lnTo>
                <a:lnTo>
                  <a:pt x="285" y="47"/>
                </a:lnTo>
                <a:lnTo>
                  <a:pt x="263" y="57"/>
                </a:lnTo>
                <a:lnTo>
                  <a:pt x="243" y="69"/>
                </a:lnTo>
                <a:lnTo>
                  <a:pt x="222" y="82"/>
                </a:lnTo>
                <a:lnTo>
                  <a:pt x="203" y="95"/>
                </a:lnTo>
                <a:lnTo>
                  <a:pt x="184" y="110"/>
                </a:lnTo>
                <a:lnTo>
                  <a:pt x="165" y="124"/>
                </a:lnTo>
                <a:lnTo>
                  <a:pt x="149" y="140"/>
                </a:lnTo>
                <a:lnTo>
                  <a:pt x="131" y="158"/>
                </a:lnTo>
                <a:lnTo>
                  <a:pt x="115" y="175"/>
                </a:lnTo>
                <a:lnTo>
                  <a:pt x="101" y="194"/>
                </a:lnTo>
                <a:lnTo>
                  <a:pt x="88" y="213"/>
                </a:lnTo>
                <a:lnTo>
                  <a:pt x="74" y="232"/>
                </a:lnTo>
                <a:lnTo>
                  <a:pt x="63" y="253"/>
                </a:lnTo>
                <a:lnTo>
                  <a:pt x="51" y="275"/>
                </a:lnTo>
                <a:lnTo>
                  <a:pt x="41" y="297"/>
                </a:lnTo>
                <a:lnTo>
                  <a:pt x="32" y="319"/>
                </a:lnTo>
                <a:lnTo>
                  <a:pt x="23" y="342"/>
                </a:lnTo>
                <a:lnTo>
                  <a:pt x="17" y="364"/>
                </a:lnTo>
                <a:lnTo>
                  <a:pt x="12" y="389"/>
                </a:lnTo>
                <a:lnTo>
                  <a:pt x="6" y="412"/>
                </a:lnTo>
                <a:lnTo>
                  <a:pt x="3" y="437"/>
                </a:lnTo>
                <a:lnTo>
                  <a:pt x="1" y="462"/>
                </a:lnTo>
                <a:lnTo>
                  <a:pt x="0" y="488"/>
                </a:lnTo>
                <a:lnTo>
                  <a:pt x="0" y="488"/>
                </a:lnTo>
                <a:lnTo>
                  <a:pt x="0" y="513"/>
                </a:lnTo>
                <a:lnTo>
                  <a:pt x="1" y="538"/>
                </a:lnTo>
                <a:lnTo>
                  <a:pt x="4" y="563"/>
                </a:lnTo>
                <a:lnTo>
                  <a:pt x="9" y="588"/>
                </a:lnTo>
                <a:lnTo>
                  <a:pt x="15" y="611"/>
                </a:lnTo>
                <a:lnTo>
                  <a:pt x="20" y="634"/>
                </a:lnTo>
                <a:lnTo>
                  <a:pt x="28" y="658"/>
                </a:lnTo>
                <a:lnTo>
                  <a:pt x="36" y="680"/>
                </a:lnTo>
                <a:lnTo>
                  <a:pt x="47" y="702"/>
                </a:lnTo>
                <a:lnTo>
                  <a:pt x="57" y="724"/>
                </a:lnTo>
                <a:lnTo>
                  <a:pt x="69" y="744"/>
                </a:lnTo>
                <a:lnTo>
                  <a:pt x="80" y="765"/>
                </a:lnTo>
                <a:lnTo>
                  <a:pt x="95" y="784"/>
                </a:lnTo>
                <a:lnTo>
                  <a:pt x="110" y="803"/>
                </a:lnTo>
                <a:lnTo>
                  <a:pt x="124" y="820"/>
                </a:lnTo>
                <a:lnTo>
                  <a:pt x="140" y="838"/>
                </a:lnTo>
                <a:lnTo>
                  <a:pt x="158" y="855"/>
                </a:lnTo>
                <a:lnTo>
                  <a:pt x="175" y="870"/>
                </a:lnTo>
                <a:lnTo>
                  <a:pt x="193" y="886"/>
                </a:lnTo>
                <a:lnTo>
                  <a:pt x="212" y="899"/>
                </a:lnTo>
                <a:lnTo>
                  <a:pt x="232" y="912"/>
                </a:lnTo>
                <a:lnTo>
                  <a:pt x="253" y="924"/>
                </a:lnTo>
                <a:lnTo>
                  <a:pt x="275" y="936"/>
                </a:lnTo>
                <a:lnTo>
                  <a:pt x="295" y="946"/>
                </a:lnTo>
                <a:lnTo>
                  <a:pt x="319" y="955"/>
                </a:lnTo>
                <a:lnTo>
                  <a:pt x="341" y="963"/>
                </a:lnTo>
                <a:lnTo>
                  <a:pt x="364" y="969"/>
                </a:lnTo>
                <a:lnTo>
                  <a:pt x="387" y="975"/>
                </a:lnTo>
                <a:lnTo>
                  <a:pt x="412" y="980"/>
                </a:lnTo>
                <a:lnTo>
                  <a:pt x="437" y="984"/>
                </a:lnTo>
                <a:lnTo>
                  <a:pt x="462" y="985"/>
                </a:lnTo>
                <a:lnTo>
                  <a:pt x="487" y="987"/>
                </a:lnTo>
                <a:lnTo>
                  <a:pt x="487" y="987"/>
                </a:lnTo>
                <a:lnTo>
                  <a:pt x="509" y="987"/>
                </a:lnTo>
                <a:lnTo>
                  <a:pt x="531" y="985"/>
                </a:lnTo>
                <a:lnTo>
                  <a:pt x="551" y="984"/>
                </a:lnTo>
                <a:lnTo>
                  <a:pt x="572" y="981"/>
                </a:lnTo>
                <a:lnTo>
                  <a:pt x="592" y="977"/>
                </a:lnTo>
                <a:lnTo>
                  <a:pt x="612" y="972"/>
                </a:lnTo>
                <a:lnTo>
                  <a:pt x="652" y="961"/>
                </a:lnTo>
                <a:lnTo>
                  <a:pt x="797" y="962"/>
                </a:lnTo>
                <a:lnTo>
                  <a:pt x="797" y="962"/>
                </a:lnTo>
                <a:lnTo>
                  <a:pt x="836" y="975"/>
                </a:lnTo>
                <a:lnTo>
                  <a:pt x="857" y="980"/>
                </a:lnTo>
                <a:lnTo>
                  <a:pt x="877" y="984"/>
                </a:lnTo>
                <a:lnTo>
                  <a:pt x="897" y="987"/>
                </a:lnTo>
                <a:lnTo>
                  <a:pt x="918" y="990"/>
                </a:lnTo>
                <a:lnTo>
                  <a:pt x="940" y="991"/>
                </a:lnTo>
                <a:lnTo>
                  <a:pt x="960" y="993"/>
                </a:lnTo>
                <a:lnTo>
                  <a:pt x="960" y="993"/>
                </a:lnTo>
                <a:lnTo>
                  <a:pt x="982" y="991"/>
                </a:lnTo>
                <a:lnTo>
                  <a:pt x="1004" y="991"/>
                </a:lnTo>
                <a:lnTo>
                  <a:pt x="1025" y="988"/>
                </a:lnTo>
                <a:lnTo>
                  <a:pt x="1045" y="985"/>
                </a:lnTo>
                <a:lnTo>
                  <a:pt x="1066" y="982"/>
                </a:lnTo>
                <a:lnTo>
                  <a:pt x="1086" y="978"/>
                </a:lnTo>
                <a:lnTo>
                  <a:pt x="1126" y="966"/>
                </a:lnTo>
                <a:lnTo>
                  <a:pt x="1266" y="968"/>
                </a:lnTo>
                <a:lnTo>
                  <a:pt x="1266" y="968"/>
                </a:lnTo>
                <a:lnTo>
                  <a:pt x="1304" y="980"/>
                </a:lnTo>
                <a:lnTo>
                  <a:pt x="1324" y="985"/>
                </a:lnTo>
                <a:lnTo>
                  <a:pt x="1345" y="990"/>
                </a:lnTo>
                <a:lnTo>
                  <a:pt x="1365" y="993"/>
                </a:lnTo>
                <a:lnTo>
                  <a:pt x="1387" y="996"/>
                </a:lnTo>
                <a:lnTo>
                  <a:pt x="1408" y="997"/>
                </a:lnTo>
                <a:lnTo>
                  <a:pt x="1430" y="997"/>
                </a:lnTo>
                <a:lnTo>
                  <a:pt x="1430" y="997"/>
                </a:lnTo>
                <a:lnTo>
                  <a:pt x="1454" y="997"/>
                </a:lnTo>
                <a:lnTo>
                  <a:pt x="1479" y="996"/>
                </a:lnTo>
                <a:lnTo>
                  <a:pt x="1504" y="993"/>
                </a:lnTo>
                <a:lnTo>
                  <a:pt x="1529" y="988"/>
                </a:lnTo>
                <a:lnTo>
                  <a:pt x="1552" y="984"/>
                </a:lnTo>
                <a:lnTo>
                  <a:pt x="1576" y="977"/>
                </a:lnTo>
                <a:lnTo>
                  <a:pt x="1599" y="969"/>
                </a:lnTo>
                <a:lnTo>
                  <a:pt x="1621" y="961"/>
                </a:lnTo>
                <a:lnTo>
                  <a:pt x="1643" y="952"/>
                </a:lnTo>
                <a:lnTo>
                  <a:pt x="1665" y="940"/>
                </a:lnTo>
                <a:lnTo>
                  <a:pt x="1685" y="928"/>
                </a:lnTo>
                <a:lnTo>
                  <a:pt x="1706" y="917"/>
                </a:lnTo>
                <a:lnTo>
                  <a:pt x="1725" y="903"/>
                </a:lnTo>
                <a:lnTo>
                  <a:pt x="1744" y="889"/>
                </a:lnTo>
                <a:lnTo>
                  <a:pt x="1763" y="873"/>
                </a:lnTo>
                <a:lnTo>
                  <a:pt x="1779" y="857"/>
                </a:lnTo>
                <a:lnTo>
                  <a:pt x="1797" y="841"/>
                </a:lnTo>
                <a:lnTo>
                  <a:pt x="1811" y="823"/>
                </a:lnTo>
                <a:lnTo>
                  <a:pt x="1827" y="804"/>
                </a:lnTo>
                <a:lnTo>
                  <a:pt x="1840" y="785"/>
                </a:lnTo>
                <a:lnTo>
                  <a:pt x="1854" y="765"/>
                </a:lnTo>
                <a:lnTo>
                  <a:pt x="1865" y="744"/>
                </a:lnTo>
                <a:lnTo>
                  <a:pt x="1877" y="724"/>
                </a:lnTo>
                <a:lnTo>
                  <a:pt x="1887" y="702"/>
                </a:lnTo>
                <a:lnTo>
                  <a:pt x="1896" y="680"/>
                </a:lnTo>
                <a:lnTo>
                  <a:pt x="1905" y="656"/>
                </a:lnTo>
                <a:lnTo>
                  <a:pt x="1911" y="633"/>
                </a:lnTo>
                <a:lnTo>
                  <a:pt x="1916" y="610"/>
                </a:lnTo>
                <a:lnTo>
                  <a:pt x="1921" y="585"/>
                </a:lnTo>
                <a:lnTo>
                  <a:pt x="1925" y="560"/>
                </a:lnTo>
                <a:lnTo>
                  <a:pt x="1927" y="535"/>
                </a:lnTo>
                <a:lnTo>
                  <a:pt x="1928" y="510"/>
                </a:lnTo>
                <a:lnTo>
                  <a:pt x="1928" y="510"/>
                </a:lnTo>
                <a:lnTo>
                  <a:pt x="1928" y="485"/>
                </a:lnTo>
                <a:lnTo>
                  <a:pt x="1927" y="459"/>
                </a:lnTo>
                <a:lnTo>
                  <a:pt x="1924" y="434"/>
                </a:lnTo>
                <a:lnTo>
                  <a:pt x="1919" y="411"/>
                </a:lnTo>
                <a:lnTo>
                  <a:pt x="1913" y="386"/>
                </a:lnTo>
                <a:lnTo>
                  <a:pt x="1908" y="363"/>
                </a:lnTo>
                <a:lnTo>
                  <a:pt x="1900" y="341"/>
                </a:lnTo>
                <a:lnTo>
                  <a:pt x="1892" y="317"/>
                </a:lnTo>
                <a:lnTo>
                  <a:pt x="1881" y="295"/>
                </a:lnTo>
                <a:lnTo>
                  <a:pt x="1871" y="275"/>
                </a:lnTo>
                <a:lnTo>
                  <a:pt x="1859" y="253"/>
                </a:lnTo>
                <a:lnTo>
                  <a:pt x="1848" y="234"/>
                </a:lnTo>
                <a:lnTo>
                  <a:pt x="1833" y="213"/>
                </a:lnTo>
                <a:lnTo>
                  <a:pt x="1818" y="194"/>
                </a:lnTo>
                <a:lnTo>
                  <a:pt x="1804" y="177"/>
                </a:lnTo>
                <a:lnTo>
                  <a:pt x="1788" y="159"/>
                </a:lnTo>
                <a:lnTo>
                  <a:pt x="1770" y="143"/>
                </a:lnTo>
                <a:lnTo>
                  <a:pt x="1753" y="127"/>
                </a:lnTo>
                <a:lnTo>
                  <a:pt x="1735" y="113"/>
                </a:lnTo>
                <a:lnTo>
                  <a:pt x="1715" y="98"/>
                </a:lnTo>
                <a:lnTo>
                  <a:pt x="1696" y="86"/>
                </a:lnTo>
                <a:lnTo>
                  <a:pt x="1675" y="73"/>
                </a:lnTo>
                <a:lnTo>
                  <a:pt x="1653" y="63"/>
                </a:lnTo>
                <a:lnTo>
                  <a:pt x="1633" y="53"/>
                </a:lnTo>
                <a:lnTo>
                  <a:pt x="1609" y="42"/>
                </a:lnTo>
                <a:lnTo>
                  <a:pt x="1587" y="35"/>
                </a:lnTo>
                <a:lnTo>
                  <a:pt x="1564" y="28"/>
                </a:lnTo>
                <a:lnTo>
                  <a:pt x="1539" y="22"/>
                </a:lnTo>
                <a:lnTo>
                  <a:pt x="1516" y="17"/>
                </a:lnTo>
                <a:lnTo>
                  <a:pt x="1491" y="15"/>
                </a:lnTo>
                <a:lnTo>
                  <a:pt x="1466" y="12"/>
                </a:lnTo>
                <a:lnTo>
                  <a:pt x="1441" y="12"/>
                </a:lnTo>
                <a:lnTo>
                  <a:pt x="1441" y="12"/>
                </a:lnTo>
                <a:close/>
              </a:path>
            </a:pathLst>
          </a:custGeom>
          <a:solidFill>
            <a:srgbClr val="139aff">
              <a:alpha val="50000"/>
            </a:srgbClr>
          </a:solidFill>
          <a:ln w="101520">
            <a:solidFill>
              <a:srgbClr val="139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98680" y="2004840"/>
            <a:ext cx="360" cy="757440"/>
            <a:chOff x="3298680" y="2004840"/>
            <a:chExt cx="360" cy="757440"/>
          </a:xfrm>
        </p:grpSpPr>
        <p:sp>
          <p:nvSpPr>
            <p:cNvPr id="158" name="直接连接符 6156"/>
            <p:cNvSpPr/>
            <p:nvPr/>
          </p:nvSpPr>
          <p:spPr>
            <a:xfrm>
              <a:off x="3298680" y="200484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298680" y="2004840"/>
              <a:ext cx="360" cy="7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82960" y="2004840"/>
            <a:ext cx="360" cy="757440"/>
            <a:chOff x="4782960" y="2004840"/>
            <a:chExt cx="360" cy="757440"/>
          </a:xfrm>
        </p:grpSpPr>
        <p:sp>
          <p:nvSpPr>
            <p:cNvPr id="161" name="直接连接符 6157"/>
            <p:cNvSpPr/>
            <p:nvPr/>
          </p:nvSpPr>
          <p:spPr>
            <a:xfrm>
              <a:off x="4782960" y="200484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782960" y="2004840"/>
              <a:ext cx="360" cy="7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98680" y="4280040"/>
            <a:ext cx="360" cy="757080"/>
            <a:chOff x="3298680" y="4280040"/>
            <a:chExt cx="360" cy="757080"/>
          </a:xfrm>
        </p:grpSpPr>
        <p:sp>
          <p:nvSpPr>
            <p:cNvPr id="164" name="直接连接符 6158"/>
            <p:cNvSpPr/>
            <p:nvPr/>
          </p:nvSpPr>
          <p:spPr>
            <a:xfrm>
              <a:off x="3298680" y="428004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298680" y="4280040"/>
              <a:ext cx="360" cy="7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782960" y="4280040"/>
            <a:ext cx="360" cy="757080"/>
            <a:chOff x="4782960" y="4280040"/>
            <a:chExt cx="360" cy="757080"/>
          </a:xfrm>
        </p:grpSpPr>
        <p:sp>
          <p:nvSpPr>
            <p:cNvPr id="167" name="直接连接符 6159"/>
            <p:cNvSpPr/>
            <p:nvPr/>
          </p:nvSpPr>
          <p:spPr>
            <a:xfrm>
              <a:off x="4782960" y="428004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782960" y="4280040"/>
              <a:ext cx="360" cy="7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6160"/>
          <p:cNvSpPr/>
          <p:nvPr/>
        </p:nvSpPr>
        <p:spPr>
          <a:xfrm>
            <a:off x="6254640" y="4060800"/>
            <a:ext cx="1228680" cy="1228680"/>
          </a:xfrm>
          <a:prstGeom prst="ellipse">
            <a:avLst/>
          </a:prstGeom>
          <a:solidFill>
            <a:srgbClr val="139aff">
              <a:alpha val="30000"/>
            </a:srgbClr>
          </a:solidFill>
          <a:ln w="101520">
            <a:solidFill>
              <a:srgbClr val="139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6161"/>
          <p:cNvSpPr/>
          <p:nvPr/>
        </p:nvSpPr>
        <p:spPr>
          <a:xfrm>
            <a:off x="6264360" y="1773360"/>
            <a:ext cx="1228680" cy="1228680"/>
          </a:xfrm>
          <a:prstGeom prst="ellipse">
            <a:avLst/>
          </a:prstGeom>
          <a:solidFill>
            <a:srgbClr val="fdb602">
              <a:alpha val="30000"/>
            </a:srgbClr>
          </a:solidFill>
          <a:ln w="101520">
            <a:solidFill>
              <a:srgbClr val="f7b6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48000" y="4392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72" name="组合 7170"/>
          <p:cNvGrpSpPr/>
          <p:nvPr/>
        </p:nvGrpSpPr>
        <p:grpSpPr>
          <a:xfrm>
            <a:off x="900000" y="1339920"/>
            <a:ext cx="7848720" cy="4465440"/>
            <a:chOff x="900000" y="1339920"/>
            <a:chExt cx="7848720" cy="4465440"/>
          </a:xfrm>
        </p:grpSpPr>
        <p:sp>
          <p:nvSpPr>
            <p:cNvPr id="173" name="AutoShape 3"/>
            <p:cNvSpPr/>
            <p:nvPr/>
          </p:nvSpPr>
          <p:spPr>
            <a:xfrm>
              <a:off x="900000" y="1339920"/>
              <a:ext cx="7848720" cy="446544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"/>
            <p:cNvSpPr/>
            <p:nvPr/>
          </p:nvSpPr>
          <p:spPr>
            <a:xfrm>
              <a:off x="902880" y="1488600"/>
              <a:ext cx="7842600" cy="415152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30240" y="4843440"/>
            <a:ext cx="2814480" cy="1927080"/>
          </a:xfrm>
          <a:prstGeom prst="rect">
            <a:avLst/>
          </a:prstGeom>
          <a:ln w="0">
            <a:noFill/>
          </a:ln>
        </p:spPr>
      </p:pic>
      <p:pic>
        <p:nvPicPr>
          <p:cNvPr id="176" name="内容占位符 7174" descr="2008518225320775"/>
          <p:cNvPicPr/>
          <p:nvPr/>
        </p:nvPicPr>
        <p:blipFill>
          <a:blip r:embed="rId2"/>
          <a:stretch/>
        </p:blipFill>
        <p:spPr>
          <a:xfrm>
            <a:off x="7453440" y="436572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7175"/>
          <p:cNvSpPr/>
          <p:nvPr/>
        </p:nvSpPr>
        <p:spPr>
          <a:xfrm>
            <a:off x="1187280" y="170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07"/>
          <p:cNvSpPr/>
          <p:nvPr/>
        </p:nvSpPr>
        <p:spPr>
          <a:xfrm>
            <a:off x="682560" y="1630440"/>
            <a:ext cx="7702560" cy="3792600"/>
          </a:xfrm>
          <a:prstGeom prst="roundRect">
            <a:avLst>
              <a:gd name="adj" fmla="val 4019"/>
            </a:avLst>
          </a:prstGeom>
          <a:solidFill>
            <a:srgbClr val="ffffff">
              <a:alpha val="44000"/>
            </a:srgbClr>
          </a:solidFill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96"/>
          <p:cNvSpPr/>
          <p:nvPr/>
        </p:nvSpPr>
        <p:spPr>
          <a:xfrm>
            <a:off x="977760" y="3014640"/>
            <a:ext cx="2121120" cy="2195640"/>
          </a:xfrm>
          <a:custGeom>
            <a:avLst/>
            <a:gdLst>
              <a:gd name="textAreaLeft" fmla="*/ 23040 w 2121120"/>
              <a:gd name="textAreaRight" fmla="*/ 2098080 w 212112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59">
                <a:moveTo>
                  <a:pt x="805" y="0"/>
                </a:moveTo>
                <a:arcTo wR="805" hR="805" stAng="16200000" swAng="-5400000"/>
                <a:lnTo>
                  <a:pt x="0" y="21554"/>
                </a:lnTo>
                <a:arcTo wR="805" hR="805" stAng="10800000" swAng="-5400000"/>
                <a:lnTo>
                  <a:pt x="20795" y="2235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8"/>
          <p:cNvSpPr/>
          <p:nvPr/>
        </p:nvSpPr>
        <p:spPr>
          <a:xfrm>
            <a:off x="1254240" y="36082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9"/>
          <p:cNvSpPr/>
          <p:nvPr/>
        </p:nvSpPr>
        <p:spPr>
          <a:xfrm>
            <a:off x="1254240" y="40687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8197"/>
          <p:cNvGrpSpPr/>
          <p:nvPr/>
        </p:nvGrpSpPr>
        <p:grpSpPr>
          <a:xfrm>
            <a:off x="2178000" y="1268280"/>
            <a:ext cx="4749840" cy="719280"/>
            <a:chOff x="2178000" y="1268280"/>
            <a:chExt cx="4749840" cy="719280"/>
          </a:xfrm>
        </p:grpSpPr>
        <p:grpSp>
          <p:nvGrpSpPr>
            <p:cNvPr id="183" name="组合 8198"/>
            <p:cNvGrpSpPr/>
            <p:nvPr/>
          </p:nvGrpSpPr>
          <p:grpSpPr>
            <a:xfrm>
              <a:off x="2178000" y="1268280"/>
              <a:ext cx="4749840" cy="719280"/>
              <a:chOff x="2178000" y="1268280"/>
              <a:chExt cx="4749840" cy="719280"/>
            </a:xfrm>
          </p:grpSpPr>
          <p:sp>
            <p:nvSpPr>
              <p:cNvPr id="184" name="AutoShape 3"/>
              <p:cNvSpPr/>
              <p:nvPr/>
            </p:nvSpPr>
            <p:spPr>
              <a:xfrm>
                <a:off x="2178000" y="1268280"/>
                <a:ext cx="474984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3"/>
              <p:cNvSpPr/>
              <p:nvPr/>
            </p:nvSpPr>
            <p:spPr>
              <a:xfrm>
                <a:off x="2178000" y="1357200"/>
                <a:ext cx="47498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13"/>
            <p:cNvSpPr/>
            <p:nvPr/>
          </p:nvSpPr>
          <p:spPr>
            <a:xfrm>
              <a:off x="4010400" y="14277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8202"/>
          <p:cNvGrpSpPr/>
          <p:nvPr/>
        </p:nvGrpSpPr>
        <p:grpSpPr>
          <a:xfrm>
            <a:off x="885960" y="2247840"/>
            <a:ext cx="2305080" cy="776520"/>
            <a:chOff x="885960" y="2247840"/>
            <a:chExt cx="2305080" cy="776520"/>
          </a:xfrm>
        </p:grpSpPr>
        <p:grpSp>
          <p:nvGrpSpPr>
            <p:cNvPr id="188" name="组合 8203"/>
            <p:cNvGrpSpPr/>
            <p:nvPr/>
          </p:nvGrpSpPr>
          <p:grpSpPr>
            <a:xfrm>
              <a:off x="885960" y="2247840"/>
              <a:ext cx="2305080" cy="721080"/>
              <a:chOff x="885960" y="2247840"/>
              <a:chExt cx="2305080" cy="721080"/>
            </a:xfrm>
          </p:grpSpPr>
          <p:grpSp>
            <p:nvGrpSpPr>
              <p:cNvPr id="189" name="组合 8204"/>
              <p:cNvGrpSpPr/>
              <p:nvPr/>
            </p:nvGrpSpPr>
            <p:grpSpPr>
              <a:xfrm>
                <a:off x="885960" y="2247840"/>
                <a:ext cx="2305080" cy="721080"/>
                <a:chOff x="885960" y="2247840"/>
                <a:chExt cx="2305080" cy="721080"/>
              </a:xfrm>
            </p:grpSpPr>
            <p:sp>
              <p:nvSpPr>
                <p:cNvPr id="190" name="AutoShape 3"/>
                <p:cNvSpPr/>
                <p:nvPr/>
              </p:nvSpPr>
              <p:spPr>
                <a:xfrm>
                  <a:off x="885960" y="2247840"/>
                  <a:ext cx="23050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3"/>
                <p:cNvSpPr/>
                <p:nvPr/>
              </p:nvSpPr>
              <p:spPr>
                <a:xfrm>
                  <a:off x="885960" y="2337840"/>
                  <a:ext cx="23050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229"/>
              <p:cNvSpPr/>
              <p:nvPr/>
            </p:nvSpPr>
            <p:spPr>
              <a:xfrm>
                <a:off x="1626480" y="246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222"/>
            <p:cNvSpPr/>
            <p:nvPr/>
          </p:nvSpPr>
          <p:spPr>
            <a:xfrm>
              <a:off x="957240" y="294984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96"/>
          <p:cNvSpPr/>
          <p:nvPr/>
        </p:nvSpPr>
        <p:spPr>
          <a:xfrm>
            <a:off x="3463920" y="3014640"/>
            <a:ext cx="2117880" cy="219564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8"/>
          <p:cNvSpPr/>
          <p:nvPr/>
        </p:nvSpPr>
        <p:spPr>
          <a:xfrm>
            <a:off x="3736800" y="36082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29"/>
          <p:cNvSpPr/>
          <p:nvPr/>
        </p:nvSpPr>
        <p:spPr>
          <a:xfrm>
            <a:off x="3736800" y="406872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212"/>
          <p:cNvGrpSpPr/>
          <p:nvPr/>
        </p:nvGrpSpPr>
        <p:grpSpPr>
          <a:xfrm>
            <a:off x="3368520" y="2247840"/>
            <a:ext cx="2305080" cy="776520"/>
            <a:chOff x="3368520" y="2247840"/>
            <a:chExt cx="2305080" cy="776520"/>
          </a:xfrm>
        </p:grpSpPr>
        <p:grpSp>
          <p:nvGrpSpPr>
            <p:cNvPr id="198" name="组合 8213"/>
            <p:cNvGrpSpPr/>
            <p:nvPr/>
          </p:nvGrpSpPr>
          <p:grpSpPr>
            <a:xfrm>
              <a:off x="3368520" y="2247840"/>
              <a:ext cx="2305080" cy="721080"/>
              <a:chOff x="3368520" y="2247840"/>
              <a:chExt cx="2305080" cy="721080"/>
            </a:xfrm>
          </p:grpSpPr>
          <p:grpSp>
            <p:nvGrpSpPr>
              <p:cNvPr id="199" name="组合 8214"/>
              <p:cNvGrpSpPr/>
              <p:nvPr/>
            </p:nvGrpSpPr>
            <p:grpSpPr>
              <a:xfrm>
                <a:off x="3368520" y="2247840"/>
                <a:ext cx="2305080" cy="721080"/>
                <a:chOff x="3368520" y="2247840"/>
                <a:chExt cx="2305080" cy="721080"/>
              </a:xfrm>
            </p:grpSpPr>
            <p:sp>
              <p:nvSpPr>
                <p:cNvPr id="200" name="AutoShape 3"/>
                <p:cNvSpPr/>
                <p:nvPr/>
              </p:nvSpPr>
              <p:spPr>
                <a:xfrm>
                  <a:off x="3368520" y="2247840"/>
                  <a:ext cx="23050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3"/>
                <p:cNvSpPr/>
                <p:nvPr/>
              </p:nvSpPr>
              <p:spPr>
                <a:xfrm>
                  <a:off x="3368520" y="2337840"/>
                  <a:ext cx="23050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229"/>
              <p:cNvSpPr/>
              <p:nvPr/>
            </p:nvSpPr>
            <p:spPr>
              <a:xfrm>
                <a:off x="4109040" y="246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222"/>
            <p:cNvSpPr/>
            <p:nvPr/>
          </p:nvSpPr>
          <p:spPr>
            <a:xfrm>
              <a:off x="3439800" y="2949840"/>
              <a:ext cx="21625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196"/>
          <p:cNvSpPr/>
          <p:nvPr/>
        </p:nvSpPr>
        <p:spPr>
          <a:xfrm>
            <a:off x="5972040" y="3014640"/>
            <a:ext cx="2117880" cy="219564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8"/>
          <p:cNvSpPr/>
          <p:nvPr/>
        </p:nvSpPr>
        <p:spPr>
          <a:xfrm>
            <a:off x="6245280" y="36082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9"/>
          <p:cNvSpPr/>
          <p:nvPr/>
        </p:nvSpPr>
        <p:spPr>
          <a:xfrm>
            <a:off x="6245280" y="40687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8222"/>
          <p:cNvGrpSpPr/>
          <p:nvPr/>
        </p:nvGrpSpPr>
        <p:grpSpPr>
          <a:xfrm>
            <a:off x="5880240" y="2247840"/>
            <a:ext cx="2301840" cy="776520"/>
            <a:chOff x="5880240" y="2247840"/>
            <a:chExt cx="2301840" cy="776520"/>
          </a:xfrm>
        </p:grpSpPr>
        <p:grpSp>
          <p:nvGrpSpPr>
            <p:cNvPr id="208" name="组合 8223"/>
            <p:cNvGrpSpPr/>
            <p:nvPr/>
          </p:nvGrpSpPr>
          <p:grpSpPr>
            <a:xfrm>
              <a:off x="5880240" y="2247840"/>
              <a:ext cx="2301840" cy="721080"/>
              <a:chOff x="5880240" y="2247840"/>
              <a:chExt cx="2301840" cy="721080"/>
            </a:xfrm>
          </p:grpSpPr>
          <p:grpSp>
            <p:nvGrpSpPr>
              <p:cNvPr id="209" name="组合 8224"/>
              <p:cNvGrpSpPr/>
              <p:nvPr/>
            </p:nvGrpSpPr>
            <p:grpSpPr>
              <a:xfrm>
                <a:off x="5880240" y="2247840"/>
                <a:ext cx="2301840" cy="721080"/>
                <a:chOff x="5880240" y="2247840"/>
                <a:chExt cx="2301840" cy="721080"/>
              </a:xfrm>
            </p:grpSpPr>
            <p:sp>
              <p:nvSpPr>
                <p:cNvPr id="210" name="AutoShape 3"/>
                <p:cNvSpPr/>
                <p:nvPr/>
              </p:nvSpPr>
              <p:spPr>
                <a:xfrm>
                  <a:off x="5880240" y="2247840"/>
                  <a:ext cx="230184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3"/>
                <p:cNvSpPr/>
                <p:nvPr/>
              </p:nvSpPr>
              <p:spPr>
                <a:xfrm>
                  <a:off x="5880240" y="2337840"/>
                  <a:ext cx="23018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 Box 229"/>
              <p:cNvSpPr/>
              <p:nvPr/>
            </p:nvSpPr>
            <p:spPr>
              <a:xfrm>
                <a:off x="6619320" y="246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222"/>
            <p:cNvSpPr/>
            <p:nvPr/>
          </p:nvSpPr>
          <p:spPr>
            <a:xfrm>
              <a:off x="5951520" y="2949840"/>
              <a:ext cx="21592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4CB-E063-47D3-8F44-8AA11CE218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内容占位符 9217" descr="2008518225322544"/>
          <p:cNvPicPr/>
          <p:nvPr/>
        </p:nvPicPr>
        <p:blipFill>
          <a:blip r:embed="rId1"/>
          <a:stretch/>
        </p:blipFill>
        <p:spPr>
          <a:xfrm>
            <a:off x="468360" y="515772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9218"/>
          <p:cNvSpPr/>
          <p:nvPr/>
        </p:nvSpPr>
        <p:spPr>
          <a:xfrm>
            <a:off x="2158920" y="2060640"/>
            <a:ext cx="698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00"/>
                </a:solidFill>
                <a:latin typeface="Arial"/>
                <a:ea typeface="华文隶书"/>
              </a:rPr>
              <a:t>谢谢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9219"/>
          <p:cNvSpPr/>
          <p:nvPr/>
        </p:nvSpPr>
        <p:spPr>
          <a:xfrm>
            <a:off x="3276720" y="4365720"/>
            <a:ext cx="5543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8:22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0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