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88377-77C6-4947-B371-7307E9324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431B-EEF6-4A79-AF3D-C06908B7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3328-855C-40D4-B1BF-2BD6A85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1408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706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1408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706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F9AC-50D8-4F7F-BEAA-5530C3445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8F892-0DD3-4B8D-A89B-D4D12788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A7988-22A0-4782-809E-54A643EC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5C06B-E35F-449D-AC33-4DEB57DF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F6F3C-E1A6-4350-BCC3-A9F07886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7C490-89A0-4B69-8933-254A05B3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EAFAC-8C99-4C27-98C5-D74F95C4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5627F-A8F3-4EB4-B2C7-409521D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5959-8C15-412B-A1C5-3335102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83237-A1E0-4EA5-AD8B-4DECDF0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F42B9-E1C3-4CCF-AFFC-142BD098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A9110-D13A-41CC-AA6E-5A61A4F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AC74E-8AE5-4621-989E-69CC530A9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1408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06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1408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06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149D-92E5-4A20-9452-AA01C896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89EFD-DBCD-4E9C-BBA5-48E1208D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22CE0-6335-48EC-AAA4-52E20E816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FE555-9CFA-47F3-8A26-B00B7716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B4724-1E77-4184-A7F2-06BC0F5F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DFCCA-420B-47B6-A530-C78F87C2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FE78F-60FA-4704-BF26-1F781C9B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5A002-5A68-421E-80C4-B29F39B7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90780-7ECE-4649-A53F-7F7094A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348CE-F56A-45E3-B932-B54F843C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AB646-2F75-44B5-9CB0-8604AF5C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14C4B-29B3-4D2C-8C80-08AA8D66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D2B0D-932F-4CED-9584-90B28F18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1408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70600" y="129528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1408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70600" y="3922200"/>
            <a:ext cx="26251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03210-2397-41B7-B461-6FD9BCCE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35BED-6ACE-4884-8714-3BA607A1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BE0D-593F-4B58-81F3-A0CDC39C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305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473C-6D84-4F06-B899-3737D123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303ED-5F27-435B-A65E-C7371B5E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5360" y="392220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B12F-B2EF-4B4A-A658-279DCB1F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5360" y="1295280"/>
            <a:ext cx="39787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153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69160-ADD8-4177-B4CD-B0413693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b1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77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E5B4-F51E-4BCA-BAD3-193961C4F8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4" name="组合 1029"/>
          <p:cNvGrpSpPr/>
          <p:nvPr/>
        </p:nvGrpSpPr>
        <p:grpSpPr>
          <a:xfrm>
            <a:off x="-4680" y="934920"/>
            <a:ext cx="9149760" cy="95760"/>
            <a:chOff x="-4680" y="934920"/>
            <a:chExt cx="9149760" cy="95760"/>
          </a:xfrm>
        </p:grpSpPr>
        <p:grpSp>
          <p:nvGrpSpPr>
            <p:cNvPr id="5" name=""/>
            <p:cNvGrpSpPr/>
            <p:nvPr/>
          </p:nvGrpSpPr>
          <p:grpSpPr>
            <a:xfrm>
              <a:off x="0" y="934920"/>
              <a:ext cx="9143640" cy="360"/>
              <a:chOff x="0" y="934920"/>
              <a:chExt cx="9143640" cy="360"/>
            </a:xfrm>
          </p:grpSpPr>
          <p:sp>
            <p:nvSpPr>
              <p:cNvPr id="6" name="直接连接符 1030"/>
              <p:cNvSpPr/>
              <p:nvPr/>
            </p:nvSpPr>
            <p:spPr>
              <a:xfrm>
                <a:off x="0" y="93492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 txBox="1"/>
              <p:nvPr/>
            </p:nvSpPr>
            <p:spPr>
              <a:xfrm>
                <a:off x="0" y="9349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1440" y="963360"/>
              <a:ext cx="9143640" cy="360"/>
              <a:chOff x="1440" y="963360"/>
              <a:chExt cx="9143640" cy="360"/>
            </a:xfrm>
          </p:grpSpPr>
          <p:sp>
            <p:nvSpPr>
              <p:cNvPr id="9" name="直接连接符 1031"/>
              <p:cNvSpPr/>
              <p:nvPr/>
            </p:nvSpPr>
            <p:spPr>
              <a:xfrm>
                <a:off x="1440" y="96336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 txBox="1"/>
              <p:nvPr/>
            </p:nvSpPr>
            <p:spPr>
              <a:xfrm>
                <a:off x="1440" y="96336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4680" y="995400"/>
              <a:ext cx="9143640" cy="360"/>
              <a:chOff x="-4680" y="995400"/>
              <a:chExt cx="9143640" cy="360"/>
            </a:xfrm>
          </p:grpSpPr>
          <p:sp>
            <p:nvSpPr>
              <p:cNvPr id="12" name="直接连接符 1032"/>
              <p:cNvSpPr/>
              <p:nvPr/>
            </p:nvSpPr>
            <p:spPr>
              <a:xfrm>
                <a:off x="-4680" y="99540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 txBox="1"/>
              <p:nvPr/>
            </p:nvSpPr>
            <p:spPr>
              <a:xfrm>
                <a:off x="-4680" y="99540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-3240" y="1030320"/>
              <a:ext cx="9143640" cy="360"/>
              <a:chOff x="-3240" y="1030320"/>
              <a:chExt cx="9143640" cy="360"/>
            </a:xfrm>
          </p:grpSpPr>
          <p:sp>
            <p:nvSpPr>
              <p:cNvPr id="15" name="直接连接符 1033"/>
              <p:cNvSpPr/>
              <p:nvPr/>
            </p:nvSpPr>
            <p:spPr>
              <a:xfrm>
                <a:off x="-3240" y="1030320"/>
                <a:ext cx="9143640" cy="0"/>
              </a:xfrm>
              <a:prstGeom prst="line">
                <a:avLst/>
              </a:prstGeom>
              <a:ln w="9360">
                <a:solidFill>
                  <a:srgbClr val="a19c7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 txBox="1"/>
              <p:nvPr/>
            </p:nvSpPr>
            <p:spPr>
              <a:xfrm>
                <a:off x="-3240" y="1030320"/>
                <a:ext cx="914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DA39-893D-4E25-99BF-D31E353D49D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432A-21F3-414C-995D-4D511A7BCD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2054"/>
          <p:cNvSpPr/>
          <p:nvPr/>
        </p:nvSpPr>
        <p:spPr>
          <a:xfrm>
            <a:off x="301680" y="3808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200"/>
                </a:solidFill>
                <a:latin typeface="Arial Black"/>
                <a:ea typeface="Arial"/>
              </a:rPr>
              <a:t>L O G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ab1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277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7200" y="6400440"/>
            <a:ext cx="23623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7"/>
          </p:nvPr>
        </p:nvSpPr>
        <p:spPr>
          <a:xfrm>
            <a:off x="3124080" y="647712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8"/>
          </p:nvPr>
        </p:nvSpPr>
        <p:spPr>
          <a:xfrm>
            <a:off x="6552720" y="64771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b166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BA7A-70EA-4A83-AAFF-57BB199F312D}" type="slidenum">
              <a:rPr b="0" lang="en-US" sz="1400" spc="-1" strike="noStrike">
                <a:solidFill>
                  <a:srgbClr val="2b166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4159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200"/>
                </a:solidFill>
                <a:latin typeface="Arial"/>
              </a:rPr>
              <a:t>欧美风格商务</a:t>
            </a:r>
            <a:r>
              <a:rPr b="1" lang="zh-CN" sz="4000" spc="-1" strike="noStrike">
                <a:solidFill>
                  <a:srgbClr val="333200"/>
                </a:solidFill>
                <a:latin typeface="Arial"/>
                <a:ea typeface="宋体"/>
              </a:rPr>
              <a:t>幻灯片打包下载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37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4190760"/>
            <a:ext cx="6781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319" name="组合 13314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20" name="圆角矩形 13315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圆角矩形 13316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圆角矩形 13317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燕尾形 13318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8277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燕尾形 13319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7ab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1332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ab151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椭圆 13321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7ab151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13322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2602c"/>
                </a:gs>
                <a:gs pos="50000">
                  <a:srgbClr val="7ab151"/>
                </a:gs>
                <a:gs pos="100000">
                  <a:srgbClr val="42602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椭圆 13323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e7033"/>
                </a:gs>
                <a:gs pos="100000">
                  <a:srgbClr val="7ab151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椭圆 13324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1332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299b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椭圆 13326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299b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椭圆 13327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355361"/>
                </a:gs>
                <a:gs pos="50000">
                  <a:srgbClr val="6299b4"/>
                </a:gs>
                <a:gs pos="100000">
                  <a:srgbClr val="3553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椭圆 13328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e6172"/>
                </a:gs>
                <a:gs pos="100000">
                  <a:srgbClr val="6299b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椭圆 13329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组合 13330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36" name="椭圆 13331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 13332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椭圆 13333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13334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椭圆 1333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2771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椭圆 13336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827710">
                    <a:alpha val="32156"/>
                  </a:srgbClr>
                </a:gs>
                <a:gs pos="100000">
                  <a:srgbClr val="3c3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椭圆 13337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64009"/>
                </a:gs>
                <a:gs pos="50000">
                  <a:srgbClr val="827710"/>
                </a:gs>
                <a:gs pos="100000">
                  <a:srgbClr val="46400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椭圆 13338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534c0a"/>
                </a:gs>
                <a:gs pos="100000">
                  <a:srgbClr val="82771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椭圆 13339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组合 13340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46" name="椭圆 13341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椭圆 13342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椭圆 13343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椭圆 13344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组合 13345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51" name="椭圆 13346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椭圆 13347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椭圆 13348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13349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文本框 13350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文本框 13351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13352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组合 14337"/>
          <p:cNvGrpSpPr/>
          <p:nvPr/>
        </p:nvGrpSpPr>
        <p:grpSpPr>
          <a:xfrm>
            <a:off x="1371600" y="1143000"/>
            <a:ext cx="5715000" cy="4842000"/>
            <a:chOff x="1371600" y="1143000"/>
            <a:chExt cx="5715000" cy="4842000"/>
          </a:xfrm>
        </p:grpSpPr>
        <p:sp>
          <p:nvSpPr>
            <p:cNvPr id="359" name="矩形 14338"/>
            <p:cNvSpPr/>
            <p:nvPr/>
          </p:nvSpPr>
          <p:spPr>
            <a:xfrm rot="13770000">
              <a:off x="4707000" y="373032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cfccb6"/>
                </a:gs>
                <a:gs pos="100000">
                  <a:srgbClr val="a19c71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4339"/>
            <p:cNvSpPr/>
            <p:nvPr/>
          </p:nvSpPr>
          <p:spPr>
            <a:xfrm rot="20856000">
              <a:off x="2679480" y="324756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d1cfba"/>
                </a:gs>
                <a:gs pos="100000">
                  <a:srgbClr val="a19c71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4340"/>
            <p:cNvSpPr/>
            <p:nvPr/>
          </p:nvSpPr>
          <p:spPr>
            <a:xfrm rot="18394200">
              <a:off x="4842000" y="209196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e3e1d4"/>
                </a:gs>
                <a:gs pos="100000">
                  <a:srgbClr val="a19c71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组合 14341"/>
            <p:cNvGrpSpPr/>
            <p:nvPr/>
          </p:nvGrpSpPr>
          <p:grpSpPr>
            <a:xfrm>
              <a:off x="3643200" y="2125800"/>
              <a:ext cx="1652760" cy="1684080"/>
              <a:chOff x="3643200" y="2125800"/>
              <a:chExt cx="1652760" cy="1684080"/>
            </a:xfrm>
          </p:grpSpPr>
          <p:grpSp>
            <p:nvGrpSpPr>
              <p:cNvPr id="363" name="组合 14342"/>
              <p:cNvGrpSpPr/>
              <p:nvPr/>
            </p:nvGrpSpPr>
            <p:grpSpPr>
              <a:xfrm>
                <a:off x="3643200" y="2125800"/>
                <a:ext cx="1652760" cy="1684080"/>
                <a:chOff x="3643200" y="2125800"/>
                <a:chExt cx="1652760" cy="1684080"/>
              </a:xfrm>
            </p:grpSpPr>
            <p:sp>
              <p:nvSpPr>
                <p:cNvPr id="364" name="椭圆 14343"/>
                <p:cNvSpPr/>
                <p:nvPr/>
              </p:nvSpPr>
              <p:spPr>
                <a:xfrm>
                  <a:off x="3643200" y="212580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99b4"/>
                    </a:gs>
                    <a:gs pos="100000">
                      <a:srgbClr val="1825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任意多边形 14344"/>
                <p:cNvSpPr/>
                <p:nvPr/>
              </p:nvSpPr>
              <p:spPr>
                <a:xfrm>
                  <a:off x="3831840" y="215352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299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文本框 14345"/>
              <p:cNvSpPr/>
              <p:nvPr/>
            </p:nvSpPr>
            <p:spPr>
              <a:xfrm>
                <a:off x="3750120" y="2858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组合 14346"/>
            <p:cNvGrpSpPr/>
            <p:nvPr/>
          </p:nvGrpSpPr>
          <p:grpSpPr>
            <a:xfrm>
              <a:off x="5089680" y="1143000"/>
              <a:ext cx="925200" cy="912960"/>
              <a:chOff x="5089680" y="1143000"/>
              <a:chExt cx="925200" cy="912960"/>
            </a:xfrm>
          </p:grpSpPr>
          <p:grpSp>
            <p:nvGrpSpPr>
              <p:cNvPr id="368" name="组合 14347"/>
              <p:cNvGrpSpPr/>
              <p:nvPr/>
            </p:nvGrpSpPr>
            <p:grpSpPr>
              <a:xfrm>
                <a:off x="5089680" y="1143000"/>
                <a:ext cx="894600" cy="912960"/>
                <a:chOff x="5089680" y="1143000"/>
                <a:chExt cx="894600" cy="912960"/>
              </a:xfrm>
            </p:grpSpPr>
            <p:sp>
              <p:nvSpPr>
                <p:cNvPr id="369" name="椭圆 14348"/>
                <p:cNvSpPr/>
                <p:nvPr/>
              </p:nvSpPr>
              <p:spPr>
                <a:xfrm>
                  <a:off x="5089680" y="114300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7710"/>
                    </a:gs>
                    <a:gs pos="100000">
                      <a:srgbClr val="201d0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任意多边形 14349"/>
                <p:cNvSpPr/>
                <p:nvPr/>
              </p:nvSpPr>
              <p:spPr>
                <a:xfrm>
                  <a:off x="5191920" y="115812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277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文本框 14350"/>
              <p:cNvSpPr/>
              <p:nvPr/>
            </p:nvSpPr>
            <p:spPr>
              <a:xfrm>
                <a:off x="510552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14351"/>
            <p:cNvGrpSpPr/>
            <p:nvPr/>
          </p:nvGrpSpPr>
          <p:grpSpPr>
            <a:xfrm>
              <a:off x="1371600" y="2476440"/>
              <a:ext cx="1790640" cy="1895400"/>
              <a:chOff x="1371600" y="2476440"/>
              <a:chExt cx="1790640" cy="1895400"/>
            </a:xfrm>
          </p:grpSpPr>
          <p:grpSp>
            <p:nvGrpSpPr>
              <p:cNvPr id="373" name="组合 14352"/>
              <p:cNvGrpSpPr/>
              <p:nvPr/>
            </p:nvGrpSpPr>
            <p:grpSpPr>
              <a:xfrm>
                <a:off x="1371600" y="2476440"/>
                <a:ext cx="1790640" cy="1895400"/>
                <a:chOff x="1371600" y="2476440"/>
                <a:chExt cx="1790640" cy="1895400"/>
              </a:xfrm>
            </p:grpSpPr>
            <p:sp>
              <p:nvSpPr>
                <p:cNvPr id="374" name="椭圆 14353"/>
                <p:cNvSpPr/>
                <p:nvPr/>
              </p:nvSpPr>
              <p:spPr>
                <a:xfrm>
                  <a:off x="1371600" y="247644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任意多边形 14354"/>
                <p:cNvSpPr/>
                <p:nvPr/>
              </p:nvSpPr>
              <p:spPr>
                <a:xfrm>
                  <a:off x="1576080" y="250776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文本框 14355"/>
              <p:cNvSpPr/>
              <p:nvPr/>
            </p:nvSpPr>
            <p:spPr>
              <a:xfrm>
                <a:off x="1487880" y="331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组合 14356"/>
            <p:cNvGrpSpPr/>
            <p:nvPr/>
          </p:nvGrpSpPr>
          <p:grpSpPr>
            <a:xfrm>
              <a:off x="5021280" y="3879720"/>
              <a:ext cx="2065320" cy="2105280"/>
              <a:chOff x="5021280" y="3879720"/>
              <a:chExt cx="2065320" cy="2105280"/>
            </a:xfrm>
          </p:grpSpPr>
          <p:grpSp>
            <p:nvGrpSpPr>
              <p:cNvPr id="378" name="组合 14357"/>
              <p:cNvGrpSpPr/>
              <p:nvPr/>
            </p:nvGrpSpPr>
            <p:grpSpPr>
              <a:xfrm>
                <a:off x="5021280" y="3879720"/>
                <a:ext cx="2065320" cy="2105280"/>
                <a:chOff x="5021280" y="3879720"/>
                <a:chExt cx="2065320" cy="2105280"/>
              </a:xfrm>
            </p:grpSpPr>
            <p:sp>
              <p:nvSpPr>
                <p:cNvPr id="379" name="椭圆 14358"/>
                <p:cNvSpPr/>
                <p:nvPr/>
              </p:nvSpPr>
              <p:spPr>
                <a:xfrm>
                  <a:off x="5021280" y="387972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ab151"/>
                    </a:gs>
                    <a:gs pos="100000">
                      <a:srgbClr val="3f5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任意多边形 14359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ab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文本框 14360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Marketing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384" name="组合 15362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85" name="右箭头 1536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右箭头 1536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右箭头 1536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33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右箭头 1536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22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右箭头 1536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84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右箭头 1536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68"/>
              </a:avLst>
            </a:prstGeom>
            <a:solidFill>
              <a:srgbClr val="33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椭圆 1536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a19c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文本框 1537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537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文本框 1537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文本框 1537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1537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文本框 1537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椭圆 1537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椭圆 1537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椭圆 1537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椭圆 1537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 1538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椭圆 1538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2bd8b"/>
                </a:gs>
                <a:gs pos="100000">
                  <a:srgbClr val="82771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椭圆 1538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299b4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1538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299b4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椭圆 1538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55361"/>
                </a:gs>
                <a:gs pos="50000">
                  <a:srgbClr val="6299b4"/>
                </a:gs>
                <a:gs pos="100000">
                  <a:srgbClr val="35536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椭圆 15385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e6172"/>
                </a:gs>
                <a:gs pos="100000">
                  <a:srgbClr val="6299b4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椭圆 1538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组合 1538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10" name="椭圆 1538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1538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椭圆 1539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椭圆 1539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文本框 1539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416" name="组合 16386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17" name="圆角矩形 16387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圆角矩形 16388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16389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16390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16391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22" name="椭圆 16392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16393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椭圆 16394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椭圆 16395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椭圆 16396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文本框 16397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文本框 16398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组合 16399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30" name="圆角矩形 16400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圆角矩形 16401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圆角矩形 16402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圆角矩形 16403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组合 16404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35" name="椭圆 16405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椭圆 16406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16407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椭圆 16408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椭圆 16409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文本框 16410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16411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16412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43" name="圆角矩形 16413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圆角矩形 16414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圆角矩形 16415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圆角矩形 16416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椭圆 16417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椭圆 16418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椭圆 16419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16420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16421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文本框 16422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文本框 16423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455" name="组合 17410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456" name="组合 17411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57" name="矩形 17412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矩形 17413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组合 17414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460" name="组合 17415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461" name="组合 17416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62" name="任意多边形 17417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任意多边形 17418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组合 17419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65" name="任意多边形 17420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任意多边形 17421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7" name="组合 17422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68" name="椭圆 17423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椭圆 17424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椭圆 17425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17426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椭圆 17427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组合 17428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74" name="椭圆 17429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椭圆 17430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椭圆 17431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椭圆 17432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8" name="文本框 17433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文本框 17434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组合 17435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81" name="组合 17436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82" name="组合 17437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83" name="任意多边形 17438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任意多边形 17439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组合 17440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86" name="任意多边形 17441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任意多边形 17442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8" name="组合 17443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89" name="椭圆 17444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椭圆 17445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椭圆 17446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椭圆 17447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椭圆 17448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4" name="组合 17449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95" name="椭圆 17450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椭圆 17451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椭圆 17452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椭圆 17453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9" name="文本框 17454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文本框 17455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组合 17456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02" name="组合 17457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03" name="组合 17458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04" name="任意多边形 17459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任意多边形 17460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组合 17461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07" name="任意多边形 17462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任意多边形 17463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9" name="组合 17464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10" name="椭圆 1746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椭圆 17466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7467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椭圆 17468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椭圆 17469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5" name="组合 17470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16" name="椭圆 17471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椭圆 17472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椭圆 17473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椭圆 17474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0" name="文本框 17475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文本框 17476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17477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23" name="组合 17478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24" name="组合 17479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25" name="任意多边形 17480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任意多边形 17481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组合 17482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28" name="任意多边形 17483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任意多边形 17484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0" name="椭圆 17485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椭圆 17486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椭圆 17487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椭圆 17488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椭圆 17489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组合 17490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36" name="椭圆 17491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椭圆 17492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椭圆 17493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椭圆 17494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0" name="文本框 17495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文本框 17496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组合 17497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43" name="文本框 17498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文本框 17499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文本框 17500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文本框 17501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200"/>
                    </a:solidFill>
                    <a:latin typeface="Verdana"/>
                    <a:ea typeface="Arial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47" name="直接箭头连接符 17502"/>
              <p:cNvCxnSpPr>
                <a:stCxn id="543" idx="3"/>
                <a:endCxn id="544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3200"/>
                </a:solidFill>
                <a:round/>
                <a:tailEnd len="med" type="triangle" w="med"/>
              </a:ln>
            </p:spPr>
          </p:cxnSp>
          <p:cxnSp>
            <p:nvCxnSpPr>
              <p:cNvPr id="548" name="直接箭头连接符 17503"/>
              <p:cNvCxnSpPr>
                <a:stCxn id="544" idx="3"/>
                <a:endCxn id="545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200"/>
                </a:solidFill>
                <a:round/>
                <a:tailEnd len="med" type="triangle" w="med"/>
              </a:ln>
            </p:spPr>
          </p:cxnSp>
          <p:cxnSp>
            <p:nvCxnSpPr>
              <p:cNvPr id="549" name="直接箭头连接符 17504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3200"/>
                </a:solidFill>
                <a:round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551" name="组合 18434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52" name="圆角矩形 18435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组合 18436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54" name="圆角矩形 18437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27710"/>
                  </a:gs>
                  <a:gs pos="100000">
                    <a:srgbClr val="5b530b"/>
                  </a:gs>
                </a:gsLst>
                <a:lin ang="5400000"/>
              </a:gradFill>
              <a:ln w="3816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 18438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bb57d"/>
                  </a:gs>
                  <a:gs pos="50000">
                    <a:srgbClr val="827710">
                      <a:alpha val="0"/>
                    </a:srgbClr>
                  </a:gs>
                  <a:gs pos="100000">
                    <a:srgbClr val="bbb5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文本框 18439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文本框 18440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组合 18441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59" name="圆角矩形 18442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组合 18443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61" name="圆角矩形 18444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c681"/>
                  </a:gs>
                  <a:gs pos="100000">
                    <a:srgbClr val="7ab151"/>
                  </a:gs>
                </a:gsLst>
                <a:lin ang="5400000"/>
              </a:gradFill>
              <a:ln w="3816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任意多边形 18445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deb5"/>
                  </a:gs>
                  <a:gs pos="100000">
                    <a:srgbClr val="7ab15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文本框 18446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文本框 18447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5" name="组合 18448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66" name="圆角矩形 18449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组合 18450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68" name="圆角矩形 18451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bbecf"/>
                  </a:gs>
                  <a:gs pos="100000">
                    <a:srgbClr val="6299b4"/>
                  </a:gs>
                </a:gsLst>
                <a:lin ang="5400000"/>
              </a:gradFill>
              <a:ln w="3816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任意多边形 18452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cddb"/>
                  </a:gs>
                  <a:gs pos="100000">
                    <a:srgbClr val="6299b4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文本框 18453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文本框 18454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573" name="圆角矩形 19458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圆角矩形 19459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圆角矩形 19460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圆角矩形 19461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19462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78" name="矩形 19463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ab151"/>
                </a:gs>
                <a:gs pos="100000">
                  <a:srgbClr val="385225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" name="组合 19464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80" name="椭圆 19465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19466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椭圆 19467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1260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椭圆 19468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4" name="矩形 19469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8277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组合 19470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86" name="椭圆 19471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19472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椭圆 19473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1260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椭圆 19474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矩形 19475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7ab151"/>
                </a:gs>
                <a:gs pos="100000">
                  <a:srgbClr val="385225"/>
                </a:gs>
              </a:gsLst>
              <a:lin ang="19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组合 19476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2" name="椭圆 19477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矩形 19478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椭圆 19479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1260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椭圆 19480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e6649"/>
                  </a:gs>
                  <a:gs pos="50000">
                    <a:srgbClr val="eedd9e"/>
                  </a:gs>
                  <a:gs pos="100000">
                    <a:srgbClr val="6e664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6" name="矩形 19481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8277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19482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9483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9484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9485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d9e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19486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19487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9488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9489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Table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835200" y="2316240"/>
          <a:ext cx="7397640" cy="3058920"/>
        </p:xfrm>
        <a:graphic>
          <a:graphicData uri="http://schemas.openxmlformats.org/drawingml/2006/table">
            <a:tbl>
              <a:tblPr/>
              <a:tblGrid>
                <a:gridCol w="1668600"/>
                <a:gridCol w="1163520"/>
                <a:gridCol w="1141560"/>
                <a:gridCol w="1137960"/>
                <a:gridCol w="1148040"/>
                <a:gridCol w="1137960"/>
              </a:tblGrid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27710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48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80000"/>
                      </a:srgbClr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edd9e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299b4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7710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608" name="组合 21506"/>
          <p:cNvGrpSpPr/>
          <p:nvPr/>
        </p:nvGrpSpPr>
        <p:grpSpPr>
          <a:xfrm>
            <a:off x="1128600" y="1280880"/>
            <a:ext cx="6329520" cy="4665960"/>
            <a:chOff x="1128600" y="1280880"/>
            <a:chExt cx="6329520" cy="4665960"/>
          </a:xfrm>
        </p:grpSpPr>
        <p:sp>
          <p:nvSpPr>
            <p:cNvPr id="609" name="椭圆 21507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3f3d2c"/>
                </a:gs>
                <a:gs pos="50000">
                  <a:srgbClr val="a19c71"/>
                </a:gs>
                <a:gs pos="100000">
                  <a:srgbClr val="3f3d2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椭圆 21508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任意多边形 21509"/>
            <p:cNvSpPr/>
            <p:nvPr/>
          </p:nvSpPr>
          <p:spPr>
            <a:xfrm rot="20601600">
              <a:off x="4128840" y="19051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0"/>
                  </a:moveTo>
                  <a:cubicBezTo>
                    <a:pt x="18306" y="3949"/>
                    <a:pt x="21600" y="10143"/>
                    <a:pt x="21600" y="17105"/>
                  </a:cubicBezTo>
                  <a:cubicBezTo>
                    <a:pt x="21600" y="21521"/>
                    <a:pt x="20275" y="25628"/>
                    <a:pt x="18001" y="29048"/>
                  </a:cubicBezTo>
                </a:path>
                <a:path stroke="0" w="21600" h="29046">
                  <a:moveTo>
                    <a:pt x="17998" y="29046"/>
                  </a:moveTo>
                  <a:cubicBezTo>
                    <a:pt x="18365" y="28558"/>
                    <a:pt x="18753" y="28299"/>
                    <a:pt x="19155" y="28299"/>
                  </a:cubicBezTo>
                  <a:cubicBezTo>
                    <a:pt x="21477" y="28299"/>
                    <a:pt x="23360" y="36963"/>
                    <a:pt x="23360" y="47651"/>
                  </a:cubicBezTo>
                  <a:cubicBezTo>
                    <a:pt x="23360" y="48518"/>
                    <a:pt x="23348" y="49372"/>
                    <a:pt x="23324" y="50203"/>
                  </a:cubicBezTo>
                  <a:lnTo>
                    <a:pt x="131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ab151"/>
                </a:gs>
                <a:gs pos="100000">
                  <a:srgbClr val="a6cb8b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21510"/>
            <p:cNvSpPr/>
            <p:nvPr/>
          </p:nvSpPr>
          <p:spPr>
            <a:xfrm flipH="1" rot="20602200">
              <a:off x="1716480" y="37800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6"/>
                  </a:moveTo>
                  <a:cubicBezTo>
                    <a:pt x="23874" y="13254"/>
                    <a:pt x="14741" y="21600"/>
                    <a:pt x="3659" y="21600"/>
                  </a:cubicBezTo>
                  <a:cubicBezTo>
                    <a:pt x="2408" y="21600"/>
                    <a:pt x="1182" y="21494"/>
                    <a:pt x="-4" y="21291"/>
                  </a:cubicBezTo>
                </a:path>
                <a:path stroke="0" w="25114" h="21600">
                  <a:moveTo>
                    <a:pt x="0" y="21287"/>
                  </a:moveTo>
                  <a:cubicBezTo>
                    <a:pt x="0" y="21295"/>
                    <a:pt x="0" y="21304"/>
                    <a:pt x="0" y="21313"/>
                  </a:cubicBezTo>
                  <a:cubicBezTo>
                    <a:pt x="0" y="21332"/>
                    <a:pt x="0" y="21351"/>
                    <a:pt x="0" y="21369"/>
                  </a:cubicBezTo>
                  <a:lnTo>
                    <a:pt x="25114" y="2496"/>
                  </a:lnTo>
                  <a:close/>
                </a:path>
              </a:pathLst>
            </a:custGeom>
            <a:gradFill rotWithShape="0">
              <a:gsLst>
                <a:gs pos="0">
                  <a:srgbClr val="827710"/>
                </a:gs>
                <a:gs pos="100000">
                  <a:srgbClr val="4f480a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21511"/>
            <p:cNvSpPr/>
            <p:nvPr/>
          </p:nvSpPr>
          <p:spPr>
            <a:xfrm rot="20601600">
              <a:off x="2653920" y="1987560"/>
              <a:ext cx="3133800" cy="141768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089" y="972"/>
                    <a:pt x="6645" y="0"/>
                    <a:pt x="10427" y="0"/>
                  </a:cubicBezTo>
                  <a:cubicBezTo>
                    <a:pt x="15489" y="0"/>
                    <a:pt x="20144" y="1741"/>
                    <a:pt x="23826" y="4657"/>
                  </a:cubicBezTo>
                </a:path>
                <a:path stroke="0" w="23826" h="21600">
                  <a:moveTo>
                    <a:pt x="23825" y="4658"/>
                  </a:moveTo>
                  <a:cubicBezTo>
                    <a:pt x="18822" y="1233"/>
                    <a:pt x="15427" y="-5464"/>
                    <a:pt x="15427" y="-13163"/>
                  </a:cubicBezTo>
                  <a:cubicBezTo>
                    <a:pt x="15427" y="-24351"/>
                    <a:pt x="22596" y="-33421"/>
                    <a:pt x="31440" y="-33421"/>
                  </a:cubicBezTo>
                  <a:cubicBezTo>
                    <a:pt x="40284" y="-33421"/>
                    <a:pt x="47453" y="-24351"/>
                    <a:pt x="47453" y="-13163"/>
                  </a:cubicBezTo>
                  <a:cubicBezTo>
                    <a:pt x="47453" y="-9003"/>
                    <a:pt x="46462" y="-5136"/>
                    <a:pt x="44763" y="-1920"/>
                  </a:cubicBezTo>
                  <a:lnTo>
                    <a:pt x="0" y="2683"/>
                  </a:lnTo>
                  <a:close/>
                </a:path>
              </a:pathLst>
            </a:custGeom>
            <a:gradFill rotWithShape="0">
              <a:gsLst>
                <a:gs pos="0">
                  <a:srgbClr val="5cb8ca"/>
                </a:gs>
                <a:gs pos="100000">
                  <a:srgbClr val="30616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21512"/>
            <p:cNvSpPr/>
            <p:nvPr/>
          </p:nvSpPr>
          <p:spPr>
            <a:xfrm flipH="1" rot="20602200">
              <a:off x="1370880" y="25142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8" y="0"/>
                  </a:moveTo>
                  <a:cubicBezTo>
                    <a:pt x="15854" y="3113"/>
                    <a:pt x="21600" y="10967"/>
                    <a:pt x="21600" y="20162"/>
                  </a:cubicBezTo>
                  <a:cubicBezTo>
                    <a:pt x="21600" y="23984"/>
                    <a:pt x="20607" y="27575"/>
                    <a:pt x="18866" y="30688"/>
                  </a:cubicBezTo>
                </a:path>
                <a:path stroke="0" w="21600" h="30685">
                  <a:moveTo>
                    <a:pt x="18863" y="30685"/>
                  </a:moveTo>
                  <a:cubicBezTo>
                    <a:pt x="20130" y="25770"/>
                    <a:pt x="22110" y="22608"/>
                    <a:pt x="24334" y="22608"/>
                  </a:cubicBezTo>
                  <a:cubicBezTo>
                    <a:pt x="28159" y="22608"/>
                    <a:pt x="31260" y="31957"/>
                    <a:pt x="31260" y="43489"/>
                  </a:cubicBezTo>
                  <a:cubicBezTo>
                    <a:pt x="31260" y="44923"/>
                    <a:pt x="31212" y="46322"/>
                    <a:pt x="31121" y="47669"/>
                  </a:cubicBezTo>
                  <a:lnTo>
                    <a:pt x="7748" y="0"/>
                  </a:ln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6f5300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 21513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a19c71"/>
                </a:gs>
                <a:gs pos="50000">
                  <a:srgbClr val="e8e7dc"/>
                </a:gs>
                <a:gs pos="100000">
                  <a:srgbClr val="a19c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文本框 21514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文本框 21515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文本框 21516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21517"/>
            <p:cNvGrpSpPr/>
            <p:nvPr/>
          </p:nvGrpSpPr>
          <p:grpSpPr>
            <a:xfrm>
              <a:off x="4293720" y="2466720"/>
              <a:ext cx="3164400" cy="2769120"/>
              <a:chOff x="4293720" y="2466720"/>
              <a:chExt cx="3164400" cy="2769120"/>
            </a:xfrm>
          </p:grpSpPr>
          <p:sp>
            <p:nvSpPr>
              <p:cNvPr id="620" name="任意多边形 21518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c5d6d"/>
                  </a:gs>
                  <a:gs pos="100000">
                    <a:srgbClr val="6299b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 21519"/>
              <p:cNvSpPr/>
              <p:nvPr/>
            </p:nvSpPr>
            <p:spPr>
              <a:xfrm rot="20539200">
                <a:off x="4511520" y="28371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98" y="16775"/>
                      <a:pt x="9667" y="20255"/>
                      <a:pt x="3705" y="21284"/>
                    </a:cubicBezTo>
                  </a:path>
                  <a:path stroke="0" w="18016" h="21282">
                    <a:moveTo>
                      <a:pt x="3694" y="21281"/>
                    </a:moveTo>
                    <a:cubicBezTo>
                      <a:pt x="3701" y="21445"/>
                      <a:pt x="3704" y="21612"/>
                      <a:pt x="3704" y="21781"/>
                    </a:cubicBezTo>
                    <a:cubicBezTo>
                      <a:pt x="3704" y="22331"/>
                      <a:pt x="3670" y="22860"/>
                      <a:pt x="3608" y="23352"/>
                    </a:cubicBez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99b4"/>
                  </a:gs>
                  <a:gs pos="100000">
                    <a:srgbClr val="2d4753"/>
                  </a:gs>
                </a:gsLst>
                <a:lin ang="10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 21520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99b4"/>
                  </a:gs>
                  <a:gs pos="100000">
                    <a:srgbClr val="2d475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文本框 21521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文本框 21522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Arial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 21523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21524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21525"/>
          <p:cNvSpPr/>
          <p:nvPr/>
        </p:nvSpPr>
        <p:spPr>
          <a:xfrm>
            <a:off x="1143000" y="1371600"/>
            <a:ext cx="585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151"/>
                </a:solidFill>
                <a:uFillTx/>
                <a:latin typeface="Arial"/>
                <a:ea typeface="Arial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Block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629" name="组合 22530"/>
          <p:cNvGrpSpPr/>
          <p:nvPr/>
        </p:nvGrpSpPr>
        <p:grpSpPr>
          <a:xfrm>
            <a:off x="914400" y="1447920"/>
            <a:ext cx="7391520" cy="4155480"/>
            <a:chOff x="914400" y="1447920"/>
            <a:chExt cx="7391520" cy="4155480"/>
          </a:xfrm>
        </p:grpSpPr>
        <p:sp>
          <p:nvSpPr>
            <p:cNvPr id="630" name="上箭头 22531"/>
            <p:cNvSpPr/>
            <p:nvPr/>
          </p:nvSpPr>
          <p:spPr>
            <a:xfrm>
              <a:off x="1905120" y="2209680"/>
              <a:ext cx="5530680" cy="2742840"/>
            </a:xfrm>
            <a:prstGeom prst="upArrow">
              <a:avLst>
                <a:gd name="adj1" fmla="val 57824"/>
                <a:gd name="adj2" fmla="val 54394"/>
              </a:avLst>
            </a:prstGeom>
            <a:gradFill rotWithShape="0">
              <a:gsLst>
                <a:gs pos="0">
                  <a:srgbClr val="7ab151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22532"/>
            <p:cNvSpPr/>
            <p:nvPr/>
          </p:nvSpPr>
          <p:spPr>
            <a:xfrm>
              <a:off x="2438280" y="14479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27710"/>
                </a:gs>
                <a:gs pos="50000">
                  <a:srgbClr val="e1dec5"/>
                </a:gs>
                <a:gs pos="100000">
                  <a:srgbClr val="827710"/>
                </a:gs>
              </a:gsLst>
              <a:lin ang="0"/>
            </a:gradFill>
            <a:ln w="38160">
              <a:solidFill>
                <a:srgbClr val="ffffff"/>
              </a:solidFill>
              <a:round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文本框 22533"/>
            <p:cNvSpPr/>
            <p:nvPr/>
          </p:nvSpPr>
          <p:spPr>
            <a:xfrm>
              <a:off x="3656160" y="28191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组合 22534"/>
            <p:cNvGrpSpPr/>
            <p:nvPr/>
          </p:nvGrpSpPr>
          <p:grpSpPr>
            <a:xfrm>
              <a:off x="914400" y="4082760"/>
              <a:ext cx="1486080" cy="1514160"/>
              <a:chOff x="914400" y="4082760"/>
              <a:chExt cx="1486080" cy="1514160"/>
            </a:xfrm>
          </p:grpSpPr>
          <p:grpSp>
            <p:nvGrpSpPr>
              <p:cNvPr id="634" name="组合 22535"/>
              <p:cNvGrpSpPr/>
              <p:nvPr/>
            </p:nvGrpSpPr>
            <p:grpSpPr>
              <a:xfrm>
                <a:off x="914400" y="4082760"/>
                <a:ext cx="1486080" cy="1514160"/>
                <a:chOff x="914400" y="4082760"/>
                <a:chExt cx="1486080" cy="1514160"/>
              </a:xfrm>
            </p:grpSpPr>
            <p:sp>
              <p:nvSpPr>
                <p:cNvPr id="635" name="椭圆 22536"/>
                <p:cNvSpPr/>
                <p:nvPr/>
              </p:nvSpPr>
              <p:spPr>
                <a:xfrm>
                  <a:off x="914400" y="40827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9900"/>
                    </a:gs>
                    <a:gs pos="100000">
                      <a:srgbClr val="826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任意多边形 22537"/>
                <p:cNvSpPr/>
                <p:nvPr/>
              </p:nvSpPr>
              <p:spPr>
                <a:xfrm>
                  <a:off x="1084320" y="41076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文本框 22538"/>
              <p:cNvSpPr/>
              <p:nvPr/>
            </p:nvSpPr>
            <p:spPr>
              <a:xfrm>
                <a:off x="1072440" y="4853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组合 22539"/>
            <p:cNvGrpSpPr/>
            <p:nvPr/>
          </p:nvGrpSpPr>
          <p:grpSpPr>
            <a:xfrm>
              <a:off x="6781680" y="4038480"/>
              <a:ext cx="1524240" cy="1531440"/>
              <a:chOff x="6781680" y="4038480"/>
              <a:chExt cx="1524240" cy="1531440"/>
            </a:xfrm>
          </p:grpSpPr>
          <p:grpSp>
            <p:nvGrpSpPr>
              <p:cNvPr id="639" name="组合 22540"/>
              <p:cNvGrpSpPr/>
              <p:nvPr/>
            </p:nvGrpSpPr>
            <p:grpSpPr>
              <a:xfrm>
                <a:off x="6781680" y="4038480"/>
                <a:ext cx="1524240" cy="1531440"/>
                <a:chOff x="6781680" y="4038480"/>
                <a:chExt cx="1524240" cy="1531440"/>
              </a:xfrm>
            </p:grpSpPr>
            <p:sp>
              <p:nvSpPr>
                <p:cNvPr id="640" name="椭圆 22541"/>
                <p:cNvSpPr/>
                <p:nvPr/>
              </p:nvSpPr>
              <p:spPr>
                <a:xfrm>
                  <a:off x="6781680" y="40384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99b4"/>
                    </a:gs>
                    <a:gs pos="100000">
                      <a:srgbClr val="18252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任意多边形 22542"/>
                <p:cNvSpPr/>
                <p:nvPr/>
              </p:nvSpPr>
              <p:spPr>
                <a:xfrm>
                  <a:off x="6955920" y="40636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299b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文本框 22543"/>
              <p:cNvSpPr/>
              <p:nvPr/>
            </p:nvSpPr>
            <p:spPr>
              <a:xfrm>
                <a:off x="6924600" y="47523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2544"/>
            <p:cNvGrpSpPr/>
            <p:nvPr/>
          </p:nvGrpSpPr>
          <p:grpSpPr>
            <a:xfrm>
              <a:off x="2819520" y="4082760"/>
              <a:ext cx="1523880" cy="1520640"/>
              <a:chOff x="2819520" y="4082760"/>
              <a:chExt cx="1523880" cy="1520640"/>
            </a:xfrm>
          </p:grpSpPr>
          <p:grpSp>
            <p:nvGrpSpPr>
              <p:cNvPr id="644" name="组合 22545"/>
              <p:cNvGrpSpPr/>
              <p:nvPr/>
            </p:nvGrpSpPr>
            <p:grpSpPr>
              <a:xfrm>
                <a:off x="2819520" y="4082760"/>
                <a:ext cx="1523880" cy="1520640"/>
                <a:chOff x="2819520" y="4082760"/>
                <a:chExt cx="1523880" cy="1520640"/>
              </a:xfrm>
            </p:grpSpPr>
            <p:sp>
              <p:nvSpPr>
                <p:cNvPr id="645" name="椭圆 22546"/>
                <p:cNvSpPr/>
                <p:nvPr/>
              </p:nvSpPr>
              <p:spPr>
                <a:xfrm>
                  <a:off x="2819520" y="4082760"/>
                  <a:ext cx="1523880" cy="152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ab151"/>
                    </a:gs>
                    <a:gs pos="100000">
                      <a:srgbClr val="3f5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22547"/>
                <p:cNvSpPr/>
                <p:nvPr/>
              </p:nvSpPr>
              <p:spPr>
                <a:xfrm>
                  <a:off x="2993760" y="410796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ab15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文本框 22548"/>
              <p:cNvSpPr/>
              <p:nvPr/>
            </p:nvSpPr>
            <p:spPr>
              <a:xfrm>
                <a:off x="2895840" y="4812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组合 22549"/>
            <p:cNvGrpSpPr/>
            <p:nvPr/>
          </p:nvGrpSpPr>
          <p:grpSpPr>
            <a:xfrm>
              <a:off x="4876920" y="4038480"/>
              <a:ext cx="1523880" cy="1520280"/>
              <a:chOff x="4876920" y="4038480"/>
              <a:chExt cx="1523880" cy="1520280"/>
            </a:xfrm>
          </p:grpSpPr>
          <p:grpSp>
            <p:nvGrpSpPr>
              <p:cNvPr id="649" name="组合 22550"/>
              <p:cNvGrpSpPr/>
              <p:nvPr/>
            </p:nvGrpSpPr>
            <p:grpSpPr>
              <a:xfrm>
                <a:off x="4876920" y="4038480"/>
                <a:ext cx="1523880" cy="1520280"/>
                <a:chOff x="4876920" y="4038480"/>
                <a:chExt cx="1523880" cy="1520280"/>
              </a:xfrm>
            </p:grpSpPr>
            <p:sp>
              <p:nvSpPr>
                <p:cNvPr id="650" name="椭圆 22551"/>
                <p:cNvSpPr/>
                <p:nvPr/>
              </p:nvSpPr>
              <p:spPr>
                <a:xfrm>
                  <a:off x="4876920" y="40384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7710"/>
                    </a:gs>
                    <a:gs pos="100000">
                      <a:srgbClr val="433d0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 22552"/>
                <p:cNvSpPr/>
                <p:nvPr/>
              </p:nvSpPr>
              <p:spPr>
                <a:xfrm>
                  <a:off x="5051160" y="40636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2771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2" name="文本框 22553"/>
              <p:cNvSpPr/>
              <p:nvPr/>
            </p:nvSpPr>
            <p:spPr>
              <a:xfrm>
                <a:off x="4953240" y="4768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40" name="文本框 512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512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42" name="圆角矩形 512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4e9c9"/>
                </a:gs>
                <a:gs pos="100000">
                  <a:srgbClr val="cc9900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菱形 512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cc9900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512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5127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512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47" name="圆角矩形 512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5e2cc"/>
                </a:gs>
                <a:gs pos="100000">
                  <a:srgbClr val="827710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菱形 513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827710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文本框 513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文本框 5132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513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52" name="圆角矩形 513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d4c9"/>
                </a:gs>
                <a:gs pos="100000">
                  <a:srgbClr val="333200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菱形 513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7ab151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文本框 513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5137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513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57" name="圆角矩形 513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ee9ef"/>
                </a:gs>
                <a:gs pos="100000">
                  <a:srgbClr val="6299b4"/>
                </a:gs>
              </a:gsLst>
              <a:lin ang="0"/>
            </a:gradFill>
            <a:ln w="12600">
              <a:solidFill>
                <a:srgbClr val="eedd9e"/>
              </a:solidFill>
              <a:round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菱形 514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299b4"/>
            </a:solidFill>
            <a:ln w="25560">
              <a:solidFill>
                <a:srgbClr val="eedd9e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514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5142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edd9e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09C-E648-4978-BA2D-53295BDF92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矩形 23553"/>
          <p:cNvSpPr txBox="1"/>
          <p:nvPr/>
        </p:nvSpPr>
        <p:spPr>
          <a:xfrm>
            <a:off x="2133720" y="2362320"/>
            <a:ext cx="5340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eedd9e"/>
                  </a:solidFill>
                  <a:round/>
                </a:ln>
                <a:gradFill rotWithShape="0">
                  <a:gsLst>
                    <a:gs pos="0">
                      <a:srgbClr val="7ab151"/>
                    </a:gs>
                    <a:gs pos="100000">
                      <a:srgbClr val="827710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eedd9e"/>
                </a:solidFill>
                <a:round/>
              </a:ln>
              <a:gradFill rotWithShape="0">
                <a:gsLst>
                  <a:gs pos="0">
                    <a:srgbClr val="7ab151"/>
                  </a:gs>
                  <a:gs pos="100000">
                    <a:srgbClr val="827710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1143000" y="4190760"/>
            <a:ext cx="678168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8200" y="1592280"/>
            <a:ext cx="799128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ab1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2771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827710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333200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800" spc="-1" strike="noStrike">
                <a:solidFill>
                  <a:srgbClr val="3332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2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164" name="组合 7170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65" name="圆角矩形 7171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7172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任意多边形 7173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d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174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7175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0" name="组合 7176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1" name="组合 7177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2" name="椭圆 7178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ab151"/>
                    </a:gs>
                    <a:gs pos="100000">
                      <a:srgbClr val="3b562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7179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4dcb2"/>
                    </a:gs>
                    <a:gs pos="100000">
                      <a:srgbClr val="7ab15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椭圆 7180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3c3707"/>
                  </a:gs>
                  <a:gs pos="100000">
                    <a:srgbClr val="82771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椭圆 7181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827710">
                      <a:alpha val="0"/>
                    </a:srgbClr>
                  </a:gs>
                  <a:gs pos="100000">
                    <a:srgbClr val="d3d0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椭圆 7182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675e0d"/>
                  </a:gs>
                  <a:gs pos="100000">
                    <a:srgbClr val="82771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7183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2771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文本框 7184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7185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0" name="圆角矩形 7186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7187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任意多边形 7188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7ab151"/>
              </a:gs>
              <a:gs pos="100000">
                <a:srgbClr val="d5e6c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184" name="组合 8194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5" name="圆柱形 8195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圆柱形 8196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圆柱形 8197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8198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文本框 8199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文本框 8200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左箭头 8201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76"/>
              </a:avLst>
            </a:prstGeom>
            <a:gradFill rotWithShape="0">
              <a:gsLst>
                <a:gs pos="0">
                  <a:srgbClr val="a19c71"/>
                </a:gs>
                <a:gs pos="100000">
                  <a:srgbClr val="4b4834">
                    <a:alpha val="1215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圆角矩形 8202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8203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圆角矩形 8204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8205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Arial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右箭头 8206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2"/>
              </a:avLst>
            </a:prstGeom>
            <a:gradFill rotWithShape="0">
              <a:gsLst>
                <a:gs pos="0">
                  <a:srgbClr val="4b4834">
                    <a:alpha val="12156"/>
                  </a:srgbClr>
                </a:gs>
                <a:gs pos="100000">
                  <a:srgbClr val="a19c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圆柱形 8207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上箭头 8208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29"/>
              </a:avLst>
            </a:prstGeom>
            <a:gradFill rotWithShape="0">
              <a:gsLst>
                <a:gs pos="0">
                  <a:srgbClr val="a19c71"/>
                </a:gs>
                <a:gs pos="100000">
                  <a:srgbClr val="c3c0a5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209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圆柱形 8210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85225"/>
                </a:gs>
                <a:gs pos="50000">
                  <a:srgbClr val="7ab151"/>
                </a:gs>
                <a:gs pos="100000">
                  <a:srgbClr val="3852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8211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下箭头 8212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46"/>
              </a:avLst>
            </a:prstGeom>
            <a:gradFill rotWithShape="0">
              <a:gsLst>
                <a:gs pos="0">
                  <a:srgbClr val="c3c0a5">
                    <a:alpha val="12156"/>
                  </a:srgbClr>
                </a:gs>
                <a:gs pos="100000">
                  <a:srgbClr val="a19c7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04" name="组合 9218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05" name="任意多边形 9219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3e1d4">
                    <a:alpha val="36078"/>
                  </a:srgbClr>
                </a:gs>
                <a:gs pos="100000">
                  <a:srgbClr val="a19c71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9220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ab151"/>
                </a:gs>
                <a:gs pos="100000">
                  <a:srgbClr val="2a3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9221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27710"/>
                </a:gs>
                <a:gs pos="100000">
                  <a:srgbClr val="2925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9222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493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9223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a19c71"/>
                </a:gs>
                <a:gs pos="100000">
                  <a:srgbClr val="39382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9224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6299b4"/>
                </a:gs>
                <a:gs pos="100000">
                  <a:srgbClr val="2235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9225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9226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文本框 9227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文本框 9228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文本框 9229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Verdana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文本框 9230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218" name="直接连接符 9231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20" name="直接箭头连接符 9232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1" name="文本框 9233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23" name="组合 10242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4" name="组合 10243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25" name="上箭头 10244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3200"/>
                  </a:gs>
                  <a:gs pos="100000">
                    <a:srgbClr val="afaf9b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上箭头 10245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3200"/>
                  </a:gs>
                  <a:gs pos="100000">
                    <a:srgbClr val="afaf9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上箭头 10246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33200"/>
                  </a:gs>
                  <a:gs pos="100000">
                    <a:srgbClr val="afaf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椭圆 10247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eedd9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10248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椭圆 10249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ab15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椭圆 10250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椭圆 10251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2602c"/>
                  </a:gs>
                  <a:gs pos="50000">
                    <a:srgbClr val="7ab151"/>
                  </a:gs>
                  <a:gs pos="100000">
                    <a:srgbClr val="42602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椭圆 10252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圆柱形 10253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圆柱形 10254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圆柱形 10255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d4753"/>
                </a:gs>
                <a:gs pos="50000">
                  <a:srgbClr val="6299b4"/>
                </a:gs>
                <a:gs pos="100000">
                  <a:srgbClr val="2d475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圆柱形 10256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圆柱形 10257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圆柱形 10258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c3707"/>
                </a:gs>
                <a:gs pos="50000">
                  <a:srgbClr val="827710"/>
                </a:gs>
                <a:gs pos="100000">
                  <a:srgbClr val="3c370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10259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圆角矩形 10260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eedd9e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0261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文本框 10262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10263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10264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10265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10266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dd9e"/>
                  </a:solidFill>
                  <a:latin typeface="Arial"/>
                  <a:ea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49" name="组合 11266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grpSp>
          <p:nvGrpSpPr>
            <p:cNvPr id="250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51" name="直接连接符 11267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872640" y="4783320"/>
              <a:ext cx="2438640" cy="360"/>
              <a:chOff x="872640" y="4783320"/>
              <a:chExt cx="2438640" cy="360"/>
            </a:xfrm>
          </p:grpSpPr>
          <p:sp>
            <p:nvSpPr>
              <p:cNvPr id="254" name="直接连接符 11268"/>
              <p:cNvSpPr/>
              <p:nvPr/>
            </p:nvSpPr>
            <p:spPr>
              <a:xfrm flipH="1">
                <a:off x="872640" y="4783320"/>
                <a:ext cx="243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873000" y="478332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72640" y="3953160"/>
              <a:ext cx="3353040" cy="360"/>
              <a:chOff x="872640" y="3953160"/>
              <a:chExt cx="3353040" cy="360"/>
            </a:xfrm>
          </p:grpSpPr>
          <p:sp>
            <p:nvSpPr>
              <p:cNvPr id="257" name="直接连接符 11269"/>
              <p:cNvSpPr/>
              <p:nvPr/>
            </p:nvSpPr>
            <p:spPr>
              <a:xfrm flipH="1">
                <a:off x="872640" y="395316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873000" y="3953160"/>
                <a:ext cx="3352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872640" y="3124440"/>
              <a:ext cx="4165920" cy="360"/>
              <a:chOff x="872640" y="3124440"/>
              <a:chExt cx="4165920" cy="360"/>
            </a:xfrm>
          </p:grpSpPr>
          <p:sp>
            <p:nvSpPr>
              <p:cNvPr id="260" name="直接连接符 11270"/>
              <p:cNvSpPr/>
              <p:nvPr/>
            </p:nvSpPr>
            <p:spPr>
              <a:xfrm flipH="1">
                <a:off x="872640" y="3124440"/>
                <a:ext cx="416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873000" y="3124440"/>
                <a:ext cx="4165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872640" y="2282760"/>
              <a:ext cx="5033880" cy="360"/>
              <a:chOff x="872640" y="2282760"/>
              <a:chExt cx="5033880" cy="360"/>
            </a:xfrm>
          </p:grpSpPr>
          <p:sp>
            <p:nvSpPr>
              <p:cNvPr id="263" name="直接连接符 11271"/>
              <p:cNvSpPr/>
              <p:nvPr/>
            </p:nvSpPr>
            <p:spPr>
              <a:xfrm flipH="1">
                <a:off x="872640" y="2283120"/>
                <a:ext cx="503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 rot="10800000">
                <a:off x="872640" y="2282400"/>
                <a:ext cx="5033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1025280" y="2276640"/>
              <a:ext cx="360" cy="871560"/>
              <a:chOff x="1025280" y="2276640"/>
              <a:chExt cx="360" cy="871560"/>
            </a:xfrm>
          </p:grpSpPr>
          <p:sp>
            <p:nvSpPr>
              <p:cNvPr id="266" name="直接连接符 11272"/>
              <p:cNvSpPr/>
              <p:nvPr/>
            </p:nvSpPr>
            <p:spPr>
              <a:xfrm>
                <a:off x="1025280" y="2276640"/>
                <a:ext cx="0" cy="87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1025280" y="2276640"/>
                <a:ext cx="36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025280" y="3148200"/>
              <a:ext cx="360" cy="817560"/>
              <a:chOff x="1025280" y="3148200"/>
              <a:chExt cx="360" cy="817560"/>
            </a:xfrm>
          </p:grpSpPr>
          <p:sp>
            <p:nvSpPr>
              <p:cNvPr id="269" name="直接连接符 11273"/>
              <p:cNvSpPr/>
              <p:nvPr/>
            </p:nvSpPr>
            <p:spPr>
              <a:xfrm>
                <a:off x="1025280" y="3148200"/>
                <a:ext cx="0" cy="81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1025280" y="3148200"/>
                <a:ext cx="36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25280" y="3965760"/>
              <a:ext cx="360" cy="816120"/>
              <a:chOff x="1025280" y="3965760"/>
              <a:chExt cx="360" cy="816120"/>
            </a:xfrm>
          </p:grpSpPr>
          <p:sp>
            <p:nvSpPr>
              <p:cNvPr id="272" name="直接连接符 11274"/>
              <p:cNvSpPr/>
              <p:nvPr/>
            </p:nvSpPr>
            <p:spPr>
              <a:xfrm>
                <a:off x="1025280" y="396576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1025280" y="396576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1025280" y="4783320"/>
              <a:ext cx="360" cy="816120"/>
              <a:chOff x="1025280" y="4783320"/>
              <a:chExt cx="360" cy="816120"/>
            </a:xfrm>
          </p:grpSpPr>
          <p:sp>
            <p:nvSpPr>
              <p:cNvPr id="275" name="直接连接符 11275"/>
              <p:cNvSpPr/>
              <p:nvPr/>
            </p:nvSpPr>
            <p:spPr>
              <a:xfrm>
                <a:off x="1025280" y="4783320"/>
                <a:ext cx="0" cy="81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1025280" y="4783320"/>
                <a:ext cx="36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文本框 11276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1277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11278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11279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组合 11280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82" name="任意多边形 11281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11282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任意多边形 11283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85225"/>
                  </a:gs>
                  <a:gs pos="50000">
                    <a:srgbClr val="7ab151"/>
                  </a:gs>
                  <a:gs pos="100000">
                    <a:srgbClr val="38522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11284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7ab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任意多边形 11285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d4753"/>
                  </a:gs>
                  <a:gs pos="50000">
                    <a:srgbClr val="6299b4"/>
                  </a:gs>
                  <a:gs pos="100000">
                    <a:srgbClr val="2d475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11286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c3707"/>
                  </a:gs>
                  <a:gs pos="50000">
                    <a:srgbClr val="827710"/>
                  </a:gs>
                  <a:gs pos="100000">
                    <a:srgbClr val="3c370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11287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277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11288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1289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946f00"/>
                  </a:gs>
                  <a:gs pos="50000">
                    <a:srgbClr val="cc9900"/>
                  </a:gs>
                  <a:gs pos="100000">
                    <a:srgbClr val="946f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矩形 11290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9803b"/>
                  </a:gs>
                  <a:gs pos="50000">
                    <a:srgbClr val="7ab151"/>
                  </a:gs>
                  <a:gs pos="100000">
                    <a:srgbClr val="59803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11291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299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矩形 11292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476f83"/>
                  </a:gs>
                  <a:gs pos="50000">
                    <a:srgbClr val="6299b4"/>
                  </a:gs>
                  <a:gs pos="100000">
                    <a:srgbClr val="476f8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矩形 11293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5e560c"/>
                  </a:gs>
                  <a:gs pos="50000">
                    <a:srgbClr val="827710"/>
                  </a:gs>
                  <a:gs pos="100000">
                    <a:srgbClr val="5e56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710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827710"/>
              </a:solidFill>
              <a:latin typeface="Arial"/>
            </a:endParaRPr>
          </a:p>
        </p:txBody>
      </p:sp>
      <p:grpSp>
        <p:nvGrpSpPr>
          <p:cNvPr id="296" name="组合 12290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97" name="任意多边形 12291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86b861">
                    <a:alpha val="32156"/>
                  </a:srgbClr>
                </a:gs>
                <a:gs pos="100000">
                  <a:srgbClr val="7ab15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圆角矩形 12292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圆角矩形 12293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八边形 12294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八边形 12295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圆角矩形 12296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ab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圆角矩形 12297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85225"/>
                </a:gs>
                <a:gs pos="50000">
                  <a:srgbClr val="7ab151"/>
                </a:gs>
                <a:gs pos="100000">
                  <a:srgbClr val="3852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八边形 12298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八边形 12299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eedd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任意多边形 12300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4c4d4">
                    <a:alpha val="32156"/>
                  </a:srgbClr>
                </a:gs>
                <a:gs pos="100000">
                  <a:srgbClr val="6299b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12301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edd9e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2302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组合 12303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10" name="圆角矩形 12304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299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圆角矩形 12305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63b46"/>
                  </a:gs>
                  <a:gs pos="50000">
                    <a:srgbClr val="6299b4"/>
                  </a:gs>
                  <a:gs pos="100000">
                    <a:srgbClr val="263b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八边形 12306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eed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八边形 12307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eedd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文本框 12308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eedd9e"/>
                    </a:solidFill>
                    <a:latin typeface="Arial"/>
                    <a:ea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文本框 12309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文本框 12310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2311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19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