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308-6D87-4F14-A9C3-7234697E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C16-8A7B-4E9D-AB15-39C82A66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B28-8D4C-48A3-BAB4-98CEC2AB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C7B-210B-49F1-BFBB-12A8A1E9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D38-937A-4A11-A04E-3AC1BCA2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3D3-0C2E-453D-8BA3-3326E629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913-24A8-4DDC-A9C5-2D2AB10E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1E4-2997-4FBB-9F59-BC0677D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EDD-5446-4C08-8A7B-F845648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7D9-8B97-48FB-ABD5-1837C167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297-C720-48C5-8421-2C0CBE4B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579-C547-4687-B5D2-C2860DDF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AA18-7E87-4CA3-B449-22E7B43828B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6DF2-DC93-45AF-9073-76941E8D63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056" descr="Z:\newtek\_backgrounds_1.02\Ryan\PP Template 4\apple_rotating.gif"/>
          <p:cNvPicPr/>
          <p:nvPr/>
        </p:nvPicPr>
        <p:blipFill>
          <a:blip r:embed="rId3"/>
          <a:stretch/>
        </p:blipFill>
        <p:spPr>
          <a:xfrm>
            <a:off x="7086600" y="6858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ead Bold"/>
              </a:rPr>
              <a:t>School Presentati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80880" y="28191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ea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Add subtopic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332000" y="35193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欧美公司幻灯片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Title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ubtopic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7169" descr="Z:\newtek\_backgrounds_1.02\Ryan\Power Point Templates2\School Presentation_not_done\Elements\apple_rotating.gif"/>
          <p:cNvPicPr/>
          <p:nvPr/>
        </p:nvPicPr>
        <p:blipFill>
          <a:blip r:embed="rId2"/>
          <a:stretch/>
        </p:blipFill>
        <p:spPr>
          <a:xfrm>
            <a:off x="304920" y="7621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FC89-8837-422A-96B0-F23F4382A9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6:18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09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