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25C-3996-4E5F-8A07-AFDA7F64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434-6DC3-4E3C-BC35-C542AE94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177-BF91-4358-B615-75BE8986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382-1836-48EE-B6A3-8BBCCED5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6DC-A593-4E62-99CC-037A51A6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1ED-41CF-4153-B2CC-BA9FA96B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31B-B3A3-47BA-9F25-16E38D9D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99D-9ECA-4642-99EC-06B08D60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3AE-720F-499F-BFA8-6DAEFD3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E97-42AF-4FBD-BC54-BE8D8441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D01-BD76-4CA9-BA8A-1601F69F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0669-F33C-4943-971F-A295047F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3E8B-7D5D-4391-9A83-A8E3B4B7B41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63D7-8691-4D84-A142-DABB3EC9CF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52640" y="761760"/>
            <a:ext cx="4190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bterrain Mas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360" y="2286000"/>
            <a:ext cx="3809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M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100"/>
          <p:cNvSpPr/>
          <p:nvPr/>
        </p:nvSpPr>
        <p:spPr>
          <a:xfrm>
            <a:off x="1301400" y="3505320"/>
            <a:ext cx="430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欧美公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146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5715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3FAF-D531-4624-BCB6-998E425EEB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内容占位符 8194" descr="subterrain_mask_qx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内容占位符 8195" descr="subterrain_mask_trs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内容占位符 8196" descr="subterrain_mask_sld"/>
          <p:cNvPicPr/>
          <p:nvPr/>
        </p:nvPicPr>
        <p:blipFill>
          <a:blip r:embed="rId3"/>
          <a:stretch/>
        </p:blipFill>
        <p:spPr>
          <a:xfrm>
            <a:off x="4114800" y="3962520"/>
            <a:ext cx="291636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内容占位符 8197" descr="subterrain_mask_prt"/>
          <p:cNvPicPr/>
          <p:nvPr/>
        </p:nvPicPr>
        <p:blipFill>
          <a:blip r:embed="rId4"/>
          <a:stretch/>
        </p:blipFill>
        <p:spPr>
          <a:xfrm>
            <a:off x="4114800" y="1600200"/>
            <a:ext cx="29145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20:5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08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