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3DEA-CF78-4A5C-854A-C7E978BC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B208-854C-4E67-B5A8-0A19AD3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B17F92-0BDE-449A-BA81-78CA314B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7EDF32-DF0D-4EEC-8138-44D949AD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9A3B7-7CCE-4E81-8E14-2FA2E8D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E4243-8B81-4588-8CF1-F9FB100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CBC11-245C-41A0-87C0-4CDFA26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96FFA-37E0-40B8-A5CE-046F7FD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BC4D1F-AE2E-48FB-984F-4AFA354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CF91E-1069-47F6-BC1B-5EDBB024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5FF34-E3E3-4F4A-BB44-14D8BC45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FBDBD-C7BB-4153-A388-E3EDD87D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47FF-7854-4E63-B46B-2C86E5B5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A592C-8077-4C78-BAD3-916A0089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57FB8-F151-435D-BE97-2CDD633C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936749-2E67-4F9D-AE28-C5B94D9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1A0AB-C7EE-452C-B187-C0041B70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1B42C-2E3F-4454-B310-B979449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A17D5-537D-4E37-8285-F97597E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E0E42-1991-4CCC-9761-13E24D3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C10BB-478E-4B65-B7F3-3AA112A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768F0-0262-4442-96BF-A8915796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D8CE8-FFE8-470C-856B-CFA104D2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3010-9CD3-42AA-B3A4-46B43CCC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6168E-1128-4932-B908-E00A9089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8364FC-CFBD-4E8C-9093-4085985E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0055CB-DC09-40CF-ABD1-FA42A0D6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4E685-C691-45B0-BB9D-48F5C81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701B90-352E-4FCB-8E0A-BD42A8CD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0A8C2-9985-4C45-9935-48BA5E1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F1EDD1-F52C-4CA8-8DD3-9C9AB12B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C148BE-8CE3-42E5-9CFA-CCBE544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40D70-2F27-4851-BEA2-04B0336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BA6A70-1A7E-4BCA-BD75-49C22BA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D3A0D1-6933-4B73-B50E-A595AE17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6175BD-CC1F-4676-A8D7-4005EF2B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D5FB3A-AB15-46A5-965A-04F1AB84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4A0C96-0870-4383-B2A5-A6B3FA50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21B85-4014-4349-B4C6-CDA05484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3D89E1-61B0-4A8C-9A70-D7C38CC1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4EDA02-23DF-48CC-BBC2-27F1ECB1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D29459-1D64-43F6-B25A-0F948E36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3530AE-192A-47CA-B0A5-6F49855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BF4D18-FF80-44B7-82EC-1F3C07E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5A1FC1-9EC9-49EF-B8F1-29D2D97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82C9F3-E754-4A43-8705-7A680881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C5DDA2-B4FD-480A-BCDC-F862E87E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2B87EB-F88B-4DD3-889D-AF2687F2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C0D3A1-7EAC-49C8-8F27-862CFDB2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EA003-4C3D-455A-A8CE-22965A94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9F01BA-4DDD-41DA-9AD4-1ECC5B8B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1D5E31-5667-44EE-A0A2-87D5B39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D4EEE4-F277-4D8B-9FB0-C7664C3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094C3-9E2A-4477-A9AF-850361C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0A209B-26DC-41AB-8F5A-BE8CB2DC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4939CF-9814-4AAF-A9F0-0141FB3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125985-3F7B-48CC-BD7E-B4270E29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859DB8-A3C6-4560-AC2C-830FC80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95B4DB-786D-4ADB-AE08-DEC5DF3C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6CC33E-6E15-4A36-B81E-758F031F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842A6F-50FD-4913-99D3-B3F40E0B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1F601-FC66-49CE-83F9-970C0560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13DDC-1296-4F48-8C00-7B0D6DE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5BFCE-4807-4DA8-86E1-080E551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D0973-30BB-43C7-8AD1-F5484A8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0488C-1200-4E23-B600-F6C3347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24291-69CC-45FA-B292-2F14435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DF221-7121-4FB8-BA47-D5CB545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E4458-B410-49A2-82C6-D0B04EA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8928D-EEB0-4316-8E1C-778EA076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A6627-4917-45E2-B965-86A5B2AE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D4EF6-F6E7-4CB1-865E-2FA8EF41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039EC-3C5B-4494-8962-C8DBD4F8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DDDD-9D72-4590-8702-D40F31B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E6B88-F460-4DDA-97CE-F5252E4A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8F5C0-7D62-43FC-82DD-833CC79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72D26-FA4C-41DF-B843-CCC0EF57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CB834-6769-41DE-B188-2607235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90558-729A-49E0-9170-952F0089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E6ED-E02A-4770-8973-67183062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91B69-D94C-4693-BDC0-9818B98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8CE7D-4410-4F8A-AF87-8C5FB2C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49FBE-62A0-4CD4-A0F8-ECF3FCC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BF0C4-02D4-494D-B2B5-0D81FAC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6B99-7CE0-4E7B-AD10-03995FD7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B71ED-59A0-4B0A-AA0E-3F26A2F7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F3C26-D7F5-440E-9BC9-8BEC3E39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741DC-58CA-4B83-9A8B-79B25F71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79EB3-ECEE-44D7-9A92-1D8A063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FE78F-BBCC-4695-8F54-F9E23695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79F5-AA6C-42A1-9EB3-9B8FEF9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D5FB2-AA0D-45F2-A836-E9AF690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180BC-504A-4540-AD17-60A90BE9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26D0D-997E-4164-B8D4-C18B3CAE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A9875-67D9-451B-94B5-731F993F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D526E-933E-4317-A8D5-C8C7723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76107-104A-4DC0-A443-F83102E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885F9-D1B8-45C7-8C63-70A4C51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01C46-32F7-43A5-8E8F-0C40DB5D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06144-CBA6-41F5-A889-05C5FB40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0F015-8185-49D4-8D65-220F92B6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9915-9BCC-4ECF-AC75-48279BC5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BC67E-AC9B-436B-B9F1-A6196515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295E4-DF29-41FB-8888-BA7A4A82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B34FE-5F35-47C0-A426-D33ACF1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2F80B-CDAA-4C56-B558-81F74AB1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3663E-E44C-4551-826E-C543F531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75617-D7B7-4A3C-AC06-80B5F462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69C0B-3B4F-4803-B23B-39DE3A57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C7E16-B97F-4BCF-A518-EEA7D2D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35B78-B785-4234-8B4E-31D4A8D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C8F23-D79D-424A-8465-839FB1D5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B0EA-1419-4A16-969C-E03BB24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1B2A8-AA5E-41D8-8806-817EA2FF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17A9C-CEEB-4282-81E0-667DCA02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98AE7-5484-4473-B2F4-EB28D6D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4E4CE-8782-4599-8F97-49148D39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156D8-04FB-42D2-A88C-20CE6A0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F51A8-95CB-4C2B-93B9-FA4AE349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D87AE-0A59-490B-9998-4417C205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5D446-09FA-43BE-A172-7425C19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B0117-B2F8-4372-A3CE-5DAC507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75B84-5557-4C64-84A4-514E636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83D0-2DB6-46EB-8A5C-86B743A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DB7B5-6261-463C-9728-C9DBA91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F30B8-369A-40A6-BD72-C78BD95C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FAD87-EFC6-4361-819A-714EDE30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12E33-F65C-4BE4-AE64-C77330BF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A6B10-97CD-4C25-9E94-19F2375A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3FFC4-587C-43F8-820C-7C3012B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CB58A-FEE4-404D-A053-73B6754D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6A06C-0A4E-4976-9385-60F33B95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304D7-34B1-4FBB-8D6A-FCEAC1A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3716E-7B1E-41CC-AAFC-B83B9F2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E4CA-9B6D-4B12-98CF-C0604818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BD800-D0DE-49A1-95B7-7DCF0948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384E1-3817-4192-AF42-D4EB2A8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4D59C-8A2A-49D2-AEE8-F98DE47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837C8-A47C-4A51-B3E3-55588284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E596D-5065-492D-95FB-1857197A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D4363-5F28-47D1-9D58-D994A26E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4ADA5-C23D-4508-8F2F-E090722B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15447-DD37-4E24-80DA-B0DD8345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1A12E-7694-418A-B2CD-E9461D67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AD76A-0B71-4023-AE80-0208B48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8EBC-DE2F-42D3-9E12-B2E060D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AC345-B040-429D-94A4-85A9668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030B8-F546-4056-B999-5638FC2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272CF-E7DA-43FD-A538-FB87181C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24A3B-326B-483D-893A-26E8DAC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75110-D9AD-436E-92A0-F709164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9467D-54E8-49CF-825A-4983C732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B3CB3-3D3B-4FA1-BA12-D1E6F4F9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10037-6F42-4A5C-94E8-915CEE7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555DF-D4DC-4FB4-95BB-37D1D772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8A7AD-402C-4E64-BECF-AEFF32C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-http://www.sc115.com--PPT</a:t>
            </a: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A1B-9A62-4149-87BB-7571C90A46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sc115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5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6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F534-1285-4117-8B84-76377E28995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dt" idx="27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8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9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552-2E7E-4821-AE92-2AA492B2CBDB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30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3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3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4E4-41D0-418C-B007-39BB30BF4FD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4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5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9755-6352-43A2-87EA-3C3839FC3B6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6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96E-8B95-4DC9-9149-3768F839FC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E4AC-58A9-487D-9324-900212C84E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538-24AD-4F81-9C34-E08AEF3CEEA2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6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7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8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EEC0-C0DA-44DC-8057-0E76B2984420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9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0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1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FA15-1C33-46CE-9B21-BE2B8E8CEC07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dt" idx="12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3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4C85-3E0E-4707-A829-C702570566C0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dt" idx="15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6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7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23F-10B2-49C2-ABAC-4955ADDFFC2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dt" idx="18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9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0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489-53D3-4832-8908-ADA969DCBD0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dt" idx="21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22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3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E00-B99E-4E11-89C2-C56DA205C50F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dt" idx="24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163794"/>
              </a:gs>
              <a:gs pos="50000">
                <a:srgbClr val="0a1944"/>
              </a:gs>
              <a:gs pos="100000">
                <a:srgbClr val="163794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文本框 15362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3794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3794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0" name="文本框 15363"/>
          <p:cNvSpPr/>
          <p:nvPr/>
        </p:nvSpPr>
        <p:spPr>
          <a:xfrm>
            <a:off x="1625400" y="3718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3794"/>
                </a:solidFill>
                <a:latin typeface="Arial"/>
                <a:ea typeface="宋体"/>
              </a:rPr>
              <a:t>欧美商业分析报告</a:t>
            </a:r>
            <a:r>
              <a:rPr b="0" lang="zh-CN" sz="4000" spc="-1" strike="noStrike">
                <a:solidFill>
                  <a:srgbClr val="163794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63794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37538a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515151"/>
              </a:gs>
              <a:gs pos="100000">
                <a:srgbClr val="9696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80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0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04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0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0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80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005353"/>
              </a:gs>
              <a:gs pos="100000">
                <a:srgbClr val="0099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81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1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14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1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1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81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1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19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2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2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82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7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828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829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30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31" name="Oval 37"/>
            <p:cNvSpPr/>
            <p:nvPr/>
          </p:nvSpPr>
          <p:spPr>
            <a:xfrm>
              <a:off x="3192480" y="3610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32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33" name="Oval 39"/>
            <p:cNvSpPr/>
            <p:nvPr/>
          </p:nvSpPr>
          <p:spPr>
            <a:xfrm>
              <a:off x="3302280" y="367056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34" name="Text Box 40"/>
            <p:cNvSpPr/>
            <p:nvPr/>
          </p:nvSpPr>
          <p:spPr>
            <a:xfrm>
              <a:off x="358956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35" name="Oval 41"/>
            <p:cNvSpPr/>
            <p:nvPr/>
          </p:nvSpPr>
          <p:spPr>
            <a:xfrm rot="20826600">
              <a:off x="1397160" y="4209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836" name="Group 42"/>
            <p:cNvGrpSpPr/>
            <p:nvPr/>
          </p:nvGrpSpPr>
          <p:grpSpPr>
            <a:xfrm>
              <a:off x="1320840" y="3219480"/>
              <a:ext cx="1371240" cy="1441080"/>
              <a:chOff x="1320840" y="3219480"/>
              <a:chExt cx="1371240" cy="1441080"/>
            </a:xfrm>
          </p:grpSpPr>
          <p:sp>
            <p:nvSpPr>
              <p:cNvPr id="837" name="Oval 43"/>
              <p:cNvSpPr/>
              <p:nvPr/>
            </p:nvSpPr>
            <p:spPr>
              <a:xfrm>
                <a:off x="132084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38" name="Oval 44"/>
              <p:cNvSpPr/>
              <p:nvPr/>
            </p:nvSpPr>
            <p:spPr>
              <a:xfrm>
                <a:off x="1338840" y="3227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39" name="Oval 45"/>
              <p:cNvSpPr/>
              <p:nvPr/>
            </p:nvSpPr>
            <p:spPr>
              <a:xfrm>
                <a:off x="1351800" y="3241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40" name="Oval 46"/>
              <p:cNvSpPr/>
              <p:nvPr/>
            </p:nvSpPr>
            <p:spPr>
              <a:xfrm>
                <a:off x="1423440" y="3277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41" name="Text Box 47"/>
              <p:cNvSpPr/>
              <p:nvPr/>
            </p:nvSpPr>
            <p:spPr>
              <a:xfrm>
                <a:off x="160128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842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3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4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5" name="Oval 51"/>
            <p:cNvSpPr/>
            <p:nvPr/>
          </p:nvSpPr>
          <p:spPr>
            <a:xfrm>
              <a:off x="1319400" y="18637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6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7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8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49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0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1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2" name="Oval 58"/>
            <p:cNvSpPr/>
            <p:nvPr/>
          </p:nvSpPr>
          <p:spPr>
            <a:xfrm>
              <a:off x="266076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3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856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fffff"/>
                </a:gs>
                <a:gs pos="100000">
                  <a:srgbClr val="d875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7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8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53f31"/>
                </a:gs>
                <a:gs pos="100000">
                  <a:srgbClr val="d875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59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60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861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862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63" name="Oval 11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64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65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866" name="Group 14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867" name="AutoShape 15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68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69" name="AutoShape 17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70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871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872" name="Group 20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873" name="Oval 21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74" name="Oval 22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75" name="Oval 23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76" name="Oval 24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77" name="Oval 25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878" name="Group 26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879" name="Oval 27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80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81" name="Oval 29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882" name="Oval 30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884" name="Group 32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885" name="Oval 33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86" name="Oval 34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87" name="Oval 35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a3753"/>
                </a:gs>
                <a:gs pos="100000">
                  <a:srgbClr val="ff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88" name="Oval 36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89" name="Oval 37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0" name="Oval 38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1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2" name="Oval 40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3" name="Oval 41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4" name="Text Box 42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895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896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7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8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899" name="Oval 47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00" name="Oval 48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01" name="Oval 49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02" name="Oval 50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03" name="Oval 51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04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905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06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907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908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fffff"/>
                  </a:gs>
                  <a:gs pos="100000">
                    <a:srgbClr val="3965e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09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10" name="Oval 58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f377a"/>
                  </a:gs>
                  <a:gs pos="100000">
                    <a:srgbClr val="3965e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11" name="Oval 59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12" name="Oval 60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913" name="Group 61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914" name="Oval 62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915" name="Oval 63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916" name="Oval 64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917" name="Oval 65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8" name="Text Box 66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921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22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23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24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25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26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927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928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29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30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31" name="Oval 14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32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933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34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936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37" name="AutoShape 20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38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39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0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1" name="Oval 24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2" name="Oval 25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3" name="Oval 26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4" name="Oval 27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5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6" name="Text Box 29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7" name="AutoShape 30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48" name="AutoShape 31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949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950" name="AutoShape 33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51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52" name="AutoShape 35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53" name="AutoShape 36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954" name="Group 37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955" name="Oval 38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56" name="Oval 39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57" name="Oval 40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58" name="Oval 41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59" name="Oval 42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960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61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62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63" name="AutoShape 46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66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67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968" name="Group 6"/>
          <p:cNvGrpSpPr/>
          <p:nvPr/>
        </p:nvGrpSpPr>
        <p:grpSpPr>
          <a:xfrm>
            <a:off x="4721760" y="3528000"/>
            <a:ext cx="1522080" cy="2421000"/>
            <a:chOff x="4721760" y="3528000"/>
            <a:chExt cx="1522080" cy="2421000"/>
          </a:xfrm>
        </p:grpSpPr>
        <p:grpSp>
          <p:nvGrpSpPr>
            <p:cNvPr id="969" name="Group 7"/>
            <p:cNvGrpSpPr/>
            <p:nvPr/>
          </p:nvGrpSpPr>
          <p:grpSpPr>
            <a:xfrm>
              <a:off x="4721760" y="3685320"/>
              <a:ext cx="1417320" cy="2263680"/>
              <a:chOff x="4721760" y="3685320"/>
              <a:chExt cx="1417320" cy="2263680"/>
            </a:xfrm>
          </p:grpSpPr>
          <p:sp>
            <p:nvSpPr>
              <p:cNvPr id="970" name="Freeform 8"/>
              <p:cNvSpPr/>
              <p:nvPr/>
            </p:nvSpPr>
            <p:spPr>
              <a:xfrm rot="3876600">
                <a:off x="4293720" y="4572000"/>
                <a:ext cx="2273040" cy="4903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71" name="Freeform 9"/>
              <p:cNvSpPr/>
              <p:nvPr/>
            </p:nvSpPr>
            <p:spPr>
              <a:xfrm rot="3876600">
                <a:off x="5659560" y="5449680"/>
                <a:ext cx="357120" cy="4014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10"/>
            <p:cNvGrpSpPr/>
            <p:nvPr/>
          </p:nvGrpSpPr>
          <p:grpSpPr>
            <a:xfrm>
              <a:off x="5156280" y="3528000"/>
              <a:ext cx="1087560" cy="1737000"/>
              <a:chOff x="5156280" y="3528000"/>
              <a:chExt cx="1087560" cy="1737000"/>
            </a:xfrm>
          </p:grpSpPr>
          <p:sp>
            <p:nvSpPr>
              <p:cNvPr id="973" name="Freeform 11"/>
              <p:cNvSpPr/>
              <p:nvPr/>
            </p:nvSpPr>
            <p:spPr>
              <a:xfrm flipV="1" rot="3876600">
                <a:off x="4827960" y="4208040"/>
                <a:ext cx="1744200" cy="376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74" name="Freeform 12"/>
              <p:cNvSpPr/>
              <p:nvPr/>
            </p:nvSpPr>
            <p:spPr>
              <a:xfrm flipV="1" rot="3876600">
                <a:off x="5860080" y="4889520"/>
                <a:ext cx="273960" cy="3078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76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77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78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79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80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981" name="Group 19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982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83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84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85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986" name="Group 24"/>
          <p:cNvGrpSpPr/>
          <p:nvPr/>
        </p:nvGrpSpPr>
        <p:grpSpPr>
          <a:xfrm>
            <a:off x="6687360" y="3594240"/>
            <a:ext cx="1523880" cy="2422080"/>
            <a:chOff x="6687360" y="3594240"/>
            <a:chExt cx="1523880" cy="2422080"/>
          </a:xfrm>
        </p:grpSpPr>
        <p:grpSp>
          <p:nvGrpSpPr>
            <p:cNvPr id="987" name="Group 25"/>
            <p:cNvGrpSpPr/>
            <p:nvPr/>
          </p:nvGrpSpPr>
          <p:grpSpPr>
            <a:xfrm>
              <a:off x="6687360" y="3751920"/>
              <a:ext cx="1418760" cy="2264400"/>
              <a:chOff x="6687360" y="3751920"/>
              <a:chExt cx="1418760" cy="2264400"/>
            </a:xfrm>
          </p:grpSpPr>
          <p:sp>
            <p:nvSpPr>
              <p:cNvPr id="988" name="Freeform 26"/>
              <p:cNvSpPr/>
              <p:nvPr/>
            </p:nvSpPr>
            <p:spPr>
              <a:xfrm rot="3876600">
                <a:off x="6259680" y="46382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89" name="Freeform 27"/>
              <p:cNvSpPr/>
              <p:nvPr/>
            </p:nvSpPr>
            <p:spPr>
              <a:xfrm rot="3876600">
                <a:off x="7625880" y="551664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28"/>
            <p:cNvGrpSpPr/>
            <p:nvPr/>
          </p:nvGrpSpPr>
          <p:grpSpPr>
            <a:xfrm>
              <a:off x="7122600" y="3594240"/>
              <a:ext cx="1088640" cy="1737720"/>
              <a:chOff x="7122600" y="3594240"/>
              <a:chExt cx="1088640" cy="1737720"/>
            </a:xfrm>
          </p:grpSpPr>
          <p:sp>
            <p:nvSpPr>
              <p:cNvPr id="991" name="Freeform 29"/>
              <p:cNvSpPr/>
              <p:nvPr/>
            </p:nvSpPr>
            <p:spPr>
              <a:xfrm flipV="1" rot="3876600">
                <a:off x="6794280" y="427428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992" name="Freeform 30"/>
              <p:cNvSpPr/>
              <p:nvPr/>
            </p:nvSpPr>
            <p:spPr>
              <a:xfrm flipV="1" rot="3876600">
                <a:off x="7827120" y="49550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94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96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97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98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999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0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1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2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03" name="Group 41"/>
          <p:cNvGrpSpPr/>
          <p:nvPr/>
        </p:nvGrpSpPr>
        <p:grpSpPr>
          <a:xfrm>
            <a:off x="2915280" y="3527640"/>
            <a:ext cx="1523880" cy="2421720"/>
            <a:chOff x="2915280" y="3527640"/>
            <a:chExt cx="1523880" cy="2421720"/>
          </a:xfrm>
        </p:grpSpPr>
        <p:grpSp>
          <p:nvGrpSpPr>
            <p:cNvPr id="1004" name="Group 42"/>
            <p:cNvGrpSpPr/>
            <p:nvPr/>
          </p:nvGrpSpPr>
          <p:grpSpPr>
            <a:xfrm>
              <a:off x="2915280" y="3685320"/>
              <a:ext cx="1418400" cy="2264040"/>
              <a:chOff x="2915280" y="3685320"/>
              <a:chExt cx="1418400" cy="2264040"/>
            </a:xfrm>
          </p:grpSpPr>
          <p:sp>
            <p:nvSpPr>
              <p:cNvPr id="1005" name="Freeform 43"/>
              <p:cNvSpPr/>
              <p:nvPr/>
            </p:nvSpPr>
            <p:spPr>
              <a:xfrm rot="3876600">
                <a:off x="2487960" y="45716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06" name="Freeform 44"/>
              <p:cNvSpPr/>
              <p:nvPr/>
            </p:nvSpPr>
            <p:spPr>
              <a:xfrm rot="3876600">
                <a:off x="3853800" y="5449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1007" name="Group 45"/>
            <p:cNvGrpSpPr/>
            <p:nvPr/>
          </p:nvGrpSpPr>
          <p:grpSpPr>
            <a:xfrm>
              <a:off x="3350880" y="3527640"/>
              <a:ext cx="1088280" cy="1737360"/>
              <a:chOff x="3350880" y="3527640"/>
              <a:chExt cx="1088280" cy="1737360"/>
            </a:xfrm>
          </p:grpSpPr>
          <p:sp>
            <p:nvSpPr>
              <p:cNvPr id="1008" name="Freeform 46"/>
              <p:cNvSpPr/>
              <p:nvPr/>
            </p:nvSpPr>
            <p:spPr>
              <a:xfrm flipV="1" rot="3876600">
                <a:off x="3022920" y="42076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09" name="Freeform 47"/>
              <p:cNvSpPr/>
              <p:nvPr/>
            </p:nvSpPr>
            <p:spPr>
              <a:xfrm flipV="1" rot="3876600">
                <a:off x="4055040" y="48884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1010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11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2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3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4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5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1016" name="Group 54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1017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18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19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20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Group 59"/>
          <p:cNvGrpSpPr/>
          <p:nvPr/>
        </p:nvGrpSpPr>
        <p:grpSpPr>
          <a:xfrm>
            <a:off x="1168920" y="3527640"/>
            <a:ext cx="1523160" cy="2421720"/>
            <a:chOff x="1168920" y="3527640"/>
            <a:chExt cx="1523160" cy="2421720"/>
          </a:xfrm>
        </p:grpSpPr>
        <p:grpSp>
          <p:nvGrpSpPr>
            <p:cNvPr id="1022" name="Group 60"/>
            <p:cNvGrpSpPr/>
            <p:nvPr/>
          </p:nvGrpSpPr>
          <p:grpSpPr>
            <a:xfrm>
              <a:off x="1168920" y="3685320"/>
              <a:ext cx="1418040" cy="2264040"/>
              <a:chOff x="1168920" y="3685320"/>
              <a:chExt cx="1418040" cy="2264040"/>
            </a:xfrm>
          </p:grpSpPr>
          <p:sp>
            <p:nvSpPr>
              <p:cNvPr id="1023" name="Freeform 61"/>
              <p:cNvSpPr/>
              <p:nvPr/>
            </p:nvSpPr>
            <p:spPr>
              <a:xfrm rot="3876600">
                <a:off x="741240" y="4571640"/>
                <a:ext cx="227304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24" name="Freeform 62"/>
              <p:cNvSpPr/>
              <p:nvPr/>
            </p:nvSpPr>
            <p:spPr>
              <a:xfrm rot="3876600">
                <a:off x="2107080" y="5449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1025" name="Group 63"/>
            <p:cNvGrpSpPr/>
            <p:nvPr/>
          </p:nvGrpSpPr>
          <p:grpSpPr>
            <a:xfrm>
              <a:off x="1604160" y="3527640"/>
              <a:ext cx="1087920" cy="1737360"/>
              <a:chOff x="1604160" y="3527640"/>
              <a:chExt cx="1087920" cy="1737360"/>
            </a:xfrm>
          </p:grpSpPr>
          <p:sp>
            <p:nvSpPr>
              <p:cNvPr id="1026" name="Freeform 64"/>
              <p:cNvSpPr/>
              <p:nvPr/>
            </p:nvSpPr>
            <p:spPr>
              <a:xfrm flipV="1" rot="3876600">
                <a:off x="1275840" y="4207680"/>
                <a:ext cx="174420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27" name="Freeform 65"/>
              <p:cNvSpPr/>
              <p:nvPr/>
            </p:nvSpPr>
            <p:spPr>
              <a:xfrm flipV="1" rot="3876600">
                <a:off x="2308320" y="488844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29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0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1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2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3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1034" name="Group 72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1035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36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37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38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0" name="Text Box 78"/>
          <p:cNvSpPr/>
          <p:nvPr/>
        </p:nvSpPr>
        <p:spPr>
          <a:xfrm rot="3925800">
            <a:off x="1591200" y="4224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1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2" name="Text Box 80"/>
          <p:cNvSpPr/>
          <p:nvPr/>
        </p:nvSpPr>
        <p:spPr>
          <a:xfrm rot="3925800">
            <a:off x="333108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3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4" name="Text Box 82"/>
          <p:cNvSpPr/>
          <p:nvPr/>
        </p:nvSpPr>
        <p:spPr>
          <a:xfrm rot="3925800">
            <a:off x="514404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5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46" name="Text Box 84"/>
          <p:cNvSpPr/>
          <p:nvPr/>
        </p:nvSpPr>
        <p:spPr>
          <a:xfrm rot="3925800">
            <a:off x="7096680" y="4367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047" name="Group 85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1048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49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0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1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052" name="AutoShape 90"/>
            <p:cNvCxnSpPr>
              <a:stCxn id="1048" idx="3"/>
              <a:endCxn id="1049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53" name="AutoShape 91"/>
            <p:cNvCxnSpPr>
              <a:stCxn id="1049" idx="3"/>
              <a:endCxn id="1050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54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Group 3"/>
          <p:cNvGrpSpPr/>
          <p:nvPr/>
        </p:nvGrpSpPr>
        <p:grpSpPr>
          <a:xfrm>
            <a:off x="1452600" y="1246320"/>
            <a:ext cx="5786280" cy="5077800"/>
            <a:chOff x="1452600" y="1246320"/>
            <a:chExt cx="5786280" cy="5077800"/>
          </a:xfrm>
        </p:grpSpPr>
        <p:sp>
          <p:nvSpPr>
            <p:cNvPr id="1057" name="Oval 4"/>
            <p:cNvSpPr/>
            <p:nvPr/>
          </p:nvSpPr>
          <p:spPr>
            <a:xfrm>
              <a:off x="5367240" y="2106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8" name="Oval 5"/>
            <p:cNvSpPr/>
            <p:nvPr/>
          </p:nvSpPr>
          <p:spPr>
            <a:xfrm>
              <a:off x="4081680" y="3792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9" name="Oval 6"/>
            <p:cNvSpPr/>
            <p:nvPr/>
          </p:nvSpPr>
          <p:spPr>
            <a:xfrm>
              <a:off x="5415120" y="5817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0" name="Oval 7"/>
            <p:cNvSpPr/>
            <p:nvPr/>
          </p:nvSpPr>
          <p:spPr>
            <a:xfrm>
              <a:off x="1681200" y="4454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 rot="13770000">
              <a:off x="4914720" y="3683520"/>
              <a:ext cx="96012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2" name="Rectangle 9"/>
            <p:cNvSpPr/>
            <p:nvPr/>
          </p:nvSpPr>
          <p:spPr>
            <a:xfrm rot="20856000">
              <a:off x="2928600" y="3234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1063" name="Group 10"/>
            <p:cNvGrpSpPr/>
            <p:nvPr/>
          </p:nvGrpSpPr>
          <p:grpSpPr>
            <a:xfrm>
              <a:off x="3867120" y="1928880"/>
              <a:ext cx="1702440" cy="1835640"/>
              <a:chOff x="3867120" y="1928880"/>
              <a:chExt cx="1702440" cy="1835640"/>
            </a:xfrm>
          </p:grpSpPr>
          <p:sp>
            <p:nvSpPr>
              <p:cNvPr id="1064" name="Rectangle 11"/>
              <p:cNvSpPr/>
              <p:nvPr/>
            </p:nvSpPr>
            <p:spPr>
              <a:xfrm rot="18394200">
                <a:off x="5041440" y="2140920"/>
                <a:ext cx="5954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1065" name="Group 12"/>
              <p:cNvGrpSpPr/>
              <p:nvPr/>
            </p:nvGrpSpPr>
            <p:grpSpPr>
              <a:xfrm>
                <a:off x="3867120" y="2176920"/>
                <a:ext cx="1609560" cy="1587600"/>
                <a:chOff x="3867120" y="2176920"/>
                <a:chExt cx="1609560" cy="1587600"/>
              </a:xfrm>
            </p:grpSpPr>
            <p:sp>
              <p:nvSpPr>
                <p:cNvPr id="1066" name="Oval 13"/>
                <p:cNvSpPr/>
                <p:nvPr/>
              </p:nvSpPr>
              <p:spPr>
                <a:xfrm>
                  <a:off x="3867120" y="2176920"/>
                  <a:ext cx="1609560" cy="158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14"/>
                <p:cNvSpPr/>
                <p:nvPr/>
              </p:nvSpPr>
              <p:spPr>
                <a:xfrm>
                  <a:off x="4051080" y="220320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8" name="Text Box 15"/>
              <p:cNvSpPr/>
              <p:nvPr/>
            </p:nvSpPr>
            <p:spPr>
              <a:xfrm>
                <a:off x="3953880" y="2867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16"/>
            <p:cNvGrpSpPr/>
            <p:nvPr/>
          </p:nvGrpSpPr>
          <p:grpSpPr>
            <a:xfrm>
              <a:off x="5276880" y="1246320"/>
              <a:ext cx="891720" cy="861480"/>
              <a:chOff x="5276880" y="1246320"/>
              <a:chExt cx="891720" cy="861480"/>
            </a:xfrm>
          </p:grpSpPr>
          <p:grpSp>
            <p:nvGrpSpPr>
              <p:cNvPr id="1070" name="Group 17"/>
              <p:cNvGrpSpPr/>
              <p:nvPr/>
            </p:nvGrpSpPr>
            <p:grpSpPr>
              <a:xfrm>
                <a:off x="5276880" y="1246320"/>
                <a:ext cx="871560" cy="861480"/>
                <a:chOff x="5276880" y="1246320"/>
                <a:chExt cx="871560" cy="861480"/>
              </a:xfrm>
            </p:grpSpPr>
            <p:sp>
              <p:nvSpPr>
                <p:cNvPr id="1071" name="Oval 18"/>
                <p:cNvSpPr/>
                <p:nvPr/>
              </p:nvSpPr>
              <p:spPr>
                <a:xfrm>
                  <a:off x="5276880" y="1246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21"/>
            <p:cNvGrpSpPr/>
            <p:nvPr/>
          </p:nvGrpSpPr>
          <p:grpSpPr>
            <a:xfrm>
              <a:off x="1452600" y="2571480"/>
              <a:ext cx="1744560" cy="1790280"/>
              <a:chOff x="1452600" y="2571480"/>
              <a:chExt cx="1744560" cy="1790280"/>
            </a:xfrm>
          </p:grpSpPr>
          <p:grpSp>
            <p:nvGrpSpPr>
              <p:cNvPr id="1075" name="Group 22"/>
              <p:cNvGrpSpPr/>
              <p:nvPr/>
            </p:nvGrpSpPr>
            <p:grpSpPr>
              <a:xfrm>
                <a:off x="1452600" y="2571480"/>
                <a:ext cx="1744560" cy="1790280"/>
                <a:chOff x="1452600" y="2571480"/>
                <a:chExt cx="1744560" cy="1790280"/>
              </a:xfrm>
            </p:grpSpPr>
            <p:sp>
              <p:nvSpPr>
                <p:cNvPr id="1076" name="Oval 23"/>
                <p:cNvSpPr/>
                <p:nvPr/>
              </p:nvSpPr>
              <p:spPr>
                <a:xfrm>
                  <a:off x="1452600" y="2571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24"/>
                <p:cNvSpPr/>
                <p:nvPr/>
              </p:nvSpPr>
              <p:spPr>
                <a:xfrm>
                  <a:off x="1652040" y="26010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Text Box 25"/>
              <p:cNvSpPr/>
              <p:nvPr/>
            </p:nvSpPr>
            <p:spPr>
              <a:xfrm>
                <a:off x="1546920" y="3366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26"/>
            <p:cNvGrpSpPr/>
            <p:nvPr/>
          </p:nvGrpSpPr>
          <p:grpSpPr>
            <a:xfrm>
              <a:off x="5208480" y="3831840"/>
              <a:ext cx="2013120" cy="1989000"/>
              <a:chOff x="5208480" y="3831840"/>
              <a:chExt cx="2013120" cy="1989000"/>
            </a:xfrm>
          </p:grpSpPr>
          <p:grpSp>
            <p:nvGrpSpPr>
              <p:cNvPr id="1080" name="Group 27"/>
              <p:cNvGrpSpPr/>
              <p:nvPr/>
            </p:nvGrpSpPr>
            <p:grpSpPr>
              <a:xfrm>
                <a:off x="5208480" y="3831840"/>
                <a:ext cx="2013120" cy="1989000"/>
                <a:chOff x="5208480" y="3831840"/>
                <a:chExt cx="2013120" cy="1989000"/>
              </a:xfrm>
            </p:grpSpPr>
            <p:sp>
              <p:nvSpPr>
                <p:cNvPr id="1081" name="Oval 28"/>
                <p:cNvSpPr/>
                <p:nvPr/>
              </p:nvSpPr>
              <p:spPr>
                <a:xfrm>
                  <a:off x="5208480" y="3831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29"/>
                <p:cNvSpPr/>
                <p:nvPr/>
              </p:nvSpPr>
              <p:spPr>
                <a:xfrm>
                  <a:off x="5438520" y="3864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3" name="Text Box 30"/>
              <p:cNvSpPr/>
              <p:nvPr/>
            </p:nvSpPr>
            <p:spPr>
              <a:xfrm>
                <a:off x="5496840" y="4693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1084" name="文本框 29726"/>
          <p:cNvSpPr/>
          <p:nvPr/>
        </p:nvSpPr>
        <p:spPr>
          <a:xfrm>
            <a:off x="755640" y="227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3794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99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63794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63794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090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109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1092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109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94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95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096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09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1098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109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100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101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102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103" name="Rectangle 20"/>
            <p:cNvSpPr/>
            <p:nvPr/>
          </p:nvSpPr>
          <p:spPr>
            <a:xfrm rot="3418800">
              <a:off x="4592880" y="200952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1104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1105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106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10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108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109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11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1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838080" y="224172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2"/>
          <p:cNvGrpSpPr/>
          <p:nvPr/>
        </p:nvGrpSpPr>
        <p:grpSpPr>
          <a:xfrm>
            <a:off x="1254240" y="1379160"/>
            <a:ext cx="6599160" cy="4675320"/>
            <a:chOff x="1254240" y="1379160"/>
            <a:chExt cx="6599160" cy="4675320"/>
          </a:xfrm>
        </p:grpSpPr>
        <p:sp>
          <p:nvSpPr>
            <p:cNvPr id="1121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2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3" name="Oval 5"/>
            <p:cNvSpPr/>
            <p:nvPr/>
          </p:nvSpPr>
          <p:spPr>
            <a:xfrm rot="20601600">
              <a:off x="1621800" y="211428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4" name="Arc 6"/>
            <p:cNvSpPr/>
            <p:nvPr/>
          </p:nvSpPr>
          <p:spPr>
            <a:xfrm rot="20601600">
              <a:off x="4277880" y="200340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5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6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7" name="Arc 9"/>
            <p:cNvSpPr/>
            <p:nvPr/>
          </p:nvSpPr>
          <p:spPr>
            <a:xfrm flipH="1" rot="20602200">
              <a:off x="1523520" y="2643120"/>
              <a:ext cx="285120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8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9" name="Arc 11"/>
            <p:cNvSpPr/>
            <p:nvPr/>
          </p:nvSpPr>
          <p:spPr>
            <a:xfrm rot="20539200">
              <a:off x="4660560" y="2935440"/>
              <a:ext cx="272880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99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0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1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2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3" name="Text Box 15"/>
            <p:cNvSpPr/>
            <p:nvPr/>
          </p:nvSpPr>
          <p:spPr>
            <a:xfrm>
              <a:off x="3978720" y="228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4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5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6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7" name="Freeform 19"/>
            <p:cNvSpPr/>
            <p:nvPr/>
          </p:nvSpPr>
          <p:spPr>
            <a:xfrm>
              <a:off x="4546440" y="410220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8" name="Oval 20"/>
            <p:cNvSpPr/>
            <p:nvPr/>
          </p:nvSpPr>
          <p:spPr>
            <a:xfrm rot="20601600">
              <a:off x="3184560" y="308124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1" name="Group 3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11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pic>
          <p:nvPicPr>
            <p:cNvPr id="1143" name="Object 5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5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6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7" name="AutoShape 9"/>
            <p:cNvSpPr/>
            <p:nvPr/>
          </p:nvSpPr>
          <p:spPr>
            <a:xfrm>
              <a:off x="45190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pic>
          <p:nvPicPr>
            <p:cNvPr id="1148" name="Object 10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0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1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3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e2e2e2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4" name="AutoShape 47"/>
          <p:cNvSpPr/>
          <p:nvPr/>
        </p:nvSpPr>
        <p:spPr>
          <a:xfrm flipH="1" rot="5400000">
            <a:off x="-2016000" y="1911240"/>
            <a:ext cx="4032000" cy="39276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0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611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2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3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4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5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37538a"/>
                </a:gs>
                <a:gs pos="100000">
                  <a:srgbClr val="66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6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617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618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9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37538a"/>
                </a:gs>
                <a:gs pos="100000">
                  <a:srgbClr val="66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Oval 66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624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625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37538a"/>
                </a:gs>
                <a:gs pos="100000">
                  <a:srgbClr val="66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631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632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37538a"/>
                </a:gs>
                <a:gs pos="100000">
                  <a:srgbClr val="66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7" name="Oval 80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638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639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0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1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2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3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37538a"/>
                </a:gs>
                <a:gs pos="100000">
                  <a:srgbClr val="66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4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3794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0DD5-773D-40C2-A10C-00D06CE24A94}" type="slidenum">
              <a:rPr b="0" lang="zh-CN" sz="1400" spc="-1" strike="noStrike">
                <a:solidFill>
                  <a:srgbClr val="163794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54" name="Group 10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655" name="Group 11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656" name="Oval 12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57" name="Oval 13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58" name="Oval 14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9" name="Oval 15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60" name="Oval 16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61" name="Oval 17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6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666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68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0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1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2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3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4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5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6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7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8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79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80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81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82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684" name="Line 2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163794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cxnSp>
          <p:nvCxnSpPr>
            <p:cNvPr id="686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round/>
            </a:ln>
          </p:spPr>
        </p:cxnSp>
        <p:sp>
          <p:nvSpPr>
            <p:cNvPr id="687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69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9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5" name="AutoShape 19"/>
            <p:cNvSpPr/>
            <p:nvPr/>
          </p:nvSpPr>
          <p:spPr>
            <a:xfrm>
              <a:off x="3125520" y="5288760"/>
              <a:ext cx="2816280" cy="575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699ff"/>
                </a:gs>
                <a:gs pos="50000">
                  <a:srgbClr val="2f4776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0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10" name="Group 4"/>
            <p:cNvGrpSpPr/>
            <p:nvPr/>
          </p:nvGrpSpPr>
          <p:grpSpPr>
            <a:xfrm>
              <a:off x="3008520" y="2209680"/>
              <a:ext cx="2900520" cy="2706120"/>
              <a:chOff x="3008520" y="2209680"/>
              <a:chExt cx="2900520" cy="2706120"/>
            </a:xfrm>
          </p:grpSpPr>
          <p:sp>
            <p:nvSpPr>
              <p:cNvPr id="711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2" name="AutoShape 6"/>
              <p:cNvSpPr/>
              <p:nvPr/>
            </p:nvSpPr>
            <p:spPr>
              <a:xfrm flipH="1" rot="5400000">
                <a:off x="5530680" y="3206160"/>
                <a:ext cx="45936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3" name="AutoShape 7"/>
              <p:cNvSpPr/>
              <p:nvPr/>
            </p:nvSpPr>
            <p:spPr>
              <a:xfrm flipH="1" rot="10800000">
                <a:off x="4237560" y="4609800"/>
                <a:ext cx="4435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4" name="Oval 8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5" name="Oval 9"/>
              <p:cNvSpPr/>
              <p:nvPr/>
            </p:nvSpPr>
            <p:spPr>
              <a:xfrm>
                <a:off x="3438360" y="234468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6" name="Oval 10"/>
              <p:cNvSpPr/>
              <p:nvPr/>
            </p:nvSpPr>
            <p:spPr>
              <a:xfrm>
                <a:off x="3560760" y="2471040"/>
                <a:ext cx="1816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ffffff"/>
                  </a:gs>
                  <a:gs pos="100000">
                    <a:srgbClr val="669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7" name="Oval 11"/>
              <p:cNvSpPr/>
              <p:nvPr/>
            </p:nvSpPr>
            <p:spPr>
              <a:xfrm>
                <a:off x="3559320" y="2471040"/>
                <a:ext cx="18172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8" name="Oval 12"/>
              <p:cNvSpPr/>
              <p:nvPr/>
            </p:nvSpPr>
            <p:spPr>
              <a:xfrm>
                <a:off x="3678840" y="259596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37538a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719" name="Oval 13"/>
              <p:cNvSpPr/>
              <p:nvPr/>
            </p:nvSpPr>
            <p:spPr>
              <a:xfrm>
                <a:off x="3678840" y="259452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72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2" name="AutoShape 16"/>
            <p:cNvSpPr/>
            <p:nvPr/>
          </p:nvSpPr>
          <p:spPr>
            <a:xfrm>
              <a:off x="1143000" y="2709000"/>
              <a:ext cx="16588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5" name="AutoShape 19"/>
            <p:cNvSpPr/>
            <p:nvPr/>
          </p:nvSpPr>
          <p:spPr>
            <a:xfrm>
              <a:off x="6120360" y="2709000"/>
              <a:ext cx="172836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7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2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3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31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32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33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873000" y="5621400"/>
            <a:ext cx="1657440" cy="1440"/>
            <a:chOff x="873000" y="5621400"/>
            <a:chExt cx="1657440" cy="1440"/>
          </a:xfrm>
        </p:grpSpPr>
        <p:sp>
          <p:nvSpPr>
            <p:cNvPr id="736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873000" y="5621400"/>
              <a:ext cx="165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873000" y="4782960"/>
            <a:ext cx="2438640" cy="360"/>
            <a:chOff x="873000" y="4782960"/>
            <a:chExt cx="2438640" cy="360"/>
          </a:xfrm>
        </p:grpSpPr>
        <p:sp>
          <p:nvSpPr>
            <p:cNvPr id="739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873000" y="478296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873000" y="3952800"/>
            <a:ext cx="3353040" cy="360"/>
            <a:chOff x="873000" y="3952800"/>
            <a:chExt cx="3353040" cy="360"/>
          </a:xfrm>
        </p:grpSpPr>
        <p:sp>
          <p:nvSpPr>
            <p:cNvPr id="742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873000" y="3952800"/>
              <a:ext cx="3353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872640" y="3124080"/>
            <a:ext cx="4165920" cy="360"/>
            <a:chOff x="872640" y="3124080"/>
            <a:chExt cx="4165920" cy="360"/>
          </a:xfrm>
        </p:grpSpPr>
        <p:sp>
          <p:nvSpPr>
            <p:cNvPr id="745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873000" y="3124080"/>
              <a:ext cx="4165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873000" y="2282400"/>
            <a:ext cx="5034240" cy="360"/>
            <a:chOff x="873000" y="2282400"/>
            <a:chExt cx="5034240" cy="360"/>
          </a:xfrm>
        </p:grpSpPr>
        <p:sp>
          <p:nvSpPr>
            <p:cNvPr id="748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1637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 rot="10800000">
              <a:off x="873000" y="2282040"/>
              <a:ext cx="503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1025640" y="2276640"/>
            <a:ext cx="360" cy="871200"/>
            <a:chOff x="1025640" y="2276640"/>
            <a:chExt cx="360" cy="871200"/>
          </a:xfrm>
        </p:grpSpPr>
        <p:sp>
          <p:nvSpPr>
            <p:cNvPr id="751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163794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1025640" y="2276640"/>
              <a:ext cx="360" cy="87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025640" y="3147840"/>
            <a:ext cx="360" cy="817560"/>
            <a:chOff x="1025640" y="3147840"/>
            <a:chExt cx="360" cy="817560"/>
          </a:xfrm>
        </p:grpSpPr>
        <p:sp>
          <p:nvSpPr>
            <p:cNvPr id="754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163794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1025640" y="314784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025640" y="3965400"/>
            <a:ext cx="360" cy="816120"/>
            <a:chOff x="1025640" y="3965400"/>
            <a:chExt cx="360" cy="816120"/>
          </a:xfrm>
        </p:grpSpPr>
        <p:sp>
          <p:nvSpPr>
            <p:cNvPr id="757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163794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1025640" y="396540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25640" y="4782960"/>
            <a:ext cx="360" cy="816120"/>
            <a:chOff x="1025640" y="4782960"/>
            <a:chExt cx="360" cy="816120"/>
          </a:xfrm>
        </p:grpSpPr>
        <p:sp>
          <p:nvSpPr>
            <p:cNvPr id="760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163794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1025640" y="478296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762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3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766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767" name="Freeform 17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4700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68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69" name="Freeform 19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50000">
                  <a:srgbClr val="2f4776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0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1" name="Freeform 21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2" name="Freeform 22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004747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3" name="Freeform 23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4" name="Freeform 24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5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50000">
                  <a:srgbClr val="6f00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6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4a6fb9"/>
                </a:gs>
                <a:gs pos="100000">
                  <a:srgbClr val="66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7" name="Freeform 27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8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6d6d6d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779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6f6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0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4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5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4:41:14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1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