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EE1-D239-4D52-8A9B-739D7550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2B5-D402-47C9-9C75-6B032443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5785D-462F-4701-907D-055EAD5F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A230B-3412-42B9-85FC-2877E1D3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F1FC3-A7C7-43FE-BFBA-968068FD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2FCB9-F943-4332-9577-87CA362C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A3207-8EFE-4D5D-A817-6949FF7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B1E6D-6154-4844-A28E-5532488F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27519-5525-413A-98D7-DD524DCA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372D9-AFFA-42D0-9C77-A5D691EE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A52F1-8993-4045-93E5-B3F39D02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ACBA9-DF9A-49C2-B72C-A8428198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614-DEE4-4B5E-98F0-A8DB43A3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A2B4C-A462-4E4E-B414-1DB18AEF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695CE-49FD-48F9-9F49-5AE38F8F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C76BC-0F87-472D-B9D3-31430CE0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0D33C-DCCE-4EE8-B6AE-C3696077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AE49F-5C6D-40D3-B0B4-52987BE0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84717-B406-415E-B160-F3F5E534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809F9-52EE-49A9-B8CE-C88A7CF3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D11AB-2148-4CAC-B0CD-4C7245B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6C0DB-4875-45B1-9E49-5F33D7BB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1D53E-12D6-4A23-914F-931B4BC2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211-900E-4143-BA19-EE4F46FF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572F1-B812-477F-B7EA-0A486995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9EF7E-0791-42FF-A3A6-12D95B2D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0A13E-CE5C-4604-A54D-6B3AE024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05F8D-37A9-4920-B10D-FDD1CCBA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B1E2A-2DC3-439F-9493-2A1A7295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6C8ED-9FF7-4F96-9F1F-19EF2DE5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CEABD-6323-46F6-AA2C-EEF5B9D4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9F856-C909-4E2D-804A-0223B3D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CA962-EA6B-42ED-914A-B54C223C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B3095-0E28-449B-81B3-832BED7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40C4-6BC2-4096-B788-AC3B09D4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3D5B2-19CB-4CD1-B38A-FBBD9AD1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7B3E4-BC4B-4C0D-9254-4B0C6428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8F046-4EA9-4DA3-8AC8-BD3787C8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08AAA-7265-4A13-930D-C858DF1E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61E5B-3167-4FDC-9D8D-AE1B97DF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50D4D-65B8-4FB8-B81F-960BD4B5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659F8-539A-4B4F-A52B-EAE215CC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153F8-A769-4B2F-B292-10465AB2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5575F-1F48-4FA1-8F4D-D0F797ED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80000-4EE1-407A-A5BF-9F75C81B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80CF-6D23-40CA-A89D-0B852989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DB2A2-E8C3-4D4F-9262-48D02E8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92D62-3D70-44A6-97AF-38794AC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0B3BA-5C89-4261-8CC3-D0854BCD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209B9-6D74-4B46-B28C-B7680B46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3A30E-A274-4843-AB97-4A1F503C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08DBA-1309-4D1A-80A2-1F63A049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87608-BAF8-42C4-8EDB-7BCF14B9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10D7B-91FD-4961-8F9B-E54F67D6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164EE-526E-45A5-A401-F45A2541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CD040-F3B0-455C-837B-63BCBC6E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0F3B-2F2E-47FF-9703-C1DE6BC4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73998-3A2C-4F7B-A95B-2F798298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C3F2F-CAAE-4007-B164-DF10E262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86756-54DB-423A-B944-013B1D3D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0A897-7358-4390-A7AB-AF274F4B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D4121-8113-44AE-B844-84E7AAA3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FB58C-BADA-4DE9-A377-4C9F7809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915EB-D34C-48B6-95EF-BDC1DE40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DB32-B851-4BF0-B87F-5E0D3E69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BD69-55BE-4534-AEB3-EA65E54E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162E-DD92-4D4F-9F80-17A44A9E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7911-6B64-49D5-80D3-59898EE4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6F1-B8F2-46D0-B41D-DD6C4C56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2254-B4EA-4CED-9E6A-67EEDEE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C512-DD57-46F2-AFB4-D558DFB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4DBD-3C9C-4F1A-96CB-63C3B39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2919-49A3-4A8F-8F76-EE519AF1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5355-5BC9-4FCD-90C1-0822D38C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E9E4-3505-424B-B581-2A033ADB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2E32-7ADC-4364-96A4-E80190FD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5BA6-E77B-4509-B80C-73E3D56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720E-CADD-4BA6-B08C-8DB5932D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568B-8194-489E-B100-3462A0A1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8DE-1136-46A3-828D-DA2087DF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0AE2-85E4-4576-A14C-3677D62E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A40D-8DDA-4973-A92C-F2B9150D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7E35-2181-4166-BD9C-61BEC5C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E23B-17AA-4403-A579-1E13E79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208F-E33C-4B0D-9EB9-C45202DC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CD24-C3CE-47BA-8CC0-FF5C6898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6EF2-6811-4117-9FD1-3656AB06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1ADC6-1D4A-48B4-B4E4-F8ADA20F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E4622-B8E4-4397-93C9-2FEB1A45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67AE-84B0-494F-87E6-702F2A5A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949-7FE5-44B4-9E52-0CD7A78F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F504-7277-46BE-98AB-0582C114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3C7A-0F47-4A1D-9314-3F5092EA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A9151-8076-4DF5-A0D1-7175F6C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C6F1-E2F3-4384-8029-861214AC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B246-6E8D-4363-BAA4-AEA7E2D3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7836-6F85-46FC-9A51-7A02EB09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9554-2FBA-4DE9-9087-7AFAA46D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74574-736F-4CF0-AFE2-A5E198CA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EE789-86E0-4C5A-ABD9-AB5C157D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D396D-40CD-493B-9C44-212D6E33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389-50DE-497C-BF3A-4A4849F5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6D19F-07A7-4240-A7E2-F4CF864C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0305-CBD2-48F9-81D4-0E5EFFBB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8D0B4-15B4-439C-8E78-99310DB4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1EF2E-2C58-4965-8FA2-65774298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9255-8B89-487D-A587-AA3AEB3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06A28-F4CA-4168-90EE-274C5F80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0B8D-9045-4608-91C8-FFBDCD04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BA14-B21E-4718-9102-78DF4C54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1156-DD43-4F3E-A7E0-89F1BDCB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E6CC9-1884-4BFE-B450-F17D445A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763-1107-488F-B35E-F4251925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E9D0-C4AF-4474-B7E0-85815025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938E3-511F-4B21-B108-50E6F3BE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FD405-17B2-4874-B613-70EC202F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A895D-ABBA-432A-93F2-77DD72F6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AE7BD-3DD8-4177-9005-54F97FF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38D5-ABCD-4592-A994-88BB8CE2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3050B-57D7-4F30-BEB0-B4F5EEF6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CCCDD-446C-47D3-A328-1C1E0B72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C07D3-FCEB-4D0D-AEFF-A30590D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1842-70B2-4EE2-85F8-8E54EBBD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7C8-3545-4EA6-BA9C-FF3FC48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D762-9567-4D2F-BE73-E5117194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7CF5-6F29-48FD-B82E-E862DA27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52DB2-BC76-4BBF-9704-431A4056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37C8B-ACBB-4F70-9DE0-28DD475A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44568-A9DC-4720-8F3E-07908ACC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8A11B-5889-4B7F-99A6-177DD522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0A065-5AD0-4800-99FC-D6B7E3D7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1F549-D442-4132-8F15-5F97C9B1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519B-8271-424E-8387-B87B46D4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A7CE4-5FB2-4F70-9F7E-27671650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030-64C5-4B44-AC0A-DE5AF476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5D5DA-C58D-4F7F-ACF3-5CA83C8C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390A3-CD97-4428-BC5F-F4321216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0814E-AAE7-40DB-9B49-6AE7A244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41917-74EE-4B9A-9A78-F8BE091D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B6771-6EC1-4B7A-A813-F3DA26DD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DBEE1-7215-4DF3-94BA-5642E1D6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A72B8-74CE-488F-B8D6-C9903040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371A8-1A2F-44F8-9740-252D3FA8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73317-02B2-4C35-9AEC-8929C6A9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E7BEB-ACFF-4A84-B4AF-CB48F184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BE4-8B49-44C6-89B4-371DB1D4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E2CB4-856C-458C-8F23-8499A059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35B2D-5309-47DB-A482-B5FA7BD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83ADE-E14F-477C-9AAC-1A89C57B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D8046-4042-4388-8425-A8C4EC5A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D0DC2-10CC-4E86-B9B7-CC5F08E0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AEDC9-49CF-4814-8130-6ED97DC1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05376-2D84-48B2-81C1-3BEC1CCF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BEA0D-6B8E-4ED4-ACD1-68C08D0F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95450-1B94-4B5A-9806-57C2AF21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0C29F-CBDE-4C77-BF84-8F9EF93B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0427-4E04-401D-94E5-36D731491D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B2DA-9FF7-4626-82DC-A360041D7B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9FD0-DBC8-490A-9448-6EA714A5A2D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25D0-4CDC-442E-B12D-DA43D70635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D6E0-DF63-4D60-996B-10527849ACB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E67E-93C6-455E-9B80-3CA5DE57B6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951E-4823-4E79-B4AA-FC73AD2D2B2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11C0-30DB-4122-A7C2-D1D067BF21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324B-6C30-40FE-8115-4D90266C3F1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C120-18A7-4BDC-914A-9BF9675058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F4D4-5E8D-4AFA-A630-E1DF8545BBA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3634-F83B-492B-BF36-71294B5959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BE90-2EDF-4F66-B362-F5AD63C0145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7194-0432-42DE-930D-3116C491B96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C6A3-92F0-4A10-96E8-FF615D29AB6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9AA-14D7-4471-AA9F-E38EAD8F6E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2BBA-C30F-4B4D-9C47-FA91D13C11F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CF65-0721-4FAD-9ABC-305C26C735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06F5-B213-4DF1-AC7A-507F6CB105E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D506-94C3-42F3-8D19-DF0615CA88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A5AE-C2EC-4ADF-A8E2-9EB00C39859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5051-107F-4407-A15E-D3F81D8FB1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B2C8-696B-4614-9E4C-90FB3D8002B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36B0-BEFD-4885-88D2-D3848E8B00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8DA1-1151-4CC1-8739-0FCFC86DDCD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294B-009D-48CD-B868-683E4183F8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hyperlink" Target="http://www.eeppt.com" TargetMode="External"/><Relationship Id="rId26" Type="http://schemas.openxmlformats.org/officeDocument/2006/relationships/hyperlink" Target="http://www.eeppt.com" TargetMode="External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9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30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31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32" descr="1.1.1.4.png"/>
          <p:cNvPicPr/>
          <p:nvPr/>
        </p:nvPicPr>
        <p:blipFill>
          <a:blip r:embed="rId4"/>
          <a:srcRect l="30469" t="33333" r="46094" b="25002"/>
          <a:stretch/>
        </p:blipFill>
        <p:spPr>
          <a:xfrm>
            <a:off x="2786040" y="2571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3" descr="1.1.1.5.png"/>
          <p:cNvPicPr/>
          <p:nvPr/>
        </p:nvPicPr>
        <p:blipFill>
          <a:blip r:embed="rId5"/>
          <a:srcRect l="50001" t="51389" r="30469" b="5557"/>
          <a:stretch/>
        </p:blipFill>
        <p:spPr>
          <a:xfrm>
            <a:off x="4572000" y="350028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34" descr="1.1.1.5.png"/>
          <p:cNvPicPr/>
          <p:nvPr/>
        </p:nvPicPr>
        <p:blipFill>
          <a:blip r:embed="rId6"/>
          <a:srcRect l="67188" t="51389" r="0" b="0"/>
          <a:stretch/>
        </p:blipFill>
        <p:spPr>
          <a:xfrm>
            <a:off x="6143760" y="3500280"/>
            <a:ext cx="3000240" cy="25005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5" descr="1.1.1.7.png"/>
          <p:cNvPicPr/>
          <p:nvPr/>
        </p:nvPicPr>
        <p:blipFill>
          <a:blip r:embed="rId7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36" descr="1.1.1.8.png"/>
          <p:cNvPicPr/>
          <p:nvPr/>
        </p:nvPicPr>
        <p:blipFill>
          <a:blip r:embed="rId8"/>
          <a:srcRect l="41407" t="81947" r="53906" b="9721"/>
          <a:stretch/>
        </p:blipFill>
        <p:spPr>
          <a:xfrm>
            <a:off x="5143680" y="50720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41" name="锐得PPT1" descr="1.1.1.9.png"/>
          <p:cNvPicPr/>
          <p:nvPr/>
        </p:nvPicPr>
        <p:blipFill>
          <a:blip r:embed="rId9"/>
          <a:srcRect l="36719" t="44447" r="36719" b="20834"/>
          <a:stretch/>
        </p:blipFill>
        <p:spPr>
          <a:xfrm>
            <a:off x="3357720" y="314316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542" name="锐得PPT" descr="1.1.2.2.png"/>
          <p:cNvPicPr/>
          <p:nvPr/>
        </p:nvPicPr>
        <p:blipFill>
          <a:blip r:embed="rId10"/>
          <a:srcRect l="37500" t="38890" r="35937" b="18056"/>
          <a:stretch/>
        </p:blipFill>
        <p:spPr>
          <a:xfrm>
            <a:off x="3429000" y="285768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39" descr="1.1.2.1.png"/>
          <p:cNvPicPr/>
          <p:nvPr/>
        </p:nvPicPr>
        <p:blipFill>
          <a:blip r:embed="rId11"/>
          <a:srcRect l="36719" t="52778" r="56250" b="31944"/>
          <a:stretch/>
        </p:blipFill>
        <p:spPr>
          <a:xfrm>
            <a:off x="3357720" y="3571920"/>
            <a:ext cx="642960" cy="78588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40" descr="1.1.1.7.png"/>
          <p:cNvPicPr/>
          <p:nvPr/>
        </p:nvPicPr>
        <p:blipFill>
          <a:blip r:embed="rId12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41" descr="1.1.1.7.png"/>
          <p:cNvPicPr/>
          <p:nvPr/>
        </p:nvPicPr>
        <p:blipFill>
          <a:blip r:embed="rId13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42" descr="1.1.1.7.png"/>
          <p:cNvPicPr/>
          <p:nvPr/>
        </p:nvPicPr>
        <p:blipFill>
          <a:blip r:embed="rId14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3" descr="1.1.1.7.png"/>
          <p:cNvPicPr/>
          <p:nvPr/>
        </p:nvPicPr>
        <p:blipFill>
          <a:blip r:embed="rId15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4" descr="1.1.1.7.png"/>
          <p:cNvPicPr/>
          <p:nvPr/>
        </p:nvPicPr>
        <p:blipFill>
          <a:blip r:embed="rId16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5" descr="1.1.1.7.png"/>
          <p:cNvPicPr/>
          <p:nvPr/>
        </p:nvPicPr>
        <p:blipFill>
          <a:blip r:embed="rId17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46" descr="1.1.1.7.png"/>
          <p:cNvPicPr/>
          <p:nvPr/>
        </p:nvPicPr>
        <p:blipFill>
          <a:blip r:embed="rId18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47" descr="1.1.1.7.png"/>
          <p:cNvPicPr/>
          <p:nvPr/>
        </p:nvPicPr>
        <p:blipFill>
          <a:blip r:embed="rId19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48" descr="1.1.1.8.png"/>
          <p:cNvPicPr/>
          <p:nvPr/>
        </p:nvPicPr>
        <p:blipFill>
          <a:blip r:embed="rId20"/>
          <a:srcRect l="5468" t="66670" r="89845" b="22223"/>
          <a:stretch/>
        </p:blipFill>
        <p:spPr>
          <a:xfrm>
            <a:off x="500040" y="428616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9" descr="1.1.1.8.png"/>
          <p:cNvPicPr/>
          <p:nvPr/>
        </p:nvPicPr>
        <p:blipFill>
          <a:blip r:embed="rId21"/>
          <a:srcRect l="75789" t="45836" r="19524" b="45833"/>
          <a:stretch/>
        </p:blipFill>
        <p:spPr>
          <a:xfrm>
            <a:off x="3786120" y="507204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50" descr="1.1.1.8.png"/>
          <p:cNvPicPr/>
          <p:nvPr/>
        </p:nvPicPr>
        <p:blipFill>
          <a:blip r:embed="rId22"/>
          <a:srcRect l="80477" t="66670" r="15617" b="26391"/>
          <a:stretch/>
        </p:blipFill>
        <p:spPr>
          <a:xfrm>
            <a:off x="7358040" y="4286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51" descr="1.1.1.8.png"/>
          <p:cNvPicPr/>
          <p:nvPr/>
        </p:nvPicPr>
        <p:blipFill>
          <a:blip r:embed="rId23"/>
          <a:srcRect l="22652" t="81947" r="71880" b="9721"/>
          <a:stretch/>
        </p:blipFill>
        <p:spPr>
          <a:xfrm>
            <a:off x="2071800" y="507204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52" descr="1.1.1.8.png"/>
          <p:cNvPicPr/>
          <p:nvPr/>
        </p:nvPicPr>
        <p:blipFill>
          <a:blip r:embed="rId24"/>
          <a:srcRect l="5468" t="66670" r="89845" b="22223"/>
          <a:stretch/>
        </p:blipFill>
        <p:spPr>
          <a:xfrm>
            <a:off x="1557360" y="5140440"/>
            <a:ext cx="503280" cy="67140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53" descr="1.1.1.8.png"/>
          <p:cNvPicPr/>
          <p:nvPr/>
        </p:nvPicPr>
        <p:blipFill>
          <a:blip r:embed="rId25"/>
          <a:srcRect l="22652" t="81947" r="71880" b="9721"/>
          <a:stretch/>
        </p:blipFill>
        <p:spPr>
          <a:xfrm>
            <a:off x="8448840" y="4540320"/>
            <a:ext cx="539640" cy="463320"/>
          </a:xfrm>
          <a:prstGeom prst="rect">
            <a:avLst/>
          </a:prstGeom>
          <a:ln w="0">
            <a:noFill/>
          </a:ln>
        </p:spPr>
      </p:pic>
      <p:pic>
        <p:nvPicPr>
          <p:cNvPr id="558" name="TextBox 55" descr=""/>
          <p:cNvPicPr/>
          <p:nvPr/>
        </p:nvPicPr>
        <p:blipFill>
          <a:blip r:embed="rId26"/>
          <a:stretch/>
        </p:blipFill>
        <p:spPr>
          <a:xfrm>
            <a:off x="3773520" y="3371760"/>
            <a:ext cx="1865160" cy="914400"/>
          </a:xfrm>
          <a:prstGeom prst="rect">
            <a:avLst/>
          </a:prstGeom>
          <a:ln w="0">
            <a:noFill/>
          </a:ln>
        </p:spPr>
      </p:pic>
      <p:sp>
        <p:nvSpPr>
          <p:cNvPr id="559" name="文本框 1436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364"/>
          <p:cNvSpPr/>
          <p:nvPr/>
        </p:nvSpPr>
        <p:spPr>
          <a:xfrm>
            <a:off x="1582560" y="1173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献给最爱的你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9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9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9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9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9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7552 -0.64662 C -0.24306 -0.60823 -0.21059 -0.56961 -0.19393 -0.50809 C -0.17726 -0.44658 -0.19115 -0.33927 -0.17552 -0.27706 C -0.1599 -0.21508 -0.129 -0.18987 -0.1 -0.13575 C -0.07101 -0.08164 -0.02188 0.00948 -0.00139 0.04764 E">
                                      <p:cBhvr>
                                        <p:cTn id="57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608 -0.54068 C 0.21337 -0.50069 0.22066 -0.46047 0.20608 -0.40199 C 0.19149 -0.3435 0.14635 -0.25774 0.1184 -0.19024 C 0.09045 -0.12274 0.05851 -0.02889 0.03872 0.00278 C 0.01892 0.03445 0.00938 0.01711 4.44444E-006 -6.14887E-007 E">
                                      <p:cBhvr>
                                        <p:cTn id="63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3889 -0.31753 C 0.03767 -0.32401 0.03646 -0.35384 0.03177 -0.35615 C 0.02708 -0.35846 0.01927 -0.33973 0.01024 -0.33094 C 0.00122 -0.32216 -0.01424 -0.31845 -0.0224 -0.30389 C -0.03056 -0.28932 -0.04149 -0.27613 -0.03872 -0.24399 C -0.03594 -0.21207 -0.01215 -0.14986 -0.00608 -0.11101 C 5.55111512312578E-017 -0.07216 -0.00104 -0.0414 -0.00191 -0.01041 E">
                                      <p:cBhvr>
                                        <p:cTn id="69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3019 -0.47272 C -0.30017 -0.38627 -0.29843 -0.29958 -0.28558 -0.24988 C -0.27274 -0.20018 -0.24322 -0.20897 -0.22447 -0.17383 C -0.20572 -0.13892 -0.19444 -0.07004 -0.17343 -0.04068 C -0.15242 -0.01132 -0.12673 -0.00393 -0.09791 0.00278 C -0.06909 0.00948 -0.03454 0.00463 6.38889E-006 -4.43828E-007 E">
                                      <p:cBhvr>
                                        <p:cTn id="75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6128 -0.64678 C 0.16684 -0.59292 0.17239 -0.53906 0.1592 -0.47827 C 0.14601 -0.41747 0.10104 -0.34188 0.0816 -0.28248 C 0.06215 -0.22307 0.05642 -0.16944 0.04288 -0.12228 C 0.02934 -0.07512 0.01458 -0.03768 1.38889E-006 1.33148E-006 E">
                                      <p:cBhvr>
                                        <p:cTn id="81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 -0.6864 C 0.29098 -0.62257 0.28212 -0.55805 0.25591 -0.49769 C 0.22952 -0.43756 0.16858 -0.38529 0.14219 -0.32539 C 0.11563 -0.26619 0.12101 -0.19334 0.09723 -0.13899 C 0.07344 -0.08464 0.02032 -0.02914 -3.05556E-006 -1.07308E-006 E">
                                      <p:cBhvr>
                                        <p:cTn id="87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46336 -0.55456 C -0.41632 -0.49608 -0.36909 -0.43759 -0.33264 -0.36686 C -0.29618 -0.29612 -0.28402 -0.18863 -0.24496 -0.13061 C -0.2059 -0.07259 -0.13889 -0.04092 -0.09809 -0.01919 C -0.05729 0.00254 -0.02864 0.00115 -2.22222E-006 -7.40638E-006 E">
                                      <p:cBhvr>
                                        <p:cTn id="93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4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grpSp>
        <p:nvGrpSpPr>
          <p:cNvPr id="582" name="锐得PPT"/>
          <p:cNvGrpSpPr/>
          <p:nvPr/>
        </p:nvGrpSpPr>
        <p:grpSpPr>
          <a:xfrm>
            <a:off x="2387520" y="2259000"/>
            <a:ext cx="4229280" cy="3643200"/>
            <a:chOff x="2387520" y="2259000"/>
            <a:chExt cx="4229280" cy="3643200"/>
          </a:xfrm>
        </p:grpSpPr>
        <p:pic>
          <p:nvPicPr>
            <p:cNvPr id="583" name="Picture 2" descr="D:\Backup\我的文档\My Pictures\1791507_123936051_2.jpg"/>
            <p:cNvPicPr/>
            <p:nvPr/>
          </p:nvPicPr>
          <p:blipFill>
            <a:blip r:embed="rId22"/>
            <a:stretch/>
          </p:blipFill>
          <p:spPr>
            <a:xfrm>
              <a:off x="2700360" y="2682000"/>
              <a:ext cx="3584880" cy="30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8" descr="2.1.1.5.png"/>
            <p:cNvPicPr/>
            <p:nvPr/>
          </p:nvPicPr>
          <p:blipFill>
            <a:blip r:embed="rId23"/>
            <a:srcRect l="24220" t="22223" r="25001" b="0"/>
            <a:stretch/>
          </p:blipFill>
          <p:spPr>
            <a:xfrm>
              <a:off x="2387520" y="2259000"/>
              <a:ext cx="4229280" cy="36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5" name="TextBox 67" descr=""/>
          <p:cNvPicPr/>
          <p:nvPr/>
        </p:nvPicPr>
        <p:blipFill>
          <a:blip r:embed="rId24"/>
          <a:stretch/>
        </p:blipFill>
        <p:spPr>
          <a:xfrm>
            <a:off x="2919240" y="1500120"/>
            <a:ext cx="3445200" cy="809640"/>
          </a:xfrm>
          <a:prstGeom prst="rect">
            <a:avLst/>
          </a:prstGeom>
          <a:ln w="0">
            <a:noFill/>
          </a:ln>
        </p:spPr>
      </p:pic>
      <p:sp>
        <p:nvSpPr>
          <p:cNvPr id="586" name="文本框 15386"/>
          <p:cNvSpPr/>
          <p:nvPr/>
        </p:nvSpPr>
        <p:spPr>
          <a:xfrm>
            <a:off x="324000" y="404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43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163" dur="5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165" dur="3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167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169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171" dur="5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173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7136-9E82-47F6-A060-071AA04B4A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605" name="锐得PPT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28" descr="2.1.1.2.png"/>
          <p:cNvPicPr/>
          <p:nvPr/>
        </p:nvPicPr>
        <p:blipFill>
          <a:blip r:embed="rId22"/>
          <a:srcRect l="92193" t="33336" r="-4" b="52778"/>
          <a:stretch/>
        </p:blipFill>
        <p:spPr>
          <a:xfrm>
            <a:off x="8523360" y="2592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29" descr="2.1.1.2.png"/>
          <p:cNvPicPr/>
          <p:nvPr/>
        </p:nvPicPr>
        <p:blipFill>
          <a:blip r:embed="rId23"/>
          <a:srcRect l="2344" t="43057" r="91408" b="48614"/>
          <a:stretch/>
        </p:blipFill>
        <p:spPr>
          <a:xfrm>
            <a:off x="301680" y="307800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30" descr="2.1.1.2.png"/>
          <p:cNvPicPr/>
          <p:nvPr/>
        </p:nvPicPr>
        <p:blipFill>
          <a:blip r:embed="rId24"/>
          <a:srcRect l="14063" t="29169" r="80470" b="61113"/>
          <a:stretch/>
        </p:blipFill>
        <p:spPr>
          <a:xfrm>
            <a:off x="1347840" y="23716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31" descr="2.1.1.2.png"/>
          <p:cNvPicPr/>
          <p:nvPr/>
        </p:nvPicPr>
        <p:blipFill>
          <a:blip r:embed="rId25"/>
          <a:srcRect l="25781" t="34722" r="68751" b="54167"/>
          <a:stretch/>
        </p:blipFill>
        <p:spPr>
          <a:xfrm>
            <a:off x="2468520" y="275436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32" descr="2.1.1.2.png"/>
          <p:cNvPicPr/>
          <p:nvPr/>
        </p:nvPicPr>
        <p:blipFill>
          <a:blip r:embed="rId26"/>
          <a:srcRect l="61722" t="37504" r="32812" b="54167"/>
          <a:stretch/>
        </p:blipFill>
        <p:spPr>
          <a:xfrm>
            <a:off x="5729400" y="2637000"/>
            <a:ext cx="344520" cy="34416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33" descr="2.1.1.2.png"/>
          <p:cNvPicPr/>
          <p:nvPr/>
        </p:nvPicPr>
        <p:blipFill>
          <a:blip r:embed="rId27"/>
          <a:srcRect l="82035" t="31947" r="13280" b="61110"/>
          <a:stretch/>
        </p:blipFill>
        <p:spPr>
          <a:xfrm>
            <a:off x="7521480" y="2492280"/>
            <a:ext cx="395280" cy="3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206" dur="5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208" dur="3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210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212" dur="5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214" dur="5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21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7:07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19Z</dcterms:modified>
  <cp:revision>6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