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1619-597A-4D8A-8CB6-984C77D97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2679-5915-49FD-9CA3-27962AF78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8E5F-5256-4EC9-A052-590C2911A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D516-2973-42BB-90A8-D827F263B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3715-A80B-4564-9709-E41CBD3E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AAEA-A1DE-4FF5-97D5-1ED59F3962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4958-7222-468C-B105-9F8595B4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21E3-2243-49D3-A829-4D34DE3B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395F3-3787-4B00-B6FD-AF2A649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1648-624A-4737-9EC9-D7E72E9333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45D35-1C1D-4C4A-8581-81CAAB8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9824C-7A14-429D-80E9-6487E3D8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3FD9D-A44D-4867-9815-89283CA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9BC0C-20FD-489E-8F6B-7144CF6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FE59D-1898-4482-83AB-54E407E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C5DD-89AA-4090-B601-858BBF1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1F225-27A9-4397-B546-9C9C623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2DDD-9C7D-40AF-A758-B5577239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DCCC8-BBC4-42A7-96BF-DD185E11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7C6F-0E5E-48EA-B43F-ED3F3ED82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E11E-ED66-4175-A637-50DFA8DD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054F-4FC7-4BD2-A0C7-8F33C0CA3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6466-99F9-4D84-9FB2-8A8022044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43B8-1935-4724-9102-4322A4740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D2FB3D7-B1FC-4097-BFB3-F9FF64F01211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4" descr="bg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69F0-F910-4034-A654-3EA87D0DDC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899-B67F-4341-9350-5A6A54761F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800" y="1177560"/>
            <a:ext cx="8205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000" y="2257200"/>
            <a:ext cx="82090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5c1f00"/>
                </a:solidFill>
                <a:latin typeface="Arial"/>
                <a:ea typeface="华文细黑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512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5126"/>
          <p:cNvSpPr/>
          <p:nvPr/>
        </p:nvSpPr>
        <p:spPr>
          <a:xfrm>
            <a:off x="2457000" y="12430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模板在线下载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FC2B6B85-9415-47B7-928B-701D1419B71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06490D2-8FC6-420D-A164-79667F1452B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679320" y="1319040"/>
            <a:ext cx="8769600" cy="370548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7172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ppt</a:t>
            </a:r>
            <a:r>
              <a:rPr b="0" i="1" lang="zh-CN" sz="16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模板网站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716-40BF-48DE-BD5B-30EE5843ED49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0" descr="bg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17Z</dcterms:modified>
  <cp:revision>1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