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02E-A554-4669-8DA9-303C4355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AAE-A943-4263-84FF-324D9016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4AF-0DD9-4836-A158-93264A5E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309-076B-4D80-AEE6-AF110FC6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FA4-C89D-468B-8933-BEDFD6C1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AF6-7B38-4D97-BF51-6DE1F9F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09A-FDFF-4A01-B5B1-44EED15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242-F412-4CDE-9713-0EB6ABA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C3C-CF03-4CC4-8392-D773094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300-6D39-48D1-81D7-6E3F848B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4D8-F48C-4B4F-9BDB-609F90B8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C1B-630B-4611-8E6C-A5551346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23B-7872-4448-B73E-B120922FE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轻松办公"/>
          <p:cNvPicPr/>
          <p:nvPr/>
        </p:nvPicPr>
        <p:blipFill>
          <a:blip r:embed="rId1"/>
          <a:stretch/>
        </p:blipFill>
        <p:spPr>
          <a:xfrm>
            <a:off x="-31680" y="-20520"/>
            <a:ext cx="917568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252252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轻松工作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097" descr="内容页"/>
          <p:cNvPicPr/>
          <p:nvPr/>
        </p:nvPicPr>
        <p:blipFill>
          <a:blip r:embed="rId1"/>
          <a:stretch/>
        </p:blipFill>
        <p:spPr>
          <a:xfrm>
            <a:off x="-223920" y="-165240"/>
            <a:ext cx="9367920" cy="70218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098"/>
          <p:cNvSpPr/>
          <p:nvPr/>
        </p:nvSpPr>
        <p:spPr>
          <a:xfrm>
            <a:off x="285840" y="1557360"/>
            <a:ext cx="414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5121" descr="内容页"/>
          <p:cNvPicPr/>
          <p:nvPr/>
        </p:nvPicPr>
        <p:blipFill>
          <a:blip r:embed="rId1"/>
          <a:stretch/>
        </p:blipFill>
        <p:spPr>
          <a:xfrm>
            <a:off x="-222120" y="-163440"/>
            <a:ext cx="9366120" cy="702144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5122"/>
          <p:cNvSpPr/>
          <p:nvPr/>
        </p:nvSpPr>
        <p:spPr>
          <a:xfrm>
            <a:off x="250920" y="2349360"/>
            <a:ext cx="47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One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娱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3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145" descr="文字"/>
          <p:cNvPicPr/>
          <p:nvPr/>
        </p:nvPicPr>
        <p:blipFill>
          <a:blip r:embed="rId1"/>
          <a:stretch/>
        </p:blipFill>
        <p:spPr>
          <a:xfrm>
            <a:off x="-222120" y="-163440"/>
            <a:ext cx="9366120" cy="70214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6146"/>
          <p:cNvSpPr/>
          <p:nvPr/>
        </p:nvSpPr>
        <p:spPr>
          <a:xfrm>
            <a:off x="1498680" y="1413000"/>
            <a:ext cx="544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字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FA13-75C5-42AC-BB95-3DAB80927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69" descr="最后页"/>
          <p:cNvPicPr/>
          <p:nvPr/>
        </p:nvPicPr>
        <p:blipFill>
          <a:blip r:embed="rId1"/>
          <a:stretch/>
        </p:blipFill>
        <p:spPr>
          <a:xfrm>
            <a:off x="-222120" y="-163440"/>
            <a:ext cx="9366120" cy="70214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7170"/>
          <p:cNvSpPr/>
          <p:nvPr/>
        </p:nvSpPr>
        <p:spPr>
          <a:xfrm>
            <a:off x="5724360" y="3753000"/>
            <a:ext cx="22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汉仪菱心体简"/>
              </a:rPr>
              <a:t>感谢关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3:25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