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280-A381-4207-8AA2-FAF8449C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97A-D7FE-4FFD-A317-475935C7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0D2-30F6-45C8-A569-B4FE4F71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E52-8A09-496A-9AA7-773B3ACC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6AF5-6229-4483-8129-45B71D4E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87E6-9001-45D2-8D0A-6B208B4E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3C6B-69B8-4C31-83E3-BF2064AC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A2DD-04C8-493F-8935-258A2D15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3F5F-6EC5-42D3-A1AE-E74213D8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984-3D93-4C5F-B0DF-78DF9757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CB4E-143F-4397-9ADD-B634F29C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6A7-7B8F-4501-AC65-4C23A06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733F-708B-4362-8159-C39F3B5E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4BC8-13D1-42FC-859A-BC2547C9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A14F-91A6-4FC5-9D9B-184337E2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13EB-F427-4EF9-8565-ADD54A70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F5A6-8625-4F90-BD14-C8C7FE5C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CCA-1FE7-4199-BD83-4BF02FF3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3A9-73ED-448E-9B7B-2905BEEF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C98-D128-4ECE-99E6-89E398F2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BB6-D9F2-430E-A4C8-7E6E49E4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2C7-6CCE-4E8F-9276-5BDC36BE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797-E7DB-4157-A9B0-C824AAD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BDA-CAB0-420A-87B2-316655F7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24E8-4854-4792-8870-C96524A5BA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079B-4AE2-4E6E-AF57-7E2B53CFDC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0D85-D39A-45F4-8CB1-443813C9B3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76D6-FC40-44DC-AEFC-1DB0B987A3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6854760" y="1917720"/>
            <a:ext cx="1521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718a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7776000" y="1413000"/>
            <a:ext cx="109512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718a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884240" y="404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爽绿色笔记本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8A50-564F-4A47-8369-AE85458B75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185724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6212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071880" y="564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1711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640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414072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3786120" y="1000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4140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4069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200016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5997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7173"/>
          <p:cNvSpPr/>
          <p:nvPr/>
        </p:nvSpPr>
        <p:spPr>
          <a:xfrm>
            <a:off x="104472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578628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35690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28600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671256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2783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5783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142884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99796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199764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246"/>
          <p:cNvSpPr/>
          <p:nvPr/>
        </p:nvSpPr>
        <p:spPr>
          <a:xfrm>
            <a:off x="1332000" y="47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5426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2354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3640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514080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36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