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448-630B-467E-B0F3-0D919D88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749-0AA0-4ED0-9DA4-88F685CF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DF2-19DB-47CC-85AC-5D16DFE2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D6A-302D-4E82-AD30-A29E279A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66C-BA6A-4AF1-8A9C-4D9F6DAC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AC7-1A4B-4F57-A479-9F7A405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5AC-A856-4F39-8A9B-BFAD246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0CF-3FEE-4141-9BA4-E60C40EA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FFC-6389-4DD8-9A82-232BCACC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380-32E0-41B6-BBB6-2FFE2E82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AAB-F9F7-42DD-8574-3B3B371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372-F25B-401B-9129-390C54B2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A23-85B7-445B-844E-94F19C1323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472428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baseline="12000">
                <a:solidFill>
                  <a:srgbClr val="ff0000"/>
                </a:solidFill>
                <a:latin typeface="华文新魏"/>
                <a:ea typeface="华文新魏"/>
              </a:rPr>
              <a:t>工作汇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nowdreams.mp3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2057040" y="1413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爽商务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4097"/>
          <p:cNvGrpSpPr/>
          <p:nvPr/>
        </p:nvGrpSpPr>
        <p:grpSpPr>
          <a:xfrm>
            <a:off x="0" y="0"/>
            <a:ext cx="3886200" cy="6751800"/>
            <a:chOff x="0" y="0"/>
            <a:chExt cx="3886200" cy="6751800"/>
          </a:xfrm>
        </p:grpSpPr>
        <p:pic>
          <p:nvPicPr>
            <p:cNvPr id="46" name="图片 4098" descr="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86200" cy="67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平行四边形 4099"/>
            <p:cNvSpPr/>
            <p:nvPr/>
          </p:nvSpPr>
          <p:spPr>
            <a:xfrm rot="1095000">
              <a:off x="839520" y="444600"/>
              <a:ext cx="2666880" cy="1143000"/>
            </a:xfrm>
            <a:prstGeom prst="parallelogram">
              <a:avLst>
                <a:gd name="adj" fmla="val 12822"/>
              </a:avLst>
            </a:prstGeom>
            <a:gradFill rotWithShape="0">
              <a:gsLst>
                <a:gs pos="0">
                  <a:srgbClr val="ff9900">
                    <a:alpha val="48235"/>
                  </a:srgbClr>
                </a:gs>
                <a:gs pos="100000">
                  <a:srgbClr val="ffdfa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总  结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3"/>
          <p:cNvSpPr/>
          <p:nvPr/>
        </p:nvSpPr>
        <p:spPr>
          <a:xfrm>
            <a:off x="2209680" y="2514600"/>
            <a:ext cx="670572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顾过去一学期的工作，我系团总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生会在校团委的正确领导下，以“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提高青年学生综合素质”为宗旨，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育人为中心”的主导思想，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青年学生两种意识，即“服务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“公德意识”；把深入细致的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政治教育与严格的日常管理结合起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切实加强团总支学生会的自身组织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，努力提高团员的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1"/>
          <p:cNvSpPr/>
          <p:nvPr/>
        </p:nvSpPr>
        <p:spPr>
          <a:xfrm>
            <a:off x="3852720" y="105264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A183-CA0E-4999-BC54-DA975684A2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流程图: 可选过程 5121"/>
          <p:cNvSpPr/>
          <p:nvPr/>
        </p:nvSpPr>
        <p:spPr>
          <a:xfrm>
            <a:off x="1295280" y="1600200"/>
            <a:ext cx="2971800" cy="76212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二、团的组织建设、制度建设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流程图: 可选过程 5122"/>
          <p:cNvSpPr/>
          <p:nvPr/>
        </p:nvSpPr>
        <p:spPr>
          <a:xfrm>
            <a:off x="304920" y="380880"/>
            <a:ext cx="2971800" cy="76212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一、思想政治教育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流程图: 可选过程 5123"/>
          <p:cNvSpPr/>
          <p:nvPr/>
        </p:nvSpPr>
        <p:spPr>
          <a:xfrm>
            <a:off x="5562720" y="5638680"/>
            <a:ext cx="2971800" cy="76212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五、宣传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流程图: 可选过程 5124"/>
          <p:cNvSpPr/>
          <p:nvPr/>
        </p:nvSpPr>
        <p:spPr>
          <a:xfrm>
            <a:off x="2514600" y="2819520"/>
            <a:ext cx="2971800" cy="76176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三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团的日常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流程图: 可选过程 5125"/>
          <p:cNvSpPr/>
          <p:nvPr/>
        </p:nvSpPr>
        <p:spPr>
          <a:xfrm>
            <a:off x="3886200" y="4267080"/>
            <a:ext cx="2971800" cy="76212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四、校园文化活动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06:59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3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