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3F7E-6931-49DC-AA9A-3C87CCFE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C83-4D32-4256-886A-A0BD6270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13C3-3B81-4B8D-AB66-6AA35847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B4E5-79AE-4DAA-A413-7F6359C1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FCDB-9BFA-43A1-96B0-883515D1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E8C1-8CB8-4499-BE59-BFECC039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959D-1DAA-4598-A3CC-1CB431D2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2241-AEC1-407A-83D5-87AF5FC7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35D9-6258-4098-988E-484F133C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CE53-FC65-45A1-BD31-3140A3B9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8586-2430-4C78-974E-27D68A99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7C2-76CF-43BF-8087-240D0844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52FD-3210-4CFF-B6C0-44552D56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D169-B9E5-4AF2-A354-54879137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CB71-6179-4BF8-A39B-92F1350F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40C3-7C79-4B39-BB76-FBFF695A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63BE-C72C-46D6-A7B5-D48A32BB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9F13-7CC9-4B36-AF59-642BAA0A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0F8-35C5-421E-BA7E-69266670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4F57-FCDA-4FA8-8A36-EBE94E67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8F5A-6313-4779-94AE-2C0EA158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1CE-D51C-4F11-8DB6-DC074C48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F3B-EC10-4577-968F-A3C55A5E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E811-CFB4-4ED8-93B6-3215DFCF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413A-D92E-4321-B0D4-4F58273F997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780F-18D0-4F96-AE0F-998BC9813AF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09F0-A2B2-49D8-BE4B-5BFD9E3010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泪滴形 5"/>
          <p:cNvSpPr/>
          <p:nvPr/>
        </p:nvSpPr>
        <p:spPr>
          <a:xfrm rot="8121000">
            <a:off x="5133240" y="110880"/>
            <a:ext cx="1330200" cy="1330200"/>
          </a:xfrm>
          <a:custGeom>
            <a:avLst/>
            <a:gdLst/>
            <a:ahLst/>
            <a:rect l="l" t="t" r="r" b="b"/>
            <a:pathLst>
              <a:path w="2096" h="2096">
                <a:moveTo>
                  <a:pt x="0" y="1048"/>
                </a:moveTo>
                <a:cubicBezTo>
                  <a:pt x="0" y="469"/>
                  <a:pt x="469" y="0"/>
                  <a:pt x="1048" y="0"/>
                </a:cubicBezTo>
                <a:cubicBezTo>
                  <a:pt x="1397" y="0"/>
                  <a:pt x="1746" y="0"/>
                  <a:pt x="2096" y="0"/>
                </a:cubicBezTo>
                <a:cubicBezTo>
                  <a:pt x="2096" y="349"/>
                  <a:pt x="2096" y="698"/>
                  <a:pt x="2096" y="1048"/>
                </a:cubicBezTo>
                <a:cubicBezTo>
                  <a:pt x="2096" y="1627"/>
                  <a:pt x="1627" y="2096"/>
                  <a:pt x="1048" y="2096"/>
                </a:cubicBezTo>
                <a:cubicBezTo>
                  <a:pt x="469" y="2096"/>
                  <a:pt x="0" y="1627"/>
                  <a:pt x="0" y="1048"/>
                </a:cubicBezTo>
                <a:close/>
              </a:path>
            </a:pathLst>
          </a:custGeom>
          <a:solidFill>
            <a:srgbClr val="ff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泪滴形 4"/>
          <p:cNvSpPr/>
          <p:nvPr/>
        </p:nvSpPr>
        <p:spPr>
          <a:xfrm rot="8121000">
            <a:off x="7194240" y="947880"/>
            <a:ext cx="3511440" cy="3512880"/>
          </a:xfrm>
          <a:custGeom>
            <a:avLst/>
            <a:gdLst/>
            <a:ahLst/>
            <a:rect l="l" t="t" r="r" b="b"/>
            <a:pathLst>
              <a:path w="5531" h="5531">
                <a:moveTo>
                  <a:pt x="0" y="2765"/>
                </a:moveTo>
                <a:cubicBezTo>
                  <a:pt x="0" y="1238"/>
                  <a:pt x="1238" y="0"/>
                  <a:pt x="2765" y="0"/>
                </a:cubicBezTo>
                <a:cubicBezTo>
                  <a:pt x="3687" y="0"/>
                  <a:pt x="4609" y="0"/>
                  <a:pt x="5531" y="0"/>
                </a:cubicBezTo>
                <a:cubicBezTo>
                  <a:pt x="5531" y="921"/>
                  <a:pt x="5531" y="1843"/>
                  <a:pt x="5531" y="2765"/>
                </a:cubicBezTo>
                <a:cubicBezTo>
                  <a:pt x="5531" y="4292"/>
                  <a:pt x="4293" y="5530"/>
                  <a:pt x="2766" y="5530"/>
                </a:cubicBezTo>
                <a:cubicBezTo>
                  <a:pt x="1239" y="5530"/>
                  <a:pt x="1" y="4292"/>
                  <a:pt x="1" y="2765"/>
                </a:cubicBezTo>
                <a:close/>
              </a:path>
            </a:pathLst>
          </a:custGeom>
          <a:solidFill>
            <a:srgbClr val="66ff66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泪滴形 1"/>
          <p:cNvSpPr/>
          <p:nvPr/>
        </p:nvSpPr>
        <p:spPr>
          <a:xfrm rot="8121000">
            <a:off x="3596760" y="1191960"/>
            <a:ext cx="4692960" cy="4694040"/>
          </a:xfrm>
          <a:custGeom>
            <a:avLst/>
            <a:gdLst/>
            <a:ahLst/>
            <a:rect l="l" t="t" r="r" b="b"/>
            <a:pathLst>
              <a:path w="7391" h="7391">
                <a:moveTo>
                  <a:pt x="0" y="3695"/>
                </a:moveTo>
                <a:cubicBezTo>
                  <a:pt x="0" y="1654"/>
                  <a:pt x="1654" y="0"/>
                  <a:pt x="3695" y="0"/>
                </a:cubicBezTo>
                <a:cubicBezTo>
                  <a:pt x="4927" y="0"/>
                  <a:pt x="6159" y="0"/>
                  <a:pt x="7391" y="0"/>
                </a:cubicBezTo>
                <a:cubicBezTo>
                  <a:pt x="7391" y="1231"/>
                  <a:pt x="7391" y="2463"/>
                  <a:pt x="7391" y="3695"/>
                </a:cubicBezTo>
                <a:cubicBezTo>
                  <a:pt x="7391" y="5736"/>
                  <a:pt x="5737" y="7390"/>
                  <a:pt x="3696" y="7390"/>
                </a:cubicBezTo>
                <a:cubicBezTo>
                  <a:pt x="1655" y="7390"/>
                  <a:pt x="1" y="5736"/>
                  <a:pt x="1" y="3695"/>
                </a:cubicBezTo>
                <a:close/>
              </a:path>
            </a:pathLst>
          </a:custGeom>
          <a:solidFill>
            <a:srgbClr val="5b9bd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"/>
          <p:cNvSpPr/>
          <p:nvPr/>
        </p:nvSpPr>
        <p:spPr>
          <a:xfrm>
            <a:off x="4707000" y="2027160"/>
            <a:ext cx="3057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Arial"/>
                <a:ea typeface="长城海报体繁"/>
              </a:rPr>
              <a:t>咩</a:t>
            </a: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长城海报体繁"/>
              </a:rPr>
              <a:t>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长城海报体繁"/>
              </a:rPr>
              <a:t>就要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  <a:ea typeface="长城海报体繁"/>
              </a:rPr>
              <a:t>~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泪滴形 3"/>
          <p:cNvSpPr/>
          <p:nvPr/>
        </p:nvSpPr>
        <p:spPr>
          <a:xfrm rot="8121000">
            <a:off x="1225080" y="349200"/>
            <a:ext cx="2479680" cy="2479680"/>
          </a:xfrm>
          <a:custGeom>
            <a:avLst/>
            <a:gdLst/>
            <a:ahLst/>
            <a:rect l="l" t="t" r="r" b="b"/>
            <a:pathLst>
              <a:path w="3905" h="3905">
                <a:moveTo>
                  <a:pt x="0" y="1952"/>
                </a:moveTo>
                <a:cubicBezTo>
                  <a:pt x="0" y="874"/>
                  <a:pt x="874" y="0"/>
                  <a:pt x="1952" y="0"/>
                </a:cubicBezTo>
                <a:cubicBezTo>
                  <a:pt x="2602" y="0"/>
                  <a:pt x="3253" y="0"/>
                  <a:pt x="3905" y="0"/>
                </a:cubicBezTo>
                <a:cubicBezTo>
                  <a:pt x="3905" y="650"/>
                  <a:pt x="3905" y="1301"/>
                  <a:pt x="3905" y="1952"/>
                </a:cubicBezTo>
                <a:cubicBezTo>
                  <a:pt x="3905" y="3030"/>
                  <a:pt x="3031" y="3904"/>
                  <a:pt x="1953" y="3904"/>
                </a:cubicBezTo>
                <a:cubicBezTo>
                  <a:pt x="875" y="3904"/>
                  <a:pt x="1" y="3030"/>
                  <a:pt x="1" y="1952"/>
                </a:cubicBezTo>
                <a:close/>
              </a:path>
            </a:pathLst>
          </a:custGeom>
          <a:solidFill>
            <a:srgbClr val="ffd966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078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079"/>
          <p:cNvSpPr/>
          <p:nvPr/>
        </p:nvSpPr>
        <p:spPr>
          <a:xfrm>
            <a:off x="3214440" y="55080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趣味创意幽默羊年祝福贺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1"/>
          <a:srcRect l="1825" t="0" r="9186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0" name="组合 6"/>
          <p:cNvGrpSpPr/>
          <p:nvPr/>
        </p:nvGrpSpPr>
        <p:grpSpPr>
          <a:xfrm>
            <a:off x="9039240" y="1184400"/>
            <a:ext cx="3152880" cy="3531960"/>
            <a:chOff x="9039240" y="1184400"/>
            <a:chExt cx="3152880" cy="3531960"/>
          </a:xfrm>
        </p:grpSpPr>
        <p:sp>
          <p:nvSpPr>
            <p:cNvPr id="91" name="矩形 2"/>
            <p:cNvSpPr/>
            <p:nvPr/>
          </p:nvSpPr>
          <p:spPr>
            <a:xfrm>
              <a:off x="9039240" y="1184400"/>
              <a:ext cx="3152880" cy="2804760"/>
            </a:xfrm>
            <a:prstGeom prst="rect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角三角形 4"/>
            <p:cNvSpPr/>
            <p:nvPr/>
          </p:nvSpPr>
          <p:spPr>
            <a:xfrm flipH="1" flipV="1">
              <a:off x="9039240" y="3988440"/>
              <a:ext cx="2162160" cy="624600"/>
            </a:xfrm>
            <a:prstGeom prst="rtTriangle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等腰三角形 5"/>
            <p:cNvSpPr/>
            <p:nvPr/>
          </p:nvSpPr>
          <p:spPr>
            <a:xfrm>
              <a:off x="10203480" y="4384080"/>
              <a:ext cx="977040" cy="332280"/>
            </a:xfrm>
            <a:custGeom>
              <a:avLst/>
              <a:gdLst/>
              <a:ahLst/>
              <a:rect l="l" t="t" r="r" b="b"/>
              <a:pathLst>
                <a:path w="976746" h="332509">
                  <a:moveTo>
                    <a:pt x="228600" y="0"/>
                  </a:moveTo>
                  <a:lnTo>
                    <a:pt x="976746" y="229816"/>
                  </a:lnTo>
                  <a:lnTo>
                    <a:pt x="0" y="332509"/>
                  </a:lnTo>
                  <a:lnTo>
                    <a:pt x="228600" y="0"/>
                  </a:lnTo>
                  <a:close/>
                </a:path>
              </a:pathLst>
            </a:cu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文本框 3"/>
          <p:cNvSpPr/>
          <p:nvPr/>
        </p:nvSpPr>
        <p:spPr>
          <a:xfrm>
            <a:off x="9518760" y="1309680"/>
            <a:ext cx="2244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长城海报体繁"/>
              </a:rPr>
              <a:t>慷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长城海报体繁"/>
              </a:rPr>
              <a:t>激</a:t>
            </a: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长城海报体繁"/>
              </a:rPr>
              <a:t>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2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grpSp>
        <p:nvGrpSpPr>
          <p:cNvPr id="96" name="组合 8"/>
          <p:cNvGrpSpPr/>
          <p:nvPr/>
        </p:nvGrpSpPr>
        <p:grpSpPr>
          <a:xfrm>
            <a:off x="7740360" y="4594320"/>
            <a:ext cx="4451760" cy="2077560"/>
            <a:chOff x="7740360" y="4594320"/>
            <a:chExt cx="4451760" cy="2077560"/>
          </a:xfrm>
        </p:grpSpPr>
        <p:grpSp>
          <p:nvGrpSpPr>
            <p:cNvPr id="97" name="组合 5"/>
            <p:cNvGrpSpPr/>
            <p:nvPr/>
          </p:nvGrpSpPr>
          <p:grpSpPr>
            <a:xfrm>
              <a:off x="7740720" y="4594320"/>
              <a:ext cx="4451400" cy="1724040"/>
              <a:chOff x="7740720" y="4594320"/>
              <a:chExt cx="4451400" cy="1724040"/>
            </a:xfrm>
          </p:grpSpPr>
          <p:sp>
            <p:nvSpPr>
              <p:cNvPr id="98" name="矩形 2"/>
              <p:cNvSpPr/>
              <p:nvPr/>
            </p:nvSpPr>
            <p:spPr>
              <a:xfrm>
                <a:off x="7740720" y="4594320"/>
                <a:ext cx="4451400" cy="1724040"/>
              </a:xfrm>
              <a:prstGeom prst="rect">
                <a:avLst/>
              </a:prstGeom>
              <a:solidFill>
                <a:srgbClr val="ea2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文本框 4"/>
              <p:cNvSpPr/>
              <p:nvPr/>
            </p:nvSpPr>
            <p:spPr>
              <a:xfrm>
                <a:off x="7835760" y="4794480"/>
                <a:ext cx="42609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0" spc="-1" strike="noStrike">
                    <a:solidFill>
                      <a:srgbClr val="ffffff"/>
                    </a:solidFill>
                    <a:latin typeface="Arial"/>
                    <a:ea typeface="长城海报体繁"/>
                  </a:rPr>
                  <a:t>顺手牵</a:t>
                </a:r>
                <a:r>
                  <a:rPr b="0" lang="zh-CN" sz="8000" spc="-1" strike="noStrike">
                    <a:solidFill>
                      <a:srgbClr val="ffff00"/>
                    </a:solidFill>
                    <a:latin typeface="Arial"/>
                    <a:ea typeface="长城海报体繁"/>
                  </a:rPr>
                  <a:t>羊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直角三角形 6"/>
            <p:cNvSpPr/>
            <p:nvPr/>
          </p:nvSpPr>
          <p:spPr>
            <a:xfrm flipH="1" flipV="1">
              <a:off x="7740000" y="6317640"/>
              <a:ext cx="1389240" cy="353880"/>
            </a:xfrm>
            <a:prstGeom prst="rtTriangl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文本框 5127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12185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组合 5"/>
          <p:cNvGrpSpPr/>
          <p:nvPr/>
        </p:nvGrpSpPr>
        <p:grpSpPr>
          <a:xfrm>
            <a:off x="3240" y="2354400"/>
            <a:ext cx="3840120" cy="2778120"/>
            <a:chOff x="3240" y="2354400"/>
            <a:chExt cx="3840120" cy="2778120"/>
          </a:xfrm>
        </p:grpSpPr>
        <p:sp>
          <p:nvSpPr>
            <p:cNvPr id="104" name="梯形 2"/>
            <p:cNvSpPr/>
            <p:nvPr/>
          </p:nvSpPr>
          <p:spPr>
            <a:xfrm>
              <a:off x="3240" y="2354400"/>
              <a:ext cx="3371040" cy="2778120"/>
            </a:xfrm>
            <a:custGeom>
              <a:avLst/>
              <a:gdLst/>
              <a:ahLst/>
              <a:rect l="l" t="t" r="r" b="b"/>
              <a:pathLst>
                <a:path w="3078956" h="2428875">
                  <a:moveTo>
                    <a:pt x="7144" y="2428875"/>
                  </a:moveTo>
                  <a:cubicBezTo>
                    <a:pt x="4763" y="1624012"/>
                    <a:pt x="2381" y="819150"/>
                    <a:pt x="0" y="14287"/>
                  </a:cubicBezTo>
                  <a:lnTo>
                    <a:pt x="2471737" y="0"/>
                  </a:lnTo>
                  <a:lnTo>
                    <a:pt x="3078956" y="2428875"/>
                  </a:lnTo>
                  <a:lnTo>
                    <a:pt x="7144" y="2428875"/>
                  </a:lnTo>
                  <a:close/>
                </a:path>
              </a:pathLst>
            </a:cu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等腰三角形 3"/>
            <p:cNvSpPr/>
            <p:nvPr/>
          </p:nvSpPr>
          <p:spPr>
            <a:xfrm flipV="1">
              <a:off x="3170880" y="4266360"/>
              <a:ext cx="672480" cy="866160"/>
            </a:xfrm>
            <a:custGeom>
              <a:avLst/>
              <a:gdLst/>
              <a:ahLst/>
              <a:rect l="l" t="t" r="r" b="b"/>
              <a:pathLst>
                <a:path w="614362" h="757237">
                  <a:moveTo>
                    <a:pt x="0" y="757237"/>
                  </a:moveTo>
                  <a:lnTo>
                    <a:pt x="185736" y="0"/>
                  </a:lnTo>
                  <a:lnTo>
                    <a:pt x="614362" y="700087"/>
                  </a:lnTo>
                  <a:lnTo>
                    <a:pt x="0" y="75723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文本框 4"/>
          <p:cNvSpPr/>
          <p:nvPr/>
        </p:nvSpPr>
        <p:spPr>
          <a:xfrm>
            <a:off x="200160" y="2467080"/>
            <a:ext cx="2257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长城海报体繁"/>
              </a:rPr>
              <a:t>百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长城海报体繁"/>
              </a:rPr>
              <a:t>穿</a:t>
            </a: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长城海报体繁"/>
              </a:rPr>
              <a:t>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8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组合 9"/>
          <p:cNvGrpSpPr/>
          <p:nvPr/>
        </p:nvGrpSpPr>
        <p:grpSpPr>
          <a:xfrm>
            <a:off x="0" y="4562640"/>
            <a:ext cx="4756320" cy="2060280"/>
            <a:chOff x="0" y="4562640"/>
            <a:chExt cx="4756320" cy="2060280"/>
          </a:xfrm>
        </p:grpSpPr>
        <p:sp>
          <p:nvSpPr>
            <p:cNvPr id="109" name="矩形 5"/>
            <p:cNvSpPr/>
            <p:nvPr/>
          </p:nvSpPr>
          <p:spPr>
            <a:xfrm>
              <a:off x="0" y="4562640"/>
              <a:ext cx="4727880" cy="1682640"/>
            </a:xfrm>
            <a:prstGeom prst="rect">
              <a:avLst/>
            </a:pr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角三角形 7"/>
            <p:cNvSpPr/>
            <p:nvPr/>
          </p:nvSpPr>
          <p:spPr>
            <a:xfrm flipV="1">
              <a:off x="2937960" y="6242040"/>
              <a:ext cx="1818360" cy="38088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6"/>
          <p:cNvSpPr/>
          <p:nvPr/>
        </p:nvSpPr>
        <p:spPr>
          <a:xfrm>
            <a:off x="192240" y="474192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长城海报体繁"/>
              </a:rPr>
              <a:t>斗志昂</a:t>
            </a: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长城海报体繁"/>
              </a:rPr>
              <a:t>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8DFF-9DAC-4EC4-B93E-DBFD215AEB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泪滴形 5"/>
          <p:cNvSpPr/>
          <p:nvPr/>
        </p:nvSpPr>
        <p:spPr>
          <a:xfrm rot="8121000">
            <a:off x="5133240" y="110880"/>
            <a:ext cx="1330200" cy="1330200"/>
          </a:xfrm>
          <a:custGeom>
            <a:avLst/>
            <a:gdLst/>
            <a:ahLst/>
            <a:rect l="l" t="t" r="r" b="b"/>
            <a:pathLst>
              <a:path w="2096" h="2096">
                <a:moveTo>
                  <a:pt x="0" y="1048"/>
                </a:moveTo>
                <a:cubicBezTo>
                  <a:pt x="0" y="469"/>
                  <a:pt x="469" y="0"/>
                  <a:pt x="1048" y="0"/>
                </a:cubicBezTo>
                <a:cubicBezTo>
                  <a:pt x="1397" y="0"/>
                  <a:pt x="1746" y="0"/>
                  <a:pt x="2096" y="0"/>
                </a:cubicBezTo>
                <a:cubicBezTo>
                  <a:pt x="2096" y="349"/>
                  <a:pt x="2096" y="698"/>
                  <a:pt x="2096" y="1048"/>
                </a:cubicBezTo>
                <a:cubicBezTo>
                  <a:pt x="2096" y="1627"/>
                  <a:pt x="1627" y="2096"/>
                  <a:pt x="1048" y="2096"/>
                </a:cubicBezTo>
                <a:cubicBezTo>
                  <a:pt x="469" y="2096"/>
                  <a:pt x="0" y="1627"/>
                  <a:pt x="0" y="1048"/>
                </a:cubicBezTo>
                <a:close/>
              </a:path>
            </a:pathLst>
          </a:custGeom>
          <a:solidFill>
            <a:srgbClr val="ff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泪滴形 4"/>
          <p:cNvSpPr/>
          <p:nvPr/>
        </p:nvSpPr>
        <p:spPr>
          <a:xfrm rot="8121000">
            <a:off x="7194240" y="947880"/>
            <a:ext cx="3511440" cy="3512880"/>
          </a:xfrm>
          <a:custGeom>
            <a:avLst/>
            <a:gdLst/>
            <a:ahLst/>
            <a:rect l="l" t="t" r="r" b="b"/>
            <a:pathLst>
              <a:path w="5531" h="5531">
                <a:moveTo>
                  <a:pt x="0" y="2765"/>
                </a:moveTo>
                <a:cubicBezTo>
                  <a:pt x="0" y="1238"/>
                  <a:pt x="1238" y="0"/>
                  <a:pt x="2765" y="0"/>
                </a:cubicBezTo>
                <a:cubicBezTo>
                  <a:pt x="3687" y="0"/>
                  <a:pt x="4609" y="0"/>
                  <a:pt x="5531" y="0"/>
                </a:cubicBezTo>
                <a:cubicBezTo>
                  <a:pt x="5531" y="921"/>
                  <a:pt x="5531" y="1843"/>
                  <a:pt x="5531" y="2765"/>
                </a:cubicBezTo>
                <a:cubicBezTo>
                  <a:pt x="5531" y="4292"/>
                  <a:pt x="4293" y="5530"/>
                  <a:pt x="2766" y="5530"/>
                </a:cubicBezTo>
                <a:cubicBezTo>
                  <a:pt x="1239" y="5530"/>
                  <a:pt x="1" y="4292"/>
                  <a:pt x="1" y="2765"/>
                </a:cubicBezTo>
                <a:close/>
              </a:path>
            </a:pathLst>
          </a:custGeom>
          <a:solidFill>
            <a:srgbClr val="66ff66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泪滴形 1"/>
          <p:cNvSpPr/>
          <p:nvPr/>
        </p:nvSpPr>
        <p:spPr>
          <a:xfrm rot="8121000">
            <a:off x="3596760" y="1191960"/>
            <a:ext cx="4692960" cy="4694040"/>
          </a:xfrm>
          <a:custGeom>
            <a:avLst/>
            <a:gdLst/>
            <a:ahLst/>
            <a:rect l="l" t="t" r="r" b="b"/>
            <a:pathLst>
              <a:path w="7391" h="7391">
                <a:moveTo>
                  <a:pt x="0" y="3695"/>
                </a:moveTo>
                <a:cubicBezTo>
                  <a:pt x="0" y="1654"/>
                  <a:pt x="1654" y="0"/>
                  <a:pt x="3695" y="0"/>
                </a:cubicBezTo>
                <a:cubicBezTo>
                  <a:pt x="4927" y="0"/>
                  <a:pt x="6159" y="0"/>
                  <a:pt x="7391" y="0"/>
                </a:cubicBezTo>
                <a:cubicBezTo>
                  <a:pt x="7391" y="1231"/>
                  <a:pt x="7391" y="2463"/>
                  <a:pt x="7391" y="3695"/>
                </a:cubicBezTo>
                <a:cubicBezTo>
                  <a:pt x="7391" y="5736"/>
                  <a:pt x="5737" y="7390"/>
                  <a:pt x="3696" y="7390"/>
                </a:cubicBezTo>
                <a:cubicBezTo>
                  <a:pt x="1655" y="7390"/>
                  <a:pt x="1" y="5736"/>
                  <a:pt x="1" y="3695"/>
                </a:cubicBezTo>
                <a:close/>
              </a:path>
            </a:pathLst>
          </a:custGeom>
          <a:solidFill>
            <a:srgbClr val="5b9bd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"/>
          <p:cNvSpPr/>
          <p:nvPr/>
        </p:nvSpPr>
        <p:spPr>
          <a:xfrm>
            <a:off x="4683240" y="2103480"/>
            <a:ext cx="252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长城海报体繁"/>
              </a:rPr>
              <a:t>万事</a:t>
            </a:r>
            <a:r>
              <a:rPr b="0" lang="zh-CN" sz="8800" spc="-1" strike="noStrike">
                <a:solidFill>
                  <a:srgbClr val="ffff00"/>
                </a:solidFill>
                <a:latin typeface="Arial"/>
                <a:ea typeface="长城海报体繁"/>
              </a:rPr>
              <a:t>咩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泪滴形 3"/>
          <p:cNvSpPr/>
          <p:nvPr/>
        </p:nvSpPr>
        <p:spPr>
          <a:xfrm rot="8121000">
            <a:off x="1225080" y="349200"/>
            <a:ext cx="2479680" cy="2479680"/>
          </a:xfrm>
          <a:custGeom>
            <a:avLst/>
            <a:gdLst/>
            <a:ahLst/>
            <a:rect l="l" t="t" r="r" b="b"/>
            <a:pathLst>
              <a:path w="3905" h="3905">
                <a:moveTo>
                  <a:pt x="0" y="1952"/>
                </a:moveTo>
                <a:cubicBezTo>
                  <a:pt x="0" y="874"/>
                  <a:pt x="874" y="0"/>
                  <a:pt x="1952" y="0"/>
                </a:cubicBezTo>
                <a:cubicBezTo>
                  <a:pt x="2602" y="0"/>
                  <a:pt x="3253" y="0"/>
                  <a:pt x="3905" y="0"/>
                </a:cubicBezTo>
                <a:cubicBezTo>
                  <a:pt x="3905" y="650"/>
                  <a:pt x="3905" y="1301"/>
                  <a:pt x="3905" y="1952"/>
                </a:cubicBezTo>
                <a:cubicBezTo>
                  <a:pt x="3905" y="3030"/>
                  <a:pt x="3031" y="3904"/>
                  <a:pt x="1953" y="3904"/>
                </a:cubicBezTo>
                <a:cubicBezTo>
                  <a:pt x="875" y="3904"/>
                  <a:pt x="1" y="3030"/>
                  <a:pt x="1" y="1952"/>
                </a:cubicBezTo>
                <a:close/>
              </a:path>
            </a:pathLst>
          </a:custGeom>
          <a:solidFill>
            <a:srgbClr val="ffd966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07:4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48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