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C9F3-2597-41D6-81D4-69749C2C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EBD1-0A5C-4FD9-8B33-68E050C8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FCFF-9540-4FE3-B32E-E587B68D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5D4-80AF-4CA8-99D3-19857F4E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638E-55AD-40F0-859A-4B5793EA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592F-1D5D-4EB0-AAD1-9D11AAF8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4105-27CA-4867-8DF9-93788810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F894-4FF8-4B75-9A18-36C3EC84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D196-68CF-42CB-9F09-6FFE62DD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A4DE-F41F-4452-A59B-AD1F273F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7708-72C4-4624-B237-60DB565F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71A-EFC6-4897-8291-376F2A67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0C37-ACF6-4693-8DFD-00AD67DB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46EE-44CA-4BDC-8A77-396C6E66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5482-C964-4880-BB3A-174AF51A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C5AE-8F9C-4622-85E7-EC6A1E34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1E17-175A-46A7-886D-DB2BADAC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6D08-9E91-4774-B8B5-9667D25A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C301-C634-4AF0-A6E7-C3CA7580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3D7-4644-4D1E-B95A-51ED8382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854-8AA3-4699-85A5-9D2DDD43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88A-9485-452C-99B0-5313BE68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5F3-1332-473A-B0A0-B58DFADF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A6F-E62D-4F50-AB7A-046F46A5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13EE-4C3F-464D-BA22-F27EEBB64D2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83B5-4D52-4804-BFA9-0971AF08E73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A738-210C-4E41-9101-A4FA6EF78D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rcRect l="0" t="27890" r="0" b="17072"/>
          <a:stretch/>
        </p:blipFill>
        <p:spPr>
          <a:xfrm>
            <a:off x="0" y="0"/>
            <a:ext cx="9144000" cy="335772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6349680" y="5084640"/>
            <a:ext cx="19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时    间：</a:t>
            </a:r>
            <a:r>
              <a:rPr b="0" lang="zh-CN" sz="2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报告人：</a:t>
            </a:r>
            <a:r>
              <a:rPr b="0" lang="en-US" sz="2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2351880" y="35733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清雅个人工作报告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锦瑟无端五十弦，一弦一柱思华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2448000" y="2762280"/>
            <a:ext cx="759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-103320" y="836640"/>
            <a:ext cx="93553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773360"/>
          <a:ext cx="8496000" cy="3983040"/>
        </p:xfrm>
        <a:graphic>
          <a:graphicData uri="http://schemas.openxmlformats.org/drawingml/2006/table">
            <a:tbl>
              <a:tblPr/>
              <a:tblGrid>
                <a:gridCol w="1125000"/>
                <a:gridCol w="1067040"/>
                <a:gridCol w="1066680"/>
                <a:gridCol w="873360"/>
                <a:gridCol w="871200"/>
                <a:gridCol w="873360"/>
                <a:gridCol w="873000"/>
                <a:gridCol w="873000"/>
                <a:gridCol w="873360"/>
              </a:tblGrid>
              <a:tr h="326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时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一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33.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56.4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9.4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68.0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87.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二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18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22.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3.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72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28.3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三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497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3.7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62.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86.2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3.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3.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6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5.7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5.7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0.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0.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6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0.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0.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7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1.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1.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8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0.5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0.5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9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1.9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1.9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0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2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2.9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2.6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87.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3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2.0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2.0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0.6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5.2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5.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5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74.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74.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四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65.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43.1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74.4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2.6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15.4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</a:tr>
            </a:tbl>
          </a:graphicData>
        </a:graphic>
      </p:graphicFrame>
      <p:sp>
        <p:nvSpPr>
          <p:cNvPr id="92" name="文本框 4246"/>
          <p:cNvSpPr/>
          <p:nvPr/>
        </p:nvSpPr>
        <p:spPr>
          <a:xfrm>
            <a:off x="685800" y="328608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庄生晓梦迷蝴蝶，望帝春心托杜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2448000" y="2762280"/>
            <a:ext cx="759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-103320" y="836640"/>
            <a:ext cx="93553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2637000"/>
          <a:ext cx="8496000" cy="1685880"/>
        </p:xfrm>
        <a:graphic>
          <a:graphicData uri="http://schemas.openxmlformats.org/drawingml/2006/table">
            <a:tbl>
              <a:tblPr/>
              <a:tblGrid>
                <a:gridCol w="1125000"/>
                <a:gridCol w="1067040"/>
                <a:gridCol w="1066680"/>
                <a:gridCol w="873360"/>
                <a:gridCol w="871200"/>
                <a:gridCol w="873360"/>
                <a:gridCol w="873000"/>
                <a:gridCol w="873000"/>
                <a:gridCol w="873360"/>
              </a:tblGrid>
              <a:tr h="326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时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一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29.1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56.4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9.4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82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1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508.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二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18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6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72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8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12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三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497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四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373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6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59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62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59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43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59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59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2.60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59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59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59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503.62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593"/>
                    </a:solidFill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总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554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21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72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8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2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72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9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224.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</a:tr>
            </a:tbl>
          </a:graphicData>
        </a:graphic>
      </p:graphicFrame>
      <p:pic>
        <p:nvPicPr>
          <p:cNvPr id="98" name="Picture 2" descr=""/>
          <p:cNvPicPr/>
          <p:nvPr/>
        </p:nvPicPr>
        <p:blipFill>
          <a:blip r:embed="rId2"/>
          <a:srcRect l="35775" t="15505" r="35445" b="22514"/>
          <a:stretch/>
        </p:blipFill>
        <p:spPr>
          <a:xfrm>
            <a:off x="7667640" y="5300640"/>
            <a:ext cx="7524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沧海月明珠有泪，蓝田日暖玉生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2448000" y="2762280"/>
            <a:ext cx="759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-103320" y="836640"/>
            <a:ext cx="93553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2349360"/>
          <a:ext cx="8424720" cy="2320920"/>
        </p:xfrm>
        <a:graphic>
          <a:graphicData uri="http://schemas.openxmlformats.org/drawingml/2006/table">
            <a:tbl>
              <a:tblPr/>
              <a:tblGrid>
                <a:gridCol w="1368360"/>
                <a:gridCol w="2521080"/>
                <a:gridCol w="3311640"/>
                <a:gridCol w="1223640"/>
              </a:tblGrid>
              <a:tr h="326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名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使用方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添加位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-4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月用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、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、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、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、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5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、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6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、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总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此情可待成追忆，只是当时已惘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9"/>
          <p:cNvSpPr/>
          <p:nvPr/>
        </p:nvSpPr>
        <p:spPr>
          <a:xfrm>
            <a:off x="-103320" y="836640"/>
            <a:ext cx="93553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1280" y="1557360"/>
          <a:ext cx="8964720" cy="5141880"/>
        </p:xfrm>
        <a:graphic>
          <a:graphicData uri="http://schemas.openxmlformats.org/drawingml/2006/table">
            <a:tbl>
              <a:tblPr/>
              <a:tblGrid>
                <a:gridCol w="514440"/>
                <a:gridCol w="1249200"/>
                <a:gridCol w="881280"/>
                <a:gridCol w="734760"/>
                <a:gridCol w="1616040"/>
                <a:gridCol w="1054080"/>
                <a:gridCol w="1414800"/>
                <a:gridCol w="888840"/>
                <a:gridCol w="611280"/>
              </a:tblGrid>
              <a:tr h="360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序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样品名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送样时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送样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产生工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物化性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主要成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处理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分析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AB70-E3D9-4D2A-8760-68F59B731F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1131840" y="0"/>
            <a:ext cx="102758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感谢给予宝贵时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05:29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6:38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