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919-FBD0-41B0-A519-2077228F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898-367D-4F2B-BA9A-7084FA7B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CB6-12EF-4A9E-B127-D3154B64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875-4018-44A4-A182-812E8319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A62-FA7C-4A84-B1FF-3AC801D5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FB3-A62F-4F87-9AC9-87A635A8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74E-455B-408D-9726-5852DB16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EE5-8435-404B-8DA4-43474ECC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5B6-D981-4BE7-BF3C-3956F722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EA4-6E95-4290-B04B-279EE3AF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717-CE50-4957-9E64-5BA59211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0B0-D9BA-4F7D-BAE0-57327FC2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342E-F4E4-42E9-A586-1ACCBD63013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6AC2-541F-4CC2-BED3-A6E2C651D3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占位符 3"/>
          <p:cNvSpPr/>
          <p:nvPr/>
        </p:nvSpPr>
        <p:spPr>
          <a:xfrm>
            <a:off x="3500280" y="5357880"/>
            <a:ext cx="5500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4071960" y="596736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076"/>
          <p:cNvSpPr/>
          <p:nvPr/>
        </p:nvSpPr>
        <p:spPr>
          <a:xfrm>
            <a:off x="1866600" y="115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占位符 12" descr=""/>
          <p:cNvPicPr/>
          <p:nvPr/>
        </p:nvPicPr>
        <p:blipFill>
          <a:blip r:embed="rId1"/>
          <a:srcRect l="9638" t="0" r="9638" b="0"/>
          <a:stretch/>
        </p:blipFill>
        <p:spPr>
          <a:xfrm>
            <a:off x="642960" y="714240"/>
            <a:ext cx="4643280" cy="4572000"/>
          </a:xfrm>
          <a:prstGeom prst="rect">
            <a:avLst/>
          </a:prstGeom>
          <a:ln cap="sq" w="38160">
            <a:solidFill>
              <a:srgbClr val="17365d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5643360" y="713880"/>
            <a:ext cx="278604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Arial"/>
              </a:rPr>
              <a:t>Commercial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s in the knowledgeconomy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, in has satisfied in the mater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situation, the people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ursue own individu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and the emo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gradually, the 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have emphatically to car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consideration to human'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otion dem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168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Arial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42960" y="642960"/>
            <a:ext cx="4071960" cy="47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占位符 6" descr=""/>
          <p:cNvPicPr/>
          <p:nvPr/>
        </p:nvPicPr>
        <p:blipFill>
          <a:blip r:embed="rId1"/>
          <a:srcRect l="1225" t="0" r="1225" b="0"/>
          <a:stretch/>
        </p:blipFill>
        <p:spPr>
          <a:xfrm>
            <a:off x="4929120" y="642960"/>
            <a:ext cx="3643560" cy="2428920"/>
          </a:xfrm>
          <a:prstGeom prst="rect">
            <a:avLst/>
          </a:prstGeom>
          <a:ln cap="sq" w="38160">
            <a:solidFill>
              <a:srgbClr val="17365d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4928760" y="3143160"/>
            <a:ext cx="37148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s in the knowledge economy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, in h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isfied in the material demand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296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Arial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6145"/>
          <p:cNvGrpSpPr/>
          <p:nvPr/>
        </p:nvGrpSpPr>
        <p:grpSpPr>
          <a:xfrm>
            <a:off x="714240" y="928800"/>
            <a:ext cx="3786480" cy="4286160"/>
            <a:chOff x="714240" y="928800"/>
            <a:chExt cx="3786480" cy="4286160"/>
          </a:xfrm>
        </p:grpSpPr>
        <p:sp>
          <p:nvSpPr>
            <p:cNvPr id="89" name="矩形 6146"/>
            <p:cNvSpPr/>
            <p:nvPr/>
          </p:nvSpPr>
          <p:spPr>
            <a:xfrm>
              <a:off x="714240" y="141264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c05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圆角矩形 6147"/>
            <p:cNvSpPr/>
            <p:nvPr/>
          </p:nvSpPr>
          <p:spPr>
            <a:xfrm>
              <a:off x="903240" y="92880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148"/>
            <p:cNvSpPr/>
            <p:nvPr/>
          </p:nvSpPr>
          <p:spPr>
            <a:xfrm>
              <a:off x="903240" y="92880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6149"/>
            <p:cNvSpPr/>
            <p:nvPr/>
          </p:nvSpPr>
          <p:spPr>
            <a:xfrm>
              <a:off x="714240" y="290052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bd99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圆角矩形 6150"/>
            <p:cNvSpPr/>
            <p:nvPr/>
          </p:nvSpPr>
          <p:spPr>
            <a:xfrm>
              <a:off x="903240" y="241668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bd994d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6151"/>
            <p:cNvSpPr/>
            <p:nvPr/>
          </p:nvSpPr>
          <p:spPr>
            <a:xfrm>
              <a:off x="903240" y="241668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6152"/>
            <p:cNvSpPr/>
            <p:nvPr/>
          </p:nvSpPr>
          <p:spPr>
            <a:xfrm>
              <a:off x="714240" y="438840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99ba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圆角矩形 6153"/>
            <p:cNvSpPr/>
            <p:nvPr/>
          </p:nvSpPr>
          <p:spPr>
            <a:xfrm>
              <a:off x="903240" y="390456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99ba5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6154"/>
            <p:cNvSpPr/>
            <p:nvPr/>
          </p:nvSpPr>
          <p:spPr>
            <a:xfrm>
              <a:off x="903240" y="390456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4642920" y="928440"/>
            <a:ext cx="37148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Arial"/>
              </a:rPr>
              <a:t>Commercial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s in the knowledge economy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,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satisfied in the material dem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uation, the people start to pursue ow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lity development and the emo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gradually, the design must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tically to carry on the consid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uman's emotion dem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4296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Arial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6157"/>
          <p:cNvSpPr/>
          <p:nvPr/>
        </p:nvSpPr>
        <p:spPr>
          <a:xfrm>
            <a:off x="971640" y="4762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8072-154F-4656-A56A-57C50D3A4A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占位符 1"/>
          <p:cNvSpPr/>
          <p:nvPr/>
        </p:nvSpPr>
        <p:spPr>
          <a:xfrm>
            <a:off x="5143680" y="5429160"/>
            <a:ext cx="37144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1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3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