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154-D18C-4CEA-9C65-97339308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4B6-97F0-4A25-ACE6-7E63473F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13E-0DC9-4BCA-A636-07CEF2E8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425-33EF-4C50-960E-0C2DFE66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6A9-C8FA-424B-8BBA-EE96DB26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BA5-CA8E-436A-8C90-9D390697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373-F355-43F5-B559-B41E9A0A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A0D-31EC-4DA0-8262-48E40122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CFA-3B0B-4BBF-9D09-26BD83C4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C00-42F8-4567-BDA5-4E8130AD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B05-B777-424A-9C0C-C34C63C5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A54-54CA-45F2-BCB2-8428811C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161F-9974-401D-8A2A-199E6D8657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" name="文本框 3074"/>
          <p:cNvSpPr/>
          <p:nvPr/>
        </p:nvSpPr>
        <p:spPr>
          <a:xfrm>
            <a:off x="10800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1523880" y="1341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本卡通人物轻松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5363"/>
          <p:cNvSpPr/>
          <p:nvPr/>
        </p:nvSpPr>
        <p:spPr>
          <a:xfrm>
            <a:off x="1835280" y="256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0483"/>
          <p:cNvSpPr/>
          <p:nvPr/>
        </p:nvSpPr>
        <p:spPr>
          <a:xfrm>
            <a:off x="1835280" y="623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6C98-6485-4058-B0BF-C5F398BA12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3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8:12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5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