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D59F-8B90-4382-8492-2ED69D7C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8566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3B8A-FEB5-43B8-B2F3-E28401DE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8566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8566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B6D-C50F-45FD-881A-8D1F764F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99072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99072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8566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8566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8566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69D3-C37E-4E2C-B2A8-4AD80442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8984-21B1-403F-9E4F-0AF71F64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3FF1-6416-4EDE-B364-74B73667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3567-63C4-4044-90FA-0F517FF0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9907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1CE4-787C-4053-A518-27AFFBDB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045E-EB07-418C-9119-30F586D0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0CB5-349C-41C1-A6D4-26DCFFDD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9907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8566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1B3C-EF95-4FA9-AC2B-EC496054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7749-59A9-46FA-9917-4A654825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8566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F883-A9B3-4EB2-9E56-BDE7A847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8566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5604-4BB8-415B-9C77-9A5A74D8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8566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37AF-71F6-41DE-B9F5-B8E9255D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8566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8566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0D4D-F612-4516-833D-0AA3337FD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99072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99072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8566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8566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8566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2097-85ED-4957-85EE-02C053B3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BE3C1-0535-4287-AD42-27ACCE72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5339E-F607-485D-8ECF-F37E6006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160D5-A3BB-4317-9BB8-0AB4E292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5760" y="9907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AA610-D1C0-4CBE-A008-A4C59592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0FFB2-5E06-4437-92FC-71743906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BF60-0131-4F4C-8EFC-7EF53838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05684-6D3C-48CC-954E-89E6870D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5760" y="9907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0" y="38566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49DC6-D047-4D50-965B-DF34EB8C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576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5760" y="38566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88CD6-38FA-4646-8FB4-7E36970B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76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0" y="38566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B4EE6-B79B-4DB0-92A4-16265E86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0" y="38566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1CFBC-B9DC-420E-AF58-D01A74D1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76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0" y="38566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5760" y="38566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BD0B9-54E8-42CD-81D5-420E4581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91680" y="99072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83360" y="99072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0" y="38566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91680" y="38566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83360" y="38566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0CFD2-5566-47C2-82AB-17F293BF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9907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58BB-1C58-46DE-BCF0-5FB344CB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66DB-77FD-4BE3-86E2-D4C3C627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8168-0597-4071-A60C-19FC5536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9907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8566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5073-EF4E-41E7-8D89-66288724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8566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6A11-B433-4DC2-B08A-C406276C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9907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566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7CCF-AB25-47A7-9684-05CF7664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9CDA-36F8-45A6-837A-23CAA33B1736}" type="slidenum">
              <a:rPr b="1" lang="en-US" sz="1000" spc="-1" strike="noStrike">
                <a:solidFill>
                  <a:srgbClr val="ffffff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04B3-0694-47CD-B643-EFE3D90E51D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02D7-3783-438C-AB33-0D4D3C00D32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4757-0C43-488C-A372-2B6BB6981A2A}" type="slidenum">
              <a:rPr b="1" lang="en-US" sz="1000" spc="-1" strike="noStrike">
                <a:solidFill>
                  <a:srgbClr val="ffffff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66720" y="205704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Human X-r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266720" y="266652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Eurostile"/>
              </a:rPr>
              <a:t>Your Subtitle Goes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4099"/>
          <p:cNvSpPr/>
          <p:nvPr/>
        </p:nvSpPr>
        <p:spPr>
          <a:xfrm>
            <a:off x="76320" y="617220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4100"/>
          <p:cNvSpPr/>
          <p:nvPr/>
        </p:nvSpPr>
        <p:spPr>
          <a:xfrm>
            <a:off x="2104920" y="304920"/>
            <a:ext cx="549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人的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射线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66720" y="205704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ransitional P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266720" y="2635920"/>
            <a:ext cx="4800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7171"/>
          <p:cNvSpPr/>
          <p:nvPr/>
        </p:nvSpPr>
        <p:spPr>
          <a:xfrm>
            <a:off x="1295280" y="464832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FD8A-9633-4802-A06C-E0D6E9DEB75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66720" y="205704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图片 8194" descr="skeleton_prt"/>
          <p:cNvPicPr/>
          <p:nvPr/>
        </p:nvPicPr>
        <p:blipFill>
          <a:blip r:embed="rId1"/>
          <a:stretch/>
        </p:blipFill>
        <p:spPr>
          <a:xfrm>
            <a:off x="152280" y="5172120"/>
            <a:ext cx="2044800" cy="153360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8195" descr="skeleton_qx"/>
          <p:cNvPicPr/>
          <p:nvPr/>
        </p:nvPicPr>
        <p:blipFill>
          <a:blip r:embed="rId2"/>
          <a:stretch/>
        </p:blipFill>
        <p:spPr>
          <a:xfrm>
            <a:off x="152280" y="152280"/>
            <a:ext cx="2044800" cy="15336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8196" descr="skeleton_sld"/>
          <p:cNvPicPr/>
          <p:nvPr/>
        </p:nvPicPr>
        <p:blipFill>
          <a:blip r:embed="rId3"/>
          <a:stretch/>
        </p:blipFill>
        <p:spPr>
          <a:xfrm>
            <a:off x="152280" y="1825560"/>
            <a:ext cx="2044800" cy="153360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8197" descr="skeleton_trs"/>
          <p:cNvPicPr/>
          <p:nvPr/>
        </p:nvPicPr>
        <p:blipFill>
          <a:blip r:embed="rId4"/>
          <a:stretch/>
        </p:blipFill>
        <p:spPr>
          <a:xfrm>
            <a:off x="152280" y="3498840"/>
            <a:ext cx="2044800" cy="15336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266720" y="2635920"/>
            <a:ext cx="4800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6:53:4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0:25Z</dcterms:modified>
  <cp:revision>9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