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8C0-988A-4A4B-BE72-A845253C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DBF8-E9BD-426B-A828-F57CE0C8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25C-0C11-4F98-9F1D-B8C28718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CC6-E092-42CB-BD24-CF321399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1D5-54ED-4F37-9EED-40048139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7800-1DFA-46AA-8822-196AC97A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DF0-E384-4598-A647-F430A672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23F-FC96-4B23-AA6A-94FBFF1F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EB2-9ACB-4AFC-A024-46CD3842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CC8-CBB5-4594-A513-39EE4A7A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308-960A-4E84-BA5E-569E6813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AEE-A2CE-456C-9F80-F67E1E5F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263F-4ED8-45FA-B8D0-EBEB708B3F9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268C-65D1-4562-A805-F9735EF2BA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133360" y="68580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Univers"/>
              </a:rPr>
              <a:t>  </a:t>
            </a:r>
            <a:r>
              <a:rPr b="1" lang="en-US" sz="1600" spc="-1" strike="noStrike">
                <a:solidFill>
                  <a:srgbClr val="cc3300"/>
                </a:solidFill>
                <a:latin typeface="Univers"/>
              </a:rPr>
              <a:t>YOUR SUBTITLE</a:t>
            </a:r>
            <a:r>
              <a:rPr b="1" lang="en-US" sz="2000" spc="-1" strike="noStrike">
                <a:solidFill>
                  <a:srgbClr val="cc3300"/>
                </a:solidFill>
                <a:latin typeface="Univers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Univers"/>
              </a:rPr>
              <a:t>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098"/>
          <p:cNvSpPr/>
          <p:nvPr/>
        </p:nvSpPr>
        <p:spPr>
          <a:xfrm>
            <a:off x="1600200" y="152280"/>
            <a:ext cx="586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Univers"/>
              </a:rPr>
              <a:t>LAPTOP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100"/>
          <p:cNvSpPr/>
          <p:nvPr/>
        </p:nvSpPr>
        <p:spPr>
          <a:xfrm>
            <a:off x="1702800" y="99072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上班的女工作人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440" y="685800"/>
            <a:ext cx="6705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Univers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122"/>
          <p:cNvSpPr/>
          <p:nvPr/>
        </p:nvSpPr>
        <p:spPr>
          <a:xfrm>
            <a:off x="1828800" y="2286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YOUR 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92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TRANSI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9CF4-2D70-4E39-910D-8F6E798AE6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YOUR TITLE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Univers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7171"/>
          <p:cNvSpPr/>
          <p:nvPr/>
        </p:nvSpPr>
        <p:spPr>
          <a:xfrm>
            <a:off x="762120" y="27432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5:03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11Z</dcterms:modified>
  <cp:revision>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